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2B32-7A90-4097-8F78-B9517AA8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BC02-F55F-412C-BD13-A5F7A7B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D2-33FB-4AB6-9ECA-66004E8D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C80-58C0-42CF-A65E-BAC8173C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A6B-A24C-4937-B85C-8E5DC685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529E-BAD1-4EA4-BD01-F0724B32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F88-5622-488E-BD7A-88AC960A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AD0-763D-432F-98DD-B2397CAB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807-B05C-4C45-A235-C0A0A8C1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7D9-29A8-4A28-A7FC-4FBE3520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E69F-F71D-48EC-8A68-327F5362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3A66-758D-4419-A12A-5CC82E2A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140-F70F-4CB5-BD6A-A19829310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municating Harms and Benefits of Prescription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Drugs to Healthcare Consumer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040" y="327636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John M. Eisenberg Clinical Decisions and Communications Science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Agency for Healthcare Research and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ffective Health Care Progra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238880" y="6316560"/>
          <a:ext cx="168300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6316560"/>
                    <a:ext cx="16830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e’re here to help!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nnifer Brayk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san Seve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im Wal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t of the Eisenberg Center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need something, just ask and we’ll try to help y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u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arms and Benefi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best practi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gaps in the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 guide the Eisenberg Center’s work developing translational products for consumers, clinicians and policy-makers, based on Comparative Effectiveness Reviews from AHRQ’s Effective Health Care Pro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ask to Presente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ore assigned topic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ps in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line and presentation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te paper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chedu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of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 of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 for practice &amp;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orning Presen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novative Methods of Communicating Harms and Benefits of Drug Trea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aac Lipkus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Harm and Benefit to Vulnerable Pop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y Kreps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Uncertai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hleinitz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D, MS and Colleag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fternoon Presenta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Evidence:  What does Social Marketing have to off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glas Evans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on of Harms and Benefits by Journalists and the Broader Media:  What can we Lear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 Wilkes, MD, P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in your folder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presenters and bio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slides, abstracts and outl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ft consumer and clinician versions of 2 Eisenberg Center information produ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gesics for osteo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generation antidepress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fts for your information, not for circulation p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 reimbursemen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’s Next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hors will incorporate your comments and feed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view and comment on draft white papers—December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ternal peer review and pub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7:24:53Z</dcterms:created>
  <dc:creator>kingv</dc:creator>
  <dc:description/>
  <dc:language>en-US</dc:language>
  <cp:lastModifiedBy>kingv</cp:lastModifiedBy>
  <dcterms:modified xsi:type="dcterms:W3CDTF">2006-09-12T16:46:06Z</dcterms:modified>
  <cp:revision>6</cp:revision>
  <dc:subject/>
  <dc:title>Communicating Harms and Benefits of Prescription  Drugs to Healthcare Consumers </dc:title>
</cp:coreProperties>
</file>