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F42-4ACD-479E-85FA-0BDC5E57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EB0-F90B-4A71-AC9C-1E8FD0DF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1DB-5860-4257-8118-5AC7A308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AE6-7FEF-478D-B339-B952D151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57DC-58E1-4359-92C1-BAD23FC0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23B-5844-4A09-88CC-6DF7904A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D0E-B5DA-4F68-BB3A-69186183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BC8-8262-4542-BD13-B4DE8A76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8514-0B08-4DDA-A00E-4BAC6912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6F60-F77E-4F76-9C1C-D0577B11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22E-5F10-4891-81CC-B45D20E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2AF-8171-4D57-9A6E-D087D0D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6F5B-07D1-4FD6-AAD0-89F20716C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ocregister.com/lansner/archives/blog-canada-flag&amp;imgrefurl=http://blogs.ocregister.com/lansner/archives/2006/04/oh_canada_bubble_eh_1.html&amp;h=540&amp;w=1012&amp;sz=55&amp;hl=en&amp;start=1&amp;tbnid=mIG5w11muUbGYM:&amp;tbnh=80&amp;tbnw=150&amp;prev=/images%3Fq%3Dcanadian%2Bflag%26imgsz%3Dxxlarg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What do we know about how evidence of harm and benefit is communicated in other countries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440" y="411480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erie King MD, MPH and David Hickam MD, MP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hn M. Eisenberg Clinical Decisions and Communications Science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egon Health &amp; Science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riteria for selection of consumer information products for descrip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 related to a pharmaceutical a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available in print or web-based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ed to an evidence review with or without an associated clinical practice guide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involvement in review and/or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glish speaking country with advanced healthcar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ramework for Description of Consumer Information Products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product describe the audience to whom it appli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discuss alternative treatment op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product discuss harm and benefit of treatment with the dru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it give guidance on how the information can be used in decision-maki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s information presen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product discuss strength of evidence about benefits and/or harm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nada and New Zealan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Practice Guidelines for Diagnosis and Management of Osteoporosis in Canada (200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steoporosis Canada Website, “Drug Treatmen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Z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Zealand Guidelines Group—Hormone Replacement Therapy (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RT—New Information for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ustralia and United Kingd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alian Acute Musculoskeletal Pain Guidelines Group—Evidence-based Management of Acute Musculoskeletal Pain (20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ute Low Back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Institute for Health and Clinical Excellence (NICE)—Statins for the prevention of cardiovascular events (200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atins for the prevention of cardiovascular events. Understanding NICE guidance—information for people who have or are at increased risk of cardiovascular disease, their families and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00160" y="2655720"/>
            <a:ext cx="685656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Canada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teoporosis Can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ug Treatments” (web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520"/>
            <a:ext cx="171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752480" y="228600"/>
          <a:ext cx="4653000" cy="60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600"/>
                    <a:ext cx="4653000" cy="60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6247080" y="6248520"/>
            <a:ext cx="26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rown, et al.  CMAJ 20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14520" y="380880"/>
          <a:ext cx="4314960" cy="520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4520" y="380880"/>
                    <a:ext cx="431496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63440" y="6168960"/>
            <a:ext cx="57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steoporosis Society of Canada.  Osteoporosis Update 200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47560" y="457200"/>
          <a:ext cx="8047080" cy="480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457200"/>
                    <a:ext cx="804708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716440" y="62485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osteoporosis.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33520" y="1042920"/>
          <a:ext cx="807876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42920"/>
                    <a:ext cx="807876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steoporosis Canada: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bout Osteoporosis--Drug Treatm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1981080"/>
          <a:ext cx="8686800" cy="392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447560"/>
                <a:gridCol w="1219320"/>
                <a:gridCol w="1600200"/>
                <a:gridCol w="1371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priate Aud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 Alterna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and Ha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 Decision-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usses various treatments, but no direc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ison of alterna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both discussed, but not in deta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e with doctor and find best drug for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ativ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&amp;A format, Table of bisphos-phon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discus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he Stage—International Contex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International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all Goals for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es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Gaps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Discussion to Eisenberg Center’s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New Zealand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ew Zealand Guidelines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RT—New Information for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9480" y="5181480"/>
            <a:ext cx="17146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066680" y="152280"/>
          <a:ext cx="4397400" cy="614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280"/>
                    <a:ext cx="4397400" cy="614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324480" y="57913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zgg.org.nz/guidelines/0078/HRT_summary_web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22720" y="228600"/>
          <a:ext cx="2697120" cy="55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720" y="228600"/>
                    <a:ext cx="2697120" cy="55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52560" y="6019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zgg.org.nz/index.cfm?fuseaction=download&amp;fusesubaction=template&amp;libraryID=2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271600" y="928800"/>
          <a:ext cx="4600800" cy="50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0" y="928800"/>
                    <a:ext cx="4600800" cy="50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ZGG:  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RT—New Information for Wom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" y="1981080"/>
          <a:ext cx="8686800" cy="44053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5280"/>
                <a:gridCol w="1371600"/>
                <a:gridCol w="1600200"/>
                <a:gridCol w="1371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priate Aud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 Alterna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and Ha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 Decision-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9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t flushes (botanical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ginal dryness (lubricants &amp; topical E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udingWHI results tab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 key messag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thout specific guidance on how to u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(pdf) and Pamphle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ative, Q&amp;A, Table on WHI result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direct stat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xtensive info on WH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47880" y="2787480"/>
            <a:ext cx="71611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Australia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ralian Acute Musculoskeletal Pain Guidelines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cute Low Back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553080" y="457200"/>
            <a:ext cx="171936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714760" y="304920"/>
          <a:ext cx="37144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04920"/>
                    <a:ext cx="3714480" cy="52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99120" y="6172200"/>
            <a:ext cx="77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nhmrc.gov.au/publications/synopses/cp94syn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sociated Patient Materials on Acute Musculoskeletal Pa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Ba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racic Spinal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k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ulder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erior Knee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 clinician guide also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57040" y="533520"/>
          <a:ext cx="8628120" cy="50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533520"/>
                    <a:ext cx="862812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68200" y="952560"/>
          <a:ext cx="860904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952560"/>
                    <a:ext cx="86090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6160" y="1447920"/>
            <a:ext cx="705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erature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line--1996-2006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Term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ient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-based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rmaceutical Prepa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er Information Products from Other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ustralian Acute Musculoskeletal Pain Guidelines Group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ute Low Back Pain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8600" y="2362320"/>
          <a:ext cx="8763120" cy="4163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5280"/>
                <a:gridCol w="1295280"/>
                <a:gridCol w="1600200"/>
                <a:gridCol w="152424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priate Aud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 Alterna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and Ha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 Decision-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ic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in general, harms only in context on not being effective for p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ear steps to follow, but no help in weighing alterna-ti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ative, Q&amp;A form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usses which alternatives have research to support effective-ness, but not strength of ev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United Kingdom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ns for the Prevention of Cardiovascular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5105520"/>
            <a:ext cx="1581120" cy="10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681280" y="380880"/>
          <a:ext cx="3781440" cy="53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380880"/>
                    <a:ext cx="378144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321560" y="6172200"/>
            <a:ext cx="64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www.nhmrc.gov.au/publications/synopses/cp94syn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90920" y="301680"/>
          <a:ext cx="4424400" cy="62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1680"/>
                    <a:ext cx="44244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368360" y="1295280"/>
          <a:ext cx="64072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95280"/>
                    <a:ext cx="64072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368360" y="380880"/>
          <a:ext cx="6407280" cy="6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380880"/>
                    <a:ext cx="64072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NICE:  Statins for the Prevention of Cardiovascular Even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28600" y="2057400"/>
          <a:ext cx="8686800" cy="392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5280"/>
                <a:gridCol w="1371600"/>
                <a:gridCol w="1600200"/>
                <a:gridCol w="1371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priate Aud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 Alterna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and Ha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 Decision-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ly among stati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ef info on benefits only, no info on specific harm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except for advice to talk to do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b (pdf) and fly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a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only that advice based on good-quality stud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HRQ: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ffective Health Care Program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John M. Eisenberg Cen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71520" y="671400"/>
          <a:ext cx="8399520" cy="551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671400"/>
                    <a:ext cx="8399520" cy="55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ample of an Eisenberg Center Product in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osing Pain Medicine—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guide for people with osteoarthrit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700360" y="531720"/>
          <a:ext cx="374328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531720"/>
                    <a:ext cx="374328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terature Re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eria for inclusi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s an information tool for use by consumers/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es treatment of a defined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es risks and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isenberg Center: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oosing Pain Medicine—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guide for people with osteoarthriti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2438280"/>
          <a:ext cx="8686800" cy="39243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295280"/>
                <a:gridCol w="1371600"/>
                <a:gridCol w="1600200"/>
                <a:gridCol w="1371600"/>
              </a:tblGrid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ropriate Audi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re Alternativ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nefits and Harm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st Decision-mak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ngth o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ide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TC med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SAIDs, COX-2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als, Supple-m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pain relief and risk of CV event or GI bleed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sort out benefit, risk, cost of choic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rrative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&amp;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ce comparisonch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discussed 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1800" y="789120"/>
            <a:ext cx="73404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 International Perspecti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 for consumers contains background info, going beyond the systematic evidence revie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countries develop clinical practice guidelines for use in health service—different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has very explicit link between evidence review and consumer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ed harm and benefit information r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-making referred to doctor consul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provide explicit strength of evi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can we lear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there best practices employed in other countries that can help guide how the Eisenberg Center develops information produc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the Eisenberg Center best contribute to narrowing the gaps in our knowledge of how best to communicate with health care consum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ults of Literature Re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arch retrieved 544 cit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8 citations met inclusion criteria and were reviewed in fu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5 citations excluded for accessibilit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non-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accessible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 final articles included in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systematic re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 original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cription of Evidence Translation Approaches in the Medical Literatur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xamples of descriptive reports of tools used for single diseases, without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rograms deal with health promotion or high stakes treatments (oncology topi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olution from booklets to internet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literacy is a frequent t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ions focus on understandability and motivation to talk to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s generally sm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ample from Medical Literature (United State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: prostate cancer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formats: booklet, web-based, audiot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it approach to translation of evidence (but not rating of streng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icit description of harms of trea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klet not available for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lmes-Rovner M et al.  Evidence-based patient choice: a prostate cancer decision aid in plain language.  BMC Medical Informatics and Decision Making 2005; 5(1):1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xample from Medical Literature (Northern Ireland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904760"/>
            <a:ext cx="8343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: hormonal therapy for prostate canc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: booklet (not available for review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ach to translating evidence not describ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d description of harms of treat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d knowledge and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pleton H, Coates V.  Evaluation of an evidence-based education package for men with prostate cancer on hormonal manipulation therapy.  Patient Education and Counseling 2004; 55:55-6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formation Products from Other Count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risk and benefit communicated to health care consumer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22:18:35Z</dcterms:created>
  <dc:creator>kingv</dc:creator>
  <dc:description/>
  <dc:language>en-US</dc:language>
  <cp:lastModifiedBy>kingv</cp:lastModifiedBy>
  <dcterms:modified xsi:type="dcterms:W3CDTF">2006-09-12T16:47:40Z</dcterms:modified>
  <cp:revision>51</cp:revision>
  <dc:subject/>
  <dc:title>What do we know about how evidence of harm and benefit is communicated in other countries? </dc:title>
</cp:coreProperties>
</file>