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7.jpeg" ContentType="image/jpeg"/>
  <Override PartName="/ppt/media/image3.gif" ContentType="image/gif"/>
  <Override PartName="/ppt/media/image11.wmf" ContentType="image/x-wmf"/>
  <Override PartName="/ppt/media/image4.jpeg" ContentType="image/jpeg"/>
  <Override PartName="/ppt/media/image5.jpeg" ContentType="image/jpeg"/>
  <Override PartName="/ppt/media/image6.gif" ContentType="image/gif"/>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19FD1-3D46-4DE2-95D7-D2AEFE313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93B91-486A-4A56-B2B7-002C92BD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EBD0FD-2F24-4A08-A9F5-A626E09DF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94EAA7-2981-4FDE-84D4-3DE0BBF40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129D0D-65CE-49C9-9B50-692A22CEB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C1716-EE2D-4564-9A71-AA31D6EDE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3C09B-3744-4806-8C39-7744D41D4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79236-E555-4CB1-9FD3-2842D2829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0F1E5-5B85-41E9-AD25-0C29CDDC6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C8B4A-A843-42EB-B076-51B4A7F89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43248-5E59-46B6-93AD-F7877B70C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BBFB6-03D7-44E1-9FA1-7646B49FB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7EBD8-19C4-40A3-B954-89FB5FC94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13391-782D-43D8-8784-E76127CB4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507DE-E19A-4E5C-A549-F8E59D094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0F5F8-CB90-4E8A-9A2E-680449527D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F0E310-B537-413D-B96F-14E9D634D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C1586-7060-4BDC-A7BB-8ECD818CC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F5C05-1BB0-4BC4-BEB0-3297AA115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68004-4DAF-4FD4-9E4A-6A6BE0D9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ABA01-FC27-4620-8B41-26C7F6530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1D2A1-4836-4DB9-9B6C-B8302FB2D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ECF7-E93C-450A-88E5-BB680D0AD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79F6E-5E79-49A6-8042-9B7B1DF5B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B908-2CB9-483A-986E-B1DDC9BC7FC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DB8A-8667-4B88-9A2F-E7F606A367A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images.google.com/imgres?imgurl=http://homepage.mac.com/cparada/GML/000Images/oim/odysseus.gif&amp;imgrefurl=http://homepage.mac.com/cparada/GML/Odysseus.html&amp;h=304&amp;w=340&amp;sz=50&amp;hl=en&amp;start=1&amp;tbnid=ZfZO-gJuv7eV1M:&amp;tbnh=106&amp;tbnw=119&amp;prev=/images%3Fq%3DOdysseus%26svnum%3D10%26hl%3Den%26lr%3D%26sa%3DN"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Communicating the Harms and Benefits of Medical Treatments: a look from both sides of the aisle… </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88" name="" descr=""/>
          <p:cNvPicPr/>
          <p:nvPr/>
        </p:nvPicPr>
        <p:blipFill>
          <a:blip r:embed="rId1"/>
          <a:stretch/>
        </p:blipFill>
        <p:spPr>
          <a:xfrm>
            <a:off x="5181480" y="2133720"/>
            <a:ext cx="1676520" cy="3886200"/>
          </a:xfrm>
          <a:prstGeom prst="rect">
            <a:avLst/>
          </a:prstGeom>
          <a:ln w="0">
            <a:noFill/>
          </a:ln>
        </p:spPr>
      </p:pic>
      <p:sp>
        <p:nvSpPr>
          <p:cNvPr id="89" name="PlaceHolder 2"/>
          <p:cNvSpPr>
            <a:spLocks noGrp="1"/>
          </p:cNvSpPr>
          <p:nvPr>
            <p:ph/>
          </p:nvPr>
        </p:nvSpPr>
        <p:spPr>
          <a:xfrm>
            <a:off x="457200" y="2895480"/>
            <a:ext cx="6781680" cy="32004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cc00"/>
                </a:solidFill>
                <a:latin typeface="Tahoma"/>
              </a:rPr>
              <a:t>Prepared by michael wilkes and richard kravitz</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Examples of getting it wrong….</a:t>
            </a:r>
            <a:endParaRPr b="0" lang="en-US" sz="40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ublic is poorly served by the coverage of medical science in the general press:</a:t>
            </a:r>
            <a:endParaRPr b="0" lang="en-US" sz="28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pitals promoted knee arthroscopy centers to patients with arthritis.  Only to find that a clever RCT showed the procedure to be no better than a sham operation </a:t>
            </a:r>
            <a:endParaRPr b="0" lang="en-US" sz="2400" spc="-1" strike="noStrike">
              <a:solidFill>
                <a:srgbClr val="ffffff"/>
              </a:solidFill>
              <a:latin typeface="Tahoma"/>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lthNet gets sued, and loses, for not providing BMT coverage to women with late stage breast cancer.  They argue that the treatment was never proven effective.  The press coverage of the trial paints HealthNet as a big boogieman that is careless and cheap with regard to women dying of breast canc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More example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ug (2006) Cathy DeAngelis wrote an editorial, “The influence of money on medical science”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it she admitted to several failures by authors to disclose conflicts of interest.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e also announced that industry funded studies would need to hire independent outside data analysts to give an added layer to peer review.  </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ere also claims that in response, industry pushed their funded researchers boycott JAMA.</a:t>
            </a:r>
            <a:br>
              <a:rPr sz="2400"/>
            </a:b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More examples…</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has no central data base of IRBs, despite a proposed rule requiring registration in 2004.  </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ield is ripe with for-profit IRBs that are affiliated with for profit contract research institu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More examples….</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1998 researchers thought they hit the mother-load with data suggesting that tamoxifen, used to treat breast cancer, could actually prevent it in 50% of women.  </a:t>
            </a:r>
            <a:endParaRPr b="0" lang="en-US" sz="2400" spc="-1" strike="noStrike">
              <a:solidFill>
                <a:srgbClr val="ffffff"/>
              </a:solidFill>
              <a:latin typeface="Tahoma"/>
            </a:endParaRPr>
          </a:p>
          <a:p>
            <a:pPr lvl="1" marL="713160" indent="-2743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being widely covered by the press, the promise never panned out.  The side effects – hot flashes and other menopause-like symptoms, increased rates of uterine cancer and blood clots – outweighed the slight benefits;</a:t>
            </a:r>
            <a:endParaRPr b="0" lang="en-US" sz="2000" spc="-1" strike="noStrike">
              <a:solidFill>
                <a:srgbClr val="ffffff"/>
              </a:solidFill>
              <a:latin typeface="Tahoma"/>
            </a:endParaRPr>
          </a:p>
          <a:p>
            <a:pPr lvl="1" marL="713160" indent="-27432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April 2006 the NCI again promised a new drug to prevent breast cancer – raloxifene –</a:t>
            </a:r>
            <a:endParaRPr b="0" lang="en-US" sz="2000" spc="-1" strike="noStrike">
              <a:solidFill>
                <a:srgbClr val="ffffff"/>
              </a:solidFill>
              <a:latin typeface="Tahoma"/>
            </a:endParaRPr>
          </a:p>
          <a:p>
            <a:pPr lvl="2" marL="1097280" indent="-21924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imed it had fewer side effects  </a:t>
            </a:r>
            <a:endParaRPr b="0" lang="en-US" sz="1800" spc="-1" strike="noStrike">
              <a:solidFill>
                <a:srgbClr val="ffffff"/>
              </a:solidFill>
              <a:latin typeface="Tahoma"/>
            </a:endParaRPr>
          </a:p>
          <a:p>
            <a:pPr lvl="2" marL="1097280" indent="-21924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aimed it could prevent 2 million cases of breast cancer.</a:t>
            </a:r>
            <a:endParaRPr b="0" lang="en-US" sz="1800" spc="-1" strike="noStrike">
              <a:solidFill>
                <a:srgbClr val="ffffff"/>
              </a:solidFill>
              <a:latin typeface="Tahoma"/>
            </a:endParaRPr>
          </a:p>
          <a:p>
            <a:pPr lvl="2" marL="1097280" indent="-21924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loxifene is already used to prevent bone loss after menopause</a:t>
            </a:r>
            <a:endParaRPr b="0" lang="en-US" sz="1800" spc="-1" strike="noStrike">
              <a:solidFill>
                <a:srgbClr val="ffffff"/>
              </a:solidFill>
              <a:latin typeface="Tahoma"/>
            </a:endParaRPr>
          </a:p>
          <a:p>
            <a:pPr lvl="2" marL="1097280" indent="-21924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CI used relative risk reductions in their promotion rather than absolute risk reductions</a:t>
            </a:r>
            <a:endParaRPr b="0" lang="en-US" sz="1800" spc="-1" strike="noStrike">
              <a:solidFill>
                <a:srgbClr val="ffffff"/>
              </a:solidFill>
              <a:latin typeface="Tahoma"/>
            </a:endParaRPr>
          </a:p>
          <a:p>
            <a:pPr lvl="2" marL="1097280" indent="-219240">
              <a:lnSpc>
                <a:spcPct val="80000"/>
              </a:lnSpc>
              <a:spcBef>
                <a:spcPts val="45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the press release and conference call no data was given to scientists or reporters and it had not been published in a journal.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Blaming the press…</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ientists and physicians blame the pre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im reporters are careless about how they present medical research.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im ignorant of the scientific proce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im competition between journalists limits accuracy and depth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Blaming the scientists</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urnalists accuse the medical community of:</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structing, misguiding, or failing to alert the press to important detail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ing competitive about media coverage</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iling to disclose conflict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cting those who do not work to promote accurate reporting</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being able or willing to speak in plain English</a:t>
            </a:r>
            <a:br>
              <a:rPr sz="2800"/>
            </a:br>
            <a:r>
              <a:rPr b="1"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903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 </a:t>
            </a:r>
            <a:r>
              <a:rPr b="0" lang="en-US" sz="4000" spc="-1" strike="noStrike">
                <a:solidFill>
                  <a:srgbClr val="ffff00"/>
                </a:solidFill>
                <a:latin typeface="Tahoma"/>
              </a:rPr>
              <a:t>Both parties share the responsibility for accurate communication to the public. </a:t>
            </a:r>
            <a:endParaRPr b="0" lang="en-US" sz="4000" spc="-1" strike="noStrike">
              <a:solidFill>
                <a:srgbClr val="ffffcc"/>
              </a:solidFill>
              <a:latin typeface="Tahoma"/>
            </a:endParaRPr>
          </a:p>
        </p:txBody>
      </p:sp>
      <p:sp>
        <p:nvSpPr>
          <p:cNvPr id="123"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Sensationalism</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o often, journalists pursue medical news as if they are reporting on a hostage crisi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ation is delivered rapidly, but little time is taken to provide a context for the sto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tead, the reporting is sensationaliz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ensationalism continued…</a:t>
            </a:r>
            <a:endParaRPr b="0" lang="en-US" sz="44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journalist overstates a scientific finding</a:t>
            </a:r>
            <a:endParaRPr b="0" lang="en-US" sz="24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ientists and scientific institutions contribute to sensationalism. </a:t>
            </a:r>
            <a:endParaRPr b="0" lang="en-US" sz="2400" spc="-1" strike="noStrike">
              <a:solidFill>
                <a:srgbClr val="ffffff"/>
              </a:solidFill>
              <a:latin typeface="Tahoma"/>
            </a:endParaRPr>
          </a:p>
          <a:p>
            <a:pPr lvl="2" marL="1085760" indent="-217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ientists have understandable desires for publicity: </a:t>
            </a:r>
            <a:endParaRPr b="0" lang="en-US" sz="2000" spc="-1" strike="noStrike">
              <a:solidFill>
                <a:srgbClr val="ffffff"/>
              </a:solidFill>
              <a:latin typeface="Tahoma"/>
            </a:endParaRPr>
          </a:p>
          <a:p>
            <a:pPr lvl="3" marL="1519920" indent="-217080">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lps them get funding</a:t>
            </a:r>
            <a:endParaRPr b="0" lang="en-US" sz="1800" spc="-1" strike="noStrike">
              <a:solidFill>
                <a:srgbClr val="ffffff"/>
              </a:solidFill>
              <a:latin typeface="Tahoma"/>
            </a:endParaRPr>
          </a:p>
          <a:p>
            <a:pPr lvl="3" marL="1519920" indent="-217080">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valued by institutions</a:t>
            </a:r>
            <a:endParaRPr b="0" lang="en-US" sz="1800" spc="-1" strike="noStrike">
              <a:solidFill>
                <a:srgbClr val="ffffff"/>
              </a:solidFill>
              <a:latin typeface="Tahoma"/>
            </a:endParaRPr>
          </a:p>
          <a:p>
            <a:pPr lvl="3" marL="1519920" indent="-217080">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fforts of scientists to attract media attention, however, can result in flawed coverage.</a:t>
            </a:r>
            <a:endParaRPr b="0" lang="en-US" sz="1800" spc="-1" strike="noStrike">
              <a:solidFill>
                <a:srgbClr val="ffffff"/>
              </a:solidFill>
              <a:latin typeface="Tahoma"/>
            </a:endParaRPr>
          </a:p>
          <a:p>
            <a:pPr lvl="2" marL="1085760" indent="-217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s releases are issued that are inaccurate or incomplete </a:t>
            </a:r>
            <a:endParaRPr b="0" lang="en-US" sz="2000" spc="-1" strike="noStrike">
              <a:solidFill>
                <a:srgbClr val="ffffff"/>
              </a:solidFill>
              <a:latin typeface="Tahoma"/>
            </a:endParaRPr>
          </a:p>
          <a:p>
            <a:pPr lvl="2" marL="1085760" indent="-217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s conferences are held even though the data being discussed are preliminary.</a:t>
            </a:r>
            <a:endParaRPr b="0" lang="en-US" sz="2000" spc="-1" strike="noStrike">
              <a:solidFill>
                <a:srgbClr val="ffffff"/>
              </a:solidFill>
              <a:latin typeface="Tahoma"/>
            </a:endParaRPr>
          </a:p>
          <a:p>
            <a:pPr lvl="2" marL="1085760" indent="-21708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ientific organizations invite the media to their presentations without providing explanations of epidemiologic and statistical concepts or access to scientist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Bayesian Reporting</a:t>
            </a:r>
            <a:endParaRPr b="0" lang="en-US" sz="44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d all be better off if the media took the same approach to new research as the wise clinician -- in a Bayesian framework. </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ine what was known before, evaluate the strength of the new information, form tentative conclusions, make an informed decision pending better (more definitive information)</a:t>
            </a:r>
            <a:br>
              <a:rPr sz="2800"/>
            </a:br>
            <a:r>
              <a:rPr b="1"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We learn about medicine through the media</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ess coverage is too often inaccurate, superficial, or sensationalized.</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of the most important medical issues are not covered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accurate reporting can generate false hopes and unwarranted fears.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ed to recognize the limitations of languag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beings are not good at statistical reasoning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ry difficult to communicate about very low risks, small differences between risks, and uncertainty around risks</a:t>
            </a:r>
            <a:br>
              <a:rPr sz="2000"/>
            </a:br>
            <a:r>
              <a:rPr b="1"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Negative Studies  (-)</a:t>
            </a:r>
            <a:endParaRPr b="0" lang="en-US" sz="44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a and the medical community against negative studies;</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edia do not mention negative studies, perhaps because they seem to be inconsequential;</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omission is then compounded because medical journals, who place an extremely high value on media coverage, are less likely to publish studies that have negative results;</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ientists are less likely to submit them for publica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Biases and Conflicts of interest</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orters need to examine the credibility and biases of scientific sources.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porters are misled when the public relations efforts of scientists, institutions, or the pharmaceutical industry turn into blatant boosterism.</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Press Release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t>
            </a:r>
            <a:r>
              <a:rPr b="0" lang="en-US" sz="2000" spc="-1" strike="noStrike">
                <a:solidFill>
                  <a:srgbClr val="ffffff"/>
                </a:solidFill>
                <a:latin typeface="Tahoma"/>
              </a:rPr>
              <a:t>edical news reporters being barraged by press kits and other materials from corporate sources, academic institutions, medical journals, and professional organizations</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se materials can be misleading and even deceptive, sometimes amounting to nothing more than sensationalism.</a:t>
            </a:r>
            <a:br>
              <a:rPr sz="2000"/>
            </a:br>
            <a:r>
              <a:rPr b="1"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Access to Scientist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jor sources for a reporter's story on a research article or presentation are generally the authors or presenters themselv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orters who wish to verify such stories, however, should also speak to persons who can criticize the wor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Disclosing Conflicts of Interest</a:t>
            </a:r>
            <a:r>
              <a:rPr b="1" lang="en-US" sz="4400" spc="-1" strike="noStrike">
                <a:solidFill>
                  <a:srgbClr val="ffffcc"/>
                </a:solidFill>
                <a:latin typeface="Tahoma"/>
              </a:rPr>
              <a:t> </a:t>
            </a:r>
            <a:endParaRPr b="0" lang="en-US" sz="44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journalist's audience should be told explicitly whether the journalist's source of information could benefit financially from the media attention or whether the source is funded or employed by an institution that will benefit.</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h conflicts of interest are often not apparent to reporters or their audiences;</a:t>
            </a:r>
            <a:endParaRPr b="0" lang="en-US" sz="24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porters have become more aware of conflicts of interest because of policies of medical journals that require conflicts to be revealed.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Public Relations Disguises</a:t>
            </a:r>
            <a:r>
              <a:rPr b="1" lang="en-US" sz="4400" spc="-1" strike="noStrike">
                <a:solidFill>
                  <a:srgbClr val="ffffcc"/>
                </a:solidFill>
                <a:latin typeface="Tahoma"/>
              </a:rPr>
              <a:t> </a:t>
            </a:r>
            <a:endParaRPr b="0" lang="en-US" sz="44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ral recent incidents raise concern about the extent to which the press is misled by industry-sponsored comments that are disguised as the objective views of a physician or scienti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Lack of Follow-up</a:t>
            </a:r>
            <a:r>
              <a:rPr b="1" lang="en-US" sz="4400" spc="-1" strike="noStrike">
                <a:solidFill>
                  <a:srgbClr val="ffff00"/>
                </a:solidFill>
                <a:latin typeface="Tahoma"/>
              </a:rPr>
              <a:t> </a:t>
            </a:r>
            <a:endParaRPr b="0" lang="en-US" sz="44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ublic is generally unaware of the scientific proces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urnalist have a responsibility to help explain the scientific process. </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urnalists should spend more time following ongoing stories and returning to subjects that were first covered when only preliminary findings were availabl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omplex terminology</a:t>
            </a:r>
            <a:endParaRPr b="0" lang="en-US" sz="44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meta-analysi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ing is poo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cientific meaning of certain words is different than their common usage (negative st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tories That Are Not Covered</a:t>
            </a:r>
            <a:r>
              <a:rPr b="1" lang="en-US" sz="4400" spc="-1" strike="noStrike">
                <a:solidFill>
                  <a:srgbClr val="ffffcc"/>
                </a:solidFill>
                <a:latin typeface="Tahoma"/>
              </a:rPr>
              <a:t> </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arrow Focus on a few journals</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ists have been criticized for having a limited focu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ch week, medical reporters feel obliged to glance at the lead articles or press releases from only three or four peer-reviewed journals;</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sense of obligation to cover particular articles can discourage reporters from following an area of research, a process that might involve contacting scientists, scanning specialty journals, or reading papers other than lead articles. </a:t>
            </a:r>
            <a:br>
              <a:rPr sz="2400"/>
            </a:b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Information That Is Withheld or Not Explained</a:t>
            </a:r>
            <a:r>
              <a:rPr b="0" lang="en-US" sz="4000" spc="-1" strike="noStrike">
                <a:solidFill>
                  <a:srgbClr val="ffff00"/>
                </a:solidFill>
                <a:latin typeface="Tahoma"/>
              </a:rPr>
              <a:t> </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sues sometimes go unreported in the media because the medical community does not want to discuss problems publicly or fears that journalists will not understand the issu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rporate Pressures To Remain Quie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Journal Pressures Control Disseminatio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journals further discourage openness by refusing to publish research that has already been presented to the public.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though the advantages and disadvantages of such a policy can be debated, it has had a strong negative effect on the access that reporters have to working scientist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searchers who are aware of the policy regularly refuse to discuss their findings with the press; journalists who have heard of a certain study then find themselves unable to interview its autho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Public Expectations</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 believes that “newer is better” and “more is bett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 wants to believe the hype they hear from manufacturers, doctors, hospitals and journal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c believes promotions about health and believes it is held to a higher standard than say Volvo ads or coke a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Is the public partially to blame?</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suggest that the difficulty lies with the audienc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must be more attentive and more skeptical when they interpret news about health;</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ain, part of the problem is the lack of education in statistics from grammar school on up.  </a:t>
            </a:r>
            <a:endParaRPr b="0" lang="en-US" sz="2400" spc="-1" strike="noStrike">
              <a:solidFill>
                <a:srgbClr val="ffffff"/>
              </a:solidFill>
              <a:latin typeface="Tahoma"/>
            </a:endParaRPr>
          </a:p>
          <a:p>
            <a:pPr lvl="2" marL="1143000" indent="-228600">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guably, understanding statistics is much more important for good citizenship than knowing algebra.</a:t>
            </a:r>
            <a:br>
              <a:rPr sz="2000"/>
            </a:br>
            <a:r>
              <a:rPr b="0" lang="en-US" sz="2000" spc="-1" strike="noStrike">
                <a:solidFill>
                  <a:srgbClr val="ffffff"/>
                </a:solidFill>
                <a:latin typeface="Tahoma"/>
              </a:rPr>
              <a:t>How can we understand this proces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Why are risks minimized?</a:t>
            </a:r>
            <a:endParaRPr b="0" lang="en-US" sz="44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n’t know risk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or technology assessmen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 of indust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edical community doesn’t get i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keting and media hype often triumph over scientific evid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xamples of poor medicine</a:t>
            </a:r>
            <a:endParaRPr b="0" lang="en-US" sz="44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ts given expensive anti HTN pills that they can’t afford over cheaper pills that are more effectiv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n surgical implants when a similar operation without implants works better;</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ctors order diagnostic tests (PSA or mammo in older women) that are useless or even dangerou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r too little technology assessment or research that compares a new treatment with the standard treatment. </a:t>
            </a:r>
            <a:endParaRPr b="0" lang="en-US" sz="2400" spc="-1" strike="noStrike">
              <a:solidFill>
                <a:srgbClr val="ffffff"/>
              </a:solidFill>
              <a:latin typeface="Tahoma"/>
            </a:endParaRPr>
          </a:p>
          <a:p>
            <a:pPr lvl="2" marL="1143000" indent="-228600">
              <a:lnSpc>
                <a:spcPct val="90000"/>
              </a:lnSpc>
              <a:spcBef>
                <a:spcPts val="499"/>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ICE (National Institute of Clinical Excellence) in UK evaluates drugs and devices and makes recommendations about their use.</a:t>
            </a:r>
            <a:endParaRPr b="0" lang="en-US" sz="2000" spc="-1" strike="noStrike">
              <a:solidFill>
                <a:srgbClr val="ffffff"/>
              </a:solidFill>
              <a:latin typeface="Tahoma"/>
            </a:endParaRPr>
          </a:p>
        </p:txBody>
      </p:sp>
      <p:pic>
        <p:nvPicPr>
          <p:cNvPr id="156" name="" descr=""/>
          <p:cNvPicPr/>
          <p:nvPr/>
        </p:nvPicPr>
        <p:blipFill>
          <a:blip r:embed="rId1"/>
          <a:stretch/>
        </p:blipFill>
        <p:spPr>
          <a:xfrm>
            <a:off x="7391520" y="5181480"/>
            <a:ext cx="1380960" cy="1381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56"/>
                                        </p:tgtEl>
                                      </p:cBhvr>
                                    </p:animEffect>
                                    <p:set>
                                      <p:cBhvr>
                                        <p:cTn id="7" dur="1" fill="hold">
                                          <p:stCondLst>
                                            <p:cond delay="19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Odyssey</a:t>
            </a:r>
            <a:endParaRPr b="0" lang="en-US" sz="4400" spc="-1" strike="noStrike">
              <a:solidFill>
                <a:srgbClr val="ffffcc"/>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he Sirens –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led out seductive messages to passing sailor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ilors turned their ships toward the Siren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inevitably become ship wrecked</a:t>
            </a:r>
            <a:endParaRPr b="0" lang="en-US" sz="28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 seductive calls regularly go out to patients and doctors.  We are pulled to the seductive calls of new technology without recognizing the risks. </a:t>
            </a:r>
            <a:endParaRPr b="0" lang="en-US" sz="3200" spc="-1" strike="noStrike">
              <a:solidFill>
                <a:srgbClr val="ffffff"/>
              </a:solidFill>
              <a:latin typeface="Tahoma"/>
            </a:endParaRPr>
          </a:p>
        </p:txBody>
      </p:sp>
      <p:pic>
        <p:nvPicPr>
          <p:cNvPr id="159" name="" descr="">
            <a:hlinkClick r:id="rId1"/>
          </p:cNvPr>
          <p:cNvPicPr/>
          <p:nvPr/>
        </p:nvPicPr>
        <p:blipFill>
          <a:blip r:embed="rId2"/>
          <a:stretch/>
        </p:blipFill>
        <p:spPr>
          <a:xfrm>
            <a:off x="6705720" y="685800"/>
            <a:ext cx="1447560" cy="128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afe Passage</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rder to pass the Sirens, Odysseus, had his crew put wax in their ears and they bound him to the mast so he wouldn’t be swayed by the call of Sirens.</a:t>
            </a:r>
            <a:br>
              <a:rPr sz="3200"/>
            </a:br>
            <a:r>
              <a:rPr b="1" lang="en-US" sz="3200" spc="-1" strike="noStrike">
                <a:solidFill>
                  <a:srgbClr val="ffffff"/>
                </a:solidFill>
                <a:latin typeface="Tahoma"/>
              </a:rPr>
              <a:t> </a:t>
            </a:r>
            <a:endParaRPr b="0" lang="en-US" sz="3200" spc="-1" strike="noStrike">
              <a:solidFill>
                <a:srgbClr val="ffffff"/>
              </a:solidFill>
              <a:latin typeface="Tahoma"/>
            </a:endParaRPr>
          </a:p>
        </p:txBody>
      </p:sp>
      <p:pic>
        <p:nvPicPr>
          <p:cNvPr id="162" name="" descr=""/>
          <p:cNvPicPr/>
          <p:nvPr/>
        </p:nvPicPr>
        <p:blipFill>
          <a:blip r:embed="rId1"/>
          <a:stretch/>
        </p:blipFill>
        <p:spPr>
          <a:xfrm>
            <a:off x="2362320" y="3581280"/>
            <a:ext cx="3795480" cy="3036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Do we need to invest in ear wax?</a:t>
            </a:r>
            <a:endParaRPr b="0" lang="en-US" sz="4000" spc="-1" strike="noStrike">
              <a:solidFill>
                <a:srgbClr val="ffffcc"/>
              </a:solidFill>
              <a:latin typeface="Tahoma"/>
            </a:endParaRPr>
          </a:p>
        </p:txBody>
      </p:sp>
      <p:pic>
        <p:nvPicPr>
          <p:cNvPr id="164" name="" descr=""/>
          <p:cNvPicPr/>
          <p:nvPr/>
        </p:nvPicPr>
        <p:blipFill>
          <a:blip r:embed="rId1"/>
          <a:stretch/>
        </p:blipFill>
        <p:spPr>
          <a:xfrm>
            <a:off x="1600200" y="1447920"/>
            <a:ext cx="2176560" cy="2176200"/>
          </a:xfrm>
          <a:prstGeom prst="rect">
            <a:avLst/>
          </a:prstGeom>
          <a:ln w="0">
            <a:noFill/>
          </a:ln>
        </p:spPr>
      </p:pic>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do we need some rope t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ttach to the mast?</a:t>
            </a:r>
            <a:endParaRPr b="0" lang="en-US" sz="3200" spc="-1" strike="noStrike">
              <a:solidFill>
                <a:srgbClr val="ffffff"/>
              </a:solidFill>
              <a:latin typeface="Tahoma"/>
            </a:endParaRPr>
          </a:p>
        </p:txBody>
      </p:sp>
      <p:pic>
        <p:nvPicPr>
          <p:cNvPr id="166" name="" descr=""/>
          <p:cNvPicPr/>
          <p:nvPr/>
        </p:nvPicPr>
        <p:blipFill>
          <a:blip r:embed="rId2"/>
          <a:stretch/>
        </p:blipFill>
        <p:spPr>
          <a:xfrm>
            <a:off x="6400800" y="3733920"/>
            <a:ext cx="2171880" cy="2857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
                                  <p:stCondLst>
                                    <p:cond delay="0"/>
                                  </p:stCondLst>
                                  <p:childTnLst>
                                    <p:set>
                                      <p:cBhvr>
                                        <p:cTn id="13"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Examples of new tools..</a:t>
            </a:r>
            <a:endParaRPr b="0" lang="en-US" sz="4400" spc="-1" strike="noStrike">
              <a:solidFill>
                <a:srgbClr val="ffffcc"/>
              </a:solidFill>
              <a:latin typeface="Tahoma"/>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rnet offers new possibiliti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9" name="" descr=""/>
          <p:cNvPicPr/>
          <p:nvPr/>
        </p:nvPicPr>
        <p:blipFill>
          <a:blip r:embed="rId1"/>
          <a:stretch/>
        </p:blipFill>
        <p:spPr>
          <a:xfrm>
            <a:off x="1143000" y="217188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171" name="" descr=""/>
          <p:cNvPicPr/>
          <p:nvPr/>
        </p:nvPicPr>
        <p:blipFill>
          <a:blip r:embed="rId1"/>
          <a:stretch/>
        </p:blipFill>
        <p:spPr>
          <a:xfrm>
            <a:off x="457200" y="1143000"/>
            <a:ext cx="8001000" cy="5334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Tools to help patients better understand the health care system and risk</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174" name="" descr=""/>
          <p:cNvPicPr/>
          <p:nvPr/>
        </p:nvPicPr>
        <p:blipFill>
          <a:blip r:embed="rId1"/>
          <a:stretch/>
        </p:blipFill>
        <p:spPr>
          <a:xfrm>
            <a:off x="1676520" y="1981080"/>
            <a:ext cx="5715000" cy="4286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Recommendations</a:t>
            </a:r>
            <a:endParaRPr b="0" lang="en-US" sz="4400" spc="-1" strike="noStrike">
              <a:solidFill>
                <a:srgbClr val="ffffcc"/>
              </a:solidFill>
              <a:latin typeface="Tahoma"/>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who present papers at meetings or publish them in journals should be available to the press to clarify and explain their findings.</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urnalists should “triangulate” by seeking out critics and commentators on the research.</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urnals should make efforts to interest the press equally in negative and positive studies.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increase reporters' access to critical sources, medical journals could release the names of peer reviewers who are willing to speak with them.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Deyo’s common myths about the media’s coverage of health:</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 care is well defined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er is always better</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ctors adopt medical advances only on the basis of good scien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dical test are always good – how can information be bad?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etting tested to detect cancer early is one of the best ways to stay healthy--or is it? </a:t>
            </a:r>
            <a:endParaRPr b="0" lang="en-US" sz="3200" spc="-1" strike="noStrike">
              <a:solidFill>
                <a:srgbClr val="ffffff"/>
              </a:solidFill>
              <a:latin typeface="Tahoma"/>
            </a:endParaRPr>
          </a:p>
        </p:txBody>
      </p:sp>
      <p:pic>
        <p:nvPicPr>
          <p:cNvPr id="96" name="" descr=""/>
          <p:cNvPicPr/>
          <p:nvPr/>
        </p:nvPicPr>
        <p:blipFill>
          <a:blip r:embed="rId1"/>
          <a:stretch/>
        </p:blipFill>
        <p:spPr>
          <a:xfrm>
            <a:off x="7467480" y="990720"/>
            <a:ext cx="1324080" cy="203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ahoma"/>
              </a:rPr>
              <a:t>More rec’s</a:t>
            </a: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the press is invited to meetings at which peer-reviewed abstracts are presented, sponsoring organizations could also provide reviewers' names (if reviewers agree to this practice). Alternatively, journals could provide the names of experts who have published widely in the relevant field. </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edical community could do even more to promote disclosure of conflicts of interest.  They should also be prepared to place sanctions on those who mislead or fail to disclosure conflicts.  For example, more journals could require authors to reveal conflicts of interest and refuse to publish those fail to disclosure or are dishonest. </a:t>
            </a:r>
            <a:endParaRPr b="0" lang="en-US" sz="2400" spc="-1" strike="noStrike">
              <a:solidFill>
                <a:srgbClr val="ffffff"/>
              </a:solidFill>
              <a:latin typeface="Tahoma"/>
            </a:endParaRPr>
          </a:p>
          <a:p>
            <a:pPr marL="329040" indent="-3290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ientists should check all institutional press releases for accuracy and clarity.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ahoma"/>
              </a:rPr>
              <a:t>More rec’s</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dical journals and sponsors of medical meetings should provide access to experts who can assist journalists to place new information in the proper context. Persons ideally suited to this task are those who have peer reviewed a given article or abstract before its publication or presentation.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en financial interest or research sponsorship raises a potential conflict of interest, journalists should be told of the conflict by scientists, journal staff, or members of professional organizations.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urposes served by the embargo system of medical journals should be evaluated by the journals and members of the pres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ahoma"/>
              </a:rPr>
              <a:t>More rec’s</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cerns that research data will be misinterpreted by the media are best addressed by providing members of the media with easily understood explanations; withholding the information may promote even greater misunderstanding. I don’t think intentional withholding is very prevalent.  Is i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ose who understand the complexities of newsworthy issues in medicine and public health should work with the media proactively to prevent distortions and to make news coverage more comprehensive.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academic medical community should act to protect its members from intimidation by industry. These actions may include alerting members of the media to the intimidation of scientists.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dical journals should revise their policies so that scientists who explain a study to reporters do not necessarily jeopardize their chances of publishing their work.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onceptual framework and flow of media information</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mmunication is the process by which information is transferred from a source to a receiver.  </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MCR model which involves a </a:t>
            </a:r>
            <a:r>
              <a:rPr b="1" lang="en-US" sz="3200" spc="-1" strike="noStrike" u="sng">
                <a:solidFill>
                  <a:srgbClr val="ffffff"/>
                </a:solidFill>
                <a:uFillTx/>
                <a:latin typeface="Tahoma"/>
              </a:rPr>
              <a:t>s</a:t>
            </a:r>
            <a:r>
              <a:rPr b="1" lang="en-US" sz="3200" spc="-1" strike="noStrike">
                <a:solidFill>
                  <a:srgbClr val="ffffff"/>
                </a:solidFill>
                <a:latin typeface="Tahoma"/>
              </a:rPr>
              <a:t>ource sending a </a:t>
            </a:r>
            <a:r>
              <a:rPr b="1" lang="en-US" sz="3200" spc="-1" strike="noStrike" u="sng">
                <a:solidFill>
                  <a:srgbClr val="ffffff"/>
                </a:solidFill>
                <a:uFillTx/>
                <a:latin typeface="Tahoma"/>
              </a:rPr>
              <a:t>m</a:t>
            </a:r>
            <a:r>
              <a:rPr b="1" lang="en-US" sz="3200" spc="-1" strike="noStrike">
                <a:solidFill>
                  <a:srgbClr val="ffffff"/>
                </a:solidFill>
                <a:latin typeface="Tahoma"/>
              </a:rPr>
              <a:t>essage via different </a:t>
            </a:r>
            <a:r>
              <a:rPr b="1" lang="en-US" sz="3200" spc="-1" strike="noStrike" u="sng">
                <a:solidFill>
                  <a:srgbClr val="ffffff"/>
                </a:solidFill>
                <a:uFillTx/>
                <a:latin typeface="Tahoma"/>
              </a:rPr>
              <a:t>c</a:t>
            </a:r>
            <a:r>
              <a:rPr b="1" lang="en-US" sz="3200" spc="-1" strike="noStrike">
                <a:solidFill>
                  <a:srgbClr val="ffffff"/>
                </a:solidFill>
                <a:latin typeface="Tahoma"/>
              </a:rPr>
              <a:t>hannels to the </a:t>
            </a:r>
            <a:r>
              <a:rPr b="1" lang="en-US" sz="3200" spc="-1" strike="noStrike" u="sng">
                <a:solidFill>
                  <a:srgbClr val="ffffff"/>
                </a:solidFill>
                <a:uFillTx/>
                <a:latin typeface="Tahoma"/>
              </a:rPr>
              <a:t>receivers</a:t>
            </a:r>
            <a:r>
              <a:rPr b="1" lang="en-US" sz="3200" spc="-1" strike="noStrike">
                <a:solidFill>
                  <a:srgbClr val="ffffff"/>
                </a:solidFill>
                <a:latin typeface="Tahoma"/>
              </a:rPr>
              <a:t>).  </a:t>
            </a:r>
            <a:br>
              <a:rPr sz="3200"/>
            </a:br>
            <a:r>
              <a:rPr b="1" lang="en-US" sz="3200" spc="-1" strike="noStrike">
                <a:solidFill>
                  <a:srgbClr val="ffffff"/>
                </a:solidFill>
                <a:latin typeface="Tahoma"/>
              </a:rPr>
              <a:t> </a:t>
            </a:r>
            <a:endParaRPr b="0" lang="en-US" sz="3200" spc="-1" strike="noStrike">
              <a:solidFill>
                <a:srgbClr val="ffffff"/>
              </a:solidFill>
              <a:latin typeface="Tahoma"/>
            </a:endParaRPr>
          </a:p>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rce     message     channels   receiver                               </a:t>
            </a:r>
            <a:endParaRPr b="0" lang="en-US" sz="3200" spc="-1" strike="noStrike">
              <a:solidFill>
                <a:srgbClr val="ffffff"/>
              </a:solidFill>
              <a:latin typeface="Tahoma"/>
            </a:endParaRPr>
          </a:p>
        </p:txBody>
      </p:sp>
      <p:sp>
        <p:nvSpPr>
          <p:cNvPr id="99" name=""/>
          <p:cNvSpPr/>
          <p:nvPr/>
        </p:nvSpPr>
        <p:spPr>
          <a:xfrm>
            <a:off x="2209680" y="5486400"/>
            <a:ext cx="533520" cy="76320"/>
          </a:xfrm>
          <a:prstGeom prst="rightArrow">
            <a:avLst>
              <a:gd name="adj1" fmla="val 50000"/>
              <a:gd name="adj2" fmla="val 174764"/>
            </a:avLst>
          </a:pr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00" name=""/>
          <p:cNvSpPr/>
          <p:nvPr/>
        </p:nvSpPr>
        <p:spPr>
          <a:xfrm>
            <a:off x="4343400" y="5486400"/>
            <a:ext cx="533520" cy="76320"/>
          </a:xfrm>
          <a:prstGeom prst="rightArrow">
            <a:avLst>
              <a:gd name="adj1" fmla="val 50000"/>
              <a:gd name="adj2" fmla="val 174764"/>
            </a:avLst>
          </a:pr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01" name=""/>
          <p:cNvSpPr/>
          <p:nvPr/>
        </p:nvSpPr>
        <p:spPr>
          <a:xfrm>
            <a:off x="6553080" y="5486400"/>
            <a:ext cx="381240" cy="76320"/>
          </a:xfrm>
          <a:prstGeom prst="rightArrow">
            <a:avLst>
              <a:gd name="adj1" fmla="val 50000"/>
              <a:gd name="adj2" fmla="val 124882"/>
            </a:avLst>
          </a:prstGeom>
          <a:solidFill>
            <a:srgbClr val="ff3300"/>
          </a:solidFill>
          <a:ln w="936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hain of medical information</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rts with a source (scientist)</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rms usually dictate that "peers" are the first to receive new information</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fessional organizations are the next in the chain</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ually disseminated via medical journals, meetings or society news letters, government reports, detail people and word of mouth.  </a:t>
            </a:r>
            <a:endParaRPr b="0" lang="en-US" sz="20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news media then receives the information (through the above sources or through press releases)</a:t>
            </a:r>
            <a:endParaRPr b="0" lang="en-US" sz="2400" spc="-1" strike="noStrike">
              <a:solidFill>
                <a:srgbClr val="ffffff"/>
              </a:solidFill>
              <a:latin typeface="Tahoma"/>
            </a:endParaRPr>
          </a:p>
          <a:p>
            <a:pPr marL="335880" indent="-3358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the media source an editorial decision is made about the appropriateness of the material for the publi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In the news room…</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selected, the material is assigned to a journalist who translates and explains it to the public.</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inal step is the reader who selectively chooses what to engage w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mooth Communication</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for the communication chain to function with any degree of sophistication each link must be compatible with adjacent links. </a:t>
            </a:r>
            <a:endParaRPr b="0" lang="en-US" sz="2800" spc="-1" strike="noStrike">
              <a:solidFill>
                <a:srgbClr val="ffffff"/>
              </a:solidFill>
              <a:latin typeface="Tahoma"/>
            </a:endParaRPr>
          </a:p>
          <a:p>
            <a:pPr marL="332640" indent="-33264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medicine, the problems involve two primary forces – </a:t>
            </a:r>
            <a:br>
              <a:rPr sz="2800"/>
            </a:br>
            <a:r>
              <a:rPr b="1" lang="en-US" sz="2800" spc="-1" strike="noStrike">
                <a:solidFill>
                  <a:srgbClr val="ffffff"/>
                </a:solidFill>
                <a:latin typeface="Tahoma"/>
              </a:rPr>
              <a:t> </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medical research community (researchers, institutions, clinicians)</a:t>
            </a:r>
            <a:endParaRPr b="0" lang="en-US" sz="2400" spc="-1" strike="noStrike">
              <a:solidFill>
                <a:srgbClr val="ffffff"/>
              </a:solidFill>
              <a:latin typeface="Tahoma"/>
            </a:endParaRPr>
          </a:p>
          <a:p>
            <a:pPr marL="3326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nd </a:t>
            </a:r>
            <a:endParaRPr b="0" lang="en-US" sz="2800" spc="-1" strike="noStrike">
              <a:solidFill>
                <a:srgbClr val="ffffff"/>
              </a:solidFill>
              <a:latin typeface="Tahoma"/>
            </a:endParaRPr>
          </a:p>
          <a:p>
            <a:pPr lvl="1" marL="720720" indent="-27720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journalism community (journalists, editors, and publishers).  </a:t>
            </a:r>
            <a:br>
              <a:rPr sz="2400"/>
            </a:br>
            <a:r>
              <a:rPr b="1"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Problems with communication</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interaction of these two groups has effected the timely and accurate dissemination of medical research to the general public.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re are three controversial barriers to the dissemination of medical information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peer review,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ournal editorial policy (the Ingelfinger Rule),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d the news embargo.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4T15:27:21Z</dcterms:created>
  <dc:creator>Faith Fitzgerald</dc:creator>
  <dc:description/>
  <dc:language>en-US</dc:language>
  <cp:lastModifiedBy>kingv</cp:lastModifiedBy>
  <dcterms:modified xsi:type="dcterms:W3CDTF">2006-09-12T05:45:12Z</dcterms:modified>
  <cp:revision>109</cp:revision>
  <dc:subject/>
  <dc:title>THIS IS OUR TEACHER!</dc:title>
</cp:coreProperties>
</file>