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C833-062F-464C-9FC9-42C92508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71120" y="40546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0BF-06E3-42C8-94C3-A91CA1F9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112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5204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C76-8379-4F28-A8A8-9D06C690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27440" y="19051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83760" y="19051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71120" y="40546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27440" y="40546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83760" y="40546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488-763A-406C-812C-CFE743E1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43DC-4A48-4D9C-BD57-D3069F27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71120" y="19051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319B-9CAD-45A0-9B63-DF47E29E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417A-A227-4E17-8EE2-65C0A423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F5E7-7F1C-4C01-889C-0AEDB738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F367-ABA5-41E9-8421-32F8C8C8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771120" y="2282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07FD3-DA0A-4F30-A19C-B79D9CA7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7112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0186-BD38-4725-AACD-483E01D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71120" y="19051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55A3-D6BC-4560-8F29-FF1324EE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5204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6CA8-D119-48A2-AE07-39BB0C0F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71120" y="40546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2EB4-1DA0-41B5-ADBD-65AB1593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771120" y="40546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9C05-EE4F-44F9-9A89-9A42A24F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7112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5204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4DB6-C243-45F5-90FE-1A16D05A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7440" y="19051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83760" y="190512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771120" y="40546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27440" y="40546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683760" y="40546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996F-3E09-43D2-B6EE-F20266A7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F09B-943F-4CE9-84F2-86A48FAB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5FC-BCD9-4196-BEF7-07EDE5D1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400-A415-4CF3-A2A1-CA036AA5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71120" y="22824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5F4-0A52-4AFB-8742-6A344AEF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7112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B4F-2CEF-4B0B-B752-667AFAEA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52040" y="40546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AF7D-96F9-44E5-B116-4A6F47D5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0512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0546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6B6-2A66-48E1-B1F7-C6DBF89B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1120" y="190512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ff"/>
              </a:buClr>
              <a:buFont typeface="Wingdings 2" charset="2"/>
              <a:buChar char="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48580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714560" y="640080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0578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C130-76EE-4837-B13A-C4DF903E00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761960" y="5151600"/>
            <a:ext cx="2415600" cy="1370520"/>
            <a:chOff x="7761960" y="5151600"/>
            <a:chExt cx="2415600" cy="1370520"/>
          </a:xfrm>
        </p:grpSpPr>
        <p:sp>
          <p:nvSpPr>
            <p:cNvPr id="6" name=""/>
            <p:cNvSpPr/>
            <p:nvPr/>
          </p:nvSpPr>
          <p:spPr>
            <a:xfrm rot="20940000">
              <a:off x="7800840" y="5919840"/>
              <a:ext cx="51408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652240" y="5353200"/>
              <a:ext cx="4712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320000">
              <a:off x="9316440" y="5257440"/>
              <a:ext cx="68544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0940000">
              <a:off x="7945200" y="6019920"/>
              <a:ext cx="51408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8280" y="5429160"/>
              <a:ext cx="4712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1320000">
              <a:off x="9402480" y="5410080"/>
              <a:ext cx="68580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85320" y="632304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514320" y="632448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057880" y="632448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C455-9E99-4987-A12A-AD43A6A834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71120" y="91404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0940000">
            <a:off x="2057400" y="304920"/>
            <a:ext cx="51444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36880" y="171360"/>
            <a:ext cx="47160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940000">
            <a:off x="1971720" y="228600"/>
            <a:ext cx="51444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51200" y="19080"/>
            <a:ext cx="47160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761960" y="5075280"/>
            <a:ext cx="2415240" cy="1370520"/>
            <a:chOff x="7761960" y="5075280"/>
            <a:chExt cx="2415240" cy="1370520"/>
          </a:xfrm>
        </p:grpSpPr>
        <p:sp>
          <p:nvSpPr>
            <p:cNvPr id="57" name=""/>
            <p:cNvSpPr/>
            <p:nvPr/>
          </p:nvSpPr>
          <p:spPr>
            <a:xfrm rot="20940000">
              <a:off x="7800840" y="5843520"/>
              <a:ext cx="51408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52240" y="5276880"/>
              <a:ext cx="4712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320000">
              <a:off x="9316800" y="5181120"/>
              <a:ext cx="68544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20940000">
              <a:off x="7945200" y="5943600"/>
              <a:ext cx="51408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38280" y="5353200"/>
              <a:ext cx="4712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9402120" y="5334120"/>
              <a:ext cx="68580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rot="1320000">
            <a:off x="189000" y="244080"/>
            <a:ext cx="99360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1280" y="1060560"/>
            <a:ext cx="947088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ommunicating Harm and Benefits to Vulnerable Popul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-360" y="3224160"/>
            <a:ext cx="10287000" cy="29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ry L. Kreps, Ph.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dell Professor of Health Communication and Cha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artment of Commun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rge Mason Universit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kreps@gmu.ed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3000" y="301680"/>
            <a:ext cx="9953640" cy="14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ulnerable populations in need of relevant health information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3560" y="1512360"/>
            <a:ext cx="9227880" cy="44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2390760"/>
            <a:ext cx="764208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der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cio-economically depriv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orit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lth literacy challenge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n-native English speak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ts w serious/chronic disea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abled (physical/menta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2500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he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3000" y="569520"/>
            <a:ext cx="9953640" cy="15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ultural issues influencing effective health communication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6240" y="1943280"/>
            <a:ext cx="9769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iefs, values, norms, &amp; expect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guage skills and orient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alth literacy leve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ivation to seek health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use patter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7080" y="450720"/>
            <a:ext cx="9953640" cy="13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he best message strategies for diverse population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3240" y="1733400"/>
            <a:ext cx="992340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pting messages to audien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ssage testing and refinem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ltiple message strate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llustrating concep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loring messages to individual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0000" y="312840"/>
            <a:ext cx="9953640" cy="149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most effective communication channels for key population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5120" y="1899720"/>
            <a:ext cx="8379000" cy="40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ose, familiar, &amp; easily accessi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matic and memorab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essible over ti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tains health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acti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8480" y="418680"/>
            <a:ext cx="937584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The best sources of relevant health information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52360" y="1978200"/>
            <a:ext cx="8406000" cy="43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dible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miliar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t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er communi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9400" y="661680"/>
            <a:ext cx="9777240" cy="13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ssessing how well consumers understand health inform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0800" y="1647720"/>
            <a:ext cx="8751960" cy="35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eline measur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edback mechanism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ining health messa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7480" y="334800"/>
            <a:ext cx="9953640" cy="14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Policies &amp; Practices for Guiding Health Communication With Diverse Audience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8920" y="1674720"/>
            <a:ext cx="9626760" cy="45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idence-based health communi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lturally sensitive communic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ty particip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cation technologi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ining for providers/consumer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3000" y="663120"/>
            <a:ext cx="9953640" cy="93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Lessons Learned: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0120" y="1657080"/>
            <a:ext cx="92282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olve and empower at-risk consum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velop inter-organizational partnershi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 appropriate training and sup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ign culturally appropriate materia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cus on the family and the commun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 consumers with choi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57160" y="1981080"/>
            <a:ext cx="2743200" cy="15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00ff"/>
              </a:gs>
              <a:gs pos="50000">
                <a:srgbClr val="fe9bfe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21:41:20Z</dcterms:created>
  <dc:creator>Bernard Glassman</dc:creator>
  <dc:description/>
  <dc:language>en-US</dc:language>
  <cp:lastModifiedBy>Gary Kreps</cp:lastModifiedBy>
  <cp:lastPrinted>1999-08-31T23:36:39Z</cp:lastPrinted>
  <dcterms:modified xsi:type="dcterms:W3CDTF">2006-09-05T05:20:48Z</dcterms:modified>
  <cp:revision>375</cp:revision>
  <dc:subject/>
  <dc:title>No Slide Title</dc:title>
</cp:coreProperties>
</file>