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CC6EB-E5DA-4A0A-B25A-85A5264B792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1160" y="696960"/>
            <a:ext cx="4648320" cy="3486240"/>
          </a:xfrm>
          <a:prstGeom prst="rect">
            <a:avLst/>
          </a:prstGeom>
          <a:ln w="0">
            <a:noFill/>
          </a:ln>
        </p:spPr>
      </p:sp>
      <p:sp>
        <p:nvSpPr>
          <p:cNvPr id="1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ding Strength of Evidence: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 of Evidence Versus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grading the strength of evidence the same as rating the quality of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dividual studies are rated for their internal validity or</a:t>
            </a:r>
            <a:r>
              <a:rPr b="0" lang="en-US" sz="1200" spc="-1" strike="noStrike">
                <a:solidFill>
                  <a:srgbClr val="000000"/>
                </a:solidFill>
                <a:latin typeface="Comic Sans MS"/>
              </a:rPr>
              <a:t> </a:t>
            </a:r>
            <a:r>
              <a:rPr b="0" lang="en-US" sz="1200" spc="-1" strike="noStrike">
                <a:solidFill>
                  <a:srgbClr val="000000"/>
                </a:solidFill>
                <a:latin typeface="Calibri"/>
              </a:rPr>
              <a:t>risk of bias. Grading pertains to entire bodies of evidence about important key questions, outcomes, or comparisons. The quality of individual studies is just one of four required domains in strength-of-evidence grading.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Grading pertains to entire bodies of evidence about important key questions, outcomes, or comparisons. Because domains other than the quality (risk of bias) of individual studies must also be used in strength-of-evidence grading, evaluating study quality and strength of evidence at the same time is insufficient.</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rength-of-evidence grading is one of the final steps in the review process. It requires judgments about four key domains.  Only one of these is quality (risk of bias) of the individual studi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quired Domains</a:t>
            </a:r>
            <a:br>
              <a:rPr sz="1100"/>
            </a:br>
            <a:br>
              <a:rPr sz="1100"/>
            </a:br>
            <a:r>
              <a:rPr b="0" lang="en-US" sz="1100" spc="-1" strike="noStrike">
                <a:solidFill>
                  <a:srgbClr val="000000"/>
                </a:solidFill>
                <a:latin typeface="Calibri"/>
              </a:rPr>
              <a:t>Strength-of-evidence grading specifies required domains. What are the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rrect. The four required domains are risk of bias (i.e., quality ratings for individual studies with respect to a specific outcome), consistency (i.e., degree of similarity in the effect sizes of different studies within an evidence base with respect to a specific outcome), directness (i.e., whether evidence reflects a single, direct link between the interventions of interest and the ultimate health outcome under consideration, or, for comparisons, whether the evidence base has head-to-head studies), and precision (i.e., degree of certainty for estimate of effect with respect to a specific outcome).</a:t>
            </a: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rect. The four required domains are risk of bias, consistency, directness, and precision. Publication bias is an additional domain that can and should be used only when relevant.</a:t>
            </a:r>
            <a:endParaRPr b="0" lang="en-US" sz="11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rect. The four required domains are risk of bias, consistency (which is the missing required domain in this answer), directness, and precision. Strength of association is an additional domain referring to magnitude of effect that can be used when relevant.</a:t>
            </a:r>
            <a:endParaRPr b="0" lang="en-US" sz="11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of-Evidence Grades</a:t>
            </a: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list below reflects the correct grades for strength of evidence? </a:t>
            </a:r>
            <a:endParaRPr b="0" lang="en-US" sz="1200" spc="-1" strike="noStrike">
              <a:solidFill>
                <a:srgbClr val="000000"/>
              </a:solidFill>
              <a:latin typeface="Calibri"/>
            </a:endParaRPr>
          </a:p>
          <a:p>
            <a:pPr marL="2318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Very low is not an option. The four correct options for scores are high, moderate, low, and insufficient.</a:t>
            </a: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Very high and very low are not used. The four correct options for scores are high, moderate, low, and insufficient.</a:t>
            </a:r>
            <a:endParaRPr b="0" lang="en-US" sz="1200" spc="-1" strike="noStrike">
              <a:solidFill>
                <a:srgbClr val="000000"/>
              </a:solidFill>
              <a:latin typeface="Calibri"/>
            </a:endParaRPr>
          </a:p>
          <a:p>
            <a:pPr marL="231840" indent="-231840">
              <a:spcBef>
                <a:spcPts val="15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rength of evidence can have three </a:t>
            </a:r>
            <a:r>
              <a:rPr b="1" lang="ja-JP" sz="1200" spc="-1" strike="noStrike">
                <a:solidFill>
                  <a:srgbClr val="000000"/>
                </a:solidFill>
                <a:latin typeface="Calibri"/>
              </a:rPr>
              <a:t>“</a:t>
            </a:r>
            <a:r>
              <a:rPr b="1" lang="en-US" sz="1200" spc="-1" strike="noStrike">
                <a:solidFill>
                  <a:srgbClr val="000000"/>
                </a:solidFill>
                <a:latin typeface="Calibri"/>
              </a:rPr>
              <a:t>strength</a:t>
            </a:r>
            <a:r>
              <a:rPr b="1" lang="ja-JP" sz="1200" spc="-1" strike="noStrike">
                <a:solidFill>
                  <a:srgbClr val="000000"/>
                </a:solidFill>
                <a:latin typeface="Calibri"/>
              </a:rPr>
              <a:t>”</a:t>
            </a:r>
            <a:r>
              <a:rPr b="1" lang="en-US" sz="1200" spc="-1" strike="noStrike">
                <a:solidFill>
                  <a:srgbClr val="000000"/>
                </a:solidFill>
                <a:latin typeface="Calibri"/>
              </a:rPr>
              <a:t> grades relating to the confidence one has that evidence reflects the true effect and that future research might confirm or overturn the results. Insufficient implies either that one has no relevant evidence or that the evidence is so mixed and inadequate that one cannot use any of the other leve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0948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scretionary Domains</a:t>
            </a:r>
            <a:br>
              <a:rPr sz="1200"/>
            </a:br>
            <a:br>
              <a:rPr sz="1200"/>
            </a:br>
            <a:r>
              <a:rPr b="0" lang="en-US" sz="1200" spc="-1" strike="noStrike">
                <a:solidFill>
                  <a:srgbClr val="000000"/>
                </a:solidFill>
                <a:latin typeface="Calibri"/>
              </a:rPr>
              <a:t>What discretionary domains can be used to reach a strength-of-evidence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ny of these four domains can be used when they are relevant and the appropriate data or statistical tests are available. They are used only after the required domains have been score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orrect. The correct other domains are dose-response association, plausible confounders, strength of association, and publication bias. Applicability is not used in grading strength of evidence; it is reported separately. Funding sources are not considered in strength-of-evidence grading.</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orrect. The correct other domains are dose-response association, plausible confounders, strength of association, and publication bias. Number of studies (or articles) by itself is not considered in strength-of-evidence grading. Applicability is not used in strength-of-evidence grading; it is reported separately.</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bining Scores for Overall Grade</a:t>
            </a:r>
            <a:br>
              <a:rPr sz="1200"/>
            </a:br>
            <a:br>
              <a:rPr sz="1200"/>
            </a:br>
            <a:r>
              <a:rPr b="0" lang="en-US" sz="1200" spc="-1" strike="noStrike">
                <a:solidFill>
                  <a:srgbClr val="000000"/>
                </a:solidFill>
                <a:latin typeface="Calibri"/>
              </a:rPr>
              <a:t>In combining scores for domains into an overall grade for strength of evidence, which of the following approaches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ny of these three approaches can be used. The critical element in selecting any option is careful documentation of the method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ny of the three approaches can be used. The critical element in selecting any option is careful documentation of the methods.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ensus Sco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coring required and additional domains and in arriving at an overall grade for strength of evidence, which of the following should be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 least two reviewers with appropriate clinical and methodological expertise should participate.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 least two reviewers with appropriate clinical and methodological expertise should participate, but differences should be mediated or adjudicated by a third party. Only the consensus grade should be reported.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t least two reviewers with appropriate clinical and methodological expertise should participate, and differences should be mediated or adjudicated by a third party. Only the consensus grade should be reported.</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active quiz augments the module on grading strength of evidence. It was prepared by Kathleen N. Lohr, Ph.D., a Distinguished Fellow at RTI International, and is based on an update of chapter 11 in version 1.0 of the </a:t>
            </a:r>
            <a:r>
              <a:rPr b="0" i="1" lang="en-US" sz="1200" spc="-1" strike="noStrike">
                <a:solidFill>
                  <a:srgbClr val="000000"/>
                </a:solidFill>
                <a:latin typeface="Calibri"/>
              </a:rPr>
              <a:t>Methods Guide for Comparative Effectiveness Reviews </a:t>
            </a:r>
            <a:r>
              <a:rPr b="0" lang="en-US" sz="1200" spc="-1" strike="noStrike">
                <a:solidFill>
                  <a:srgbClr val="000000"/>
                </a:solidFill>
                <a:latin typeface="Calibri"/>
              </a:rPr>
              <a:t>(updated chapter available at: http://effectivehealthcare. ahrq.gov/ehc/products/60/318/2009_0805_ grading.pdf ).</a:t>
            </a: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E015-F92C-45D8-AA1A-F2B87D8ED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rading Strength of Evidence</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s grading the strength of evidence the same as rating the quality of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es, they are the same thing.</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 but you can grade strength of evidence at the same time that you rate the quality of the individual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 you can grade the strength of evidence only after you have rated the quality of individual studie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 of Evidence Versus Qualit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Strength-of-evidence grading specifies required domains. What are they?</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consistency, directness, and precision </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consistency, directness, precision,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precision, strength of association, and directness </a:t>
            </a:r>
            <a:endParaRPr b="0" lang="en-US" sz="2800" spc="-1" strike="noStrike">
              <a:solidFill>
                <a:srgbClr val="ffffff"/>
              </a:solidFill>
              <a:latin typeface="Trebuchet MS"/>
            </a:endParaRPr>
          </a:p>
          <a:p>
            <a:pPr>
              <a:lnSpc>
                <a:spcPct val="100000"/>
              </a:lnSpc>
              <a:spcBef>
                <a:spcPts val="1049"/>
              </a:spcBef>
              <a:buClr>
                <a:srgbClr val="dfb2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quired Domai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list below reflects the correct grades for strength of evidence? </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moderate, low, very low</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Very high, high, moderate, low, very low</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moderate, low, insufficient</a:t>
            </a:r>
            <a:endParaRPr b="0" lang="en-US" sz="2800" spc="-1" strike="noStrike">
              <a:solidFill>
                <a:srgbClr val="ffffff"/>
              </a:solidFill>
              <a:latin typeface="Trebuchet MS"/>
            </a:endParaRPr>
          </a:p>
          <a:p>
            <a:pPr>
              <a:lnSpc>
                <a:spcPct val="100000"/>
              </a:lnSpc>
              <a:spcBef>
                <a:spcPts val="1049"/>
              </a:spcBef>
              <a:buClr>
                <a:srgbClr val="dfb20f"/>
              </a:buClr>
              <a:buFont typeface="Calibri"/>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of –Evidence Grades </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at discretionary domains can be used to reach a strength-of-evidence grad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se-response association, plausible confounders, strength of association,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usible confounders, strength of association, applicability, funding sources, and publication bia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umbers of studies or articles, publication bias, and applicability</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iscretionary Domai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combining scores for domains into an overall grade for strength of evidence, which of the following approaches can be used?</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GRADE algorithm for weighting domain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reviewer</a:t>
            </a:r>
            <a:r>
              <a:rPr b="0" lang="ja-JP" sz="2800" spc="-1" strike="noStrike">
                <a:solidFill>
                  <a:srgbClr val="ffffff"/>
                </a:solidFill>
                <a:latin typeface="Trebuchet MS"/>
              </a:rPr>
              <a:t>’</a:t>
            </a:r>
            <a:r>
              <a:rPr b="0" lang="en-US" sz="2800" spc="-1" strike="noStrike">
                <a:solidFill>
                  <a:srgbClr val="ffffff"/>
                </a:solidFill>
                <a:latin typeface="Trebuchet MS"/>
              </a:rPr>
              <a:t>s own numerical weighting system</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the reviewer</a:t>
            </a:r>
            <a:r>
              <a:rPr b="0" lang="ja-JP" sz="2800" spc="-1" strike="noStrike">
                <a:solidFill>
                  <a:srgbClr val="ffffff"/>
                </a:solidFill>
                <a:latin typeface="Trebuchet MS"/>
              </a:rPr>
              <a:t>’</a:t>
            </a:r>
            <a:r>
              <a:rPr b="0" lang="en-US" sz="2800" spc="-1" strike="noStrike">
                <a:solidFill>
                  <a:srgbClr val="ffffff"/>
                </a:solidFill>
                <a:latin typeface="Trebuchet MS"/>
              </a:rPr>
              <a:t>s own qualitative (nonnumerical) approach</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y of the above </a:t>
            </a: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bining Scores for Overall Grade</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fontScale="97000"/>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scoring required and additional domains and in arriving at an overall grade for strength of evidence, which of the following should be done?</a:t>
            </a:r>
            <a:endParaRPr b="0" lang="en-US" sz="28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only one senior reviewer to perform these tasks and report this score.</a:t>
            </a:r>
            <a:endParaRPr b="0" lang="en-US" sz="24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two or more reviewers, resolve differences by consensus or adjudication by a third party, and report all scores.</a:t>
            </a:r>
            <a:endParaRPr b="0" lang="en-US" sz="2400" spc="-1" strike="noStrike">
              <a:solidFill>
                <a:srgbClr val="ffffff"/>
              </a:solidFill>
              <a:latin typeface="Trebuchet MS"/>
            </a:endParaRPr>
          </a:p>
          <a:p>
            <a:pPr>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two or more reviewers, resolve differences by consensus or adjudication by a third party, and report a consensus score.</a:t>
            </a:r>
            <a:endParaRPr b="0" lang="en-US" sz="24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sensus Scoring</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o grade strength of evidence within a comparative effectiveness review, reviewers must:</a:t>
            </a:r>
            <a:endParaRPr b="0" lang="en-US" sz="26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major concepts of strength-of-evidence grading</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 the difference between rating the quality of individual studies and grading whole bodies of evidence</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now the four required domains to be assessed and the possible other domains that can be used</a:t>
            </a:r>
            <a:endParaRPr b="0" lang="en-US" sz="2400" spc="-1" strike="noStrike">
              <a:solidFill>
                <a:srgbClr val="ffffff"/>
              </a:solidFill>
              <a:latin typeface="Trebuchet MS"/>
            </a:endParaRPr>
          </a:p>
          <a:p>
            <a:pPr lvl="1" marL="505440" indent="-2253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strength-of-evidence grades and the approaches that can be used to combine domain scores</a:t>
            </a:r>
            <a:endParaRPr b="0" lang="en-US" sz="2400" spc="-1" strike="noStrike">
              <a:solidFill>
                <a:srgbClr val="ffffff"/>
              </a:solidFill>
              <a:latin typeface="Trebuchet MS"/>
            </a:endParaRPr>
          </a:p>
          <a:p>
            <a:pPr marL="227160" indent="-22716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marL="227160" indent="-22716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quiz was prepared by Kathleen N. Lohr, Ph.D., a Distinguished Fellow at RTI International.</a:t>
            </a:r>
            <a:r>
              <a:rPr b="0" lang="en-US" sz="2800" spc="-1" strike="noStrike">
                <a:solidFill>
                  <a:srgbClr val="ffffff"/>
                </a:solidFill>
                <a:latin typeface="Trebuchet MS"/>
              </a:rPr>
              <a:t>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module is based on an update of chapter 11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updated chapter available at: http://effectivehealthcare.ahrq.gov/ehc/products/60/318/2009_0805_ grading.pdf )</a:t>
            </a:r>
            <a:r>
              <a:rPr b="0" lang="en-US" sz="2800" spc="-1" strike="noStrike">
                <a:solidFill>
                  <a:srgbClr val="ffffff"/>
                </a:solidFill>
                <a:latin typeface="Trebuchet MS"/>
              </a:rPr>
              <a: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04:07:58Z</dcterms:created>
  <dc:creator>Kathleen N. Lohr, Ph.D.</dc:creator>
  <dc:description>This interactive quiz is based on an update of chapter 11 in version 1.0 of the Methods Guide for Comparative Effectiveness Reviews (updated chapter available at: http://effectivehealthcare. ahrq.gov/ehc/products/ 60/318/2009_0805_ grading.pdf ).</dc:description>
  <dc:language>en-US</dc:language>
  <cp:lastModifiedBy>Katharine Schneider</cp:lastModifiedBy>
  <dcterms:modified xsi:type="dcterms:W3CDTF">2013-09-02T17:23:49Z</dcterms:modified>
  <cp:revision>67</cp:revision>
  <dc:subject/>
  <dc:title> Grading Strength of Evidence: Interactive Quiz </dc:title>
</cp:coreProperties>
</file>