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D732-9062-4DA7-8039-AC5E0AC8DB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ing Applicability of Medical Test Studies in Systematic Re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6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assess the applicability of medical test studies in systematic re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1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ly, all factors related to the impact of a test on health outcomes should be considered — but this is not practical. The reviewer must decide on a reasonable list of factors to address by thinking about how they may affect the causal chain of direct relevance to the key question. Early on in this causal chain, one may consider how slice thickness in a cardiac magnetic resonance imaging (MRI) scan may affect accuracy. A later link in the causal chain would include considering how diagnosis by cardiac MRI versus angiography may affect treatment. It is also important to consider contextual issues that are relevant to the applicability of medical tests. These issues include patient populations, management strategies, time effects, and secular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2 of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ontextual factor is spectrum effect, which refers to differences in sensitivity or specificity of a test caused by differences in the severity or type of disease in the patient population. </a:t>
            </a:r>
            <a:r>
              <a:rPr b="0" lang="en-US" sz="1200" spc="-1" strike="noStrike">
                <a:solidFill>
                  <a:srgbClr val="000000"/>
                </a:solidFill>
                <a:latin typeface="Calibri"/>
              </a:rPr>
              <a:t>These disease-related factors should be identified by reviewers ahead of time in order to justify splitting key questions or performing subgroup analyses. </a:t>
            </a:r>
            <a:r>
              <a:rPr b="0" lang="en-US" sz="1200" spc="-1" strike="noStrike">
                <a:solidFill>
                  <a:srgbClr val="000000"/>
                </a:solidFill>
                <a:latin typeface="Calibri"/>
              </a:rPr>
              <a:t>An example would be how obesity makes it more difficult to interpret cardiac magnetic resonance imaging results, leading to reduced accuracy in detecting cardiac disease. In this case, a subgroup analysis looking at patients who are not obese separately from those who are may be reason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3 of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contextual factor concerns where a test falls as part of a management strategy. Reviewers must understand where in the evaluation process a test is being used. A test population receiving initial screening for a disease will have a lower pretest probability when compared with a population that has already tested positive with initial screening tests. For example, cardiac magnetic resonance imaging (MRI) can be used as either an initial screening test or as an add-on test after initial screening. One of the reasons that it is important to distinguish between these uses is that the comparators will be different in each case. When cardiac MRI is used as an add-on, its comparator is generally x-ray coronary angiography, which is the gold standard. When cardiac MRI is used for triage, the comparator could be any number of initial screening tests, including stress electrocard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4 of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contextual factor concerns the methods used for the medical test over time. It is important to have historical knowledge of how technologies and the uses of diagnostic tests have changed. Referring again to the cardiac magnetic resonance imaging, slice thickness has decreased steadily over time, which allows the resolution of smaller lesions. In this case, it may be appropriate to choose a date range both for studies that exclude older technologies and for studies that present current data by slice thickness. As another example, antenatal testing, such as fetal ultrasound to detect cardiac abnormalities, is used at varying gestational stages, and so the timing of these tests affects their accuracy. It is important then to account for these differences, either by narrowing study selection to a specific gestational age or by examining data using varied cutoffs for gestational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5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th contextual factor concerns secular, or long-term, trends in the population of interest. Direct or indirect changes in these trends, or even cultural differences, can influence test performance and applicability. For example, as women have started having babies later in life, and more of the population is obese, the prevalence of undiagnosed diabetes in pregnancy has gone up. As a result of this increase, the predictive values, the cost/benefit ratios, and the accuracy of testing also change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6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lar trends in population characteristics can have indirect effects on applicability when they change in ways that influence the ability of clinicians to conduct a medical test. Because obesity diminishes image quality in ultrasound for gallbladder disease and magnetic resonance imaging for spinal conditions, many studies exclude obese patients during enrollment. Due to the increasing prevalence of obesity, this will reduce the applicability of study results to the general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7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valence that is measured to determine secular trends is tied to disease definitions, which may change over time. A simple change in definition can have a great impact on disease prevalence. There are several examples of this, with one of the more well-known examples being that the criteria used to diagnose AIDS have changed several times since the early 1980s. This is another situation where having historical knowledge of a disease is important. The continuous changes in definitions of mental health conditions as reported in the updates of the </a:t>
            </a:r>
            <a:r>
              <a:rPr b="0" i="1" lang="en-US" sz="1200" spc="-1" strike="noStrike">
                <a:solidFill>
                  <a:srgbClr val="000000"/>
                </a:solidFill>
                <a:latin typeface="Calibri"/>
              </a:rPr>
              <a:t>Diagnostic and Statistical Manual of Mental Disorders </a:t>
            </a:r>
            <a:r>
              <a:rPr b="0" lang="en-US" sz="1200" spc="-1" strike="noStrike">
                <a:solidFill>
                  <a:srgbClr val="000000"/>
                </a:solidFill>
                <a:latin typeface="Calibri"/>
              </a:rPr>
              <a:t>is another great example of this potential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8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fth contextual factor looks at changes in what is used as routine preventive care over time. Routine preventative care can be considered an indirect factor that alters prevalence, such as preventive lipid testing enabling treatment for dyslipidemia and changing the course of cardiovascular disease. In another example, new vaccines, such as using the human papilloma virus (HPV) vaccine to prevent cervical cancer, are expected to change the distribution and relative prevalence of viral subtypes in the population. Preventive practices, especially vaccines, also change the utility of medical tests, such as the test for HPV detection. Knowing preventive care trends is thus important for understanding the applicability of a body of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9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xth and final contextual factor to consider is changes in therapeutics. As the treatment of disease improves, the impact of diagnostic tools on outcomes can change. As an example, improvements in the treatment of hypertension and hyperlipidemia may change the implications of testing for carotid arterial stenosis which, in turn, changes the impact of diagnostic tools that assess the dise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1: Identify Important Contextual Factors (10 of 1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steps can be taken to ensure that population and subgroup data are uniformly collected and useful. First and foremost, refer to the PICOTS (</a:t>
            </a:r>
            <a:r>
              <a:rPr b="1" lang="en-US" sz="1000" spc="-1" strike="noStrike">
                <a:solidFill>
                  <a:srgbClr val="000000"/>
                </a:solidFill>
                <a:latin typeface="Calibri"/>
              </a:rPr>
              <a:t>p</a:t>
            </a:r>
            <a:r>
              <a:rPr b="0" lang="en-US" sz="1000" spc="-1" strike="noStrike">
                <a:solidFill>
                  <a:srgbClr val="000000"/>
                </a:solidFill>
                <a:latin typeface="Calibri"/>
              </a:rPr>
              <a:t>opulation, </a:t>
            </a:r>
            <a:r>
              <a:rPr b="1" lang="en-US" sz="1000" spc="-1" strike="noStrike">
                <a:solidFill>
                  <a:srgbClr val="000000"/>
                </a:solidFill>
                <a:latin typeface="Calibri"/>
              </a:rPr>
              <a:t>i</a:t>
            </a:r>
            <a:r>
              <a:rPr b="0" lang="en-US" sz="1000" spc="-1" strike="noStrike">
                <a:solidFill>
                  <a:srgbClr val="000000"/>
                </a:solidFill>
                <a:latin typeface="Calibri"/>
              </a:rPr>
              <a:t>ntervention, </a:t>
            </a:r>
            <a:r>
              <a:rPr b="1" lang="en-US" sz="1000" spc="-1" strike="noStrike">
                <a:solidFill>
                  <a:srgbClr val="000000"/>
                </a:solidFill>
                <a:latin typeface="Calibri"/>
              </a:rPr>
              <a:t>c</a:t>
            </a:r>
            <a:r>
              <a:rPr b="0" lang="en-US" sz="1000" spc="-1" strike="noStrike">
                <a:solidFill>
                  <a:srgbClr val="000000"/>
                </a:solidFill>
                <a:latin typeface="Calibri"/>
              </a:rPr>
              <a:t>omparator, </a:t>
            </a:r>
            <a:r>
              <a:rPr b="1" lang="en-US" sz="1000" spc="-1" strike="noStrike">
                <a:solidFill>
                  <a:srgbClr val="000000"/>
                </a:solidFill>
                <a:latin typeface="Calibri"/>
              </a:rPr>
              <a:t>o</a:t>
            </a:r>
            <a:r>
              <a:rPr b="0" lang="en-US" sz="1000" spc="-1" strike="noStrike">
                <a:solidFill>
                  <a:srgbClr val="000000"/>
                </a:solidFill>
                <a:latin typeface="Calibri"/>
              </a:rPr>
              <a:t>utcomes, </a:t>
            </a:r>
            <a:r>
              <a:rPr b="1" lang="en-US" sz="1000" spc="-1" strike="noStrike">
                <a:solidFill>
                  <a:srgbClr val="000000"/>
                </a:solidFill>
                <a:latin typeface="Calibri"/>
              </a:rPr>
              <a:t>t</a:t>
            </a:r>
            <a:r>
              <a:rPr b="0" lang="en-US" sz="1000" spc="-1" strike="noStrike">
                <a:solidFill>
                  <a:srgbClr val="000000"/>
                </a:solidFill>
                <a:latin typeface="Calibri"/>
              </a:rPr>
              <a:t>iming, and </a:t>
            </a:r>
            <a:r>
              <a:rPr b="1" lang="en-US" sz="1000" spc="-1" strike="noStrike">
                <a:solidFill>
                  <a:srgbClr val="000000"/>
                </a:solidFill>
                <a:latin typeface="Calibri"/>
              </a:rPr>
              <a:t>s</a:t>
            </a:r>
            <a:r>
              <a:rPr b="0" lang="en-US" sz="1000" spc="-1" strike="noStrike">
                <a:solidFill>
                  <a:srgbClr val="000000"/>
                </a:solidFill>
                <a:latin typeface="Calibri"/>
              </a:rPr>
              <a:t>etting) typology to identify factors that may affect applicability, including the hidden sources of limitations in the six contextual factors. Next, the list of factors that may affect applicability should be presented to the stakeholders for their review and identification of any additional factors. Features that the stakeholders find crucial can be captured, prioritized, and synthesized during the revie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br>
              <a:rPr sz="1000"/>
            </a:br>
            <a:r>
              <a:rPr b="0" lang="en-US" sz="10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 Care Research and Quality; January 2002. Available at www.ncbi.nlm.nih.gov/books/NBK42831.</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llustrates the process followed when systematically reviewing medical tests. This module focuses on the fifth step in this process, assessing the applicability of studies as it applies to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1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popul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Mincho"/>
              </a:rPr>
              <a:t>In a systematic review, issues to consider about the study population include justifications for lumping or splitting key questions, the method of selection to be used, the demographic characteristics of the population, and the prevalence and spectrum of disease within the population. The reviewer may be challenged when the population is not well described and key characteristics are not reported. It is important to decide in advance what information is crucial and, when absent, will lead to the exclusion of a study. If a study without key information is included, the missing elements should be addressed and taken into account when organizing the data. The presence or absence of the parameter may be considered in a meta-regression or sensitivity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2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interv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e characteristics of the intervention include the version of test used, who conducted the test, diagnostic thresholds, and the skill of assessors. The assessment is challenged when there is no clear description of the test version used or of the training of the test users. Tests that are used both for screening and diagnosis also pose challenges. These issues can be overcome by excluding studies that do not have the pertinent information or including them while addressing the challenges. Authors of studies can be contacted for more information or the deficits in data can be noted in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3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comparato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Mincho"/>
              </a:rPr>
              <a:t>It is important to assess whether the test studied is being compared to a gold standard and how it is being used as part of a management strategy. The lack of a gold standard is a challenge that must be addressed either by excluding the study or by choosing studies with specific comparators. Data in the review may be grouped by comparator when presenting the summary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4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outcom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d here are issues to assess regarding the outcome of the use of the test itself. These issues include the sensitivity and specificity of the test, as well as items such as the diagnostic odds rat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5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clinical outcom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outcomes from the test results may mean earlier diagnosis or intervention, change in the sequence of testing or care, or change in treatment. </a:t>
            </a:r>
            <a:r>
              <a:rPr b="0" lang="en-US" sz="1200" spc="-1" strike="noStrike">
                <a:solidFill>
                  <a:srgbClr val="000000"/>
                </a:solidFill>
                <a:latin typeface="Calibri"/>
                <a:ea typeface="MS Mincho"/>
              </a:rPr>
              <a:t>Challenges include heterogeneous populations and study designs plus data that is not adjusted for key predictors. These issues can be addressed by excluding the studies or discussing the implications to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6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tim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refers to the timing of the test in the sequence of care or the timing of its use in the spectrum of disease.</a:t>
            </a:r>
            <a:r>
              <a:rPr b="0" lang="en-US" sz="1200" spc="-1" strike="noStrike">
                <a:solidFill>
                  <a:srgbClr val="000000"/>
                </a:solidFill>
                <a:latin typeface="Calibri"/>
                <a:ea typeface="MS Mincho"/>
              </a:rPr>
              <a:t>. Challenges include an unclear sequence of testing and other diagnostics, no reporting of time from results to treatment, and variable ordering of testing across subjects. The challenges can be addressed by excluding the studies, contacting the authors for more information, or flagging the deficits and their implications in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7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sett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tting includes where the test is used, the type of medical facility, and the personnel available to evaluate the test. </a:t>
            </a:r>
            <a:r>
              <a:rPr b="0" lang="en-US" sz="1200" spc="-1" strike="noStrike">
                <a:solidFill>
                  <a:srgbClr val="000000"/>
                </a:solidFill>
                <a:latin typeface="Calibri"/>
                <a:ea typeface="MS Mincho"/>
              </a:rPr>
              <a:t>Challenges are the variable amount of resources available to providers for diagnosis and treatment, variable provider type across settings, and use of international settings with potential care differences. When challenges are present, the study can be excluded or included with a discussion of the i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Be Prepared To Deal With Additional Factors Affecting Applic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after carefully considering all possible contextual factors, other factors affecting applicability may arise during literature review. The example given here involves discovering that a test is inaccurate for older patients when age was never considered in the preparatory work. This could be a false association or indeed an oversight. If it is not clear which, then consider commenting on the possible association as a hypothesis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3: Justify Decisions To Restrict the Scope of a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s to restrict the scope of a review need to be justified. Restricting the scope to certain subgroups is also referred to as splitting. This may be necessary to study the particular test version, study method, population, or setting that is of interest to stakeholders. For example, a researcher may be charged with evaluating the use of cardiac magnetic resonance imaging (MRI) in a tertiary care setting to diagnose cardiac disease in women who are obese. If there is evidence that test performance in women who are obese is much different than in women of normal weight or in men, then it may be appropriate to split the groups and examine only MRI data collected on women who are obese. Restriction of the scope is possible when there is evidence that the test performs differently in a specific subgroup or setting or from another version of the test, and all parties involved in the review process agree that a top priority is the applicability to this group. If the priority is to conduct a comprehensive review, including all limitations, then splitting is not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Maintain a Transparent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ing a transparent process requires that applicability be addressed in the review methods in the protocol for the systematic review. For example, if a review is to cover factors that change over time, this should prompt the addition of timeframes to the inclusion criteria or descriptions and analyses of the possible impact of these factors on applicability. Transparency is especially important when review decisions are controversial. This can occur when there are few to no data after exclusion criteria are applied. A decision to include material that was initially excluded according to agreed upon criteria would be appropriate if it is clearly documented how the evidence may not be directly applicable but represents the limited state of th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is module, the user should be able to explain how assessing applicability involves looking at each individual study in the review, as well as the entire body of evidence. The user should be able to describe at least three challenges in assessing applicability and how they are often related to the context in which the test is used. The user should be able to name four principles for assessing and reporting applicability. Finally, the user should be able to apply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when assessing applic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Cervical Cancer Screening (1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02 Cervical Cancer Screening Summary of the Evidence prepared for the U.S. Preventive Services Task Force provides good examples of the challenges and principles of assessing applicability. The technology involved with the screening test changed significantly with the advent of liquid-based cytology and new computer systems used to enhance accuracy. Resources for conventional Pap smear testing were strained at the time, which contributed to the rise of liquid-based cytology. The adjunct use of human papilloma virus testing to enhance accuracy also changed how the test was used. In addition, there were no randomized controlled trials using, comparing, or adding the new technologies to conventional car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care Research and Quality; January 2002. Available at www.ncbi.nlm.nih.gov/books/NBK42831.</a:t>
            </a:r>
            <a:endParaRPr b="0" lang="en-US" sz="11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llustrative Example: Cervical Cancer Screening (2 of 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cause the 2002 Cervical Cancer Screening Summary of the Evidence prepared for the U.S. Preventive Services Task Force contained no data comparing outcomes, the report focused on the sensitivity, specificity, predictive value, and likelihood ratio of the tests listed here. The purpose was to determine if any method was superior to others, so all were included in the assessment rather than limiting the review to only those technologies used in the United States or to only those tests that were currently availab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care Research and Quality; January 2002. Available at www.ncbi.nlm.nih.gov/books/NBK4283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tmann KE, Nanda K, Hall S, et al. Technologic advances for evaluation of cervical cytology: is newer better? Obstet Gynecol Surv 2001 Dec;56(12):765-74. PMID: 1175317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175317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utchinson ML, Zahniser DJ, Sherman ME, et al. Utility of liquid-based cytology for cervical carcinoma screening: results of a population-based study conducted in a region of Costa Rica with a high incidence of cervical carcinoma. Cancer 1999 Apr;87(2):48-55. PMID: 1022759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22759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cCrory DC, Matchar DB, Bastian L, et al. Evaluation of Cervical Cytology. Evidence Report/Technology Assessment No. 5 (Prepared by the Duke University Evidence-based Practice Center under Contract No. 290-07-0014. Rockville, MD: Agency for Health Care Policy and Research; January 1999. AHCPR Publication No. 99-E010. Available at www.ncbi.nlm.nih.gov/books/NBK11840.</a:t>
            </a:r>
            <a:endParaRPr b="0" lang="en-US" sz="8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Cervical Cancer Screening (3 of 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specific areas of interest to applicability in the 2002 Cervical Cancer Screening Summary of the Evidence prepared for the U.S. Preventive Services Task Force (USPSTF) included age and hysterectomy status. Information on incidence and prevalence was included to provide context and inform modeling on the impact of testing. This approach helped improve understanding about the burden of disease and costs of screening in these subgroups. The reviewers were not able to estimate the usefulness of human papilloma virus testing in older women from trends in younger women. Extrapolating results between contexts like this rarely enhances applicability. In the end, the reviewers concluded that older women are disproportionately more likely to have false-positive screenings under current recommendations because of the risks of high-grade cervical lesions decreasing with age and with previous normal Pap tests and because the data supported the recommendation of USPSTF to discontinue Pap testing after a woman has had a hysterectom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care Research and Quality; January 2002. Available at www.ncbi.nlm.nih.gov/books/NBK42831.</a:t>
            </a:r>
            <a:endParaRPr b="0" lang="en-US" sz="10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 (1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ssessing applicability of a medical test, reviewers need to consider: Is the test still available? Has the technology of the test changed? How is the test used now in clinical practice compared to when the studies were completed? Has the treatment of the related disease improved or changed? If populations studied had different levels of disease severity, will it affect the performance of the test? How do study design and sampling strategies bias the fin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for reviewers of medical tests to understand that the applicability of a review is improved by excluding studies that are outdated or only marginally related to the clinical question; that extrapolating results from one context to another rarely enhances applicability; and that experts, who may have more historical knowledge, can help restrict the scope of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esenting results, it is important to group findings in meaningful ways. For medical tests, this means grouping the findings in ways that help the reader readily understand applicability.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structure can be used to help group summaries of the findings. For example, results may be grouped by the demographics of the population or by the version of the test used. Using this approach, studies may be presented several times as parts of different groups within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reviews are used to help make informed decisions. Keeping applicability in mind throughout the review process will lead to a more useful review. Some key messages are: identify contextual factors early; consider and clearly document justification for addressing these factors; and include a description of how the test is used in practice and how the studies fit with the usual 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ckgroun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cientific literature is used by clinicians, patients, and policymakers — referred to here as decisionmakers — to help make informed decisions. So, the context in which a medical test is used is important. For example, a clinician deciding on which diagnostic or prognostic tests to use for his or her frail, older patient with diabetes is challenged to find studies that include similar patients with the same disease in a similar care setting. It is also important to know whether the management strategy reported in the literature is the same as the management strategy that the decisionmakers plan to 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ctors that may affect applicability may not be obvious without a systemic method of evaluation. The four principles used by Evidence-based Practice Centers when assessing applicability include: determining the most important factors, systematically abstracting the key characteristics, making judgments about limitations of applicability, and considering the applicability of the entire body of evid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2)</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Assessing Applicability (1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challenges to assessing the applicability of medical test reports. These challenges are lack of clarity in the key questions, studies that are not specific to the key questions, and rapidly evolving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hallenges Specific to Assessing Applicability (2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challenge to consider is lack of clarity in the key questions. Unclear key questions lead to inconsistency in data presentation, analysis, and synthesis, which makes it difficult to judge the applicability of data in the literature slows down the review process. The </a:t>
            </a:r>
            <a:r>
              <a:rPr b="0" i="1" lang="en-US" sz="1100" spc="-1" strike="noStrike">
                <a:solidFill>
                  <a:srgbClr val="000000"/>
                </a:solidFill>
                <a:latin typeface="Calibri"/>
              </a:rPr>
              <a:t>use</a:t>
            </a:r>
            <a:r>
              <a:rPr b="0" lang="en-US" sz="1100" spc="-1" strike="noStrike">
                <a:solidFill>
                  <a:srgbClr val="000000"/>
                </a:solidFill>
                <a:latin typeface="Calibri"/>
              </a:rPr>
              <a:t> of the test in question should also be clear, so decisionmakers are not confused about the management strategy under evaluation. The most common scenario for this is comparing the accuracy of two tests to each other as if they could act as replacements when, in practice, one will be used as triage before further testing and the other as an add-on test after another tes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ck of clarity in the key questions can hinder decisions about which studies to include and which to exclude during the review process, as well as lead to inappropriate “lumping” and “splitting” of groups. Lumping or splitting groups inaccurately based on false assumptions (e.g., lumping subgroups that are fundamentally different or splitting subgroups without evidence of different effects) can lead to false-positive (also known as type 1 error) or false-negative (also known as type 2 error) resul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to Assessing Applicability (3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challenge to consider is what to do when studies are not specific to the key questions. Some studies will not reflect the specific populations, settings, or management strategies identified in the key questions. Reviewers must decide whether this deviation is minor or crucial. A crucial deviation will significantly affect test performance, decisionmaking, or health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Assessing Applicability (4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challenge arises because medical tests, even more so than treatments, are often rapidly evolving. Tests can change by using enhanced technologies, entirely new technologies, or new molecular targets. As a result, the literature often contains data on new tests that are not yet widely available or on old tests that are no longer in common use, both of which are factors affecting applicability. Additionally, secular trends and market forces outside of the clinic can affect applicability unexpectedly. For instance, a company that offers a well-used test that produces dichotomous, qualitative results — such as “present” versus “absent” — decides that it will sell a new version that only produces a continuous, quantitative measure. Reviewers may have to decide whether it is worth reviewing the obsolete test to provide a point of reference for the new test. Alternatively, reviewers may decide to review only the smaller amount of available data on the new test to better address the key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s of Assessing Applicability</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vidence-based Practice Centers use four principles to address challenges to assessment of applicability. The root cause of the challenges is that context is very influential on test accuracy and test use, so these principles have clarification of context factors as a base. The principles are as follows: to identify important factors affecting context, to be prepared to deal with additional factors that may present themselves, to justify decisions to restrict the scope of the review, and to maintain a transparent proc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 Care Research and Quality; January 2002. Available at www.ncbi.nlm.nih.gov/books/NBK42831.</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Applicability of Medical Test Studies in Systematic Review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not practical to consider all possible factors related to the impact of test on health outcom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factors that affect steps in a causal chain of direct relevance to the key question.</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Slice thickness is a relevant factor for assessing the applicability/accuracy of cardiac magnetic resonance imaging for detecting atherosclerosis.</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so consider factors that affect later links in the causal chain.</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What factors impact effectiveness of treatment for lesions identified by cardiac MRI versus angiography?</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contextual issues relevant to medical tests, for example, patient populations, management strategies, time effects, and secular trends in disease prevalence and severity.</a:t>
            </a:r>
            <a:endParaRPr b="0" lang="en-US" sz="20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1 of 10)</a:t>
            </a:r>
            <a:endParaRPr b="1" lang="en-US" sz="2800" spc="-1" strike="noStrike">
              <a:solidFill>
                <a:srgbClr val="ffffff"/>
              </a:solidFill>
              <a:latin typeface="Trebuchet MS"/>
            </a:endParaRPr>
          </a:p>
        </p:txBody>
      </p:sp>
      <p:sp>
        <p:nvSpPr>
          <p:cNvPr id="123"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pectrum effec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everity or type of disease may affect test accuracy.</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Cardiac magnetic resonance imaging is generally accurate in identifying cardiac anatomy/functionality, but arrhythmias, lesion location, and obesity can affect performance of the test.</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must identify these disease-related factors ahead of time and justify when to split key questions or to conduct subgroup analyses.</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2 of 10)</a:t>
            </a:r>
            <a:endParaRPr b="1" lang="en-US" sz="2800" spc="-1" strike="noStrike">
              <a:solidFill>
                <a:srgbClr val="ffffff"/>
              </a:solidFill>
              <a:latin typeface="Trebuchet MS"/>
            </a:endParaRPr>
          </a:p>
        </p:txBody>
      </p:sp>
      <p:sp>
        <p:nvSpPr>
          <p:cNvPr id="126"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The medical test as part of a management strategy</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important to clarify conditions in which a test is studied and used.</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The test performance of cardiac magnetic resonance imaging (MRI) differs when used as an add-on test after initial screening versus when used for triage or for patients without symptoms.</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cardiac MRI is used as add-on, the comparator for diagnostic accuracy is x-ray coronary angiography (the gold standard). </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cardiac MRI is used for triage, the comparator is stress electrocardiography or other initial screening test.</a:t>
            </a:r>
            <a:endParaRPr b="0" lang="en-US" sz="20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3 of 10)</a:t>
            </a:r>
            <a:endParaRPr b="1" lang="en-US" sz="2800" spc="-1" strike="noStrike">
              <a:solidFill>
                <a:srgbClr val="ffffff"/>
              </a:solidFill>
              <a:latin typeface="Trebuchet MS"/>
            </a:endParaRPr>
          </a:p>
        </p:txBody>
      </p:sp>
      <p:sp>
        <p:nvSpPr>
          <p:cNvPr id="129"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98520"/>
            <a:ext cx="8229600" cy="4827600"/>
          </a:xfrm>
          <a:prstGeom prst="rect">
            <a:avLst/>
          </a:prstGeom>
          <a:noFill/>
          <a:ln w="0">
            <a:noFill/>
          </a:ln>
        </p:spPr>
        <p:txBody>
          <a:bodyPr lIns="0" rIns="0" tIns="0" bIns="0" anchor="t">
            <a:normAutofit/>
          </a:bodyPr>
          <a:p>
            <a:pPr marL="290520" indent="-2905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rebuchet MS"/>
              </a:rPr>
              <a:t>Methods of the medical test over time</a:t>
            </a:r>
            <a:endParaRPr b="0" lang="en-US" sz="22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agnostics evolve rapidly.</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wareness of these changes should guide selection of the date range and eligible test types for included literature,</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1: The slice thickness of magnetic resonance imaging scans has decreased steadily over time, allowing resolution of smaller lesions.</a:t>
            </a:r>
            <a:endParaRPr b="0" lang="en-US" sz="1800" spc="-1" strike="noStrike">
              <a:solidFill>
                <a:srgbClr val="ffffff"/>
              </a:solidFill>
              <a:latin typeface="Trebuchet MS"/>
            </a:endParaRPr>
          </a:p>
          <a:p>
            <a:pPr lvl="3" marL="149688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cluding studies with older technologies and presenting results of included studies by slice thickness may be appropriate.</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2: Antenatal tests are applied earlier and earlier in gestation.</a:t>
            </a:r>
            <a:endParaRPr b="0" lang="en-US" sz="1800" spc="-1" strike="noStrike">
              <a:solidFill>
                <a:srgbClr val="ffffff"/>
              </a:solidFill>
              <a:latin typeface="Trebuchet MS"/>
            </a:endParaRPr>
          </a:p>
          <a:p>
            <a:pPr lvl="3" marL="149688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udies of test performance need to be examined by varied cutoffs for stage of gestation.</a:t>
            </a:r>
            <a:endParaRPr b="0" lang="en-US" sz="1800" spc="-1" strike="noStrike">
              <a:solidFill>
                <a:srgbClr val="ffffff"/>
              </a:solidFill>
              <a:latin typeface="Trebuchet MS"/>
            </a:endParaRPr>
          </a:p>
          <a:p>
            <a:pPr marL="290520" indent="-29052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4 of 10)</a:t>
            </a:r>
            <a:endParaRPr b="1" lang="en-US" sz="2800" spc="-1" strike="noStrike">
              <a:solidFill>
                <a:srgbClr val="ffffff"/>
              </a:solidFill>
              <a:latin typeface="Trebuchet MS"/>
            </a:endParaRPr>
          </a:p>
        </p:txBody>
      </p:sp>
      <p:sp>
        <p:nvSpPr>
          <p:cNvPr id="132"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ecular trends in population risk and disease prevalence</a:t>
            </a:r>
            <a:endParaRPr b="0" lang="en-US" sz="24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indirect changes in secular trends (or cultural differences) can influence test performance and appli</a:t>
            </a:r>
            <a:r>
              <a:rPr b="0" lang="en-US" sz="2100" spc="-1" strike="noStrike">
                <a:solidFill>
                  <a:srgbClr val="ffffff"/>
                </a:solidFill>
                <a:latin typeface="Trebuchet MS"/>
              </a:rPr>
              <a:t>cability.</a:t>
            </a:r>
            <a:endParaRPr b="0" lang="en-US" sz="21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Obesity and the average age of pregnancy have risen dramatically in the past 30 years, both of which are linked to type 2 diabetes.</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underlying prevalence of undiagnosed type 2 diabetes in pregnancy is increased.</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 a result, the predictive values, the cost/benefit ratios, and the sensitivity and specificity of screening tests for gestational diabetes change over time.</a:t>
            </a:r>
            <a:endParaRPr b="0" lang="en-US" sz="20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5 of 10)</a:t>
            </a:r>
            <a:endParaRPr b="1" lang="en-US" sz="2800" spc="-1" strike="noStrike">
              <a:solidFill>
                <a:srgbClr val="ffffff"/>
              </a:solidFill>
              <a:latin typeface="Trebuchet MS"/>
            </a:endParaRPr>
          </a:p>
        </p:txBody>
      </p:sp>
      <p:sp>
        <p:nvSpPr>
          <p:cNvPr id="135"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ecular trends in population risk and disease prevalenc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ular trends in population characteristics can influence the ability of clinicians to conduct a medical test.</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Obesity diminishes image quality in tests, such as ultrasound for gallbladder disease or magnetic resonance imaging for spinal conditions.</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ies of these tests often restrict enrollment to people with normal body weight.</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se tests may not perform the same in practice because of the rising trend of obesity in the actual patient population.</a:t>
            </a:r>
            <a:endParaRPr b="0" lang="en-US" sz="2000" spc="-1" strike="noStrike">
              <a:solidFill>
                <a:srgbClr val="ffffff"/>
              </a:solidFill>
              <a:latin typeface="Trebuchet MS"/>
            </a:endParaRPr>
          </a:p>
        </p:txBody>
      </p:sp>
      <p:sp>
        <p:nvSpPr>
          <p:cNvPr id="1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6 of 10)</a:t>
            </a:r>
            <a:endParaRPr b="1" lang="en-US" sz="2800" spc="-1" strike="noStrike">
              <a:solidFill>
                <a:srgbClr val="ffffff"/>
              </a:solidFill>
              <a:latin typeface="Trebuchet MS"/>
            </a:endParaRPr>
          </a:p>
        </p:txBody>
      </p:sp>
      <p:sp>
        <p:nvSpPr>
          <p:cNvPr id="138"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17240" y="1268280"/>
            <a:ext cx="857412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ecular trends in population risk and disease prevalenc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alence is tied to disease definitions that can change. Some examples ar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riteria to diagnose AIDS</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ystometrically defined detrusor instability/overactivity versus the symptom complex </a:t>
            </a:r>
            <a:r>
              <a:rPr b="0" lang="ja-JP" sz="2000" spc="-1" strike="noStrike">
                <a:solidFill>
                  <a:srgbClr val="ffffff"/>
                </a:solidFill>
                <a:latin typeface="Trebuchet MS"/>
              </a:rPr>
              <a:t>“</a:t>
            </a:r>
            <a:r>
              <a:rPr b="0" lang="en-US" sz="2000" spc="-1" strike="noStrike">
                <a:solidFill>
                  <a:srgbClr val="ffffff"/>
                </a:solidFill>
                <a:latin typeface="Trebuchet MS"/>
              </a:rPr>
              <a:t>overactive bladder</a:t>
            </a:r>
            <a:r>
              <a:rPr b="0" lang="ja-JP" sz="2000" spc="-1" strike="noStrike">
                <a:solidFill>
                  <a:srgbClr val="ffffff"/>
                </a:solidFill>
                <a:latin typeface="Trebuchet MS"/>
              </a:rPr>
              <a:t>”</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tinuous refinement of classifications of mental health conditions in the </a:t>
            </a:r>
            <a:r>
              <a:rPr b="0" i="1" lang="en-US" sz="2000" spc="-1" strike="noStrike">
                <a:solidFill>
                  <a:srgbClr val="ffffff"/>
                </a:solidFill>
                <a:latin typeface="Trebuchet MS"/>
              </a:rPr>
              <a:t>Diagnostic and Statistical Manual of Mental Disorders</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literature may not capture changes in diagnostic criteria.</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ving expert knowledge with a historical vantage point is helpful.</a:t>
            </a:r>
            <a:endParaRPr b="0" lang="en-US" sz="2000" spc="-1" strike="noStrike">
              <a:solidFill>
                <a:srgbClr val="ffffff"/>
              </a:solidFill>
              <a:latin typeface="Trebuchet MS"/>
            </a:endParaRPr>
          </a:p>
        </p:txBody>
      </p:sp>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7 of 10)</a:t>
            </a:r>
            <a:endParaRPr b="1" lang="en-US" sz="2800" spc="-1" strike="noStrike">
              <a:solidFill>
                <a:srgbClr val="ffffff"/>
              </a:solidFill>
              <a:latin typeface="Trebuchet MS"/>
            </a:endParaRPr>
          </a:p>
        </p:txBody>
      </p:sp>
      <p:sp>
        <p:nvSpPr>
          <p:cNvPr id="141"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Routine preventive care over time</a:t>
            </a:r>
            <a:endParaRPr b="0" lang="en-US" sz="2400" spc="-1" strike="noStrike">
              <a:solidFill>
                <a:srgbClr val="ffffff"/>
              </a:solidFill>
              <a:latin typeface="Trebuchet MS"/>
            </a:endParaRPr>
          </a:p>
          <a:p>
            <a:pPr lvl="1" marL="744480" indent="-342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outine use of a medical test as a screening test may indirectly alter population prevalenc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ventive lipid testing in individuals with cardiovascular disease has changed the proportion able to be diagnosed and have the course of their disease altered. </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vaccine for the human papilloma virus (HPV) is postulated to change the distribution of viral subtypes in the population.</a:t>
            </a:r>
            <a:endParaRPr b="0" lang="en-US" sz="2000" spc="-1" strike="noStrike">
              <a:solidFill>
                <a:srgbClr val="ffffff"/>
              </a:solidFill>
              <a:latin typeface="Trebuchet MS"/>
            </a:endParaRPr>
          </a:p>
          <a:p>
            <a:pPr lvl="1" marL="744480" indent="-342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entive practices change the utility of medical tests.</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The utility of the test to detect HPV infection is decreasing as increasing numbers of people are being vaccinated for the virus.</a:t>
            </a:r>
            <a:endParaRPr b="0" lang="en-US" sz="20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8 of 10)</a:t>
            </a:r>
            <a:endParaRPr b="1" lang="en-US" sz="2800" spc="-1" strike="noStrike">
              <a:solidFill>
                <a:srgbClr val="ffffff"/>
              </a:solidFill>
              <a:latin typeface="Trebuchet MS"/>
            </a:endParaRPr>
          </a:p>
        </p:txBody>
      </p:sp>
      <p:sp>
        <p:nvSpPr>
          <p:cNvPr id="144"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218960"/>
            <a:ext cx="8229600" cy="50259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Treatment trend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terature about the impact of diagnostic tools on outcomes needs additional interpretation in light of new therapeutics.</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The implications of testing for carotid arterial stenosis are changing as hypertension treatment and the use of lipid-lowering drugs have improved.</a:t>
            </a:r>
            <a:endParaRPr b="0" lang="en-US" sz="20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9 of 10)</a:t>
            </a:r>
            <a:endParaRPr b="1" lang="en-US" sz="2800" spc="-1" strike="noStrike">
              <a:solidFill>
                <a:srgbClr val="ffffff"/>
              </a:solidFill>
              <a:latin typeface="Trebuchet MS"/>
            </a:endParaRPr>
          </a:p>
        </p:txBody>
      </p:sp>
      <p:sp>
        <p:nvSpPr>
          <p:cNvPr id="147"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218960"/>
            <a:ext cx="8229600" cy="5025960"/>
          </a:xfrm>
          <a:prstGeom prst="rect">
            <a:avLst/>
          </a:prstGeom>
          <a:noFill/>
          <a:ln w="0">
            <a:noFill/>
          </a:ln>
        </p:spPr>
        <p:txBody>
          <a:bodyPr lIns="0" rIns="0" tIns="0" bIns="0" anchor="t">
            <a:normAutofit/>
          </a:bodyPr>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wo steps to ensure that population/subgroup data are uniformly collected and useful:</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the PICOTS (</a:t>
            </a:r>
            <a:r>
              <a:rPr b="0" lang="en-US" sz="2200" spc="-1" strike="noStrike">
                <a:solidFill>
                  <a:srgbClr val="ffc000"/>
                </a:solidFill>
                <a:latin typeface="Trebuchet MS"/>
              </a:rPr>
              <a:t>p</a:t>
            </a:r>
            <a:r>
              <a:rPr b="0" lang="en-US" sz="2200" spc="-1" strike="noStrike">
                <a:solidFill>
                  <a:srgbClr val="ffffff"/>
                </a:solidFill>
                <a:latin typeface="Trebuchet MS"/>
              </a:rPr>
              <a:t>opulation, </a:t>
            </a:r>
            <a:r>
              <a:rPr b="0" lang="en-US" sz="2200" spc="-1" strike="noStrike">
                <a:solidFill>
                  <a:srgbClr val="ffc000"/>
                </a:solidFill>
                <a:latin typeface="Trebuchet MS"/>
              </a:rPr>
              <a:t>i</a:t>
            </a:r>
            <a:r>
              <a:rPr b="0" lang="en-US" sz="2200" spc="-1" strike="noStrike">
                <a:solidFill>
                  <a:srgbClr val="ffffff"/>
                </a:solidFill>
                <a:latin typeface="Trebuchet MS"/>
              </a:rPr>
              <a:t>ntervention, </a:t>
            </a:r>
            <a:r>
              <a:rPr b="0" lang="en-US" sz="2200" spc="-1" strike="noStrike">
                <a:solidFill>
                  <a:srgbClr val="ffc000"/>
                </a:solidFill>
                <a:latin typeface="Trebuchet MS"/>
              </a:rPr>
              <a:t>c</a:t>
            </a:r>
            <a:r>
              <a:rPr b="0" lang="en-US" sz="2200" spc="-1" strike="noStrike">
                <a:solidFill>
                  <a:srgbClr val="ffffff"/>
                </a:solidFill>
                <a:latin typeface="Trebuchet MS"/>
              </a:rPr>
              <a:t>omparator, </a:t>
            </a:r>
            <a:r>
              <a:rPr b="0" lang="en-US" sz="2200" spc="-1" strike="noStrike">
                <a:solidFill>
                  <a:srgbClr val="ffc000"/>
                </a:solidFill>
                <a:latin typeface="Trebuchet MS"/>
              </a:rPr>
              <a:t>o</a:t>
            </a:r>
            <a:r>
              <a:rPr b="0" lang="en-US" sz="2200" spc="-1" strike="noStrike">
                <a:solidFill>
                  <a:srgbClr val="ffffff"/>
                </a:solidFill>
                <a:latin typeface="Trebuchet MS"/>
              </a:rPr>
              <a:t>utcomes, </a:t>
            </a:r>
            <a:r>
              <a:rPr b="0" lang="en-US" sz="2200" spc="-1" strike="noStrike">
                <a:solidFill>
                  <a:srgbClr val="ffc000"/>
                </a:solidFill>
                <a:latin typeface="Trebuchet MS"/>
              </a:rPr>
              <a:t>t</a:t>
            </a:r>
            <a:r>
              <a:rPr b="0" lang="en-US" sz="2200" spc="-1" strike="noStrike">
                <a:solidFill>
                  <a:srgbClr val="ffffff"/>
                </a:solidFill>
                <a:latin typeface="Trebuchet MS"/>
              </a:rPr>
              <a:t>iming, and </a:t>
            </a:r>
            <a:r>
              <a:rPr b="0" lang="en-US" sz="2200" spc="-1" strike="noStrike">
                <a:solidFill>
                  <a:srgbClr val="ffc000"/>
                </a:solidFill>
                <a:latin typeface="Trebuchet MS"/>
              </a:rPr>
              <a:t>s</a:t>
            </a:r>
            <a:r>
              <a:rPr b="0" lang="en-US" sz="2200" spc="-1" strike="noStrike">
                <a:solidFill>
                  <a:srgbClr val="ffffff"/>
                </a:solidFill>
                <a:latin typeface="Trebuchet MS"/>
              </a:rPr>
              <a:t>etting) typology to identify the range of possible factors that might affect applicability and consider the six contextual factor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 the list of factors affecting applicability with stakeholders to:</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nsure common vantage points</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dentify hidden factors that may influence applicabilit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pture crucial applicability features in the evidence review</a:t>
            </a:r>
            <a:endParaRPr b="0" lang="en-US" sz="20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10 of 10)</a:t>
            </a:r>
            <a:endParaRPr b="1" lang="en-US" sz="2800" spc="-1" strike="noStrike">
              <a:solidFill>
                <a:srgbClr val="ffffff"/>
              </a:solidFill>
              <a:latin typeface="Trebuchet MS"/>
            </a:endParaRPr>
          </a:p>
        </p:txBody>
      </p:sp>
      <p:sp>
        <p:nvSpPr>
          <p:cNvPr id="150"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3"/>
          <p:cNvGrpSpPr/>
          <p:nvPr/>
        </p:nvGrpSpPr>
        <p:grpSpPr>
          <a:xfrm>
            <a:off x="341280" y="1263600"/>
            <a:ext cx="8421840" cy="4603680"/>
            <a:chOff x="341280" y="1263600"/>
            <a:chExt cx="8421840" cy="4603680"/>
          </a:xfrm>
        </p:grpSpPr>
        <p:sp>
          <p:nvSpPr>
            <p:cNvPr id="89" name="Freeform 14"/>
            <p:cNvSpPr/>
            <p:nvPr/>
          </p:nvSpPr>
          <p:spPr>
            <a:xfrm>
              <a:off x="341280" y="2641320"/>
              <a:ext cx="2273400" cy="147456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15"/>
            <p:cNvSpPr/>
            <p:nvPr/>
          </p:nvSpPr>
          <p:spPr>
            <a:xfrm>
              <a:off x="1382400" y="2795400"/>
              <a:ext cx="2566800" cy="2932200"/>
            </a:xfrm>
            <a:custGeom>
              <a:avLst/>
              <a:gdLst/>
              <a:ahLst/>
              <a:rect l="l" t="t" r="r" b="b"/>
              <a:pathLst>
                <a:path w="2566987" h="2909793">
                  <a:moveTo>
                    <a:pt x="351653" y="2382557"/>
                  </a:moveTo>
                  <a:lnTo>
                    <a:pt x="400472" y="2333957"/>
                  </a:lnTo>
                  <a:cubicBezTo>
                    <a:pt x="690191" y="2716545"/>
                    <a:pt x="1143258" y="2879208"/>
                    <a:pt x="1571546" y="2754403"/>
                  </a:cubicBezTo>
                  <a:cubicBezTo>
                    <a:pt x="1964059" y="2640023"/>
                    <a:pt x="2277014" y="2300932"/>
                    <a:pt x="2398792" y="1858071"/>
                  </a:cubicBezTo>
                  <a:lnTo>
                    <a:pt x="2354550" y="1846784"/>
                  </a:lnTo>
                  <a:lnTo>
                    <a:pt x="2458191" y="1754596"/>
                  </a:lnTo>
                  <a:lnTo>
                    <a:pt x="2509310" y="1886268"/>
                  </a:lnTo>
                  <a:lnTo>
                    <a:pt x="2465071" y="1874981"/>
                  </a:lnTo>
                  <a:cubicBezTo>
                    <a:pt x="2337092" y="2341538"/>
                    <a:pt x="2005904" y="2699282"/>
                    <a:pt x="1589939" y="2820285"/>
                  </a:cubicBezTo>
                  <a:cubicBezTo>
                    <a:pt x="1137699" y="2951840"/>
                    <a:pt x="658911" y="2782590"/>
                    <a:pt x="351654" y="2382557"/>
                  </a:cubicBezTo>
                  <a:lnTo>
                    <a:pt x="351653" y="2382557"/>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16"/>
            <p:cNvSpPr/>
            <p:nvPr/>
          </p:nvSpPr>
          <p:spPr>
            <a:xfrm>
              <a:off x="798480" y="4362480"/>
              <a:ext cx="2020680" cy="79344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17"/>
            <p:cNvSpPr/>
            <p:nvPr/>
          </p:nvSpPr>
          <p:spPr>
            <a:xfrm>
              <a:off x="3193920" y="2649240"/>
              <a:ext cx="2271600" cy="184932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18"/>
            <p:cNvSpPr/>
            <p:nvPr/>
          </p:nvSpPr>
          <p:spPr>
            <a:xfrm>
              <a:off x="4014720" y="1263600"/>
              <a:ext cx="2065320" cy="2098800"/>
            </a:xfrm>
            <a:custGeom>
              <a:avLst/>
              <a:gdLst/>
              <a:ahLst/>
              <a:rect l="l" t="t" r="r" b="b"/>
              <a:pathLst>
                <a:path w="2065337" h="2082700">
                  <a:moveTo>
                    <a:pt x="240325" y="422199"/>
                  </a:moveTo>
                  <a:cubicBezTo>
                    <a:pt x="454046" y="143937"/>
                    <a:pt x="795872" y="-2169"/>
                    <a:pt x="1142735" y="36485"/>
                  </a:cubicBezTo>
                  <a:cubicBezTo>
                    <a:pt x="1488636" y="75032"/>
                    <a:pt x="1789958" y="291797"/>
                    <a:pt x="1938743" y="609117"/>
                  </a:cubicBezTo>
                  <a:lnTo>
                    <a:pt x="1967011" y="598165"/>
                  </a:lnTo>
                  <a:lnTo>
                    <a:pt x="1947080" y="687059"/>
                  </a:lnTo>
                  <a:lnTo>
                    <a:pt x="1867907" y="636563"/>
                  </a:lnTo>
                  <a:lnTo>
                    <a:pt x="1896173" y="625611"/>
                  </a:lnTo>
                  <a:cubicBezTo>
                    <a:pt x="1753365" y="323585"/>
                    <a:pt x="1465744" y="117724"/>
                    <a:pt x="1136053" y="81564"/>
                  </a:cubicBezTo>
                  <a:cubicBezTo>
                    <a:pt x="805418" y="45300"/>
                    <a:pt x="479841" y="184898"/>
                    <a:pt x="276210" y="450240"/>
                  </a:cubicBezTo>
                  <a:lnTo>
                    <a:pt x="240325" y="422199"/>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19"/>
            <p:cNvSpPr/>
            <p:nvPr/>
          </p:nvSpPr>
          <p:spPr>
            <a:xfrm>
              <a:off x="3389400" y="1676160"/>
              <a:ext cx="2020680" cy="79200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20"/>
            <p:cNvSpPr/>
            <p:nvPr/>
          </p:nvSpPr>
          <p:spPr>
            <a:xfrm>
              <a:off x="6045480" y="1295280"/>
              <a:ext cx="2489040" cy="358776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21"/>
            <p:cNvSpPr/>
            <p:nvPr/>
          </p:nvSpPr>
          <p:spPr>
            <a:xfrm>
              <a:off x="6742440" y="5075280"/>
              <a:ext cx="2020680" cy="79200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22" descr=""/>
            <p:cNvPicPr/>
            <p:nvPr/>
          </p:nvPicPr>
          <p:blipFill>
            <a:blip r:embed="rId1"/>
            <a:stretch/>
          </p:blipFill>
          <p:spPr>
            <a:xfrm>
              <a:off x="5974200" y="2176200"/>
              <a:ext cx="1932480" cy="987480"/>
            </a:xfrm>
            <a:prstGeom prst="rect">
              <a:avLst/>
            </a:prstGeom>
            <a:ln w="0">
              <a:noFill/>
            </a:ln>
          </p:spPr>
        </p:pic>
        <p:sp>
          <p:nvSpPr>
            <p:cNvPr id="98" name="Shape 23"/>
            <p:cNvSpPr/>
            <p:nvPr/>
          </p:nvSpPr>
          <p:spPr>
            <a:xfrm rot="5043000">
              <a:off x="6039000" y="4039920"/>
              <a:ext cx="1601640" cy="1557360"/>
            </a:xfrm>
            <a:custGeom>
              <a:avLst/>
              <a:gdLst/>
              <a:ahLst/>
              <a:rect l="l" t="t" r="r" b="b"/>
              <a:pathLst>
                <a:path w="1589594" h="1557338">
                  <a:moveTo>
                    <a:pt x="660336" y="1518022"/>
                  </a:moveTo>
                  <a:lnTo>
                    <a:pt x="667765" y="1477172"/>
                  </a:lnTo>
                  <a:cubicBezTo>
                    <a:pt x="1013476" y="1537280"/>
                    <a:pt x="1353598" y="1346716"/>
                    <a:pt x="1475363" y="1024691"/>
                  </a:cubicBezTo>
                  <a:lnTo>
                    <a:pt x="1448654" y="1017878"/>
                  </a:lnTo>
                  <a:lnTo>
                    <a:pt x="1516995" y="962923"/>
                  </a:lnTo>
                  <a:lnTo>
                    <a:pt x="1542544" y="1041832"/>
                  </a:lnTo>
                  <a:lnTo>
                    <a:pt x="1515829" y="1035016"/>
                  </a:lnTo>
                  <a:cubicBezTo>
                    <a:pt x="1388519" y="1378204"/>
                    <a:pt x="1027521" y="1582022"/>
                    <a:pt x="660335" y="1518022"/>
                  </a:cubicBezTo>
                  <a:lnTo>
                    <a:pt x="660336" y="1518022"/>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798480" y="5867280"/>
            <a:ext cx="781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1 of 7)</a:t>
            </a:r>
            <a:endParaRPr b="1" lang="en-US" sz="2800" spc="-1" strike="noStrike">
              <a:solidFill>
                <a:srgbClr val="ffffff"/>
              </a:solidFill>
              <a:latin typeface="Trebuchet MS"/>
            </a:endParaRPr>
          </a:p>
        </p:txBody>
      </p:sp>
      <p:graphicFrame>
        <p:nvGraphicFramePr>
          <p:cNvPr id="152" name=""/>
          <p:cNvGraphicFramePr/>
          <p:nvPr/>
        </p:nvGraphicFramePr>
        <p:xfrm>
          <a:off x="457200" y="1341360"/>
          <a:ext cx="8229600" cy="4449960"/>
        </p:xfrm>
        <a:graphic>
          <a:graphicData uri="http://schemas.openxmlformats.org/drawingml/2006/table">
            <a:tbl>
              <a:tblPr/>
              <a:tblGrid>
                <a:gridCol w="990720"/>
                <a:gridCol w="1879560"/>
                <a:gridCol w="1785960"/>
                <a:gridCol w="1439640"/>
                <a:gridCol w="2133720"/>
              </a:tblGrid>
              <a:tr h="79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ICOTS Element</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Core Characteristics To Describe and Assess </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hallenges When Assess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Example</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Systematic Approaches for Decisions About Includ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415836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pulation</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Justification for lumping or splitting key question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Method of identification/ selection</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nclusion and exclusion criteria of review</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Demographic characteristics of those included in the review</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valence of condition in practice and in studie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pectrum of disease in practice and in studies </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ource of population not describ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tudy population poorly specifi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Key characteristics not report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Unclear whether test performance varies by population</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Education/ literacy level not reported in study of pencil-and-paper functional status assessment</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Exclude a priori if key element crucial to assessing intended use case is missing</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Palatino Linotype"/>
                        </a:rPr>
                        <a:t>Or</a:t>
                      </a:r>
                      <a:r>
                        <a:rPr b="0" lang="en-US" sz="1300" spc="-1" strike="noStrike">
                          <a:solidFill>
                            <a:srgbClr val="000000"/>
                          </a:solidFill>
                          <a:latin typeface="Palatino Linotype"/>
                        </a:rPr>
                        <a:t> include, but:</a:t>
                      </a:r>
                      <a:endParaRPr b="0" lang="en-US" sz="1300" spc="-1" strike="noStrike">
                        <a:solidFill>
                          <a:srgbClr val="000000"/>
                        </a:solidFill>
                        <a:latin typeface="Palatino Linotype"/>
                      </a:endParaRPr>
                    </a:p>
                    <a:p>
                      <a:pPr lvl="1" marL="36504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MS PGothic"/>
                        </a:rPr>
                        <a:t>Flag missing elements in tables/text</a:t>
                      </a:r>
                      <a:endParaRPr b="0" lang="en-US" sz="13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Organize data within key questions by presence/absence of key elements</a:t>
                      </a:r>
                      <a:endParaRPr b="0" lang="en-US" sz="13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nclude presence/ absence as parameter in meta-regression or sensitivity analyses</a:t>
                      </a:r>
                      <a:endParaRPr b="0" lang="en-US" sz="13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Note need for challenge to be addressed in future research</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53" name="TextBox 3"/>
          <p:cNvSpPr/>
          <p:nvPr/>
        </p:nvSpPr>
        <p:spPr>
          <a:xfrm>
            <a:off x="380880" y="5938920"/>
            <a:ext cx="8269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2 of 7)</a:t>
            </a:r>
            <a:endParaRPr b="1" lang="en-US" sz="2800" spc="-1" strike="noStrike">
              <a:solidFill>
                <a:srgbClr val="ffffff"/>
              </a:solidFill>
              <a:latin typeface="Trebuchet MS"/>
            </a:endParaRPr>
          </a:p>
        </p:txBody>
      </p:sp>
      <p:graphicFrame>
        <p:nvGraphicFramePr>
          <p:cNvPr id="155" name=""/>
          <p:cNvGraphicFramePr/>
          <p:nvPr/>
        </p:nvGraphicFramePr>
        <p:xfrm>
          <a:off x="304920" y="1371600"/>
          <a:ext cx="8534160" cy="4191120"/>
        </p:xfrm>
        <a:graphic>
          <a:graphicData uri="http://schemas.openxmlformats.org/drawingml/2006/table">
            <a:tbl>
              <a:tblPr/>
              <a:tblGrid>
                <a:gridCol w="1170000"/>
                <a:gridCol w="1931760"/>
                <a:gridCol w="1698840"/>
                <a:gridCol w="1617480"/>
                <a:gridCol w="2116080"/>
              </a:tblGrid>
              <a:tr h="1065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ICOTS Elemen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Core Characteristics To Describe and Assess </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hallenges When Assess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xampl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Systematic Approaches for Decisions About Includ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36234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ntervention</a:t>
                      </a:r>
                      <a:endParaRPr b="0" lang="en-US" sz="1400" spc="-1" strike="noStrike">
                        <a:solidFill>
                          <a:srgbClr val="000000"/>
                        </a:solidFill>
                        <a:latin typeface="Palatino Linotyp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Version of test used in practice and in studies</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How and by whom tests are conducted in practice and in studies</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utoff/diagnostic thresholds applied in practice and in studies</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kill of assessors when interpretation of test required in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Version/ instrumentation not specifie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ining/quality control not describe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creening and diagnostic uses mixe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Ultrasound machines and training of sonographers not described in a study of fetal nuchal translucency assessment to detect aneuploidy</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Exclude a priori if version critical and not assesse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Palatino Linotype"/>
                        </a:rPr>
                        <a:t>Or</a:t>
                      </a:r>
                      <a:r>
                        <a:rPr b="0" lang="en-US" sz="1400" spc="-1" strike="noStrike">
                          <a:solidFill>
                            <a:srgbClr val="000000"/>
                          </a:solidFill>
                          <a:latin typeface="Palatino Linotype"/>
                        </a:rPr>
                        <a:t> include, but: </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tact authors for clarification</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lag version of test or deficits in reporting in tables/text</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scuss implications</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odel cutoffs and conduct sensitivity analys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56" name="TextBox 3"/>
          <p:cNvSpPr/>
          <p:nvPr/>
        </p:nvSpPr>
        <p:spPr>
          <a:xfrm>
            <a:off x="228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3 of 7)</a:t>
            </a:r>
            <a:endParaRPr b="1" lang="en-US" sz="2800" spc="-1" strike="noStrike">
              <a:solidFill>
                <a:srgbClr val="ffffff"/>
              </a:solidFill>
              <a:latin typeface="Trebuchet MS"/>
            </a:endParaRPr>
          </a:p>
        </p:txBody>
      </p:sp>
      <p:graphicFrame>
        <p:nvGraphicFramePr>
          <p:cNvPr id="158" name=""/>
          <p:cNvGraphicFramePr/>
          <p:nvPr/>
        </p:nvGraphicFramePr>
        <p:xfrm>
          <a:off x="457200" y="1463760"/>
          <a:ext cx="8305920" cy="3336840"/>
        </p:xfrm>
        <a:graphic>
          <a:graphicData uri="http://schemas.openxmlformats.org/drawingml/2006/table">
            <a:tbl>
              <a:tblPr/>
              <a:tblGrid>
                <a:gridCol w="1170000"/>
                <a:gridCol w="1932120"/>
                <a:gridCol w="1698480"/>
                <a:gridCol w="1617840"/>
                <a:gridCol w="1887480"/>
              </a:tblGrid>
              <a:tr h="1065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ICOTS Elemen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Core Characteristics To Describe and Assess </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hallenges When Assess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xampl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Systematic Approaches for Decisions About Includ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2557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omparator</a:t>
                      </a:r>
                      <a:endParaRPr b="0" lang="en-US" sz="1400" spc="-1" strike="noStrike">
                        <a:solidFill>
                          <a:srgbClr val="000000"/>
                        </a:solidFill>
                        <a:latin typeface="Palatino Linotyp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Use of gold standard versus </a:t>
                      </a:r>
                      <a:r>
                        <a:rPr b="0" lang="ja-JP" sz="1400" spc="-1" strike="noStrike">
                          <a:solidFill>
                            <a:srgbClr val="000000"/>
                          </a:solidFill>
                          <a:latin typeface="Palatino Linotype"/>
                        </a:rPr>
                        <a:t>“</a:t>
                      </a:r>
                      <a:r>
                        <a:rPr b="0" lang="en-US" sz="1400" spc="-1" strike="noStrike">
                          <a:solidFill>
                            <a:srgbClr val="000000"/>
                          </a:solidFill>
                          <a:latin typeface="Palatino Linotype"/>
                        </a:rPr>
                        <a:t>alloy</a:t>
                      </a:r>
                      <a:r>
                        <a:rPr b="0" lang="ja-JP" sz="1400" spc="-1" strike="noStrike">
                          <a:solidFill>
                            <a:srgbClr val="000000"/>
                          </a:solidFill>
                          <a:latin typeface="Palatino Linotype"/>
                        </a:rPr>
                        <a:t>”</a:t>
                      </a:r>
                      <a:r>
                        <a:rPr b="0" lang="en-US" sz="1400" spc="-1" strike="noStrike">
                          <a:solidFill>
                            <a:srgbClr val="000000"/>
                          </a:solidFill>
                          <a:latin typeface="Palatino Linotype"/>
                        </a:rPr>
                        <a:t> standard in studies</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How the test is used as part of a management strategy (e.g., triage, replacement, or add-on) in practice and in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Gold standard not applied </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rrelational data only</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ardiac computerized tomography compared with a  treadmill stress test without use of angiography as a gold standard</a:t>
                      </a:r>
                      <a:endParaRPr b="0" lang="en-US" sz="14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Exclude a priori if there is no gold standar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Palatino Linotype"/>
                        </a:rPr>
                        <a:t>Or</a:t>
                      </a:r>
                      <a:r>
                        <a:rPr b="0" lang="en-US" sz="1400" spc="-1" strike="noStrike">
                          <a:solidFill>
                            <a:srgbClr val="000000"/>
                          </a:solidFill>
                          <a:latin typeface="Palatino Linotype"/>
                        </a:rPr>
                        <a:t> include, but:</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strict to specified comparators</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Group by comparator in tables/tex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59"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4 of 7)</a:t>
            </a:r>
            <a:endParaRPr b="1" lang="en-US" sz="2800" spc="-1" strike="noStrike">
              <a:solidFill>
                <a:srgbClr val="ffffff"/>
              </a:solidFill>
              <a:latin typeface="Trebuchet MS"/>
            </a:endParaRPr>
          </a:p>
        </p:txBody>
      </p:sp>
      <p:graphicFrame>
        <p:nvGraphicFramePr>
          <p:cNvPr id="161" name=""/>
          <p:cNvGraphicFramePr/>
          <p:nvPr/>
        </p:nvGraphicFramePr>
        <p:xfrm>
          <a:off x="457200" y="1325520"/>
          <a:ext cx="8305920" cy="4221360"/>
        </p:xfrm>
        <a:graphic>
          <a:graphicData uri="http://schemas.openxmlformats.org/drawingml/2006/table">
            <a:tbl>
              <a:tblPr/>
              <a:tblGrid>
                <a:gridCol w="1170000"/>
                <a:gridCol w="1801800"/>
                <a:gridCol w="1676520"/>
                <a:gridCol w="1523880"/>
                <a:gridCol w="2133720"/>
              </a:tblGrid>
              <a:tr h="79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ICOTS Element</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Core Characteristics To Describe and Assess </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hallenges When Assess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Example</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Systematic Approaches for Decisions About Includ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376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utcome</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f using the test)</a:t>
                      </a:r>
                      <a:endParaRPr b="0" lang="en-US" sz="1300" spc="-1" strike="noStrike">
                        <a:solidFill>
                          <a:srgbClr val="000000"/>
                        </a:solidFill>
                        <a:latin typeface="Palatino Linotyp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How accuracy outcomes selected for review relate to use in practice:</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ccuracy of disease status classification</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ensitivity/ specificity</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dictive value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Likelihood ratio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Diagnostic odds ratio</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rea under curve</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Discriminant capacity</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Failure to test </a:t>
                      </a:r>
                      <a:r>
                        <a:rPr b="0" lang="ja-JP" sz="1300" spc="-1" strike="noStrike">
                          <a:solidFill>
                            <a:srgbClr val="000000"/>
                          </a:solidFill>
                          <a:latin typeface="Palatino Linotype"/>
                        </a:rPr>
                        <a:t>“</a:t>
                      </a:r>
                      <a:r>
                        <a:rPr b="0" lang="en-US" sz="1300" spc="-1" strike="noStrike">
                          <a:solidFill>
                            <a:srgbClr val="000000"/>
                          </a:solidFill>
                          <a:latin typeface="Palatino Linotype"/>
                        </a:rPr>
                        <a:t>normal</a:t>
                      </a:r>
                      <a:r>
                        <a:rPr b="0" lang="ja-JP" sz="1300" spc="-1" strike="noStrike">
                          <a:solidFill>
                            <a:srgbClr val="000000"/>
                          </a:solidFill>
                          <a:latin typeface="Palatino Linotype"/>
                        </a:rPr>
                        <a:t>”</a:t>
                      </a:r>
                      <a:r>
                        <a:rPr b="0" lang="en-US" sz="1300" spc="-1" strike="noStrike">
                          <a:solidFill>
                            <a:srgbClr val="000000"/>
                          </a:solidFill>
                          <a:latin typeface="Palatino Linotype"/>
                        </a:rPr>
                        <a:t> patients, or a subset thereof, with the gold standar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cision of estimates not provid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ests may be used as part of management strategy in which exact diagnosis is less important than </a:t>
                      </a:r>
                      <a:r>
                        <a:rPr b="0" lang="ja-JP" sz="1300" spc="-1" strike="noStrike">
                          <a:solidFill>
                            <a:srgbClr val="000000"/>
                          </a:solidFill>
                          <a:latin typeface="Palatino Linotype"/>
                        </a:rPr>
                        <a:t>“</a:t>
                      </a:r>
                      <a:r>
                        <a:rPr b="0" lang="en-US" sz="1300" spc="-1" strike="noStrike">
                          <a:solidFill>
                            <a:srgbClr val="000000"/>
                          </a:solidFill>
                          <a:latin typeface="Palatino Linotype"/>
                        </a:rPr>
                        <a:t>ruling out</a:t>
                      </a:r>
                      <a:r>
                        <a:rPr b="0" lang="ja-JP" sz="1300" spc="-1" strike="noStrike">
                          <a:solidFill>
                            <a:srgbClr val="000000"/>
                          </a:solidFill>
                          <a:latin typeface="Palatino Linotype"/>
                        </a:rPr>
                        <a:t>”</a:t>
                      </a:r>
                      <a:r>
                        <a:rPr b="0" lang="en-US" sz="1300" spc="-1" strike="noStrike">
                          <a:solidFill>
                            <a:srgbClr val="000000"/>
                          </a:solidFill>
                          <a:latin typeface="Palatino Linotype"/>
                        </a:rPr>
                        <a:t> a disease</a:t>
                      </a:r>
                      <a:endParaRPr b="0" lang="en-US" sz="1300" spc="-1" strike="noStrike">
                        <a:solidFill>
                          <a:srgbClr val="000000"/>
                        </a:solidFill>
                        <a:latin typeface="Palatino Linotype"/>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alatino Linotype"/>
                        </a:rPr>
                        <a:t>P</a:t>
                      </a:r>
                      <a:r>
                        <a:rPr b="0" lang="en-US" sz="1300" spc="-1" strike="noStrike">
                          <a:solidFill>
                            <a:srgbClr val="000000"/>
                          </a:solidFill>
                          <a:latin typeface="Palatino Linotype"/>
                        </a:rPr>
                        <a:t>-value provided for mean of continuous test results by disease status, but confidence bounds not provided for performance characteristic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Exclude a priori if test results cannot be mapped to disease status (i.e., 2</a:t>
                      </a:r>
                      <a:r>
                        <a:rPr b="0" lang="en-US" sz="1300" spc="-1" strike="noStrike">
                          <a:solidFill>
                            <a:srgbClr val="000000"/>
                          </a:solidFill>
                          <a:latin typeface="Arial"/>
                          <a:ea typeface="Arial"/>
                        </a:rPr>
                        <a:t>×</a:t>
                      </a:r>
                      <a:r>
                        <a:rPr b="0" lang="en-US" sz="1300" spc="-1" strike="noStrike">
                          <a:solidFill>
                            <a:srgbClr val="000000"/>
                          </a:solidFill>
                          <a:latin typeface="Palatino Linotype"/>
                        </a:rPr>
                        <a:t>2 or other test performance data cannot be extract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Exclude if a subset of </a:t>
                      </a:r>
                      <a:r>
                        <a:rPr b="0" lang="ja-JP" sz="1300" spc="-1" strike="noStrike">
                          <a:solidFill>
                            <a:srgbClr val="000000"/>
                          </a:solidFill>
                          <a:latin typeface="Palatino Linotype"/>
                        </a:rPr>
                        <a:t>“</a:t>
                      </a:r>
                      <a:r>
                        <a:rPr b="0" lang="en-US" sz="1300" spc="-1" strike="noStrike">
                          <a:solidFill>
                            <a:srgbClr val="000000"/>
                          </a:solidFill>
                          <a:latin typeface="Palatino Linotype"/>
                        </a:rPr>
                        <a:t>normal</a:t>
                      </a:r>
                      <a:r>
                        <a:rPr b="0" lang="ja-JP" sz="1300" spc="-1" strike="noStrike">
                          <a:solidFill>
                            <a:srgbClr val="000000"/>
                          </a:solidFill>
                          <a:latin typeface="Palatino Linotype"/>
                        </a:rPr>
                        <a:t>”</a:t>
                      </a:r>
                      <a:r>
                        <a:rPr b="0" lang="en-US" sz="1300" spc="-1" strike="noStrike">
                          <a:solidFill>
                            <a:srgbClr val="000000"/>
                          </a:solidFill>
                          <a:latin typeface="Palatino Linotype"/>
                        </a:rPr>
                        <a:t> patients not test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Palatino Linotype"/>
                        </a:rPr>
                        <a:t>Or</a:t>
                      </a:r>
                      <a:r>
                        <a:rPr b="0" lang="en-US" sz="1300" spc="-1" strike="noStrike">
                          <a:solidFill>
                            <a:srgbClr val="000000"/>
                          </a:solidFill>
                          <a:latin typeface="Palatino Linotype"/>
                        </a:rPr>
                        <a:t> include, but:</a:t>
                      </a:r>
                      <a:endParaRPr b="0" lang="en-US" sz="13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Flag deficits in tables/text</a:t>
                      </a:r>
                      <a:endParaRPr b="0" lang="en-US" sz="13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Discuss implications</a:t>
                      </a:r>
                      <a:endParaRPr b="0" lang="en-US" sz="13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ssess heterogeneity in meta-analysis and comment of sources of heterogeneity in estimat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62"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5 of 7)</a:t>
            </a:r>
            <a:endParaRPr b="1" lang="en-US" sz="2800" spc="-1" strike="noStrike">
              <a:solidFill>
                <a:srgbClr val="ffffff"/>
              </a:solidFill>
              <a:latin typeface="Trebuchet MS"/>
            </a:endParaRPr>
          </a:p>
        </p:txBody>
      </p:sp>
      <p:graphicFrame>
        <p:nvGraphicFramePr>
          <p:cNvPr id="164" name=""/>
          <p:cNvGraphicFramePr/>
          <p:nvPr/>
        </p:nvGraphicFramePr>
        <p:xfrm>
          <a:off x="457200" y="1401840"/>
          <a:ext cx="8305920" cy="4313160"/>
        </p:xfrm>
        <a:graphic>
          <a:graphicData uri="http://schemas.openxmlformats.org/drawingml/2006/table">
            <a:tbl>
              <a:tblPr/>
              <a:tblGrid>
                <a:gridCol w="1066680"/>
                <a:gridCol w="1905120"/>
                <a:gridCol w="1676520"/>
                <a:gridCol w="1523880"/>
                <a:gridCol w="2133720"/>
              </a:tblGrid>
              <a:tr h="79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ICOTS Element</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Core Characteristics To Describe and Assess </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hallenges When Assess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Example</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Systematic Approaches for Decisions About Includ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3520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linical Outcomes</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from test results)</a:t>
                      </a:r>
                      <a:endParaRPr b="0" lang="en-US" sz="1300" spc="-1" strike="noStrike">
                        <a:solidFill>
                          <a:srgbClr val="000000"/>
                        </a:solidFill>
                        <a:latin typeface="Palatino Linotyp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How studies addressed clinical outcomes selected for the review:</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Earlier diagnosis</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Earlier intervention</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Change in treatment given</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Change in sequence of other testing</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Change in sequence/intensity of care</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Improved outcomes, quality of life, costs, etc.</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Populations and study designs of included studies heterogeneous with varied finding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Data not stratified or adjusted for key predictors</a:t>
                      </a:r>
                      <a:endParaRPr b="0" lang="en-US" sz="1300" spc="-1" strike="noStrike">
                        <a:solidFill>
                          <a:srgbClr val="000000"/>
                        </a:solidFill>
                        <a:latin typeface="Palatino Linotype"/>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Bone density testing reported in relation to fracture risk reduction without consideration of prior fracture or adjustment for age</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Exclude if no disease outcomes and outcomes key to understanding intended use case</a:t>
                      </a:r>
                      <a:endParaRPr b="0" lang="en-US" sz="1300" spc="-1" strike="noStrike">
                        <a:solidFill>
                          <a:srgbClr val="000000"/>
                        </a:solidFill>
                        <a:latin typeface="Palatino Linotype"/>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Palatino Linotype"/>
                          <a:ea typeface="Times New Roman"/>
                        </a:rPr>
                        <a:t>Or</a:t>
                      </a:r>
                      <a:r>
                        <a:rPr b="0" lang="en-US" sz="1300" spc="-1" strike="noStrike">
                          <a:solidFill>
                            <a:srgbClr val="000000"/>
                          </a:solidFill>
                          <a:latin typeface="Palatino Linotype"/>
                          <a:ea typeface="Times New Roman"/>
                        </a:rPr>
                        <a:t> include, and:</a:t>
                      </a:r>
                      <a:endParaRPr b="0" lang="en-US" sz="1300" spc="-1" strike="noStrike">
                        <a:solidFill>
                          <a:srgbClr val="000000"/>
                        </a:solidFill>
                        <a:latin typeface="Palatino Linotype"/>
                      </a:endParaRPr>
                    </a:p>
                    <a:p>
                      <a:pPr marL="171360" indent="-17136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Document details of deficits in tables/text</a:t>
                      </a:r>
                      <a:endParaRPr b="0" lang="en-US" sz="1300" spc="-1" strike="noStrike">
                        <a:solidFill>
                          <a:srgbClr val="000000"/>
                        </a:solidFill>
                        <a:latin typeface="Palatino Linotype"/>
                      </a:endParaRPr>
                    </a:p>
                    <a:p>
                      <a:pPr marL="171360" indent="-17136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Discuss implications</a:t>
                      </a:r>
                      <a:endParaRPr b="0" lang="en-US" sz="1300" spc="-1" strike="noStrike">
                        <a:solidFill>
                          <a:srgbClr val="000000"/>
                        </a:solidFill>
                        <a:latin typeface="Palatino Linotype"/>
                      </a:endParaRPr>
                    </a:p>
                    <a:p>
                      <a:pPr marL="171360" indent="-17136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Note need for challenge to be addressed in future research</a:t>
                      </a:r>
                      <a:endParaRPr b="0" lang="en-US" sz="1300" spc="-1" strike="noStrike">
                        <a:solidFill>
                          <a:srgbClr val="000000"/>
                        </a:solidFill>
                        <a:latin typeface="Palatino Linotype"/>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65"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6 of 7)</a:t>
            </a:r>
            <a:endParaRPr b="1" lang="en-US" sz="2800" spc="-1" strike="noStrike">
              <a:solidFill>
                <a:srgbClr val="ffffff"/>
              </a:solidFill>
              <a:latin typeface="Trebuchet MS"/>
            </a:endParaRPr>
          </a:p>
        </p:txBody>
      </p:sp>
      <p:graphicFrame>
        <p:nvGraphicFramePr>
          <p:cNvPr id="167" name=""/>
          <p:cNvGraphicFramePr/>
          <p:nvPr/>
        </p:nvGraphicFramePr>
        <p:xfrm>
          <a:off x="457200" y="1371600"/>
          <a:ext cx="8305920" cy="3902040"/>
        </p:xfrm>
        <a:graphic>
          <a:graphicData uri="http://schemas.openxmlformats.org/drawingml/2006/table">
            <a:tbl>
              <a:tblPr/>
              <a:tblGrid>
                <a:gridCol w="914400"/>
                <a:gridCol w="2057400"/>
                <a:gridCol w="1676520"/>
                <a:gridCol w="1523880"/>
                <a:gridCol w="2133720"/>
              </a:tblGrid>
              <a:tr h="1065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ICOTS Elemen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Core Characteristics To Describe and Assess </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hallenges When Assess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xampl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Systematic Approaches for Decisions About Includ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298404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Timing</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ing of availability of results to care team in studies and how this might relate to practice</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lacement of test in the sequence of care (e.g., relationship of test to treatment or follow-on management strategies) of studies and how this might relate to practice</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ing of assessment of disease status and outcomes in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quence of use of other diagnostics unclear</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e from results to treatment not reported</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rder of testing varies across subjects and was not randomly assigned</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dimer studies in which it is unclear when results were available relative to imaging studies of deep vein thrombosis</a:t>
                      </a:r>
                      <a:endParaRPr b="0" lang="en-US" sz="1400" spc="-1" strike="noStrike">
                        <a:solidFill>
                          <a:srgbClr val="000000"/>
                        </a:solidFill>
                        <a:latin typeface="Palatino Linotype"/>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clude if timing/sequence is key to understanding intended use case</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Or</a:t>
                      </a:r>
                      <a:r>
                        <a:rPr b="0" lang="en-US" sz="1400" spc="-1" strike="noStrike">
                          <a:solidFill>
                            <a:srgbClr val="000000"/>
                          </a:solidFill>
                          <a:latin typeface="Times New Roman"/>
                          <a:ea typeface="Times New Roman"/>
                        </a:rPr>
                        <a:t> include, and:</a:t>
                      </a:r>
                      <a:endParaRPr b="0" lang="en-US" sz="1400" spc="-1" strike="noStrike">
                        <a:solidFill>
                          <a:srgbClr val="000000"/>
                        </a:solidFill>
                        <a:latin typeface="Palatino Linotype"/>
                      </a:endParaRPr>
                    </a:p>
                    <a:p>
                      <a:pPr marL="182520" indent="-182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tact authors for information</a:t>
                      </a:r>
                      <a:endParaRPr b="0" lang="en-US" sz="1400" spc="-1" strike="noStrike">
                        <a:solidFill>
                          <a:srgbClr val="000000"/>
                        </a:solidFill>
                        <a:latin typeface="Palatino Linotype"/>
                      </a:endParaRPr>
                    </a:p>
                    <a:p>
                      <a:pPr marL="182520" indent="-182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lag deficits in tables/text</a:t>
                      </a:r>
                      <a:endParaRPr b="0" lang="en-US" sz="1400" spc="-1" strike="noStrike">
                        <a:solidFill>
                          <a:srgbClr val="000000"/>
                        </a:solidFill>
                        <a:latin typeface="Palatino Linotype"/>
                      </a:endParaRPr>
                    </a:p>
                    <a:p>
                      <a:pPr marL="182520" indent="-182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cuss implications</a:t>
                      </a:r>
                      <a:endParaRPr b="0" lang="en-US" sz="1400" spc="-1" strike="noStrike">
                        <a:solidFill>
                          <a:srgbClr val="000000"/>
                        </a:solidFill>
                        <a:latin typeface="Palatino Linotype"/>
                      </a:endParaRPr>
                    </a:p>
                    <a:p>
                      <a:pPr marL="182520" indent="-182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te need for challenge to be addressed in future research</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68"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7 of 7)</a:t>
            </a:r>
            <a:endParaRPr b="1" lang="en-US" sz="2800" spc="-1" strike="noStrike">
              <a:solidFill>
                <a:srgbClr val="ffffff"/>
              </a:solidFill>
              <a:latin typeface="Trebuchet MS"/>
            </a:endParaRPr>
          </a:p>
        </p:txBody>
      </p:sp>
      <p:graphicFrame>
        <p:nvGraphicFramePr>
          <p:cNvPr id="170" name=""/>
          <p:cNvGraphicFramePr/>
          <p:nvPr/>
        </p:nvGraphicFramePr>
        <p:xfrm>
          <a:off x="457200" y="1401840"/>
          <a:ext cx="8305920" cy="4160880"/>
        </p:xfrm>
        <a:graphic>
          <a:graphicData uri="http://schemas.openxmlformats.org/drawingml/2006/table">
            <a:tbl>
              <a:tblPr/>
              <a:tblGrid>
                <a:gridCol w="914400"/>
                <a:gridCol w="1905120"/>
                <a:gridCol w="1752480"/>
                <a:gridCol w="1676520"/>
                <a:gridCol w="2057400"/>
              </a:tblGrid>
              <a:tr h="1065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ICOTS Elemen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Core Characteristics To Describe and Assess </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hallenges When Assess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xampl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Systematic Approaches for Decisions About Includ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309492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Setting</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w setting of test in studies relates to key questions and current practice: </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imary care versus specialty care</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spital-based</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utine processing versus specialized lab or facility</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cialized personnel </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creening versus diagnostic us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ources available to providers for diagnosis and treatment of condition vary widely</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vider type/ specialty vary across settings</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parability of care in international settings unclear</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agnostic evaluation provided by geriatricians in some studies and unspecified primary care providers in other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clude if care setting known to influence test/outcomes or if setting is key to understanding intended use case</a:t>
                      </a:r>
                      <a:endParaRPr b="0" lang="en-US" sz="1400" spc="-1" strike="noStrike">
                        <a:solidFill>
                          <a:srgbClr val="000000"/>
                        </a:solidFill>
                        <a:latin typeface="Palatino Linotype"/>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Or</a:t>
                      </a:r>
                      <a:r>
                        <a:rPr b="0" lang="en-US" sz="1400" spc="-1" strike="noStrike">
                          <a:solidFill>
                            <a:srgbClr val="000000"/>
                          </a:solidFill>
                          <a:latin typeface="Times New Roman"/>
                          <a:ea typeface="Times New Roman"/>
                        </a:rPr>
                        <a:t> include, but:</a:t>
                      </a:r>
                      <a:endParaRPr b="0" lang="en-US" sz="1400" spc="-1" strike="noStrike">
                        <a:solidFill>
                          <a:srgbClr val="000000"/>
                        </a:solidFill>
                        <a:latin typeface="Palatino Linotype"/>
                      </a:endParaRPr>
                    </a:p>
                    <a:p>
                      <a:pPr marL="171360" indent="-1713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cument details of setting</a:t>
                      </a:r>
                      <a:endParaRPr b="0" lang="en-US" sz="1400" spc="-1" strike="noStrike">
                        <a:solidFill>
                          <a:srgbClr val="000000"/>
                        </a:solidFill>
                        <a:latin typeface="Palatino Linotype"/>
                      </a:endParaRPr>
                    </a:p>
                    <a:p>
                      <a:pPr marL="171360" indent="-1713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cuss implications</a:t>
                      </a:r>
                      <a:endParaRPr b="0" lang="en-US" sz="1400" spc="-1" strike="noStrike">
                        <a:solidFill>
                          <a:srgbClr val="000000"/>
                        </a:solidFill>
                        <a:latin typeface="Palatino Linotype"/>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71"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me contextual factors are only found after a large volume of literature has been reviewed.</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A meta-analysis may find that a test is inaccurate in older patients, but age was not considered in the key questions.</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y be a false association</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y be an oversight</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in doubt between a false association or oversight, it is appropriate to comment on an apparent association and clearly state that it is only a hypothesis.</a:t>
            </a:r>
            <a:endParaRPr b="0" lang="en-US" sz="2400" spc="-1" strike="noStrike">
              <a:solidFill>
                <a:srgbClr val="ffffff"/>
              </a:solidFill>
              <a:latin typeface="Trebuchet MS"/>
            </a:endParaRPr>
          </a:p>
        </p:txBody>
      </p:sp>
      <p:sp>
        <p:nvSpPr>
          <p:cNvPr id="17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2: Be Prepared To Deal With Additional Factors Affecting Applicability</a:t>
            </a:r>
            <a:endParaRPr b="1" lang="en-US" sz="2800" spc="-1" strike="noStrike">
              <a:solidFill>
                <a:srgbClr val="ffffff"/>
              </a:solidFill>
              <a:latin typeface="Trebuchet MS"/>
            </a:endParaRPr>
          </a:p>
        </p:txBody>
      </p:sp>
      <p:sp>
        <p:nvSpPr>
          <p:cNvPr id="174"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68280"/>
            <a:ext cx="8229600" cy="4827600"/>
          </a:xfrm>
          <a:prstGeom prst="rect">
            <a:avLst/>
          </a:prstGeom>
          <a:noFill/>
          <a:ln w="0">
            <a:noFill/>
          </a:ln>
        </p:spPr>
        <p:txBody>
          <a:bodyPr lIns="0" rIns="0" tIns="0" bIns="0" anchor="t">
            <a:normAutofit fontScale="98000"/>
          </a:bodyPr>
          <a:p>
            <a:pPr marL="285840" indent="-28584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be necessary to restrict the scope of the review to:</a:t>
            </a:r>
            <a:endParaRPr b="0" lang="en-US" sz="24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ic versions of the test</a:t>
            </a:r>
            <a:endParaRPr b="0" lang="en-US" sz="22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lected study methods or types</a:t>
            </a:r>
            <a:endParaRPr b="0" lang="en-US" sz="22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ic populations (e.g., women, patients who are obese)</a:t>
            </a:r>
            <a:endParaRPr b="0" lang="en-US" sz="22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ic settings (e.g., primary care practice)</a:t>
            </a:r>
            <a:endParaRPr b="0" lang="en-US" sz="2200" spc="-1" strike="noStrike">
              <a:solidFill>
                <a:srgbClr val="ffffff"/>
              </a:solidFill>
              <a:latin typeface="Trebuchet MS"/>
            </a:endParaRPr>
          </a:p>
          <a:p>
            <a:pPr marL="285840" indent="-28584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triction is appropriate when:</a:t>
            </a:r>
            <a:endParaRPr b="0" lang="en-US" sz="24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agree that a top priority is applicability to a particular target group or setting</a:t>
            </a:r>
            <a:endParaRPr b="0" lang="en-US" sz="22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st performance is different in a specific subgroup, setting, or from another version of the test</a:t>
            </a:r>
            <a:endParaRPr b="0" lang="en-US" sz="2200" spc="-1" strike="noStrike">
              <a:solidFill>
                <a:srgbClr val="ffffff"/>
              </a:solidFill>
              <a:latin typeface="Trebuchet MS"/>
            </a:endParaRPr>
          </a:p>
          <a:p>
            <a:pPr marL="285840" indent="-28584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triction is not appropriate when a fully comprehensive review is desired</a:t>
            </a:r>
            <a:endParaRPr b="0" lang="en-US" sz="2400" spc="-1" strike="noStrike">
              <a:solidFill>
                <a:srgbClr val="ffffff"/>
              </a:solidFill>
              <a:latin typeface="Trebuchet MS"/>
            </a:endParaRPr>
          </a:p>
        </p:txBody>
      </p:sp>
      <p:sp>
        <p:nvSpPr>
          <p:cNvPr id="17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Justify Decisions To Restrict the Scope of a Review</a:t>
            </a:r>
            <a:endParaRPr b="1" lang="en-US" sz="2800" spc="-1" strike="noStrike">
              <a:solidFill>
                <a:srgbClr val="ffffff"/>
              </a:solidFill>
              <a:latin typeface="Trebuchet MS"/>
            </a:endParaRPr>
          </a:p>
        </p:txBody>
      </p:sp>
      <p:sp>
        <p:nvSpPr>
          <p:cNvPr id="177"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dress applicability when defining review methods and documenting decisions in a protocol.</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Factors that change with time should prompt adding timeframes to inclusion criteria or description/ analysis of possible impacts on applicability.</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ansparency is essential when a review decision may be controversial.</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Exclusion criteria leave a reviewer </a:t>
            </a:r>
            <a:r>
              <a:rPr b="0" lang="ja-JP" sz="2200" spc="-1" strike="noStrike">
                <a:solidFill>
                  <a:srgbClr val="ffffff"/>
                </a:solidFill>
                <a:latin typeface="Trebuchet MS"/>
              </a:rPr>
              <a:t>“</a:t>
            </a:r>
            <a:r>
              <a:rPr b="0" lang="en-US" sz="2200" spc="-1" strike="noStrike">
                <a:solidFill>
                  <a:srgbClr val="ffffff"/>
                </a:solidFill>
                <a:latin typeface="Trebuchet MS"/>
              </a:rPr>
              <a:t>empty handed;</a:t>
            </a:r>
            <a:r>
              <a:rPr b="0" lang="ja-JP" sz="2200" spc="-1" strike="noStrike">
                <a:solidFill>
                  <a:srgbClr val="ffffff"/>
                </a:solidFill>
                <a:latin typeface="Trebuchet MS"/>
              </a:rPr>
              <a:t>”</a:t>
            </a:r>
            <a:r>
              <a:rPr b="0" lang="en-US" sz="2200" spc="-1" strike="noStrike">
                <a:solidFill>
                  <a:srgbClr val="ffffff"/>
                </a:solidFill>
                <a:latin typeface="Trebuchet MS"/>
              </a:rPr>
              <a:t> the reviewer may decide some excluded evidence is relevant by extension or analogy.</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this event, clearly state how evidence may not be directly applicable to key questions but represents the limited state of the science.</a:t>
            </a:r>
            <a:endParaRPr b="0" lang="en-US" sz="22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rebuchet MS"/>
              </a:rPr>
              <a:t>Principle 4: Maintain a Transparent Process</a:t>
            </a:r>
            <a:endParaRPr b="1" lang="en-US" sz="2800" spc="-1" strike="noStrike">
              <a:solidFill>
                <a:srgbClr val="ffffff"/>
              </a:solidFill>
              <a:latin typeface="Trebuchet MS"/>
            </a:endParaRPr>
          </a:p>
        </p:txBody>
      </p:sp>
      <p:sp>
        <p:nvSpPr>
          <p:cNvPr id="180"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plain how applicability extends to both the individual study and bodies of evidence</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scribe three main challenges related to assessing applicability and how they are often related to context</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nderstand the four principles for assessing and reporting applicability</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pply the PICOTS (</a:t>
            </a:r>
            <a:r>
              <a:rPr b="0" lang="en-US" sz="2600" spc="-1" strike="noStrike">
                <a:solidFill>
                  <a:srgbClr val="ffc000"/>
                </a:solidFill>
                <a:latin typeface="Trebuchet MS"/>
              </a:rPr>
              <a:t>p</a:t>
            </a:r>
            <a:r>
              <a:rPr b="0" lang="en-US" sz="2600" spc="-1" strike="noStrike">
                <a:solidFill>
                  <a:srgbClr val="ffffff"/>
                </a:solidFill>
                <a:latin typeface="Trebuchet MS"/>
              </a:rPr>
              <a:t>opulation, </a:t>
            </a:r>
            <a:r>
              <a:rPr b="0" lang="en-US" sz="2600" spc="-1" strike="noStrike">
                <a:solidFill>
                  <a:srgbClr val="ffc000"/>
                </a:solidFill>
                <a:latin typeface="Trebuchet MS"/>
              </a:rPr>
              <a:t>i</a:t>
            </a:r>
            <a:r>
              <a:rPr b="0" lang="en-US" sz="2600" spc="-1" strike="noStrike">
                <a:solidFill>
                  <a:srgbClr val="ffffff"/>
                </a:solidFill>
                <a:latin typeface="Trebuchet MS"/>
              </a:rPr>
              <a:t>ntervention, </a:t>
            </a:r>
            <a:r>
              <a:rPr b="0" lang="en-US" sz="2600" spc="-1" strike="noStrike">
                <a:solidFill>
                  <a:srgbClr val="ffc000"/>
                </a:solidFill>
                <a:latin typeface="Trebuchet MS"/>
              </a:rPr>
              <a:t>c</a:t>
            </a:r>
            <a:r>
              <a:rPr b="0" lang="en-US" sz="2600" spc="-1" strike="noStrike">
                <a:solidFill>
                  <a:srgbClr val="ffffff"/>
                </a:solidFill>
                <a:latin typeface="Trebuchet MS"/>
              </a:rPr>
              <a:t>omparator, </a:t>
            </a:r>
            <a:r>
              <a:rPr b="0" lang="en-US" sz="2600" spc="-1" strike="noStrike">
                <a:solidFill>
                  <a:srgbClr val="ffc000"/>
                </a:solidFill>
                <a:latin typeface="Trebuchet MS"/>
              </a:rPr>
              <a:t>o</a:t>
            </a:r>
            <a:r>
              <a:rPr b="0" lang="en-US" sz="2600" spc="-1" strike="noStrike">
                <a:solidFill>
                  <a:srgbClr val="ffffff"/>
                </a:solidFill>
                <a:latin typeface="Trebuchet MS"/>
              </a:rPr>
              <a:t>utcomes, </a:t>
            </a:r>
            <a:r>
              <a:rPr b="0" lang="en-US" sz="2600" spc="-1" strike="noStrike">
                <a:solidFill>
                  <a:srgbClr val="ffc000"/>
                </a:solidFill>
                <a:latin typeface="Trebuchet MS"/>
              </a:rPr>
              <a:t>t</a:t>
            </a:r>
            <a:r>
              <a:rPr b="0" lang="en-US" sz="2600" spc="-1" strike="noStrike">
                <a:solidFill>
                  <a:srgbClr val="ffffff"/>
                </a:solidFill>
                <a:latin typeface="Trebuchet MS"/>
              </a:rPr>
              <a:t>iming, and </a:t>
            </a:r>
            <a:r>
              <a:rPr b="0" lang="en-US" sz="2600" spc="-1" strike="noStrike">
                <a:solidFill>
                  <a:srgbClr val="ffc000"/>
                </a:solidFill>
                <a:latin typeface="Trebuchet MS"/>
              </a:rPr>
              <a:t>s</a:t>
            </a:r>
            <a:r>
              <a:rPr b="0" lang="en-US" sz="2600" spc="-1" strike="noStrike">
                <a:solidFill>
                  <a:srgbClr val="ffffff"/>
                </a:solidFill>
                <a:latin typeface="Trebuchet MS"/>
              </a:rPr>
              <a:t>etting) typology to assess applicability</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102"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298520"/>
            <a:ext cx="8229600" cy="49500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002 Cervical Cancer Screening Summary of the Evidence for the U.S. Preventive Services Task Forc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anges in secular trends and availability/format of tests</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quid-based cervical cytology (new technique) rapidly being used in practice</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ource shortages for reviewing conventional Pap smears</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w computer systems to screen cytology slides to enhance accuracy</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terature starting to include adjunct usage of human papilloma virus vaccine</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 randomized controlled trials available</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Cervical Cancer Screening (1 of 3)</a:t>
            </a:r>
            <a:endParaRPr b="1" lang="en-US" sz="2800" spc="-1" strike="noStrike">
              <a:solidFill>
                <a:srgbClr val="ffffff"/>
              </a:solidFill>
              <a:latin typeface="Trebuchet MS"/>
            </a:endParaRPr>
          </a:p>
        </p:txBody>
      </p:sp>
      <p:sp>
        <p:nvSpPr>
          <p:cNvPr id="183" name="TextBox 3"/>
          <p:cNvSpPr/>
          <p:nvPr/>
        </p:nvSpPr>
        <p:spPr>
          <a:xfrm>
            <a:off x="457200" y="5724360"/>
            <a:ext cx="83818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 KE, Matchar DB, Chang SM. Assessing applicability of medical test studies in systematic review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n KE, Hall SA, Nanda K, et al. Systematic Evidence Review No. 25. Available at www.ncbi.nlm.nih.gov/books/NBK42831.</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nce no data compared new screening tools/strategies to outcomes, the 2002 Cervical Cancer Screening Summary of the Evidence for the U.S. Preventive Services Task Force report focused on medical test characteristics (sensitivity, specificity, predictive value, and likelihood ratio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ree computer technologie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wo liquid cytology approache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ll methods of human papilloma virus testing</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luded all technologie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stricting technologies only to those available in the United States (most applicable setting) would have reduced the scope substantially.</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purpose was to determine if comparable or superior methods were being overlooked or no longer offered.</a:t>
            </a:r>
            <a:endParaRPr b="0" lang="en-US" sz="18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Cervical Cancer Screening (2 of 3)</a:t>
            </a:r>
            <a:endParaRPr b="1" lang="en-US" sz="2800" spc="-1" strike="noStrike">
              <a:solidFill>
                <a:srgbClr val="ffffff"/>
              </a:solidFill>
              <a:latin typeface="Trebuchet MS"/>
            </a:endParaRPr>
          </a:p>
        </p:txBody>
      </p:sp>
      <p:sp>
        <p:nvSpPr>
          <p:cNvPr id="186" name="TextBox 3"/>
          <p:cNvSpPr/>
          <p:nvPr/>
        </p:nvSpPr>
        <p:spPr>
          <a:xfrm>
            <a:off x="457200" y="5724360"/>
            <a:ext cx="83818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 KE, Matchar DB, Chang SM. Assessing applicability of medical test studies in systematic review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n KE, Hall SA, Nanda K, et al. Systematic Evidence Review No. 25. Available at www.ncbi.nlm.nih.gov/books/NBK42831.</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192320"/>
            <a:ext cx="8229600" cy="4827600"/>
          </a:xfrm>
          <a:prstGeom prst="rect">
            <a:avLst/>
          </a:prstGeom>
          <a:noFill/>
          <a:ln w="0">
            <a:noFill/>
          </a:ln>
        </p:spPr>
        <p:txBody>
          <a:bodyPr lIns="0" rIns="0" tIns="0" bIns="0" anchor="t">
            <a:normAutofit fontScale="98000"/>
          </a:bodyPr>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two specific areas of applicability interest — age and hysterectomy status.</a:t>
            </a:r>
            <a:endParaRPr b="0" lang="en-US" sz="22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underlying incidence and prevalence data included: </a:t>
            </a:r>
            <a:endParaRPr b="0" lang="en-US" sz="2000" spc="-1" strike="noStrike">
              <a:solidFill>
                <a:srgbClr val="ffffff"/>
              </a:solidFill>
              <a:latin typeface="Trebuchet MS"/>
            </a:endParaRPr>
          </a:p>
          <a:p>
            <a:pPr lvl="2" marL="1073520" indent="-2862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rovided context</a:t>
            </a:r>
            <a:endParaRPr b="0" lang="en-US" sz="1800" spc="-1" strike="noStrike">
              <a:solidFill>
                <a:srgbClr val="ffffff"/>
              </a:solidFill>
              <a:latin typeface="Trebuchet MS"/>
            </a:endParaRPr>
          </a:p>
          <a:p>
            <a:pPr lvl="2" marL="1073520" indent="-2862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formed modeling of testing impact</a:t>
            </a:r>
            <a:endParaRPr b="0" lang="en-US" sz="18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viewers could not estimate the usefulness of human papilloma virus testing among older women from trends in younger women.</a:t>
            </a:r>
            <a:endParaRPr b="0" lang="en-US" sz="2000" spc="-1" strike="noStrike">
              <a:solidFill>
                <a:srgbClr val="ffffff"/>
              </a:solidFill>
              <a:latin typeface="Trebuchet MS"/>
            </a:endParaRPr>
          </a:p>
          <a:p>
            <a:pPr lvl="2" marL="1073520" indent="-2862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trapolating results from one context to another rarely enhances applicability.</a:t>
            </a:r>
            <a:endParaRPr b="0" lang="en-US" sz="1800" spc="-1" strike="noStrike">
              <a:solidFill>
                <a:srgbClr val="ffffff"/>
              </a:solidFill>
              <a:latin typeface="Trebuchet MS"/>
            </a:endParaRPr>
          </a:p>
          <a:p>
            <a:pPr lvl="1" marL="67968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eview found that older women are disproportionately more likely to have false-positive findings under current screening recommendations and supported the discontinuation of Pap testing after hysterectomy.</a:t>
            </a:r>
            <a:endParaRPr b="0" lang="en-US" sz="2200" spc="-1" strike="noStrike">
              <a:solidFill>
                <a:srgbClr val="ffffff"/>
              </a:solidFill>
              <a:latin typeface="Trebuchet MS"/>
            </a:endParaRPr>
          </a:p>
        </p:txBody>
      </p:sp>
      <p:sp>
        <p:nvSpPr>
          <p:cNvPr id="1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Cervical Cancer Screening (3 of 3)</a:t>
            </a:r>
            <a:endParaRPr b="1" lang="en-US" sz="2800" spc="-1" strike="noStrike">
              <a:solidFill>
                <a:srgbClr val="ffffff"/>
              </a:solidFill>
              <a:latin typeface="Trebuchet MS"/>
            </a:endParaRPr>
          </a:p>
        </p:txBody>
      </p:sp>
      <p:sp>
        <p:nvSpPr>
          <p:cNvPr id="189" name="TextBox 3"/>
          <p:cNvSpPr/>
          <p:nvPr/>
        </p:nvSpPr>
        <p:spPr>
          <a:xfrm>
            <a:off x="457200" y="5800680"/>
            <a:ext cx="83818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 KE, Matchar DB, Chang SM. Assessing applicability of medical test studies in systematic review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n KE, Hall SA, Nanda K, et al. Systematic Evidence Review No. 25. Available at www.ncbi.nlm.nih.gov/books/NBK42831.</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adequately assess applicability of a medical test, reviewers need to familiarize themselves with:</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vailability of the tes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chnology of the tes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temporary clinical use of the tes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urrent treatment modalities for the related disease condi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tential interplay of disease severity and the performance characteristics of the tes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mplications of particular study designs and sampling strategies for bias in the findings about applicability</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1 of 3)</a:t>
            </a:r>
            <a:endParaRPr b="1" lang="en-US" sz="2800" spc="-1" strike="noStrike">
              <a:solidFill>
                <a:srgbClr val="ffffff"/>
              </a:solidFill>
              <a:latin typeface="Trebuchet MS"/>
            </a:endParaRPr>
          </a:p>
        </p:txBody>
      </p:sp>
      <p:sp>
        <p:nvSpPr>
          <p:cNvPr id="192"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tricting inclusion of only marginally related or outdated studies can aid applicability.</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trapolating results from one context to another does not help.</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uidance from clinical, medical testing, and statistical experts is helpful when considering restriction of scope or exclusion of publications with specific types of flaws.</a:t>
            </a:r>
            <a:endParaRPr b="0" lang="en-US" sz="2400" spc="-1" strike="noStrike">
              <a:solidFill>
                <a:srgbClr val="ffffff"/>
              </a:solidFill>
              <a:latin typeface="Trebuchet MS"/>
            </a:endParaRPr>
          </a:p>
        </p:txBody>
      </p:sp>
      <p:sp>
        <p:nvSpPr>
          <p:cNvPr id="1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2 of 3)</a:t>
            </a:r>
            <a:endParaRPr b="1" lang="en-US" sz="2800" spc="-1" strike="noStrike">
              <a:solidFill>
                <a:srgbClr val="ffffff"/>
              </a:solidFill>
              <a:latin typeface="Trebuchet MS"/>
            </a:endParaRPr>
          </a:p>
        </p:txBody>
      </p:sp>
      <p:sp>
        <p:nvSpPr>
          <p:cNvPr id="195"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 team must group findings in a meaningful way, whether the review is exhaustive or narrow.</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medical tests, this means gathering and synthesizing data in ways that help to readily understand applicabil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rouping summaries of findings using familiar structures like the PICOTS (</a:t>
            </a:r>
            <a:r>
              <a:rPr b="0" lang="en-US" sz="2200" spc="-1" strike="noStrike">
                <a:solidFill>
                  <a:srgbClr val="ffc000"/>
                </a:solidFill>
                <a:latin typeface="Trebuchet MS"/>
              </a:rPr>
              <a:t>p</a:t>
            </a:r>
            <a:r>
              <a:rPr b="0" lang="en-US" sz="2200" spc="-1" strike="noStrike">
                <a:solidFill>
                  <a:srgbClr val="ffffff"/>
                </a:solidFill>
                <a:latin typeface="Trebuchet MS"/>
              </a:rPr>
              <a:t>opulation, </a:t>
            </a:r>
            <a:r>
              <a:rPr b="0" lang="en-US" sz="2200" spc="-1" strike="noStrike">
                <a:solidFill>
                  <a:srgbClr val="ffc000"/>
                </a:solidFill>
                <a:latin typeface="Trebuchet MS"/>
              </a:rPr>
              <a:t>i</a:t>
            </a:r>
            <a:r>
              <a:rPr b="0" lang="en-US" sz="2200" spc="-1" strike="noStrike">
                <a:solidFill>
                  <a:srgbClr val="ffffff"/>
                </a:solidFill>
                <a:latin typeface="Trebuchet MS"/>
              </a:rPr>
              <a:t>ntervention, </a:t>
            </a:r>
            <a:r>
              <a:rPr b="0" lang="en-US" sz="2200" spc="-1" strike="noStrike">
                <a:solidFill>
                  <a:srgbClr val="ffc000"/>
                </a:solidFill>
                <a:latin typeface="Trebuchet MS"/>
              </a:rPr>
              <a:t>c</a:t>
            </a:r>
            <a:r>
              <a:rPr b="0" lang="en-US" sz="2200" spc="-1" strike="noStrike">
                <a:solidFill>
                  <a:srgbClr val="ffffff"/>
                </a:solidFill>
                <a:latin typeface="Trebuchet MS"/>
              </a:rPr>
              <a:t>omparator, </a:t>
            </a:r>
            <a:r>
              <a:rPr b="0" lang="en-US" sz="2200" spc="-1" strike="noStrike">
                <a:solidFill>
                  <a:srgbClr val="ffc000"/>
                </a:solidFill>
                <a:latin typeface="Trebuchet MS"/>
              </a:rPr>
              <a:t>o</a:t>
            </a:r>
            <a:r>
              <a:rPr b="0" lang="en-US" sz="2200" spc="-1" strike="noStrike">
                <a:solidFill>
                  <a:srgbClr val="ffffff"/>
                </a:solidFill>
                <a:latin typeface="Trebuchet MS"/>
              </a:rPr>
              <a:t>utcomes, </a:t>
            </a:r>
            <a:r>
              <a:rPr b="0" lang="en-US" sz="2200" spc="-1" strike="noStrike">
                <a:solidFill>
                  <a:srgbClr val="ffc000"/>
                </a:solidFill>
                <a:latin typeface="Trebuchet MS"/>
              </a:rPr>
              <a:t>t</a:t>
            </a:r>
            <a:r>
              <a:rPr b="0" lang="en-US" sz="2200" spc="-1" strike="noStrike">
                <a:solidFill>
                  <a:srgbClr val="ffffff"/>
                </a:solidFill>
                <a:latin typeface="Trebuchet MS"/>
              </a:rPr>
              <a:t>iming, and </a:t>
            </a:r>
            <a:r>
              <a:rPr b="0" lang="en-US" sz="2200" spc="-1" strike="noStrike">
                <a:solidFill>
                  <a:srgbClr val="ffc000"/>
                </a:solidFill>
                <a:latin typeface="Trebuchet MS"/>
              </a:rPr>
              <a:t>s</a:t>
            </a:r>
            <a:r>
              <a:rPr b="0" lang="en-US" sz="2200" spc="-1" strike="noStrike">
                <a:solidFill>
                  <a:srgbClr val="ffffff"/>
                </a:solidFill>
                <a:latin typeface="Trebuchet MS"/>
              </a:rPr>
              <a:t>etting) enhances clarity in framing applicabil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udies may be presented more than once within a review, in different </a:t>
            </a:r>
            <a:r>
              <a:rPr b="0" lang="ja-JP" sz="2200" spc="-1" strike="noStrike">
                <a:solidFill>
                  <a:srgbClr val="ffffff"/>
                </a:solidFill>
                <a:latin typeface="Trebuchet MS"/>
              </a:rPr>
              <a:t>“</a:t>
            </a:r>
            <a:r>
              <a:rPr b="0" lang="en-US" sz="2200" spc="-1" strike="noStrike">
                <a:solidFill>
                  <a:srgbClr val="ffffff"/>
                </a:solidFill>
                <a:latin typeface="Trebuchet MS"/>
              </a:rPr>
              <a:t>applicability axes.</a:t>
            </a:r>
            <a:r>
              <a:rPr b="0" lang="ja-JP" sz="2200" spc="-1" strike="noStrike">
                <a:solidFill>
                  <a:srgbClr val="ffffff"/>
                </a:solidFill>
                <a:latin typeface="Trebuchet MS"/>
              </a:rPr>
              <a:t>”</a:t>
            </a:r>
            <a:endParaRPr b="0" lang="en-US" sz="22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3 of 3)</a:t>
            </a:r>
            <a:endParaRPr b="1" lang="en-US" sz="2800" spc="-1" strike="noStrike">
              <a:solidFill>
                <a:srgbClr val="ffffff"/>
              </a:solidFill>
              <a:latin typeface="Trebuchet MS"/>
            </a:endParaRPr>
          </a:p>
        </p:txBody>
      </p:sp>
      <p:sp>
        <p:nvSpPr>
          <p:cNvPr id="198"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contextual factors that may affect test performance early in the review process.</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refully consider and document justification for addressing these factors by restricting key questions or creating a broader review.</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tocols should document which factors will be excluded and how subgroups will be assessed.</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should document how they plan to handle studies that only partly fit the key questions or inclusion/exclusion criteria.</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nal reviews should include a description of test use in usual practice and how the included studies fit with this us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a:t>
            </a:r>
            <a:endParaRPr b="1" lang="en-US" sz="2800" spc="-1" strike="noStrike">
              <a:solidFill>
                <a:srgbClr val="ffffff"/>
              </a:solidFill>
              <a:latin typeface="Trebuchet MS"/>
            </a:endParaRPr>
          </a:p>
        </p:txBody>
      </p:sp>
      <p:sp>
        <p:nvSpPr>
          <p:cNvPr id="201"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conducting most systematic reviews, it is important to limit the contextual factors considered in applicability assessment rather than considering all possible factors. </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It is not practical to consider all possible factors that may impact applicability in all cases. This approach would be overwhelming and, in some cases, leave the reviewer with no applicable studies. A reasonable list of factors should be considered and agreed upon by the stakeholders in the systematic review before initiating the literature review.</a:t>
            </a:r>
            <a:endParaRPr b="0" lang="en-US" sz="2400" spc="-1" strike="noStrike">
              <a:solidFill>
                <a:srgbClr val="ffffff"/>
              </a:solidFill>
              <a:latin typeface="Trebuchet MS"/>
            </a:endParaRPr>
          </a:p>
        </p:txBody>
      </p:sp>
      <p:sp>
        <p:nvSpPr>
          <p:cNvPr id="2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outine use of the human papilloma virus vaccine to prevent cervical cancer may change the utility of the test to detect the viru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  </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cisionmakers need to understand whether a medical test is meaningful in a specific context in order to make an informed decision. For example:</a:t>
            </a:r>
            <a:endParaRPr b="0" lang="en-US" sz="22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hether the test has been studied in the patient/disease/care settings of interest</a:t>
            </a:r>
            <a:endParaRPr b="0" lang="en-US" sz="19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hether the test has been part of a management strategy of interest</a:t>
            </a:r>
            <a:endParaRPr b="0" lang="en-US" sz="1900" spc="-1" strike="noStrike">
              <a:solidFill>
                <a:srgbClr val="ffffff"/>
              </a:solidFill>
              <a:latin typeface="Trebuchet MS"/>
            </a:endParaRPr>
          </a:p>
          <a:p>
            <a:pPr marL="29196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idence-based Practice Centers use four principles to assess and report applicability:</a:t>
            </a:r>
            <a:endParaRPr b="0" lang="en-US" sz="22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termine the most important factors that affect applicability</a:t>
            </a:r>
            <a:endParaRPr b="0" lang="en-US" sz="18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ystematically abstract key characteristics that may affect applicability</a:t>
            </a:r>
            <a:endParaRPr b="0" lang="en-US" sz="18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ake judgments about major limitations to the applicability of individual studies</a:t>
            </a:r>
            <a:endParaRPr b="0" lang="en-US" sz="18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sider the applicability of the body of evidence</a:t>
            </a:r>
            <a:endParaRPr b="0" lang="en-US" sz="18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a:t>
            </a:r>
            <a:endParaRPr b="1" lang="en-US" sz="2800" spc="-1" strike="noStrike">
              <a:solidFill>
                <a:srgbClr val="ffffff"/>
              </a:solidFill>
              <a:latin typeface="Trebuchet MS"/>
            </a:endParaRPr>
          </a:p>
        </p:txBody>
      </p:sp>
      <p:sp>
        <p:nvSpPr>
          <p:cNvPr id="105"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This is an example of how the changes in routine preventive care over time can affect the prevalence of disease. Knowledge of these trends is important when looking at the applicability of a body of literature.</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e of the general principles in assessing the applicability is to keep the process as confidential as possible without involving the stakeholders and future decisionmake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ransparency is essential while addressing applicability. Review methods should be documented clearly in a protocol.</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PICOTS (</a:t>
            </a:r>
            <a:r>
              <a:rPr b="0" lang="en-US" sz="2400" spc="-1" strike="noStrike">
                <a:solidFill>
                  <a:srgbClr val="ffc000"/>
                </a:solidFill>
                <a:latin typeface="Trebuchet MS"/>
              </a:rPr>
              <a:t>p</a:t>
            </a:r>
            <a:r>
              <a:rPr b="0" lang="en-US" sz="2400" spc="-1" strike="noStrike">
                <a:solidFill>
                  <a:srgbClr val="ffffff"/>
                </a:solidFill>
                <a:latin typeface="Trebuchet MS"/>
              </a:rPr>
              <a:t>opulation, </a:t>
            </a:r>
            <a:r>
              <a:rPr b="0" lang="en-US" sz="2400" spc="-1" strike="noStrike">
                <a:solidFill>
                  <a:srgbClr val="ffc000"/>
                </a:solidFill>
                <a:latin typeface="Trebuchet MS"/>
              </a:rPr>
              <a:t>i</a:t>
            </a:r>
            <a:r>
              <a:rPr b="0" lang="en-US" sz="2400" spc="-1" strike="noStrike">
                <a:solidFill>
                  <a:srgbClr val="ffffff"/>
                </a:solidFill>
                <a:latin typeface="Trebuchet MS"/>
              </a:rPr>
              <a:t>ntervention, </a:t>
            </a:r>
            <a:r>
              <a:rPr b="0" lang="en-US" sz="2400" spc="-1" strike="noStrike">
                <a:solidFill>
                  <a:srgbClr val="ffc000"/>
                </a:solidFill>
                <a:latin typeface="Trebuchet MS"/>
              </a:rPr>
              <a:t>c</a:t>
            </a:r>
            <a:r>
              <a:rPr b="0" lang="en-US" sz="2400" spc="-1" strike="noStrike">
                <a:solidFill>
                  <a:srgbClr val="ffffff"/>
                </a:solidFill>
                <a:latin typeface="Trebuchet MS"/>
              </a:rPr>
              <a:t>omparator, </a:t>
            </a:r>
            <a:r>
              <a:rPr b="0" lang="en-US" sz="2400" spc="-1" strike="noStrike">
                <a:solidFill>
                  <a:srgbClr val="ffc000"/>
                </a:solidFill>
                <a:latin typeface="Trebuchet MS"/>
              </a:rPr>
              <a:t>o</a:t>
            </a:r>
            <a:r>
              <a:rPr b="0" lang="en-US" sz="2400" spc="-1" strike="noStrike">
                <a:solidFill>
                  <a:srgbClr val="ffffff"/>
                </a:solidFill>
                <a:latin typeface="Trebuchet MS"/>
              </a:rPr>
              <a:t>utcomes, </a:t>
            </a:r>
            <a:r>
              <a:rPr b="0" lang="en-US" sz="2400" spc="-1" strike="noStrike">
                <a:solidFill>
                  <a:srgbClr val="ffc000"/>
                </a:solidFill>
                <a:latin typeface="Trebuchet MS"/>
              </a:rPr>
              <a:t>t</a:t>
            </a:r>
            <a:r>
              <a:rPr b="0" lang="en-US" sz="2400" spc="-1" strike="noStrike">
                <a:solidFill>
                  <a:srgbClr val="ffffff"/>
                </a:solidFill>
                <a:latin typeface="Trebuchet MS"/>
              </a:rPr>
              <a:t>iming, and </a:t>
            </a:r>
            <a:r>
              <a:rPr b="0" lang="en-US" sz="2400" spc="-1" strike="noStrike">
                <a:solidFill>
                  <a:srgbClr val="ffc000"/>
                </a:solidFill>
                <a:latin typeface="Trebuchet MS"/>
              </a:rPr>
              <a:t>s</a:t>
            </a:r>
            <a:r>
              <a:rPr b="0" lang="en-US" sz="2400" spc="-1" strike="noStrike">
                <a:solidFill>
                  <a:srgbClr val="ffffff"/>
                </a:solidFill>
                <a:latin typeface="Trebuchet MS"/>
              </a:rPr>
              <a:t>etting) framework is a tool that can help to systematically abstract and report key characteristics that may affect applicabilit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The PICOTS (</a:t>
            </a:r>
            <a:r>
              <a:rPr b="0" lang="en-US" sz="2400" spc="-1" strike="noStrike">
                <a:solidFill>
                  <a:srgbClr val="ffc000"/>
                </a:solidFill>
                <a:latin typeface="Trebuchet MS"/>
              </a:rPr>
              <a:t>p</a:t>
            </a:r>
            <a:r>
              <a:rPr b="0" lang="en-US" sz="2400" spc="-1" strike="noStrike">
                <a:solidFill>
                  <a:srgbClr val="ffffff"/>
                </a:solidFill>
                <a:latin typeface="Trebuchet MS"/>
              </a:rPr>
              <a:t>opulation, </a:t>
            </a:r>
            <a:r>
              <a:rPr b="0" lang="en-US" sz="2400" spc="-1" strike="noStrike">
                <a:solidFill>
                  <a:srgbClr val="ffc000"/>
                </a:solidFill>
                <a:latin typeface="Trebuchet MS"/>
              </a:rPr>
              <a:t>i</a:t>
            </a:r>
            <a:r>
              <a:rPr b="0" lang="en-US" sz="2400" spc="-1" strike="noStrike">
                <a:solidFill>
                  <a:srgbClr val="ffffff"/>
                </a:solidFill>
                <a:latin typeface="Trebuchet MS"/>
              </a:rPr>
              <a:t>ntervention, </a:t>
            </a:r>
            <a:r>
              <a:rPr b="0" lang="en-US" sz="2400" spc="-1" strike="noStrike">
                <a:solidFill>
                  <a:srgbClr val="ffc000"/>
                </a:solidFill>
                <a:latin typeface="Trebuchet MS"/>
              </a:rPr>
              <a:t>c</a:t>
            </a:r>
            <a:r>
              <a:rPr b="0" lang="en-US" sz="2400" spc="-1" strike="noStrike">
                <a:solidFill>
                  <a:srgbClr val="ffffff"/>
                </a:solidFill>
                <a:latin typeface="Trebuchet MS"/>
              </a:rPr>
              <a:t>omparator, </a:t>
            </a:r>
            <a:r>
              <a:rPr b="0" lang="en-US" sz="2400" spc="-1" strike="noStrike">
                <a:solidFill>
                  <a:srgbClr val="ffc000"/>
                </a:solidFill>
                <a:latin typeface="Trebuchet MS"/>
              </a:rPr>
              <a:t>o</a:t>
            </a:r>
            <a:r>
              <a:rPr b="0" lang="en-US" sz="2400" spc="-1" strike="noStrike">
                <a:solidFill>
                  <a:srgbClr val="ffffff"/>
                </a:solidFill>
                <a:latin typeface="Trebuchet MS"/>
              </a:rPr>
              <a:t>utcomes, </a:t>
            </a:r>
            <a:r>
              <a:rPr b="0" lang="en-US" sz="2400" spc="-1" strike="noStrike">
                <a:solidFill>
                  <a:srgbClr val="ffc000"/>
                </a:solidFill>
                <a:latin typeface="Trebuchet MS"/>
              </a:rPr>
              <a:t>t</a:t>
            </a:r>
            <a:r>
              <a:rPr b="0" lang="en-US" sz="2400" spc="-1" strike="noStrike">
                <a:solidFill>
                  <a:srgbClr val="ffffff"/>
                </a:solidFill>
                <a:latin typeface="Trebuchet MS"/>
              </a:rPr>
              <a:t>iming, and </a:t>
            </a:r>
            <a:r>
              <a:rPr b="0" lang="en-US" sz="2400" spc="-1" strike="noStrike">
                <a:solidFill>
                  <a:srgbClr val="ffc000"/>
                </a:solidFill>
                <a:latin typeface="Trebuchet MS"/>
              </a:rPr>
              <a:t>s</a:t>
            </a:r>
            <a:r>
              <a:rPr b="0" lang="en-US" sz="2400" spc="-1" strike="noStrike">
                <a:solidFill>
                  <a:srgbClr val="ffffff"/>
                </a:solidFill>
                <a:latin typeface="Trebuchet MS"/>
              </a:rPr>
              <a:t>etting) framework is a tool that can be used in a systematic review to meticulously think through all of the factors that may affect applicability.</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6,</a:t>
            </a:r>
            <a:r>
              <a:rPr b="0" lang="en-US" sz="2400" spc="-1" strike="noStrike">
                <a:solidFill>
                  <a:srgbClr val="ffffff"/>
                </a:solidFill>
                <a:latin typeface="Trebuchet MS"/>
              </a:rPr>
              <a:t> Assessing applicability of medical test studies in systematic reviews. In: Chang SM and Matchar DB, eds. Methods guide for medical test reviews. Rockville, MD: Agency for Healthcare Research and Quality; June 2012. p. 6.1-13</a:t>
            </a:r>
            <a:r>
              <a:rPr b="0" lang="en-US" sz="2400" spc="-1" strike="noStrike">
                <a:solidFill>
                  <a:srgbClr val="ffffff"/>
                </a:solidFill>
                <a:latin typeface="Trebuchet MS"/>
                <a:ea typeface="Arial"/>
              </a:rPr>
              <a:t>. </a:t>
            </a:r>
            <a:r>
              <a:rPr b="0" lang="en-US" sz="2400" spc="-1" strike="noStrike">
                <a:solidFill>
                  <a:srgbClr val="ffffff"/>
                </a:solidFill>
                <a:latin typeface="Trebuchet MS"/>
              </a:rPr>
              <a:t>AHRQ Publication No. 12-EHC017. www.effectivehealthcare.ahrq.gov/medtestsguide.cfm</a:t>
            </a:r>
            <a:endParaRPr b="0" lang="en-US" sz="2400" spc="-1" strike="noStrike">
              <a:solidFill>
                <a:srgbClr val="ffffff"/>
              </a:solidFill>
              <a:latin typeface="Trebuchet MS"/>
            </a:endParaRPr>
          </a:p>
        </p:txBody>
      </p:sp>
      <p:sp>
        <p:nvSpPr>
          <p:cNvPr id="2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192320"/>
            <a:ext cx="8305920" cy="48276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tmann KE, Hall SA, Nanda K, et al. Screening for Cervical Cancer. Systematic Evidence Review No. 25 (Prepared by the Research Triangle Institute/University of North Carolina under Contract No. 290-97-0011, Task Order No. 3). Rockville, MD: Agency for Health Care Research and Quality; January 2002. www.ncbi.nlm.nih.gov/books/NBK42831. </a:t>
            </a:r>
            <a:endParaRPr b="0" lang="en-US" sz="1900" spc="-1" strike="noStrike">
              <a:solidFill>
                <a:srgbClr val="ffffff"/>
              </a:solidFill>
              <a:latin typeface="Trebuchet MS"/>
            </a:endParaRPr>
          </a:p>
          <a:p>
            <a:pPr marL="291960" indent="-291960">
              <a:lnSpc>
                <a:spcPct val="100000"/>
              </a:lnSpc>
              <a:spcBef>
                <a:spcPts val="6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900" spc="-1" strike="noStrike">
                <a:solidFill>
                  <a:srgbClr val="ffffff"/>
                </a:solidFill>
                <a:latin typeface="Trebuchet MS"/>
                <a:ea typeface="Arial"/>
              </a:rPr>
              <a:t>. </a:t>
            </a:r>
            <a:r>
              <a:rPr b="0" lang="en-US" sz="1900" spc="-1" strike="noStrike">
                <a:solidFill>
                  <a:srgbClr val="ffffff"/>
                </a:solidFill>
                <a:latin typeface="Trebuchet MS"/>
              </a:rPr>
              <a:t>AHRQ Publication No. 12-EHC017. www.effectivehealthcare.ahrq.gov/medtestsguide.cfm.</a:t>
            </a:r>
            <a:endParaRPr b="0" lang="en-US" sz="1900" spc="-1" strike="noStrike">
              <a:solidFill>
                <a:srgbClr val="ffffff"/>
              </a:solidFill>
              <a:latin typeface="Trebuchet MS"/>
            </a:endParaRPr>
          </a:p>
        </p:txBody>
      </p:sp>
      <p:sp>
        <p:nvSpPr>
          <p:cNvPr id="2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tmann KE, Nanda K, Hall S, et al. Technologic advances for evaluation of cervical cytology: is newer better? Obstet Gynecol Surv. 2001 Dec;56(12):765-74. PMID: 11753179.</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utchinson ML, Zahniser DJ, Sherman ME, et al. Utility of liquid-based cytology for cervical carcinoma screening: results of a population-based study conducted in a region of Costa Rica with a high incidence of cervical carcinoma. Cancer. 1999 Apr;87(2):48-55. PMID: 10227593.</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cCrory DC, Matchar DB, Bastian L, et al. Evaluation of Cervical Cytology. Evidence Report/Technology Assessment No. 5 (Prepared by the Duke University Evidence-based Practice Center under Contract No. 290-07-0014. Rockville, MD: Agency for Health Care Policy and Research; January 1999. AHCPR Publication No. 99-E010. www.ncbi.nlm.nih.govbooks/NBK11840.</a:t>
            </a:r>
            <a:endParaRPr b="0" lang="en-US" sz="1900" spc="-1" strike="noStrike">
              <a:solidFill>
                <a:srgbClr val="ffffff"/>
              </a:solidFill>
              <a:latin typeface="Trebuchet MS"/>
            </a:endParaRPr>
          </a:p>
        </p:txBody>
      </p:sp>
      <p:sp>
        <p:nvSpPr>
          <p:cNvPr id="2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y questions lack clarity.</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udies are not specific to the key question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ests are rapidly evolving.</a:t>
            </a:r>
            <a:endParaRPr b="0" lang="en-US" sz="28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Applicability</a:t>
            </a:r>
            <a:br>
              <a:rPr sz="2800"/>
            </a:br>
            <a:r>
              <a:rPr b="1" lang="en-US" sz="2800" spc="-1" strike="noStrike">
                <a:solidFill>
                  <a:srgbClr val="ffffff"/>
                </a:solidFill>
                <a:latin typeface="Trebuchet MS"/>
              </a:rPr>
              <a:t>(1 of 4) </a:t>
            </a:r>
            <a:endParaRPr b="1" lang="en-US" sz="2800" spc="-1" strike="noStrike">
              <a:solidFill>
                <a:srgbClr val="ffffff"/>
              </a:solidFill>
              <a:latin typeface="Trebuchet MS"/>
            </a:endParaRPr>
          </a:p>
        </p:txBody>
      </p:sp>
      <p:sp>
        <p:nvSpPr>
          <p:cNvPr id="108"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22200"/>
            <a:ext cx="8229600" cy="49500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questions lack clarity </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he test is to be used should be stated clearly in the key questions to avoid confusion among decisionmakers about the management strategy being evaluated.</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Studies comparing the accuracy of one test versus another (i.e., as a replacement), but the new test is actually meant to be a triage/add-on test</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nders the review process (slows inclusion/exclusion decisions)</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ads to inappropriate </a:t>
            </a:r>
            <a:r>
              <a:rPr b="0" lang="ja-JP" sz="2000" spc="-1" strike="noStrike">
                <a:solidFill>
                  <a:srgbClr val="ffffff"/>
                </a:solidFill>
                <a:latin typeface="Trebuchet MS"/>
              </a:rPr>
              <a:t>“</a:t>
            </a:r>
            <a:r>
              <a:rPr b="0" lang="en-US" sz="2000" spc="-1" strike="noStrike">
                <a:solidFill>
                  <a:srgbClr val="ffffff"/>
                </a:solidFill>
                <a:latin typeface="Trebuchet MS"/>
              </a:rPr>
              <a:t>lumping</a:t>
            </a:r>
            <a:r>
              <a:rPr b="0" lang="ja-JP" sz="2000" spc="-1" strike="noStrike">
                <a:solidFill>
                  <a:srgbClr val="ffffff"/>
                </a:solidFill>
                <a:latin typeface="Trebuchet MS"/>
              </a:rPr>
              <a:t>”</a:t>
            </a:r>
            <a:r>
              <a:rPr b="0" lang="en-US" sz="2000" spc="-1" strike="noStrike">
                <a:solidFill>
                  <a:srgbClr val="ffffff"/>
                </a:solidFill>
                <a:latin typeface="Trebuchet MS"/>
              </a:rPr>
              <a:t> and </a:t>
            </a:r>
            <a:r>
              <a:rPr b="0" lang="ja-JP" sz="2000" spc="-1" strike="noStrike">
                <a:solidFill>
                  <a:srgbClr val="ffffff"/>
                </a:solidFill>
                <a:latin typeface="Trebuchet MS"/>
              </a:rPr>
              <a:t>“</a:t>
            </a:r>
            <a:r>
              <a:rPr b="0" lang="en-US" sz="2000" spc="-1" strike="noStrike">
                <a:solidFill>
                  <a:srgbClr val="ffffff"/>
                </a:solidFill>
                <a:latin typeface="Trebuchet MS"/>
              </a:rPr>
              <a:t>splitting</a:t>
            </a:r>
            <a:r>
              <a:rPr b="0" lang="ja-JP" sz="2000" spc="-1" strike="noStrike">
                <a:solidFill>
                  <a:srgbClr val="ffffff"/>
                </a:solidFill>
                <a:latin typeface="Trebuchet MS"/>
              </a:rPr>
              <a:t>”</a:t>
            </a:r>
            <a:r>
              <a:rPr b="0" lang="en-US" sz="2000" spc="-1" strike="noStrike">
                <a:solidFill>
                  <a:srgbClr val="ffffff"/>
                </a:solidFill>
                <a:latin typeface="Trebuchet MS"/>
              </a:rPr>
              <a:t> of groups</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umping subgroups that are fundamentally different can cause a false finding of a difference (type 1 error).</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litting subjects into subgroups without evidence of different effects may reduce power to detect a difference (type II error). </a:t>
            </a:r>
            <a:endParaRPr b="0" lang="en-US" sz="20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Applicability</a:t>
            </a:r>
            <a:br>
              <a:rPr sz="2800"/>
            </a:br>
            <a:r>
              <a:rPr b="1" lang="en-US" sz="2800" spc="-1" strike="noStrike">
                <a:solidFill>
                  <a:srgbClr val="ffffff"/>
                </a:solidFill>
                <a:latin typeface="Trebuchet MS"/>
              </a:rPr>
              <a:t>(2 of 4) </a:t>
            </a:r>
            <a:endParaRPr b="1" lang="en-US" sz="2800" spc="-1" strike="noStrike">
              <a:solidFill>
                <a:srgbClr val="ffffff"/>
              </a:solidFill>
              <a:latin typeface="Trebuchet MS"/>
            </a:endParaRPr>
          </a:p>
        </p:txBody>
      </p:sp>
      <p:sp>
        <p:nvSpPr>
          <p:cNvPr id="111"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are not specific to the key question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udies may not reflect the subgroups or comparisons identified in the key question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need to decide whether the deviation is minor or crucial.</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rucial deviations are those deemed likely to meaningfully affect:</a:t>
            </a:r>
            <a:endParaRPr b="0" lang="en-US" sz="2000" spc="-1" strike="noStrike">
              <a:solidFill>
                <a:srgbClr val="ffffff"/>
              </a:solidFill>
              <a:latin typeface="Trebuchet MS"/>
            </a:endParaRPr>
          </a:p>
          <a:p>
            <a:pPr lvl="3" marL="14986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est performance</a:t>
            </a:r>
            <a:endParaRPr b="0" lang="en-US" sz="2000" spc="-1" strike="noStrike">
              <a:solidFill>
                <a:srgbClr val="ffffff"/>
              </a:solidFill>
              <a:latin typeface="Trebuchet MS"/>
            </a:endParaRPr>
          </a:p>
          <a:p>
            <a:pPr lvl="3" marL="14986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decisionmaking</a:t>
            </a:r>
            <a:endParaRPr b="0" lang="en-US" sz="2000" spc="-1" strike="noStrike">
              <a:solidFill>
                <a:srgbClr val="ffffff"/>
              </a:solidFill>
              <a:latin typeface="Trebuchet MS"/>
            </a:endParaRPr>
          </a:p>
          <a:p>
            <a:pPr lvl="3" marL="14986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alth outcomes</a:t>
            </a:r>
            <a:endParaRPr b="0" lang="en-US" sz="20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Applicability</a:t>
            </a:r>
            <a:br>
              <a:rPr sz="2800"/>
            </a:br>
            <a:r>
              <a:rPr b="1" lang="en-US" sz="2800" spc="-1" strike="noStrike">
                <a:solidFill>
                  <a:srgbClr val="ffffff"/>
                </a:solidFill>
                <a:latin typeface="Trebuchet MS"/>
              </a:rPr>
              <a:t>(3 of 4) </a:t>
            </a:r>
            <a:endParaRPr b="1" lang="en-US" sz="2800" spc="-1" strike="noStrike">
              <a:solidFill>
                <a:srgbClr val="ffffff"/>
              </a:solidFill>
              <a:latin typeface="Trebuchet MS"/>
            </a:endParaRPr>
          </a:p>
        </p:txBody>
      </p:sp>
      <p:sp>
        <p:nvSpPr>
          <p:cNvPr id="114"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s are rapidly evolving and change often.</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literature often references tests that are not yet widely available or no longer common.</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ular trends in use patterns and market forces may shape applicability in unanticipated way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An old test that gives dichotomous, qualitative results (present vs. absent) is replaced by a test that reports a continuous, quantitative measure. </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view the old test as a point of reference for determining the merit of a new test?</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nly use the more limited, newer data from the new test?</a:t>
            </a:r>
            <a:endParaRPr b="0" lang="en-US" sz="20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Applicability</a:t>
            </a:r>
            <a:br>
              <a:rPr sz="2800"/>
            </a:br>
            <a:r>
              <a:rPr b="1" lang="en-US" sz="2800" spc="-1" strike="noStrike">
                <a:solidFill>
                  <a:srgbClr val="ffffff"/>
                </a:solidFill>
                <a:latin typeface="Trebuchet MS"/>
              </a:rPr>
              <a:t>(4 of 4) </a:t>
            </a:r>
            <a:endParaRPr b="1" lang="en-US" sz="2800" spc="-1" strike="noStrike">
              <a:solidFill>
                <a:srgbClr val="ffffff"/>
              </a:solidFill>
              <a:latin typeface="Trebuchet MS"/>
            </a:endParaRPr>
          </a:p>
        </p:txBody>
      </p:sp>
      <p:sp>
        <p:nvSpPr>
          <p:cNvPr id="117"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important contextual facto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 prepared to deal with additional factors affecting applicabilit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Justify decisions to restrict the scope of a review</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intain a transparent process</a:t>
            </a:r>
            <a:endParaRPr b="0" lang="en-US" sz="2400" spc="-1" strike="noStrike">
              <a:solidFill>
                <a:srgbClr val="ffffff"/>
              </a:solidFill>
              <a:latin typeface="Trebuchet MS"/>
            </a:endParaRPr>
          </a:p>
        </p:txBody>
      </p:sp>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s of Assessing Applicability</a:t>
            </a:r>
            <a:endParaRPr b="1" lang="en-US" sz="2800" spc="-1" strike="noStrike">
              <a:solidFill>
                <a:srgbClr val="ffffff"/>
              </a:solidFill>
              <a:latin typeface="Trebuchet MS"/>
            </a:endParaRPr>
          </a:p>
        </p:txBody>
      </p:sp>
      <p:sp>
        <p:nvSpPr>
          <p:cNvPr id="120"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0:57:25Z</dcterms:created>
  <dc:creator>Alex P Vaz</dc:creator>
  <dc:description/>
  <dc:language>en-US</dc:language>
  <cp:lastModifiedBy>Tony Adams</cp:lastModifiedBy>
  <cp:lastPrinted>2012-02-08T21:00:50Z</cp:lastPrinted>
  <dcterms:modified xsi:type="dcterms:W3CDTF">2013-05-30T19:55:25Z</dcterms:modified>
  <cp:revision>299</cp:revision>
  <dc:subject/>
  <dc:title>PowerPoint Presentation</dc:title>
</cp:coreProperties>
</file>