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2B95-700B-4F54-93EB-7B376C8F9E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and Principles for Conducting Systematic Reviews of Genetic Tests Used as Predictive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1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a:t>
            </a:r>
            <a:r>
              <a:rPr b="0" lang="en-US" sz="1200" spc="-1" strike="noStrike">
                <a:solidFill>
                  <a:srgbClr val="000000"/>
                </a:solidFill>
                <a:latin typeface="Calibri"/>
              </a:rPr>
              <a:t> discusses challenges and principles of conducting systematic reviews of genetic tests when used as predictive indicators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3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iotropy occurs when a single gene influences multiple phenotypic traits. For example, the genetic mutation causing Marfan</a:t>
            </a:r>
            <a:r>
              <a:rPr b="0" lang="ja-JP" sz="1200" spc="-1" strike="noStrike">
                <a:solidFill>
                  <a:srgbClr val="000000"/>
                </a:solidFill>
                <a:latin typeface="Calibri"/>
              </a:rPr>
              <a:t>’</a:t>
            </a:r>
            <a:r>
              <a:rPr b="0" lang="en-US" sz="1200" spc="-1" strike="noStrike">
                <a:solidFill>
                  <a:srgbClr val="000000"/>
                </a:solidFill>
                <a:latin typeface="Calibri"/>
              </a:rPr>
              <a:t>s syndrome results in cardiovascular, skeletal, and ophthalmologic abnormalities. Similarly, </a:t>
            </a:r>
            <a:r>
              <a:rPr b="0" i="1" lang="en-US" sz="1200" spc="-1" strike="noStrike">
                <a:solidFill>
                  <a:srgbClr val="000000"/>
                </a:solidFill>
                <a:latin typeface="Calibri"/>
              </a:rPr>
              <a:t>BRCA1</a:t>
            </a:r>
            <a:r>
              <a:rPr b="0" lang="en-US" sz="1200" spc="-1" strike="noStrike">
                <a:solidFill>
                  <a:srgbClr val="000000"/>
                </a:solidFill>
                <a:latin typeface="Calibri"/>
              </a:rPr>
              <a:t> and </a:t>
            </a:r>
            <a:r>
              <a:rPr b="0" i="1" lang="en-US" sz="1200" spc="-1" strike="noStrike">
                <a:solidFill>
                  <a:srgbClr val="000000"/>
                </a:solidFill>
                <a:latin typeface="Calibri"/>
              </a:rPr>
              <a:t>BRCA2</a:t>
            </a:r>
            <a:r>
              <a:rPr b="0" lang="en-US" sz="1200" spc="-1" strike="noStrike">
                <a:solidFill>
                  <a:srgbClr val="000000"/>
                </a:solidFill>
                <a:latin typeface="Calibri"/>
              </a:rPr>
              <a:t> mutations can increase the risk of a number of cancer types including breast, ovarian, prostate, and skin (i.e., melan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4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lag between genetic testing and clinically important events should be assessed. It is important to consider whether the duration of studies and follow-up are sufficient to characterize the relationship between positive tests and clinical outcomes. Additionally, it should be determined whether or not subjects have reached the age beyond which clinical expression would be lik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5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challenge is that direct evidence for the impact of the test results on health outcomes is often lacking. The evidence base may often be too limited in scope to evaluate the clinical utility of the test. In addition, it is often difficult to find published information on various aspects of genetic tests, especially data related to analytic val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tests also have a number of technical issues that are particularly relevant to assessing their analytic validity. These technical issues may differ according to the type of genetic test and may influence the interpretation of a genetic test result. Technical issues may also differ depending on the specimen being tested. For example, there are different considerations when assessing tumor genomes as opposed to human gen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6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hallenges arise when attempting to use genetic tests to determine susceptibility or risk in asymptomatic individuals. The utility of such tests may depend on the ability of respondents, such as the patient or his or her relatives, to report and identify certain clinical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tatistical issues must be taken into account when evaluating studies of genetic tests. For example, genetic test results are often derived from analytically complex studies that have undergone a very large number of statistical tests, creating a high risk of type I error (e.g., a spurious association is deemed signifi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will discuss the eight principles used to address the challenges of conducting systematic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ight principles to consider when addressing these challenges. These are: use of an organizing framework; develop an analytic framework that reflects the predictive nature of genetic tests and incorporates appropriate outcomes; search appropriate databases; consult with experts on technical issues that need to be addressed; distinguish between functional and DNA-based assays; evaluate case-control studies for selection bias; determine the added value of the genetic test over existing approaches; and understand statistical issues that relate to the genetic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04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an Organizing Framework Appropriate for Genetic Test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principle recommends using an organizing framework that is appropriate for genetic tests to set up the review. These frameworks will often be different for acquired mutation testing, such as tumor gene expression, versus hereditary genetic testing for mutations or genomic profiles, since acquired mutation testing generally requires extra information. Organizing frameworks for evaluating genetic tests have been developed by the United States Preventive Services Task Force (USPSTF), the Centers for Disease Control and Prevention (CDC), and the Evaluation of Genomic Applications in Practice and Prevention (EGAPP). The ACCE model was developed through a CDC-sponsored project and is the model endorsed by EGAPP. It applies the following criteria: (1) </a:t>
            </a:r>
            <a:r>
              <a:rPr b="1" lang="en-US" sz="900" spc="-1" strike="noStrike">
                <a:solidFill>
                  <a:srgbClr val="000000"/>
                </a:solidFill>
                <a:latin typeface="Calibri"/>
              </a:rPr>
              <a:t>a</a:t>
            </a:r>
            <a:r>
              <a:rPr b="0" lang="en-US" sz="900" spc="-1" strike="noStrike">
                <a:solidFill>
                  <a:srgbClr val="000000"/>
                </a:solidFill>
                <a:latin typeface="Calibri"/>
              </a:rPr>
              <a:t>nalytic validity (technical accuracy and reliability); (2) </a:t>
            </a:r>
            <a:r>
              <a:rPr b="1" lang="en-US" sz="900" spc="-1" strike="noStrike">
                <a:solidFill>
                  <a:srgbClr val="000000"/>
                </a:solidFill>
                <a:latin typeface="Calibri"/>
              </a:rPr>
              <a:t>c</a:t>
            </a:r>
            <a:r>
              <a:rPr b="0" lang="en-US" sz="900" spc="-1" strike="noStrike">
                <a:solidFill>
                  <a:srgbClr val="000000"/>
                </a:solidFill>
                <a:latin typeface="Calibri"/>
              </a:rPr>
              <a:t>linical validity (ability to detect or predict an outcome, disorder, or phenotype); (3) </a:t>
            </a:r>
            <a:r>
              <a:rPr b="1" lang="en-US" sz="900" spc="-1" strike="noStrike">
                <a:solidFill>
                  <a:srgbClr val="000000"/>
                </a:solidFill>
                <a:latin typeface="Calibri"/>
              </a:rPr>
              <a:t>c</a:t>
            </a:r>
            <a:r>
              <a:rPr b="0" lang="en-US" sz="900" spc="-1" strike="noStrike">
                <a:solidFill>
                  <a:srgbClr val="000000"/>
                </a:solidFill>
                <a:latin typeface="Calibri"/>
              </a:rPr>
              <a:t>linical utility (whether use of the test to direct clinical management improves patient outcomes); and (4) </a:t>
            </a:r>
            <a:r>
              <a:rPr b="1" lang="en-US" sz="900" spc="-1" strike="noStrike">
                <a:solidFill>
                  <a:srgbClr val="000000"/>
                </a:solidFill>
                <a:latin typeface="Calibri"/>
              </a:rPr>
              <a:t>e</a:t>
            </a:r>
            <a:r>
              <a:rPr b="0" lang="en-US" sz="900" spc="-1" strike="noStrike">
                <a:solidFill>
                  <a:srgbClr val="000000"/>
                </a:solidFill>
                <a:latin typeface="Calibri"/>
              </a:rPr>
              <a:t>thical, legal, and social implications. The ACCE model includes a series of 44 questions that are useful to define the scope of a review and to critically appraise studies of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rris RP, Helfand M, Woolf SH, et al; Methods Work Group, Third US Preventive Services Task Force. Current methods of the US Preventive Services Task Force: a review of the process. Am J Prev Med 2001 Apr;20(3 Suppl):21-35. PMID: 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utsch SM, Bradley LA, Palomaki GE, et al. The Evaluation of Genomic Applications in Practice and Prevention (EGAPP) Initiative: methods of the EGAPP Working Group. Genet Med 2009 Jan;11(1):3-14. PMID: 188131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13139</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1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first 17 of the 44 questions in the ACCE model. The 44 questions are useful for analysts in defining the scope of a review, as well as for critically appraising studies of genetic test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4, 9, and 10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second 17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24 and 25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3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last 10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38, 39, 42, 43, and 44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discusses the principles for conducting systematic reviews of genetic tests. At the conclusion of this activity, learners will be able to describe the principles for conducting systematic reviews of genetic tests used as predictive indicators; recognize the utility of organizing frameworks and analytic frameworks; assess the importance of preanalytic, analytic, and postanalytic factors used for evaluating genetic tests; and understand important statistical and bias issues involved with predictive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velop an appropriate analytic framework, it is necessary to clearly define the Key Questions, understand the needs of the decisionmakers, and understand the test context. Reviewers must also consider how the test is used. Is it used to determine the future risk of disease in asymptomatic individuals? Does it establish prognostic information that will influence treatment decisions? Does it predict a response that shows a treatment to be effective or harmful? Or, is it used for some other purpose? Clarifying whether the patient genome or tumor genome is being used in the genetic test is also important. Lastl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should be clearly described because it will inform the development of the analytic framework and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2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tructing an analytic framework, it may be useful to consider preanalytic, analytic, and postanalytic factors that are particularly applicable to genetic tests (described later in this module), as well as the key outcomes of interest. Analytic frameworks should incorporate the factors and outcomes of greatest interest to decisionmakers. The figure in this slide represents a generic analytic framework that incorporates these factors and outcomes that can be modified as necessary for various sit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analytic framework on the previous slide also indicated potential harms of genetic testing in the outcomes. These harms include potential effects on family members, psychological distress, and stigmatization/discrimination due to the test results, particularly those test results that predict a high probability of disease and especially if no preventive or ameliorative measures exist to treat it. The potential for these harms is affected by two main factors, which particularly influence if and how other family members could be affected. The first factor is whether the test is for an inherited versus an acquired mutation or variation, and the second factor is whether the condition being tested is multifactorial or if it follows classic Mendelian inheritance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4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mportant outcomes to consider include, but are not limited to, cost, quality of life, long-term morbidity, and indirect impact. Genetic tests may also have an impact on decisions that are difficult to measure, yet very important, such as decisions regarding pregnancy. Depending on the context, the impact of genetic testing on family members may be important, particularly in cases that involve testing for heritable conditions. One approach to including family members in the analytic framework is illustrated on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5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ic analytic framework includes a branch with outcomes for family members of the individual being t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Search Databases Appropriate for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main searches for literature using databases such as PubMed</a:t>
            </a:r>
            <a:r>
              <a:rPr b="0" lang="en-US" sz="1100" spc="-1" strike="noStrike" baseline="30000">
                <a:solidFill>
                  <a:srgbClr val="000000"/>
                </a:solidFill>
                <a:latin typeface="Calibri"/>
                <a:ea typeface="Arial"/>
              </a:rPr>
              <a:t>®</a:t>
            </a:r>
            <a:r>
              <a:rPr b="0" lang="en-US" sz="1100" spc="-1" strike="noStrike">
                <a:solidFill>
                  <a:srgbClr val="000000"/>
                </a:solidFill>
                <a:latin typeface="Calibri"/>
              </a:rPr>
              <a:t>, there are several other sources of information that are particularly relevant to genetic tests. One of these sources is the Human Genome Epidemiology Network or HuGE Net. Its Web site includes many meta-analyses of genetic association studies and a source called the HuGE Navigator that can identify all types of available studies related to a genetic test. Also useful are gray literature sources, which include test package inserts approved by the U.S. Food and Drug Administration (FDA). These inserts include summaries of the analytic validity data that were used during the FDA approval process, and they are available on the FDA Web site and that of the test manufacturer. The FDA Web site contains additional information on genetic test data in the section for its Center for Devices and Radiological Healt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houry MJ, Dorman JS. The Human Genome Epidemiology Network. Am J Epidemiol 1998 Jul 1;148(1):1-3. PMID: 966339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9663396</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040"/>
            <a:ext cx="5486400" cy="426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3: Search Databases Appropriate for Genetic Tests (2 of 2)</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the case where there are no published data on the analytic validity of a genetic test, the external proficiency testing program carried out jointly by the American College of Medical Genetics and the College of American Pathologists (CAP) can be useful in establishing the degree of laboratory-to-laboratory variability, as well as some sense of reproducibility. Other potentially useful sources of unpublished data include conference publications from professional societies (such as the CAP), the GeneTests Web site, the Association for Molecular Pathology Web site, Centers for Disease Control and Prevention programs (such as the Genetic Testing Reference Materials Coordination Program and the Newborn Screening Quality Assurance Program), and international proficiency testing programs. An Agency for Heathcare Research and Quality </a:t>
            </a:r>
            <a:r>
              <a:rPr b="0" lang="ja-JP" sz="700" spc="-1" strike="noStrike">
                <a:solidFill>
                  <a:srgbClr val="000000"/>
                </a:solidFill>
                <a:latin typeface="Calibri"/>
              </a:rPr>
              <a:t>“</a:t>
            </a:r>
            <a:r>
              <a:rPr b="0" lang="en-US" sz="700" spc="-1" strike="noStrike">
                <a:solidFill>
                  <a:srgbClr val="000000"/>
                </a:solidFill>
                <a:latin typeface="Calibri"/>
              </a:rPr>
              <a:t>horizon scan</a:t>
            </a:r>
            <a:r>
              <a:rPr b="0" lang="ja-JP" sz="700" spc="-1" strike="noStrike">
                <a:solidFill>
                  <a:srgbClr val="000000"/>
                </a:solidFill>
                <a:latin typeface="Calibri"/>
              </a:rPr>
              <a:t>”</a:t>
            </a:r>
            <a:r>
              <a:rPr b="0" lang="en-US" sz="700" spc="-1" strike="noStrike">
                <a:solidFill>
                  <a:srgbClr val="000000"/>
                </a:solidFill>
                <a:latin typeface="Calibri"/>
              </a:rPr>
              <a:t> found two databases—the LexisNexis</a:t>
            </a:r>
            <a:r>
              <a:rPr b="0" lang="en-US" sz="700" spc="-1" strike="noStrike" baseline="30000">
                <a:solidFill>
                  <a:srgbClr val="000000"/>
                </a:solidFill>
                <a:latin typeface="Calibri"/>
              </a:rPr>
              <a:t>®</a:t>
            </a:r>
            <a:r>
              <a:rPr b="0" lang="en-US" sz="700" spc="-1" strike="noStrike">
                <a:solidFill>
                  <a:srgbClr val="000000"/>
                </a:solidFill>
                <a:latin typeface="Calibri"/>
              </a:rPr>
              <a:t> publication database and Cambridge Healthtech Institute Web site—that had high utility in identifying genetic tests in development for clinical cancer care. These latter two sources focus mostly on data from testing for an acquired mutation, as opposed to testing for a hereditary mutation.</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in KM, Wessler B, Chew P, et al. Genetic Tests for Cancer. Technology Assessment (Prepared by the Tufts</a:t>
            </a:r>
            <a:r>
              <a:rPr b="0" lang="en-US" sz="700" spc="-1" strike="noStrike">
                <a:solidFill>
                  <a:srgbClr val="000000"/>
                </a:solidFill>
                <a:latin typeface="Arial"/>
                <a:ea typeface="Arial"/>
              </a:rPr>
              <a:t>–New England Medical Center Evidence-based Practice Center under Contract No. 290-02-0022)</a:t>
            </a:r>
            <a:r>
              <a:rPr b="0" lang="en-US" sz="700" spc="-1" strike="noStrike">
                <a:solidFill>
                  <a:srgbClr val="000000"/>
                </a:solidFill>
                <a:latin typeface="Calibri"/>
              </a:rPr>
              <a:t>. Rockville, MD: Agency for Healthcare Research and Quality; January 200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vailable at www.archive.ahrq.gov/clinic/ta/gentests/gentests.pdf.</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Bradley LA, Richards CS, et al. Analytic validity of cystic fibrosis testing: a preliminary estimate. Genet Med 2003 Jan-Feb;5(1):15-20. PMID: 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Updated assessment of cystic fibrosis mutation frequencies in non-Hispanic Caucasians. Genet Med 2002 Mar-Apr;4(2):90-4. PMID: 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Estimated analytic validity of HFE C282Y mutation testing in population screening: the potential value of confirmatory testing. Genet Med 2003 Nov-Dec;5(6):440-3. PMID: 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7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4: Consult With Experts To Determine Which Technical Issues Are Important in Assessing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a number of technical issues related to analytic validity that can influence the interpretation of a genetic test result, including preanalytic, analytic, and postanalytic factors. Comparative effectiveness review teams should include or consult with molecular pathologists, geneticists, or others familiar with the issues related to the process of performing and reporting genetic tests to determine which of these technical issues are pertinent for a given review. In general, preanalytic steps are those involved in obtaining, fixing or preserving, and storing samples before staining and analysis. Analytic variables include the type of assay chosen and its reliability, the type of sample, the methods being used, et cetera. Postanalytic factors relate to the complexity of interpreting the test result, variability from laboratory to laboratory, and quality control.</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099</a:t>
            </a:r>
            <a:endParaRPr b="0" lang="en-U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for Assessing Preanalytic, Analytic, and Postanalytic Factors for Evaluating Predictive Genetic Te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is table, questions are grouped by the three elements</a:t>
            </a:r>
            <a:r>
              <a:rPr b="0" lang="en-US" sz="1100" spc="-1" strike="noStrike">
                <a:solidFill>
                  <a:srgbClr val="000000"/>
                </a:solidFill>
                <a:latin typeface="Arial"/>
                <a:ea typeface="Arial"/>
              </a:rPr>
              <a:t>—</a:t>
            </a:r>
            <a:r>
              <a:rPr b="0" lang="en-US" sz="1100" spc="-1" strike="noStrike">
                <a:solidFill>
                  <a:srgbClr val="000000"/>
                </a:solidFill>
                <a:latin typeface="Calibri"/>
              </a:rPr>
              <a:t>preanalytic, analytic, and postanalytic. These questions can be used to help determine which factors are relevant to the genetic test under evaluation and are also helpful in developing the analytic framework.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181099</a:t>
            </a:r>
            <a:endParaRPr b="0" lang="en-US" sz="11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5: Distinguish Between Functional Assays and DNA-Based Assays To Determine Important Technical Issues (1 of 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udies may use either functional assays or DNA-based assays, each of which has its own specific set of technical issu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ctional assays measure a substrate or product of a metabolic process affected by a particular genetic polymorphism. These assays may have the advantage of showing potentially more important information than the presence of the genetic polymorphism itself; however, they may be affected by a number of factors. A variety of unmeasured environmental factors, other genetic polymorphisms, and various disease states may influence the results of functional assays. Additionally, functional assays that measure enzyme activity are performed at a single point in time. Depending on the enzyme and polymorphism being evaluated, the variation in enzyme activity over time should be considered in any critical appraisa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ckton N, Little J, Sharp L, et al. N-acetyltransferase polymorphisms and colorectal cancer: a HuGE review. Am J Epidemiol 2000 May 1;151(9):846-61. PMID: 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rico A, Malats N, Vineis P, et al. Review of studies of selected metabolic polymorphisms and cancer. IARC Sci Publ 1999;(148):323-93. PMID: 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181099</a:t>
            </a:r>
            <a:endParaRPr b="0" lang="en-US" sz="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ain sections are covered in this module. The first section gives a brief background on genetic tests. The second section covers challenges that are particular to writing systematic reviews of genetic tests. The third section covers the eight principles used to address these challenges. Finally, the module ends with three illustrative examples of real-world reviews of genetic tests and how the auth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5: Distinguish Between Functional Assays and DNA-Based Assays To Determine Important Technical Issues (2 of 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other category is that of DNA-based assays, which analyze the DNA itself rather than its products or effects. A variety of DNA sample sources are available, such as blood, cheek swabs, and hair. It can be more difficult to isolate DNA from tissues than from blood, particularly if the tissues have been preserved in paraffin or formalin. In some studies, different DNA sources are used between cases and controls, introducing potential measurement bias from differences in the ease of technique and test accuracy.</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le KB, Ford AM, Repp R, et al. Backtracking leukemia to birth: identification of clonotypic gene fusion sequences in neonatal blood spots. Proc Natl Acad Sci USA 1997 Dec;94(25):13950-4. PMID: 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rcia-Closas M, Egan KM, Abruzzo J, et al. Collection of genomic DNA from adults in epidemiological studies by buccal cytobrush and mouthwash. Cancer Epidemiol Biomarkers Prev 2001 Jun;10(6):687-96. PMID: 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rty LC, Shields PG, Winn DM, et al. Self-collection of oral epithelial cell DNA under instruction from epidemiologic interviewers. Am J Epidemiol 2000 Jan 15;151(2):199-205. PMID: 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alker AH, Najarian D, White DL, et al. Collection of genomic DNA by buccal swabs for polymerase chain reaction-based biomarker assays. Environ Health Perspect 1999 Jul;107(7):517-20. PMID: 1037899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Yang M, Hendrie HC, Hall KS, et al. Improved procedure for eluting DNA from dried blood spots. Clin Chem 1996 Jul;42(7):1115-6. PMID: 867420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8674202</a:t>
            </a:r>
            <a:endParaRPr b="0" lang="en-US" sz="7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Distinguish Between Functional Assays and DNA-Based Assays To Determine Important Technical Issue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cting DNA from tumors in oncology studies may raise additional issues that influence analytic validity, including the quantity of tissue, admixture of normal and cancerous tissue, amount of necrosis, timing of collection, and storage technique (e.g., fresh, frozen, paraffin, formalin). When evaluating DNA-based molecular tests, the complexity of the test method, laboratory-to­-laboratory variability, and quality control should be ass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81099</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6: Evaluate Case-Control Studies Carefully for Potential Selection Bia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etermine whether cases and controls were selected from the same source population for genetic studies, geographic location is not enough. Matching for ethnicity/race or ancestry is important, because the frequencies of DNA polymorphisms vary from population to population. This is called population stratification. In many case-control studies, the controls do not represent the population from which the cases were taken. In general, only nested case-control studies could have low enough potential for selection bias to provide reliable informat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otto LD, Yang Q. 5,10-Methylenetetrahydrofolate reductase gene variants and congenital anomalies: a HuGE review. Am J Epidemiol 2000 May 1;151(9):862-77. PMID: 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rockton N, Little J, Sharp L, et al. N-acetyltransferase polymorphisms and colorectal cancer: a HuGE review. Am J Epidemiol 2000 May 1;151(9):846-61. PMID: 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tton SC, Sharp L, Little J, et al. Glutathione S-transferase polymorphisms and colorectal cancer: a HuGE review. Am J Epidemiol 2000 Jan 1;151(1):7-32. PMID: 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orman JS, Bunker CH. HLA-DQ locus of the human leukocyte antigen complex and type 1 diabetes mellitus: a HuGE review. Epidemiol Rev 2000;22(2):218-27. PMID: 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7: Determine the Added Value of the Genetic Test Over Existing Risk Assessment Approach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scenarios where clinical factors associated with risk assessment or susceptibility are already well characterized, reviewers should determine the value of these factors both alone and with the genetic test. For example, age, sex, smoking, hypertension, diabetes, and cholesterol are all well-established risk factors for cardiovascular disease. Risk stratification of individuals to determine cholesterol-lowering targets is based on these factors. Assessment of newly identified polymorphisms—such as those described on chromosome 9p21—that may confer increased risk of cardiovascular disease and have potential implications for medical interventions should be evaluated in the context of these known risk factors. In this scenario, investigators should determine the added value of testing for polymorphisms of chromosome 9p21 in addition to known clinical risk facto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hunkert H, Gotz A, Braund P, et al; Cardiogenics Consortium. Repeated replication and a prospective meta-analysis of the association between chromosome 9p21.3 and coronary artery disease. Circulation 2008 Apr 1;117(13):1675-84. PMID: 1836223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362232</a:t>
            </a:r>
            <a:endParaRPr b="0" lang="en-US" sz="8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8: Understand Statistical Issues of Particular Relevance to Genetic Tes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population genetics, most allele distributions follow a usual distribution, known as Hardy-Weinberg equilibrium (HWE). Genetic association studies should generally report whether the frequencies of the alleles being evaluated follow HWE. There are a number of reasons that distributions may deviate from HWE, including new mutations, selection, migration, genetic drift, and inbreeding.</a:t>
            </a:r>
            <a:r>
              <a:rPr b="0" lang="en-US" sz="900" spc="-1" strike="noStrike" baseline="30000">
                <a:solidFill>
                  <a:srgbClr val="000000"/>
                </a:solidFill>
                <a:latin typeface="Calibri"/>
              </a:rPr>
              <a:t> </a:t>
            </a:r>
            <a:r>
              <a:rPr b="0" lang="en-US" sz="900" spc="-1" strike="noStrike">
                <a:solidFill>
                  <a:srgbClr val="000000"/>
                </a:solidFill>
                <a:latin typeface="Calibri"/>
              </a:rPr>
              <a:t>In addition, when numerous polymorphisms are tested for associations with diseases or outcomes, as in many genome-wide association studies, many of them (5%) will deviate from HWE based on chance alone (related to multiple testings). Although it is not specific and possibly not sensitive, deviation from HWE may be a clue to bias and genotyping error. A more detailed discussion of this topic as it relates to genetic association studies has been published elsewher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A: Background concepts. JAMA 2009 Jan 7;301(1):74-81. PMID: 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41767</a:t>
            </a:r>
            <a:endParaRPr b="0" lang="en-U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8: Understand Statistical Issues of Particular Relevance to Genetic Test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assess whether sample size calculations appropriately accounted for the number of variant alleles and the prevalence of variants in the population of interest. This is particularly relevant for pharmacogenomic studies evaluating the functional relevance of genetic polymorphisms. Such studies often enroll an insufficient number of subjects to account for the number of variant alleles and the prevalence of variants in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JA, Johnson K, Paulauskis J, et al. So many studies, too few subjects: establishing functional relevance of genetic polymorphisms on pharmacokinetics. J Clin Pharmacol 2006 Mar;46(3):258-64. PMID: 164908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490801</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8: Understand Statistical Issues of Particular Relevance to Genetic Tests (3 of 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enetic test results are sometimes derived from analytically complex studies that have undergone a very large number of statistical tests. These may be in the form of genome-wide association studies searching for associations between a huge number of genetic polymorphisms and health conditions. These studies should generally be used to generate hypotheses rather than to test hypotheses or to confirm cause-effect relationships. To minimize potential confounding and publication bias, reviewers should ensure that associations have been validated in multiple studies. In addition, reviewers should note whether appropriate adjustments for multiple comparisons were used. When a genetic mutation associated with increased disease risk is present, evaluating potential causality can be difficult because many other factors may influence associations. These include environmental exposures, behaviors, and other genes. Many genetic variants identified that are thought to influence susceptibility to diseases are eventually found to be associated with low relative and absolute risk.</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poraso N. Selection of candidate genes for population studies. IARC Sci Publ 1999;(148):23-36. PMID: 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oggart CJ, Clark TG, De Iorio M, et al. Genome-wide significance for dense SNP and resequencing data. Genet Epidemiol 2008 Feb;32(2):179-85. PMID: 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cCarthy MI, Abecasis GR, Cardon LR, et al. Genome-wide association studies for complex traits: consensus, uncertainty and challenges. Nat Rev Genet 2008 May;9(5):356-69. PMID: 1839841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398418</a:t>
            </a:r>
            <a:endParaRPr b="0" lang="en-US" sz="7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8: Understand Statistical Issues of Particular Relevance to Genetic Tests (4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the degree possible, investigators should identify overlapping data sets and avoid double-counting. For example, genome-wide association studies or other large collaborative efforts may pool samples of patients that were previously included in other published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important to understand that a tumor genome may be in a dynamic state. In addition, tumor specimens will often contain normal cells from the patient. The characteristics of the specimen will influence the sensitivity and operating characteristics of the test. Tests with greater sensitivity may be required when specimens contain both normal cells and tumor cell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2181099</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are three brief examples of real-world reviews of genetic tests and how the investigat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1: Cytochrome P450 Testing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illustration of the concepts in this module centers on a review of genetic testing for cytochrome P450 polymorphisms in adults with depression. The genotype testing was intended to look at drug efficacy and potential adverse reactions in patients who are treated with selective serotonin reuptake inhibitors (SSRIs). To explore the chain of evidence leading to intermediate outcomes, an analytic framework and five corresponding Key Questions were developed. Because the authors were unable to find prospective studies with clinical outcomes that used genotyping to guide treatment, they created a chain of questions. These questions assessed whether the available indirect evidence was sufficient to answer their overall questions regarding cytochrome P450 testing and clinical outcomes. This was done by evaluating the links between genotype and metabolism of SSRIs (phenotype), metabolism and SSRI efficacy, and metabolism and adverse drug reactions to SSRI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ction presents background information on genetics tests and their 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1: Cytochrome P450 Testing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the analytic framework created to assess the evidence on cytochrome P450 genotyping of patients receiving a selective serotonin reuptake inhibitor (SSRI) to treat their depression. Note that the circled numbers represent the five Key Questions addressed by the review. These questions addressed the links between genotype and metabolism of SSRIs (phenotype), metabolism and SSRI efficacy, and metabolism and adverse drug reactions to SSR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1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2: HER2 Test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essment of human epidermal growth factor receptor 2 (HER2) status is used to manage patients with breast cancer and other solid tumors. There are a number of challenges in conducting a definitive evaluation of preanalytic, analytic, and postanalytic factors when there is substantial heterogeneity or lack of available information related to the methods of testing. In this case, HER2 assays only recently had been standardized; therefore, the effects of the widely varying test methods used by laboratories before standardization could not be isolated for the review. The reviewers chose to address this challenge by providing a narrative review for their first Key Question, which was </a:t>
            </a:r>
            <a:r>
              <a:rPr b="0" lang="ja-JP" sz="1000" spc="-1" strike="noStrike">
                <a:solidFill>
                  <a:srgbClr val="000000"/>
                </a:solidFill>
                <a:latin typeface="Calibri"/>
              </a:rPr>
              <a:t>“</a:t>
            </a:r>
            <a:r>
              <a:rPr b="0" lang="en-US" sz="1000" spc="-1" strike="noStrike">
                <a:solidFill>
                  <a:srgbClr val="000000"/>
                </a:solidFill>
                <a:latin typeface="Calibri"/>
              </a:rPr>
              <a:t>What is the evidence on concordance and discrepancy rates for methods (such as fluorescence in situ hybridization, immunohistochemistry, etc.) used to analyze HER2 status in breast tumor tissue?</a:t>
            </a:r>
            <a:r>
              <a:rPr b="0" lang="ja-JP"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findings/evidence-based-reports/her2-evidence-report.pdf.</a:t>
            </a:r>
            <a:endParaRPr b="0" lang="en-US" sz="10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3: BRCA Testing (1 of 2)</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example is a review of genetic risk assessment and testing for the BRCA mutation. It shows the importance of accurately determining family history. This key preanalytic factor has an important influence on analytic validity and was used in the analytic framework to classify asymptomatic women into high, moderate, or average categories. Tests for BRCA mutations may be used to predict the risk for breast and ovarian cancer in high-risk women. However, because we do not know all of the genes that contribute to hereditary breast and ovarian cancer and because analytic methods to detect mutations in the known genes are not perfect, population-based testing for hereditary susceptibility to breast and ovarian cancer is currently not an appropriate strategy. Rather, testing based on family history is the paradigm that is recommended to guide the use of BRCA testing. Thus, family history is a genetic/genomics tool that is used to (1) identify people with possible inherited disease susceptibilities, (2) guide genetic testing strategies, (3) help interpret genetic test results, and (4) assess disease risk.</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 Preventive Services Task Force. Genetic risk assessment and BRCA mutation testing for breast and ovarian cancer susceptibility: recommendation statement. Ann Intern Med 2005 Sep 6;143(5):355-61. PMID: 16144894.</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4</a:t>
            </a:r>
            <a:endParaRPr b="0" lang="en-US" sz="9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llustrative Example 3: BRCA Mutation Testing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providers to accurately determine a family history that confers increased risk is a key prerequisite to the utility of BRCA mutation and other predictive genetic tests. It is sometimes difficult for people to accurately recall whether their relatives have a medical condition. Sensitivity and specificity of family history self-reports are important in determining overall usefulness of predictive genetic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144895</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ey Messages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alysts should understand common challenges and should apply the principles for addressing those challenges when conducting systematic reviews of genetic tests that are used as predictive indicators. Key points include the follow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neral principles that apply in evaluating genetic tests are similar to those for other prognostic or predictive tests, but there are differences in how the principles need to be applied or the degree to which certain issues are relevant.</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clear definition of the clinical scenario and an analytic framework is important when evaluating </a:t>
            </a:r>
            <a:r>
              <a:rPr b="0" i="1" lang="en-US" sz="1000" spc="-1" strike="noStrike">
                <a:solidFill>
                  <a:srgbClr val="000000"/>
                </a:solidFill>
                <a:latin typeface="Calibri"/>
              </a:rPr>
              <a:t>any</a:t>
            </a:r>
            <a:r>
              <a:rPr b="0" lang="en-US" sz="1000" spc="-1" strike="noStrike">
                <a:solidFill>
                  <a:srgbClr val="000000"/>
                </a:solidFill>
                <a:latin typeface="Calibri"/>
              </a:rPr>
              <a:t> test, including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ganizing frameworks and analytic frameworks are useful constructs for approaching the evaluation of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constructing an analytic framework for evaluating a genetic test, analysts should consider preanalytic, analytic, and postanalytic factors; such factors are useful when assessing analytic validity.</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dictive genetic tests are generally characterized by a delayed time between testing and clinically important ev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ey Messag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key points a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ding published information on the analytic validity of some genetic tests may be difficult. Web sites (U.S. Food and Drug Administration or diagnostic companies) and gray literature may be important sources.</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ituations where clinical factors associated with risk are well characterized, comparative effectiveness reviews should assess the added value of using genetic testing along with known factors that are compared with using the known factors alone.</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genome-wide association studies, reviewers should determine whether the association has been validated in multiple studies to minimize both potential confounding and publication bias. In addition, reviewers should note whether appropriate adjustments for multiple comparisons were use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ckground: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module focuses on issues of particular interest in evaluating studies of genetic tests for predictive and prognostic, rather than diagnostic, purposes. Three types of genetic tests are discussed. The first type are tests that determine risk or susceptibility in asymptomatic individuals. For example, a test to identify individuals at risk for future health conditions, such as BRCA1 and BRCA2 for breast and ovarian cancer. The second type reveals prognostic information to guide clinical management and treatment in people with a condition. For example, the Oncotype Dx</a:t>
            </a:r>
            <a:r>
              <a:rPr b="0" lang="en-US" sz="1100" spc="-1" strike="noStrike" baseline="30000">
                <a:solidFill>
                  <a:srgbClr val="000000"/>
                </a:solidFill>
                <a:latin typeface="Calibri"/>
              </a:rPr>
              <a:t>®</a:t>
            </a:r>
            <a:r>
              <a:rPr b="0" lang="en-US" sz="1100" spc="-1" strike="noStrike">
                <a:solidFill>
                  <a:srgbClr val="000000"/>
                </a:solidFill>
                <a:latin typeface="Calibri"/>
              </a:rPr>
              <a:t> test evaluates the tumor genome of excised tumors from patients with breast cancer and determines the likelihood of recurrence. The third type of test predicts response to treatments or environmental factors including diet (also referred to as nutrigenomics), drugs (also referred to as pharmacogenomics), infectious agents, chemicals, physical agents, and behavioral factors. A pharmacogenomics example would be CYP2C9 and VKORC1 tests to inform warfarin dosing.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3 (2 of 2)</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11)</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11)</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11)</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11)</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11)</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11)</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1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Genetic Test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ditary genetic tests are different from other medical tests in their relationship to the outcomes measured. Reviewers need to take into account the penetrance of the disease, time lag to outcomes, variable expressivity, and pleiotropy. These particular aspects of genetic tests result in specific actions at various stages of planning and performing the systematic review. Some of the terms described above (penetrance, variable expressivity, and pleiotropy) are generally used to describe single-gene disorders. Single-gene disorders are the result of a single mutated gene and may be passed on to subsequent generations in various well-described ways (i.e., autosomal dominant, autosomal recessive, X-linked). Polygenic disorders are the result of the combined action of more than one gene and are not inherited by simple Mendelian patterns. Some examples include heart disease and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11)</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11)</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0 of 11)</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1 of 1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covers challenges that are particular to writing systematic reviews of genetic tests. We begin with a review of concepts that are unique to genetic tests and the challenges they pose. Then we will review additional challenges to performing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in Reviews of Genetic Tests (1 of 6)</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valuations of predictive genetic tests should always consider penetrance, which is defined as </a:t>
            </a:r>
            <a:r>
              <a:rPr b="0" lang="ja-JP" sz="900" spc="-1" strike="noStrike">
                <a:solidFill>
                  <a:srgbClr val="000000"/>
                </a:solidFill>
                <a:latin typeface="Calibri"/>
              </a:rPr>
              <a:t>“</a:t>
            </a:r>
            <a:r>
              <a:rPr b="0" lang="en-US" sz="900" spc="-1" strike="noStrike">
                <a:solidFill>
                  <a:srgbClr val="000000"/>
                </a:solidFill>
                <a:latin typeface="Calibri"/>
              </a:rPr>
              <a:t>the proportion of people with a particular genetic change who exhibit signs and symptoms of a disorder.</a:t>
            </a:r>
            <a:r>
              <a:rPr b="0" lang="ja-JP" sz="900" spc="-1" strike="noStrike">
                <a:solidFill>
                  <a:srgbClr val="000000"/>
                </a:solidFill>
                <a:latin typeface="Calibri"/>
              </a:rPr>
              <a:t>”</a:t>
            </a:r>
            <a:r>
              <a:rPr b="0" lang="en-US" sz="900" spc="-1" strike="noStrike">
                <a:solidFill>
                  <a:srgbClr val="000000"/>
                </a:solidFill>
                <a:latin typeface="Calibri"/>
              </a:rPr>
              <a:t> Penetrance is a key factor in determining the future risk of developing disease and assessing the overall clinical utility of predictive genetic tests. Sufficient data to determine precise estimates of penetrance are sometimes lacking. This can be due to the lack of reliable prevalence data or a lack of long-term outcomes data. In such cases, determining the overall clinical utility of a genetic test is difficult.</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lock EP, Garlitz BA, Harris EL, et al. Screening for hereditary hemochromatosis: a systematic review for the U.S. Preventive Services Task Force. Ann Intern Med 2006 Aug 1;145(3):209-23. PMID: 16880463.</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880463</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2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le expressivity refers to the range of severity of the signs and symptoms that can occur in different people with the same condition. For example, the features of hemochromatosis vary widely. Some individuals have mild symptoms, while others experience life-threatening complications such as liver failure. The degree of expressivity should be considered in the evaluation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3000"/>
            <a:ext cx="7734240" cy="1866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in and Principles for Conducting Systematic Reviews of Genetic Tests Used as</a:t>
            </a:r>
            <a:br>
              <a:rPr sz="3200"/>
            </a:br>
            <a:r>
              <a:rPr b="1" lang="en-US" sz="3200" spc="-1" strike="noStrike">
                <a:solidFill>
                  <a:srgbClr val="ffffff"/>
                </a:solidFill>
                <a:latin typeface="Trebuchet MS"/>
              </a:rPr>
              <a:t> Predictive Indicator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eiotrop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a single gene</a:t>
            </a:r>
            <a:r>
              <a:rPr b="0" lang="ja-JP" sz="2600" spc="-1" strike="noStrike">
                <a:solidFill>
                  <a:srgbClr val="ffffff"/>
                </a:solidFill>
                <a:latin typeface="Trebuchet MS"/>
              </a:rPr>
              <a:t>’</a:t>
            </a:r>
            <a:r>
              <a:rPr b="0" lang="en-US" sz="2600" spc="-1" strike="noStrike">
                <a:solidFill>
                  <a:srgbClr val="ffffff"/>
                </a:solidFill>
                <a:latin typeface="Trebuchet MS"/>
              </a:rPr>
              <a:t>s influence on multiple phenotypic traits.</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example, the genetic mutation causing Marfan</a:t>
            </a:r>
            <a:r>
              <a:rPr b="0" lang="ja-JP" sz="2400" spc="-1" strike="noStrike">
                <a:solidFill>
                  <a:srgbClr val="ffffff"/>
                </a:solidFill>
                <a:latin typeface="Trebuchet MS"/>
              </a:rPr>
              <a:t>’</a:t>
            </a:r>
            <a:r>
              <a:rPr b="0" lang="en-US" sz="2400" spc="-1" strike="noStrike">
                <a:solidFill>
                  <a:srgbClr val="ffffff"/>
                </a:solidFill>
                <a:latin typeface="Trebuchet MS"/>
              </a:rPr>
              <a:t>s syndrome results in cardiovascular, skeletal, and ophthalmologic abnormaliti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BRCA1</a:t>
            </a:r>
            <a:r>
              <a:rPr b="0" lang="en-US" sz="2400" spc="-1" strike="noStrike">
                <a:solidFill>
                  <a:srgbClr val="ffffff"/>
                </a:solidFill>
                <a:latin typeface="Trebuchet MS"/>
              </a:rPr>
              <a:t> and </a:t>
            </a:r>
            <a:r>
              <a:rPr b="0" i="1" lang="en-US" sz="2400" spc="-1" strike="noStrike">
                <a:solidFill>
                  <a:srgbClr val="ffffff"/>
                </a:solidFill>
                <a:latin typeface="Trebuchet MS"/>
              </a:rPr>
              <a:t>BRCA2</a:t>
            </a:r>
            <a:r>
              <a:rPr b="0" lang="en-US" sz="2400" spc="-1" strike="noStrike">
                <a:solidFill>
                  <a:srgbClr val="ffffff"/>
                </a:solidFill>
                <a:latin typeface="Trebuchet MS"/>
              </a:rPr>
              <a:t> mutations can influence the risk for multiple cancer types including breast, ovarian, prostate, and skin (i.e., melanoma).</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3 of 6)</a:t>
            </a:r>
            <a:endParaRPr b="1" lang="en-US" sz="3000" spc="-1" strike="noStrike">
              <a:solidFill>
                <a:srgbClr val="ffffff"/>
              </a:solidFill>
              <a:latin typeface="Trebuchet MS"/>
            </a:endParaRPr>
          </a:p>
        </p:txBody>
      </p:sp>
      <p:sp>
        <p:nvSpPr>
          <p:cNvPr id="11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ime Lag</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the time difference between genetic testing and clinically important even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uration of studies is important in evaluating studies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should be determined if subjects have reached the age beyond which clinical expression would be likely.</a:t>
            </a:r>
            <a:endParaRPr b="0" lang="en-US" sz="2600" spc="-1" strike="noStrike">
              <a:solidFill>
                <a:srgbClr val="ffffff"/>
              </a:solidFill>
              <a:latin typeface="Trebuchet MS"/>
            </a:endParaRPr>
          </a:p>
        </p:txBody>
      </p:sp>
      <p:sp>
        <p:nvSpPr>
          <p:cNvPr id="11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4 of 6)</a:t>
            </a:r>
            <a:endParaRPr b="1" lang="en-US" sz="3000" spc="-1" strike="noStrike">
              <a:solidFill>
                <a:srgbClr val="ffffff"/>
              </a:solidFill>
              <a:latin typeface="Trebuchet MS"/>
            </a:endParaRPr>
          </a:p>
        </p:txBody>
      </p:sp>
      <p:sp>
        <p:nvSpPr>
          <p:cNvPr id="11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Challenge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rect evidence for the impact of genetic test results on health outcomes is often lacking.</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evidence base is too limited in scope.</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difficult to find published information on various aspects of genetic tests, particularly analytic validity.</a:t>
            </a:r>
            <a:endParaRPr b="0" lang="en-US" sz="19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re are several technical issues that are relevant to assessment of analytic validity. These issues:</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ffer according to the type of test</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influence interpretation of result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differ, depending on the specimen being tested (e.g., different considerations when assessing tumor genomes vs. human genomes)</a:t>
            </a:r>
            <a:endParaRPr b="0" lang="en-US" sz="1900" spc="-1" strike="noStrike">
              <a:solidFill>
                <a:srgbClr val="ffffff"/>
              </a:solidFill>
              <a:latin typeface="Trebuchet MS"/>
            </a:endParaRPr>
          </a:p>
        </p:txBody>
      </p:sp>
      <p:sp>
        <p:nvSpPr>
          <p:cNvPr id="118"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5 of 6)</a:t>
            </a:r>
            <a:endParaRPr b="1" lang="en-US" sz="3000" spc="-1" strike="noStrike">
              <a:solidFill>
                <a:srgbClr val="ffffff"/>
              </a:solidFill>
              <a:latin typeface="Trebuchet MS"/>
            </a:endParaRPr>
          </a:p>
        </p:txBody>
      </p:sp>
      <p:sp>
        <p:nvSpPr>
          <p:cNvPr id="11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ther Challenges (</a:t>
            </a:r>
            <a:r>
              <a:rPr b="0" i="1" lang="en-US" sz="2600" spc="-1" strike="noStrike">
                <a:solidFill>
                  <a:srgbClr val="ffffff"/>
                </a:solidFill>
                <a:latin typeface="Trebuchet MS"/>
              </a:rPr>
              <a:t>C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fficulties can arise when determining susceptibility or risk in asymptomatic individuals.</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tility of a test may depend on the ability of individuals to report and identify certain clinical factors.</a:t>
            </a:r>
            <a:endParaRPr b="0" lang="en-US" sz="22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tistical issues must also be taken into account.</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often are derived from analytically complex studies that have undergone a very large number of statistical test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6 of 6)</a:t>
            </a:r>
            <a:endParaRPr b="1" lang="en-US" sz="3000" spc="-1" strike="noStrike">
              <a:solidFill>
                <a:srgbClr val="ffffff"/>
              </a:solidFill>
              <a:latin typeface="Trebuchet MS"/>
            </a:endParaRPr>
          </a:p>
        </p:txBody>
      </p:sp>
      <p:sp>
        <p:nvSpPr>
          <p:cNvPr id="1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3</a:t>
            </a:r>
            <a:endParaRPr b="1" lang="en-US" sz="2800" spc="-1" strike="noStrike">
              <a:solidFill>
                <a:srgbClr val="ffffff"/>
              </a:solidFill>
              <a:latin typeface="Trebuchet MS"/>
            </a:endParaRPr>
          </a:p>
        </p:txBody>
      </p:sp>
      <p:sp>
        <p:nvSpPr>
          <p:cNvPr id="1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298520"/>
            <a:ext cx="8381880" cy="4827600"/>
          </a:xfrm>
          <a:prstGeom prst="rect">
            <a:avLst/>
          </a:prstGeom>
          <a:noFill/>
          <a:ln w="0">
            <a:noFill/>
          </a:ln>
        </p:spPr>
        <p:txBody>
          <a:bodyPr lIns="0" rIns="0" tIns="0" bIns="0" anchor="t">
            <a:normAutofit/>
          </a:bodyPr>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Use an organizing framework appropriate for genetic test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 analytic frameworks to reflect the predictive nature of genetic tests and incorporate appropriate outcomes.</a:t>
            </a:r>
            <a:endParaRPr b="0" lang="en-US" sz="20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databases appropriate for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sult with experts to determine which technical issues are important to address in assessing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stinguish between functional assays and DNA-based assays to determine important technical issue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aluate case-control studies carefully for potential selection bias. </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added value of the genetic test over existing risk assessment approaches.</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stand statistical issues of particular relevance to genetic tests.</a:t>
            </a:r>
            <a:endParaRPr b="0" lang="en-US" sz="20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for Addressing the Challenges</a:t>
            </a:r>
            <a:endParaRPr b="1" lang="en-US" sz="2800" spc="-1" strike="noStrike">
              <a:solidFill>
                <a:srgbClr val="ffffff"/>
              </a:solidFill>
              <a:latin typeface="Trebuchet MS"/>
            </a:endParaRPr>
          </a:p>
        </p:txBody>
      </p:sp>
      <p:sp>
        <p:nvSpPr>
          <p:cNvPr id="128"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 for genetic tests have been developed by the USPSTF, the CDC, and the EGAPP Working Group.</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is endorsed by the EGAPP Working Group. The criteria of the model are as follows:</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A</a:t>
            </a:r>
            <a:r>
              <a:rPr b="0" lang="en-US" sz="1800" spc="-1" strike="noStrike">
                <a:solidFill>
                  <a:srgbClr val="ffffff"/>
                </a:solidFill>
                <a:latin typeface="Trebuchet MS"/>
              </a:rPr>
              <a:t>nalytic validity (technical accuracy and reliability)</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validity (ability to detect or predict an outcome, disorder, or phenotype)</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utility (whether test ultimately leads to improved patient outcomes)</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E</a:t>
            </a:r>
            <a:r>
              <a:rPr b="0" lang="en-US" sz="1800" spc="-1" strike="noStrike">
                <a:solidFill>
                  <a:srgbClr val="ffffff"/>
                </a:solidFill>
                <a:latin typeface="Trebuchet MS"/>
              </a:rPr>
              <a:t>thical, legal, and social implication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has also developed a series of 44 questions following these criteria.</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questions help define a review</a:t>
            </a:r>
            <a:r>
              <a:rPr b="0" lang="ja-JP" sz="1800" spc="-1" strike="noStrike">
                <a:solidFill>
                  <a:srgbClr val="ffffff"/>
                </a:solidFill>
                <a:latin typeface="Trebuchet MS"/>
              </a:rPr>
              <a:t>’</a:t>
            </a:r>
            <a:r>
              <a:rPr b="0" lang="en-US" sz="1800" spc="-1" strike="noStrike">
                <a:solidFill>
                  <a:srgbClr val="ffffff"/>
                </a:solidFill>
                <a:latin typeface="Trebuchet MS"/>
              </a:rPr>
              <a:t>s scope and critically appraise studies.</a:t>
            </a:r>
            <a:endParaRPr b="0" lang="en-US" sz="18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an Organizing Framework Appropriate for Genetic Tests</a:t>
            </a:r>
            <a:endParaRPr b="1" lang="en-US" sz="2800" spc="-1" strike="noStrike">
              <a:solidFill>
                <a:srgbClr val="ffffff"/>
              </a:solidFill>
              <a:latin typeface="Trebuchet MS"/>
            </a:endParaRPr>
          </a:p>
        </p:txBody>
      </p:sp>
      <p:sp>
        <p:nvSpPr>
          <p:cNvPr id="13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1 of 3)</a:t>
            </a:r>
            <a:endParaRPr b="1" lang="en-US" sz="2600" spc="-1" strike="noStrike">
              <a:solidFill>
                <a:srgbClr val="ffffff"/>
              </a:solidFill>
              <a:latin typeface="Trebuchet MS"/>
            </a:endParaRPr>
          </a:p>
        </p:txBody>
      </p:sp>
      <p:graphicFrame>
        <p:nvGraphicFramePr>
          <p:cNvPr id="133" name=""/>
          <p:cNvGraphicFramePr/>
          <p:nvPr/>
        </p:nvGraphicFramePr>
        <p:xfrm>
          <a:off x="380880" y="1293840"/>
          <a:ext cx="8229600" cy="4573440"/>
        </p:xfrm>
        <a:graphic>
          <a:graphicData uri="http://schemas.openxmlformats.org/drawingml/2006/table">
            <a:tbl>
              <a:tblPr/>
              <a:tblGrid>
                <a:gridCol w="1067040"/>
                <a:gridCol w="7162560"/>
              </a:tblGrid>
              <a:tr h="21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lemen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Questions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Disorder/</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tting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1. What is the specific clinical disorder to be studi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2. What are the clinical findings defining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3. What is the clinical setting in which the test is to be perform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4. What DNA test(s) are associated with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5. Are preliminary screening questions employ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6. Is it a stand-alone test or is it one of a series of tes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7. If it is part of a series of screening tests, are all tests performed in all instance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rallel) or are only some tests performed on the basis of other results (series)?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98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nalytic validit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8. Is the test qualitative or quantitative?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9. How often is the test positive when a mutation is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0. How often is the test negative when a mutation is not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1. Is an internal quality control program defined and externally monitor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2. Have repeated measurements been made on specimen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3. What is the within-and between-laboratory precision?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4. If appropriate, how is confirmatory testing performed to resolve false positive</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sults in a timely manner?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5. What range of patient specimens have been test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6. How often does the test fail to give a usable resul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7. How similar are results obtained in multiple laboratories using the same, or</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different technolog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4" name="TextBox 1"/>
          <p:cNvSpPr/>
          <p:nvPr/>
        </p:nvSpPr>
        <p:spPr>
          <a:xfrm>
            <a:off x="304920" y="5943600"/>
            <a:ext cx="8839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2 of 3)</a:t>
            </a:r>
            <a:endParaRPr b="1" lang="en-US" sz="2600" spc="-1" strike="noStrike">
              <a:solidFill>
                <a:srgbClr val="ffffff"/>
              </a:solidFill>
              <a:latin typeface="Trebuchet MS"/>
            </a:endParaRPr>
          </a:p>
        </p:txBody>
      </p:sp>
      <p:graphicFrame>
        <p:nvGraphicFramePr>
          <p:cNvPr id="136" name=""/>
          <p:cNvGraphicFramePr/>
          <p:nvPr/>
        </p:nvGraphicFramePr>
        <p:xfrm>
          <a:off x="380880" y="1295280"/>
          <a:ext cx="8229600" cy="4572000"/>
        </p:xfrm>
        <a:graphic>
          <a:graphicData uri="http://schemas.openxmlformats.org/drawingml/2006/table">
            <a:tbl>
              <a:tblPr/>
              <a:tblGrid>
                <a:gridCol w="1175040"/>
                <a:gridCol w="7054560"/>
              </a:tblGrid>
              <a:tr h="273924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validity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8. How often is the test positive when the disorder is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9. How often is the test negative when a disorder is not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0. Are there methods to resolve clinical false positive results in a timely</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manner?</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1. What is the prevalence of the disorder in this setting?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2. Has the test been adequately validated on all populations to which it may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be offered?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3. What are the positive and negative predictive value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4. What are the genotype/phenotype relationship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5. What are the genetic, environmental or other modifiers?*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51100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utility </a:t>
                      </a: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a:t>
                      </a:r>
                      <a:r>
                        <a:rPr b="1" i="1" lang="en-US" sz="1500" spc="-1" strike="noStrike">
                          <a:solidFill>
                            <a:srgbClr val="000000"/>
                          </a:solidFill>
                          <a:latin typeface="Palatino Linotype"/>
                        </a:rPr>
                        <a:t>Continued</a:t>
                      </a:r>
                      <a:r>
                        <a:rPr b="1" lang="en-US" sz="1500" spc="-1" strike="noStrike">
                          <a:solidFill>
                            <a:srgbClr val="000000"/>
                          </a:solidFill>
                          <a:latin typeface="Palatino Linotype"/>
                        </a:rPr>
                        <a:t>)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6. What is the natural history of the disorde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7. What is the impact of a positive (or negative) test on patient car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8. If applicable, are medical tests availabl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9. Is there an effective remedy, acceptable action, or other measurable benefi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0. Is there general access to that remedy or ac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1. Is the test being offered to a socially vulnerable popula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2. What quality assurance measures are in plac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3. What are the results of pilot trial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4. What health risks can be identified for follow-up testing and/o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intervention?</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7" name="TextBox 1"/>
          <p:cNvSpPr/>
          <p:nvPr/>
        </p:nvSpPr>
        <p:spPr>
          <a:xfrm>
            <a:off x="380880" y="5970600"/>
            <a:ext cx="8382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3 of 3)</a:t>
            </a:r>
            <a:endParaRPr b="1" lang="en-US" sz="2600" spc="-1" strike="noStrike">
              <a:solidFill>
                <a:srgbClr val="ffffff"/>
              </a:solidFill>
              <a:latin typeface="Trebuchet MS"/>
            </a:endParaRPr>
          </a:p>
        </p:txBody>
      </p:sp>
      <p:graphicFrame>
        <p:nvGraphicFramePr>
          <p:cNvPr id="139" name=""/>
          <p:cNvGraphicFramePr/>
          <p:nvPr/>
        </p:nvGraphicFramePr>
        <p:xfrm>
          <a:off x="380880" y="1460520"/>
          <a:ext cx="8305920" cy="3200400"/>
        </p:xfrm>
        <a:graphic>
          <a:graphicData uri="http://schemas.openxmlformats.org/drawingml/2006/table">
            <a:tbl>
              <a:tblPr/>
              <a:tblGrid>
                <a:gridCol w="1219320"/>
                <a:gridCol w="7086600"/>
              </a:tblGrid>
              <a:tr h="234468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Clinical util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a:t>
                      </a:r>
                      <a:r>
                        <a:rPr b="1" i="1" lang="en-US" sz="1400" spc="-1" strike="noStrike">
                          <a:solidFill>
                            <a:srgbClr val="000000"/>
                          </a:solidFill>
                          <a:latin typeface="Palatino Linotype"/>
                          <a:ea typeface="Times New Roman"/>
                        </a:rPr>
                        <a:t>Continued</a:t>
                      </a:r>
                      <a:r>
                        <a:rPr b="1" lang="en-US" sz="1400" spc="-1" strike="noStrike">
                          <a:solidFill>
                            <a:srgbClr val="000000"/>
                          </a:solidFill>
                          <a:latin typeface="Palatino Linotype"/>
                          <a:ea typeface="Times New Roman"/>
                        </a:rPr>
                        <a:t>)</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5. What are the financial costs associated with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6. What are the economic benefits associated with actions resulting from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7. What facilities/personnel are available or easily put in plac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8. What educational materials have been developed and validated and which of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these are availabl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9. Are there informed consent requiremen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0. What methods exist for long term monitor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1. What guidelines have been developed for evaluating program performanc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13156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thical, legal, and social implications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2. What is known about stigmatization, discrimination, privacy/confidentiality and</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ersonal/family social issu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3. Are there legal issues regarding consent, ownership of data and/or sampl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tents, licensing, proprietary testing, obligation to disclose, or reporting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quirement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4. What safeguards have been described and are these safeguards in place an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effectiv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40" name="TextBox 1"/>
          <p:cNvSpPr/>
          <p:nvPr/>
        </p:nvSpPr>
        <p:spPr>
          <a:xfrm>
            <a:off x="380880" y="5867280"/>
            <a:ext cx="8534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challenges in and principles for conducting systematic reviews of genetic tests used as predictive indicato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the utility of organizing frameworks and analytic framework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importance of preanalytic, analytic, and postanalytic factors used for evaluating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important statistical and bias issues involved with predictive genetic test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fine the Key Questions and understand the needs of decisionmakers and the test context.</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 whether test is used to:</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future risk of disease in asymptomatic individual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prognostic information that will influence treatment decision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 response to treatments (either effectiveness or harms)</a:t>
            </a:r>
            <a:endParaRPr b="0" lang="en-US" sz="20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 the specimens (e.g., patient or tumor genome) to be tested.</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scribe the PICOTS typology.</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ing so will inform development of the analytic framework and vice versa.</a:t>
            </a:r>
            <a:endParaRPr b="0" lang="en-US" sz="2000" spc="-1" strike="noStrike">
              <a:solidFill>
                <a:srgbClr val="ffffff"/>
              </a:solidFill>
              <a:latin typeface="Trebuchet MS"/>
            </a:endParaRPr>
          </a:p>
        </p:txBody>
      </p:sp>
      <p:sp>
        <p:nvSpPr>
          <p:cNvPr id="142" name="PlaceHolder 1"/>
          <p:cNvSpPr>
            <a:spLocks noGrp="1"/>
          </p:cNvSpPr>
          <p:nvPr>
            <p:ph type="title"/>
          </p:nvPr>
        </p:nvSpPr>
        <p:spPr>
          <a:xfrm>
            <a:off x="457200" y="0"/>
            <a:ext cx="8229600" cy="990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1 of 5)</a:t>
            </a:r>
            <a:endParaRPr b="1" lang="en-US" sz="2300" spc="-1" strike="noStrike">
              <a:solidFill>
                <a:srgbClr val="ffffff"/>
              </a:solidFill>
              <a:latin typeface="Trebuchet MS"/>
            </a:endParaRPr>
          </a:p>
        </p:txBody>
      </p:sp>
      <p:sp>
        <p:nvSpPr>
          <p:cNvPr id="143"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2 of 5)</a:t>
            </a:r>
            <a:endParaRPr b="1" lang="en-US" sz="2300" spc="-1" strike="noStrike">
              <a:solidFill>
                <a:srgbClr val="ffffff"/>
              </a:solidFill>
              <a:latin typeface="Trebuchet MS"/>
            </a:endParaRPr>
          </a:p>
        </p:txBody>
      </p:sp>
      <p:sp>
        <p:nvSpPr>
          <p:cNvPr id="145" name="TextBox 3"/>
          <p:cNvSpPr/>
          <p:nvPr/>
        </p:nvSpPr>
        <p:spPr>
          <a:xfrm>
            <a:off x="536400" y="2057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 Generic Analytic Framework for Evaluating Predictive Genetic Tests</a:t>
            </a:r>
            <a:endParaRPr b="0" lang="en-US" sz="1800" spc="-1" strike="noStrike">
              <a:solidFill>
                <a:srgbClr val="000000"/>
              </a:solidFill>
              <a:latin typeface="Palatino Linotype"/>
            </a:endParaRPr>
          </a:p>
        </p:txBody>
      </p:sp>
      <p:sp>
        <p:nvSpPr>
          <p:cNvPr id="146" name="Content Placeholder 1"/>
          <p:cNvSpPr/>
          <p:nvPr/>
        </p:nvSpPr>
        <p:spPr>
          <a:xfrm>
            <a:off x="457200" y="1238400"/>
            <a:ext cx="8229600" cy="74268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ing preanalytic, analytic, and postanalytic factors, as well as outcomes, in analytic frameworks may be useful.</a:t>
            </a:r>
            <a:endParaRPr b="0" lang="en-US" sz="2200" spc="-1" strike="noStrike">
              <a:solidFill>
                <a:srgbClr val="000000"/>
              </a:solidFill>
              <a:latin typeface="Palatino Linotype"/>
            </a:endParaRPr>
          </a:p>
        </p:txBody>
      </p:sp>
      <p:pic>
        <p:nvPicPr>
          <p:cNvPr id="147" name="Picture 117" descr="The figure in this slide shows a generic analytic framework that incorporates preanalytic, analytic, and postanalytic factors that are applicable to genetic tests and to the key outcomes of interest."/>
          <p:cNvPicPr/>
          <p:nvPr/>
        </p:nvPicPr>
        <p:blipFill>
          <a:blip r:embed="rId1"/>
          <a:stretch/>
        </p:blipFill>
        <p:spPr>
          <a:xfrm>
            <a:off x="701640" y="2519280"/>
            <a:ext cx="7756560" cy="3268800"/>
          </a:xfrm>
          <a:prstGeom prst="rect">
            <a:avLst/>
          </a:prstGeom>
          <a:ln w="0">
            <a:noFill/>
          </a:ln>
        </p:spPr>
      </p:pic>
      <p:sp>
        <p:nvSpPr>
          <p:cNvPr id="14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192320"/>
            <a:ext cx="830592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adverse effects of genetic testing are:</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effects on family member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sychological distres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stigmatization or discrimination </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Harms particularly occur with the prediction of high disease probability, but no preventative or ameliorative measures exist.</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For these harms, take into accoun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esting is for inherited or acquired mutations/ variation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he test condition is multifactorial or follows Mendelian inheritance patterns</a:t>
            </a:r>
            <a:endParaRPr b="0" lang="en-US" sz="21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3 of 5)</a:t>
            </a:r>
            <a:endParaRPr b="1" lang="en-US" sz="2300" spc="-1" strike="noStrike">
              <a:solidFill>
                <a:srgbClr val="ffffff"/>
              </a:solidFill>
              <a:latin typeface="Trebuchet MS"/>
            </a:endParaRPr>
          </a:p>
        </p:txBody>
      </p:sp>
      <p:sp>
        <p:nvSpPr>
          <p:cNvPr id="15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outcomes include but are not limited to:</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st</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Quality of life</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ong-term morbidity</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direct impact</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enetic tests may impact decisions that are difficult to measure yet are very important (e.g., decisions regarding pregnancy).</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impact of genetic testing on family members may be important depending on contex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rticularly in cases involving testing for heritable conditions</a:t>
            </a:r>
            <a:endParaRPr b="0" lang="en-US" sz="21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4 of 5)</a:t>
            </a:r>
            <a:endParaRPr b="1" lang="en-US" sz="2300" spc="-1" strike="noStrike">
              <a:solidFill>
                <a:srgbClr val="ffffff"/>
              </a:solidFill>
              <a:latin typeface="Trebuchet MS"/>
            </a:endParaRPr>
          </a:p>
        </p:txBody>
      </p:sp>
      <p:sp>
        <p:nvSpPr>
          <p:cNvPr id="154"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5 of 5)</a:t>
            </a:r>
            <a:endParaRPr b="1" lang="en-US" sz="2300" spc="-1" strike="noStrike">
              <a:solidFill>
                <a:srgbClr val="ffffff"/>
              </a:solidFill>
              <a:latin typeface="Trebuchet MS"/>
            </a:endParaRPr>
          </a:p>
        </p:txBody>
      </p:sp>
      <p:sp>
        <p:nvSpPr>
          <p:cNvPr id="156" name="TextBox 7"/>
          <p:cNvSpPr/>
          <p:nvPr/>
        </p:nvSpPr>
        <p:spPr>
          <a:xfrm>
            <a:off x="838080" y="11430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Generic Analytic Framework for Evaluating Predictive Genetic Tests When the Impact on Family Members Is Important</a:t>
            </a:r>
            <a:endParaRPr b="0" lang="en-US" sz="1800" spc="-1" strike="noStrike">
              <a:solidFill>
                <a:srgbClr val="000000"/>
              </a:solidFill>
              <a:latin typeface="Palatino Linotype"/>
            </a:endParaRPr>
          </a:p>
        </p:txBody>
      </p:sp>
      <p:pic>
        <p:nvPicPr>
          <p:cNvPr id="157" name="Picture 120" descr="The figure in this slide shows a generic analytic framework that incorporates preanalytic, analytic, and postanalytic factors that are applicable to genetic tests and to the key outcomes of interest. It also includes a branch with outcomes for family members of the individual being tested."/>
          <p:cNvPicPr/>
          <p:nvPr/>
        </p:nvPicPr>
        <p:blipFill>
          <a:blip r:embed="rId1"/>
          <a:stretch/>
        </p:blipFill>
        <p:spPr>
          <a:xfrm>
            <a:off x="1866960" y="1828800"/>
            <a:ext cx="5219640" cy="4114800"/>
          </a:xfrm>
          <a:prstGeom prst="rect">
            <a:avLst/>
          </a:prstGeom>
          <a:ln w="0">
            <a:noFill/>
          </a:ln>
        </p:spPr>
      </p:pic>
      <p:sp>
        <p:nvSpPr>
          <p:cNvPr id="15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5280"/>
            <a:ext cx="8305920" cy="518184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uman Genome Epidemiology Network (HuGE Net) </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uGE Net is a good supplement to main literature databases (e.g., PubMed</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meta-analyses of genetic association studi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HuGE Navigator can identify all types of available studies related to a genetic test.</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ckage inserts for genetic tests approved by the U.S. Food and Drug Administration (FDA)</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inserts include summaries of analytic validity data that were instrumental during FDA approval.</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y are available on the FDA Web site and on that of the test manufacturers.</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enetic test data are also available from the FDA Center for Devices and Radiological Health Web site.</a:t>
            </a:r>
            <a:endParaRPr b="0" lang="en-US" sz="16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1 of 2)</a:t>
            </a:r>
            <a:endParaRPr b="1" lang="en-US" sz="2800" spc="-1" strike="noStrike">
              <a:solidFill>
                <a:srgbClr val="ffffff"/>
              </a:solidFill>
              <a:latin typeface="Trebuchet MS"/>
            </a:endParaRPr>
          </a:p>
        </p:txBody>
      </p:sp>
      <p:sp>
        <p:nvSpPr>
          <p:cNvPr id="16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298160"/>
            <a:ext cx="8229600" cy="50259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 (</a:t>
            </a:r>
            <a:r>
              <a:rPr b="0" i="1" lang="en-US" sz="2000" spc="-1" strike="noStrike">
                <a:solidFill>
                  <a:srgbClr val="ffffff"/>
                </a:solidFill>
                <a:latin typeface="Trebuchet MS"/>
              </a:rPr>
              <a:t>Continued</a:t>
            </a:r>
            <a:r>
              <a:rPr b="0" lang="en-US" sz="2000" spc="-1" strike="noStrike">
                <a:solidFill>
                  <a:srgbClr val="ffffff"/>
                </a:solidFill>
                <a:latin typeface="Trebuchet MS"/>
              </a:rPr>
              <a:t>)</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merican College of Medical Genetics and College of American Pathologists joint external proficiency testing program</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ful when no published data on analytic validity exist</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ives degree of lab-to-lab variability and sense of reproducibil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fessional society conference publication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eTests Web site sponsored by the Genetic Allianc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sociation for Molecular Pathology Web sit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ers for Disease Control and Prevention programs (e.g., the Genetic Testing Reference Materials Coordination Program)</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ternational proficiency testing program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xisNexis</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 database and Cambridge Healthtech Institute</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 to identify genetic tests in development for cancer </a:t>
            </a:r>
            <a:endParaRPr b="0" lang="en-US" sz="1600" spc="-1" strike="noStrike">
              <a:solidFill>
                <a:srgbClr val="ffffff"/>
              </a:solidFill>
              <a:latin typeface="Trebuchet MS"/>
            </a:endParaRPr>
          </a:p>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2 of 2)</a:t>
            </a:r>
            <a:endParaRPr b="1" lang="en-US" sz="2800" spc="-1" strike="noStrike">
              <a:solidFill>
                <a:srgbClr val="ffffff"/>
              </a:solidFill>
              <a:latin typeface="Trebuchet MS"/>
            </a:endParaRPr>
          </a:p>
        </p:txBody>
      </p:sp>
      <p:sp>
        <p:nvSpPr>
          <p:cNvPr id="16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ult with an expert familiar with a genetic test to determine which of the following technical issues are pertinen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taining, preserving, and storing samples before analysi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ype of assay, sample, methods being used, et cetera</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s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xity of interpreting the genetic test result, lab-to-lab variability, and quality contro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4: Consult With Experts To Determine Which Technical Issues Are Important in Assessing Genetic Tests</a:t>
            </a:r>
            <a:endParaRPr b="1" lang="en-US" sz="2300" spc="-1" strike="noStrike">
              <a:solidFill>
                <a:srgbClr val="ffffff"/>
              </a:solidFill>
              <a:latin typeface="Trebuchet MS"/>
            </a:endParaRPr>
          </a:p>
        </p:txBody>
      </p:sp>
      <p:sp>
        <p:nvSpPr>
          <p:cNvPr id="16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Questions for Assessing Preanalytic, Analytic, and Postanalytic Factors for Evaluating Predictive Genetic Tests</a:t>
            </a:r>
            <a:endParaRPr b="1" lang="en-US" sz="2300" spc="-1" strike="noStrike">
              <a:solidFill>
                <a:srgbClr val="ffffff"/>
              </a:solidFill>
              <a:latin typeface="Trebuchet MS"/>
            </a:endParaRPr>
          </a:p>
        </p:txBody>
      </p:sp>
      <p:graphicFrame>
        <p:nvGraphicFramePr>
          <p:cNvPr id="169" name=""/>
          <p:cNvGraphicFramePr/>
          <p:nvPr/>
        </p:nvGraphicFramePr>
        <p:xfrm>
          <a:off x="304920" y="1219320"/>
          <a:ext cx="8610480" cy="4105080"/>
        </p:xfrm>
        <a:graphic>
          <a:graphicData uri="http://schemas.openxmlformats.org/drawingml/2006/table">
            <a:tbl>
              <a:tblPr/>
              <a:tblGrid>
                <a:gridCol w="1241280"/>
                <a:gridCol w="7369200"/>
              </a:tblGrid>
              <a:tr h="1983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lement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52280" indent="-152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Questions*</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188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re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patient characteristics are relevant to the analytic validity of the test (e.g., age, sex, ethnicity, race, ancestry, parental history of consanguinity, family health histor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s of sample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obtain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handled and stored prior to analysis?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78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 of assay was used? What is the reliability of the assa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specific analyte was investigated (e.g., specification of which alleles, genes, or biochemical analytes were evalu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is the definition of the genotype investig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id the study test for all potentially relevant allele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genotyping method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en were samples analyzed (compared to when they were collec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as the timing of analysis equal for both study groups (if applicable)?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often does the test give a usable result (what is the </a:t>
                      </a:r>
                      <a:r>
                        <a:rPr b="1" lang="ja-JP" sz="1300" spc="-1" strike="noStrike">
                          <a:solidFill>
                            <a:srgbClr val="000000"/>
                          </a:solidFill>
                          <a:latin typeface="Palatino Linotype"/>
                        </a:rPr>
                        <a:t>“</a:t>
                      </a:r>
                      <a:r>
                        <a:rPr b="1" lang="en-US" sz="1300" spc="-1" strike="noStrike">
                          <a:solidFill>
                            <a:srgbClr val="000000"/>
                          </a:solidFill>
                          <a:latin typeface="Palatino Linotype"/>
                        </a:rPr>
                        <a:t>call rate</a:t>
                      </a:r>
                      <a:r>
                        <a:rPr b="1" lang="ja-JP" sz="1300" spc="-1" strike="noStrike">
                          <a:solidFill>
                            <a:srgbClr val="000000"/>
                          </a:solidFill>
                          <a:latin typeface="Palatino Linotype"/>
                        </a:rPr>
                        <a:t>”</a:t>
                      </a:r>
                      <a:r>
                        <a:rPr b="1" lang="en-US" sz="1300" spc="-1" strike="noStrike">
                          <a:solidFill>
                            <a:srgbClr val="000000"/>
                          </a:solidFill>
                          <a:latin typeface="Palatino Linotype"/>
                        </a:rPr>
                        <a:t>)?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386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s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are the test results interpreted and applied? How complex is interpretation and application?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quality control measures were used? Were repeated measurements made on specimen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reproducible is the test over time? How reproducible is the test when repeated in the same patient multiple times? How reproducible is the test from laboratory to laboratory?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0" name="Rectangle 5"/>
          <p:cNvSpPr/>
          <p:nvPr/>
        </p:nvSpPr>
        <p:spPr>
          <a:xfrm>
            <a:off x="228600" y="5424480"/>
            <a:ext cx="83818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ea typeface="Times New Roman"/>
              </a:rPr>
              <a:t>*Portions of this table were adapted from Burke et al. (2002) and Little et al. (2002).</a:t>
            </a:r>
            <a:endParaRPr b="0" lang="en-US" sz="1200" spc="-1" strike="noStrike">
              <a:solidFill>
                <a:srgbClr val="000000"/>
              </a:solidFill>
              <a:latin typeface="Palatino Linotype"/>
            </a:endParaRPr>
          </a:p>
        </p:txBody>
      </p:sp>
      <p:sp>
        <p:nvSpPr>
          <p:cNvPr id="171" name="TextBox 1"/>
          <p:cNvSpPr/>
          <p:nvPr/>
        </p:nvSpPr>
        <p:spPr>
          <a:xfrm>
            <a:off x="228600" y="5638680"/>
            <a:ext cx="89154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Burke W, Atkins D, Gwinn M, et al. Am J Epidemiol 2002 Aug 15;156(4):300-10. PMID: 12181100.</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ttle J, Bradley L, Bray MS, et al. Am J Epidemiol 2002 Aug 15;156(4):300-10. PMID: 12181099.</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unctional Assays</a:t>
            </a:r>
            <a:endParaRPr b="0" lang="en-US" sz="28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used to measure the substrate/metabolic product affected by a genetic polymorphism</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ave the advantage of showing functional significance of an underlying genetic polymorphism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affected by factors unrelated to a polymorphism:</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measured environmental factors</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genetic polymorphisms </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ous disease states</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ays that measure enzyme activity:</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evaluated at a single point in time</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ield activities that vary over time</a:t>
            </a:r>
            <a:endParaRPr b="0" lang="en-US" sz="2000" spc="-1" strike="noStrike">
              <a:solidFill>
                <a:srgbClr val="ffffff"/>
              </a:solidFill>
              <a:latin typeface="Trebuchet MS"/>
            </a:endParaRPr>
          </a:p>
        </p:txBody>
      </p:sp>
      <p:sp>
        <p:nvSpPr>
          <p:cNvPr id="173"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1 of 3)</a:t>
            </a:r>
            <a:endParaRPr b="1" lang="en-US" sz="2200" spc="-1" strike="noStrike">
              <a:solidFill>
                <a:srgbClr val="ffffff"/>
              </a:solidFill>
              <a:latin typeface="Trebuchet MS"/>
            </a:endParaRPr>
          </a:p>
        </p:txBody>
      </p:sp>
      <p:sp>
        <p:nvSpPr>
          <p:cNvPr id="17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a:t>
            </a:r>
            <a:endParaRPr b="1" lang="en-US" sz="2800" spc="-1" strike="noStrike">
              <a:solidFill>
                <a:srgbClr val="ffffff"/>
              </a:solidFill>
              <a:latin typeface="Trebuchet MS"/>
            </a:endParaRPr>
          </a:p>
        </p:txBody>
      </p:sp>
      <p:sp>
        <p:nvSpPr>
          <p:cNvPr id="9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NA-Based Assays</a:t>
            </a:r>
            <a:endParaRPr b="0" lang="en-US" sz="28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ze the DNA itself</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variety of sample sources (e.g., blood, cheek swab, hair)</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samples should result in identical genotypic results.</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more difficult to isolate DNA from (e.g., formalin-fixed tissue).</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sometimes use different sources of DNA, which can introduce measurement bias because of differences in ease of technique and test accuracy.</a:t>
            </a:r>
            <a:endParaRPr b="0" lang="en-US" sz="2400" spc="-1" strike="noStrike">
              <a:solidFill>
                <a:srgbClr val="ffffff"/>
              </a:solidFill>
              <a:latin typeface="Trebuchet MS"/>
            </a:endParaRPr>
          </a:p>
        </p:txBody>
      </p:sp>
      <p:sp>
        <p:nvSpPr>
          <p:cNvPr id="17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2 of 3)</a:t>
            </a:r>
            <a:endParaRPr b="1" lang="en-US" sz="2200" spc="-1" strike="noStrike">
              <a:solidFill>
                <a:srgbClr val="ffffff"/>
              </a:solidFill>
              <a:latin typeface="Trebuchet MS"/>
            </a:endParaRPr>
          </a:p>
        </p:txBody>
      </p:sp>
      <p:sp>
        <p:nvSpPr>
          <p:cNvPr id="17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cting DNA from tumor samples raises additional issues:</a:t>
            </a:r>
            <a:endParaRPr b="0" lang="en-US" sz="24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ntity of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mixture of normal and cancerous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ount of necrosis</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ing of collection</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orage technique (e.g., fresh, frozen, paraffin, formalin)</a:t>
            </a:r>
            <a:endParaRPr b="0" lang="en-US" sz="2000" spc="-1" strike="noStrike">
              <a:solidFill>
                <a:srgbClr val="ffffff"/>
              </a:solidFill>
              <a:latin typeface="Trebuchet MS"/>
            </a:endParaRPr>
          </a:p>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xity of test method, lab-to-lab variability, and quality control should be evaluated.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3 of 3)</a:t>
            </a:r>
            <a:endParaRPr b="1" lang="en-US" sz="2200" spc="-1" strike="noStrike">
              <a:solidFill>
                <a:srgbClr val="ffffff"/>
              </a:solidFill>
              <a:latin typeface="Trebuchet MS"/>
            </a:endParaRPr>
          </a:p>
        </p:txBody>
      </p:sp>
      <p:sp>
        <p:nvSpPr>
          <p:cNvPr id="180"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essential for cases and controls to be selected from the same source populatio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tching cases and controls for ethnicity/race is preferred over stating the geographic location of a source popula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is because frequencies of DNA polymorphisms vary from population to population.</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only nested case-control studies have a potential for selection bias that is low enough to provide reliable information.</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6: Evaluate Case-Control Studies Carefully for Potential Selection Bias </a:t>
            </a:r>
            <a:endParaRPr b="1" lang="en-US" sz="2800" spc="-1" strike="noStrike">
              <a:solidFill>
                <a:srgbClr val="ffffff"/>
              </a:solidFill>
              <a:latin typeface="Trebuchet MS"/>
            </a:endParaRPr>
          </a:p>
        </p:txBody>
      </p:sp>
      <p:sp>
        <p:nvSpPr>
          <p:cNvPr id="18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y clinical factors associated with risk assessment may already be well characteriz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known factors when compared with using known factors alon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Cardiovascular Disease</a:t>
            </a:r>
            <a:endParaRPr b="0" lang="en-US" sz="22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 sex, smoking, hypertension, diabetes, and cholesterol are known risk factors.</a:t>
            </a:r>
            <a:endParaRPr b="0" lang="en-US" sz="20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newly identified polymorphisms (such as on chromosome 9p21) should be evaluated in context with these known factors to determine added value.</a:t>
            </a:r>
            <a:endParaRPr b="0" lang="en-US" sz="20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ciple 7: Determine the Added Value of the Genetic Test Over Existing Risk Assessment Approaches</a:t>
            </a:r>
            <a:endParaRPr b="1" lang="en-US" sz="2400" spc="-1" strike="noStrike">
              <a:solidFill>
                <a:srgbClr val="ffffff"/>
              </a:solidFill>
              <a:latin typeface="Trebuchet MS"/>
            </a:endParaRPr>
          </a:p>
        </p:txBody>
      </p:sp>
      <p:sp>
        <p:nvSpPr>
          <p:cNvPr id="18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ardy-Weinberg Equilibrium (HW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allele distributions follow a usual distribution, the HW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tributions deviate from HWE due to:</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mutation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lec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gra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enetic drif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breeding</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ce (applies when many polymorphisms are tested)</a:t>
            </a:r>
            <a:endParaRPr b="0" lang="en-US" sz="20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1 of 4)</a:t>
            </a:r>
            <a:endParaRPr b="1" lang="en-US" sz="2800" spc="-1" strike="noStrike">
              <a:solidFill>
                <a:srgbClr val="ffffff"/>
              </a:solidFill>
              <a:latin typeface="Trebuchet MS"/>
            </a:endParaRPr>
          </a:p>
        </p:txBody>
      </p:sp>
      <p:sp>
        <p:nvSpPr>
          <p:cNvPr id="189" name="TextBox 1"/>
          <p:cNvSpPr/>
          <p:nvPr/>
        </p:nvSpPr>
        <p:spPr>
          <a:xfrm>
            <a:off x="457200" y="563076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7;301(1):74-81. PMID: 19126812.</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14;301(2):191-7. PMID: 19141767.</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mple Size Calculation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important to assess whether sample size calculations appropriately accounted for:</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number of variant allel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evalence of variants in the study population</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harmacogenomic studies often enroll an insufficient number of subjects to account for these factors.</a:t>
            </a:r>
            <a:endParaRPr b="0" lang="en-US" sz="26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2 of 4)</a:t>
            </a:r>
            <a:endParaRPr b="1" lang="en-US" sz="2800" spc="-1" strike="noStrike">
              <a:solidFill>
                <a:srgbClr val="ffffff"/>
              </a:solidFill>
              <a:latin typeface="Trebuchet MS"/>
            </a:endParaRPr>
          </a:p>
        </p:txBody>
      </p:sp>
      <p:sp>
        <p:nvSpPr>
          <p:cNvPr id="192"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liams JA, Johnson K, Paulauskis J, et al. J Clin Pharmacol 2006 Mar;46(3):258-64. PMID: 1649080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tic Association Studi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are sometimes derived from complex studies with a large number of statistical tests.</a:t>
            </a:r>
            <a:endParaRPr b="0" lang="en-US" sz="2200" spc="-1" strike="noStrike">
              <a:solidFill>
                <a:srgbClr val="ffffff"/>
              </a:solidFill>
              <a:latin typeface="Trebuchet MS"/>
            </a:endParaRPr>
          </a:p>
          <a:p>
            <a:pPr lvl="2" marL="1096920" indent="-29196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example, genome-wide association studies that search for associations between a huge number of genetic polymorphisms and health conditions </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tudies should generally be regarded as hypothesis generating rather than hypothesis testing or confirmatory of cause-effect relationship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ociations should be validated in multiple studies to minimize potential confounding and publication bia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ing causality may be difficult because of factors that influence associations (e.g., environmental exposures, behaviors, other genes).</a:t>
            </a:r>
            <a:endParaRPr b="0" lang="en-US" sz="2200" spc="-1" strike="noStrike">
              <a:solidFill>
                <a:srgbClr val="ffffff"/>
              </a:solidFill>
              <a:latin typeface="Trebuchet MS"/>
            </a:endParaRPr>
          </a:p>
        </p:txBody>
      </p:sp>
      <p:sp>
        <p:nvSpPr>
          <p:cNvPr id="1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3 of 4)</a:t>
            </a:r>
            <a:endParaRPr b="1" lang="en-US" sz="2800" spc="-1" strike="noStrike">
              <a:solidFill>
                <a:srgbClr val="ffffff"/>
              </a:solidFill>
              <a:latin typeface="Trebuchet MS"/>
            </a:endParaRPr>
          </a:p>
        </p:txBody>
      </p:sp>
      <p:sp>
        <p:nvSpPr>
          <p:cNvPr id="1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verlapping Data Set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ublications may sometimes have overlapping data sets regarding prevalence of genetic variants.</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ome-wide association studies or other large collaborative efforts may pool patients who were previously included in other published studie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 the extent possible, double-counting should be avoided by investigator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Tumor Genetic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genomes may be in a dynamic stat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specimens often contain normal patient cel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pecimen characteristics affect the operation and sensitivity of</a:t>
            </a:r>
            <a:endParaRPr b="0" lang="en-US" sz="2000" spc="-1" strike="noStrike">
              <a:solidFill>
                <a:srgbClr val="ffffff"/>
              </a:solidFill>
              <a:latin typeface="Trebuchet MS"/>
            </a:endParaRPr>
          </a:p>
          <a:p>
            <a:pPr lvl="1" marL="69372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test.</a:t>
            </a:r>
            <a:endParaRPr b="0" lang="en-US" sz="20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4 of 4)</a:t>
            </a:r>
            <a:endParaRPr b="1" lang="en-US" sz="2800" spc="-1" strike="noStrike">
              <a:solidFill>
                <a:srgbClr val="ffffff"/>
              </a:solidFill>
              <a:latin typeface="Trebuchet MS"/>
            </a:endParaRPr>
          </a:p>
        </p:txBody>
      </p:sp>
      <p:sp>
        <p:nvSpPr>
          <p:cNvPr id="1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Illustrative Examples</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4</a:t>
            </a:r>
            <a:endParaRPr b="1" lang="en-US" sz="2800" spc="-1" strike="noStrike">
              <a:solidFill>
                <a:srgbClr val="ffffff"/>
              </a:solidFill>
              <a:latin typeface="Trebuchet MS"/>
            </a:endParaRPr>
          </a:p>
        </p:txBody>
      </p:sp>
      <p:sp>
        <p:nvSpPr>
          <p:cNvPr id="2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ults with depression who are treated with selective serotonin reuptake inhibitors (SSRIs) undergo genetic testing for cytochrome P450 polymorphism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an example of a well-defined predictive genetic testing scenario.</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developed an analytic framework and five key questions to explore the chain of evidence leading to intermediate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found no prospective studies of the use of genotyping to guide treatment that measured clinical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evaluated the links between genotype and metabolism of SSRIs (phenotype), metabolism and SSRI efficacy, and metabolism and adverse drug reactions to SSRIs.</a:t>
            </a:r>
            <a:endParaRPr b="0" lang="en-US" sz="20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1 of 2)</a:t>
            </a:r>
            <a:endParaRPr b="1" lang="en-US" sz="3200" spc="-1" strike="noStrike">
              <a:solidFill>
                <a:srgbClr val="ffffff"/>
              </a:solidFill>
              <a:latin typeface="Trebuchet MS"/>
            </a:endParaRPr>
          </a:p>
        </p:txBody>
      </p:sp>
      <p:sp>
        <p:nvSpPr>
          <p:cNvPr id="204"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1</a:t>
            </a:r>
            <a:endParaRPr b="1" lang="en-US" sz="2800" spc="-1" strike="noStrike">
              <a:solidFill>
                <a:srgbClr val="ffffff"/>
              </a:solidFill>
              <a:latin typeface="Trebuchet MS"/>
            </a:endParaRPr>
          </a:p>
        </p:txBody>
      </p:sp>
      <p:sp>
        <p:nvSpPr>
          <p:cNvPr id="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143000" y="1192320"/>
            <a:ext cx="6781680" cy="482760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nalytic Framework for Gathering Evidence on CYP450 Genotyping         of Adults Receiving SSRI Treatment for Nonpsychotic Depression</a:t>
            </a:r>
            <a:endParaRPr b="0" lang="en-US" sz="16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2 of 2)</a:t>
            </a:r>
            <a:endParaRPr b="1" lang="en-US" sz="3200" spc="-1" strike="noStrike">
              <a:solidFill>
                <a:srgbClr val="ffffff"/>
              </a:solidFill>
              <a:latin typeface="Trebuchet MS"/>
            </a:endParaRPr>
          </a:p>
        </p:txBody>
      </p:sp>
      <p:pic>
        <p:nvPicPr>
          <p:cNvPr id="207" name="Picture 2" descr="This slide shows the analytic framework used to assess the evidence on cytochrome P450 genotyping of adults receiving SSRI treatment for nonpsychotic depression. Each step in the framework represents a Key Question addressed by the review. These questions addressed the links between genotype and metabolism of SSRIs (phenotype), metabolism and SSRI efficacy, and metabolism and adverse drug reactions to SSRIs."/>
          <p:cNvPicPr/>
          <p:nvPr/>
        </p:nvPicPr>
        <p:blipFill>
          <a:blip r:embed="rId1"/>
          <a:stretch/>
        </p:blipFill>
        <p:spPr>
          <a:xfrm>
            <a:off x="1533600" y="1752480"/>
            <a:ext cx="6076800" cy="3324240"/>
          </a:xfrm>
          <a:prstGeom prst="rect">
            <a:avLst/>
          </a:prstGeom>
          <a:ln w="0">
            <a:noFill/>
          </a:ln>
        </p:spPr>
      </p:pic>
      <p:sp>
        <p:nvSpPr>
          <p:cNvPr id="208" name="TextBox 1"/>
          <p:cNvSpPr/>
          <p:nvPr/>
        </p:nvSpPr>
        <p:spPr>
          <a:xfrm>
            <a:off x="1350000" y="5114880"/>
            <a:ext cx="5179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circled numbers refer to the Key Questions addressed.</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RI = selective serotonin reuptake inhibitors</a:t>
            </a:r>
            <a:endParaRPr b="0" lang="en-US" sz="1400" spc="-1" strike="noStrike">
              <a:solidFill>
                <a:srgbClr val="000000"/>
              </a:solidFill>
              <a:latin typeface="Palatino Linotype"/>
            </a:endParaRPr>
          </a:p>
        </p:txBody>
      </p:sp>
      <p:sp>
        <p:nvSpPr>
          <p:cNvPr id="209" name="TextBox 2"/>
          <p:cNvSpPr/>
          <p:nvPr/>
        </p:nvSpPr>
        <p:spPr>
          <a:xfrm>
            <a:off x="4561920" y="176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t>
            </a:r>
            <a:endParaRPr b="0" lang="en-US" sz="1800" spc="-1" strike="noStrike">
              <a:solidFill>
                <a:srgbClr val="000000"/>
              </a:solidFill>
              <a:latin typeface="Palatino Linotype"/>
            </a:endParaRPr>
          </a:p>
        </p:txBody>
      </p:sp>
      <p:sp>
        <p:nvSpPr>
          <p:cNvPr id="210"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193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ment of human epidermal growth factor receptor 2 (HER2) status is used to manage patients with breast cancer and other solid tumors. </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R2 testing is challenging because of substantial heterogeneity and the lack of information related to test methods.</a:t>
            </a:r>
            <a:endParaRPr b="0" lang="en-US" sz="20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ery recently, certain aspects of the HER2 test were standardized.</a:t>
            </a:r>
            <a:endParaRPr b="0" lang="en-US" sz="18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fore standardization, the effects of widely varying test methods could not be isolated.</a:t>
            </a:r>
            <a:endParaRPr b="0" lang="en-US" sz="18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hallenges of HER2 testing were targeted in narrative review with this Key Question:</a:t>
            </a:r>
            <a:endParaRPr b="0" lang="en-US" sz="2000" spc="-1" strike="noStrike">
              <a:solidFill>
                <a:srgbClr val="ffffff"/>
              </a:solidFill>
              <a:latin typeface="Trebuchet MS"/>
            </a:endParaRPr>
          </a:p>
          <a:p>
            <a:pPr lvl="2" marL="905040" indent="-2887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at is the evidence of concordance and discrepancy rates for methods (e.g., fluorescence in situ hybridization, immunohistochemistry, etc.) used to analyze HER2 status in breast tumor tissue?</a:t>
            </a:r>
            <a:endParaRPr b="0" lang="en-US" sz="18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2: HER2 Testing</a:t>
            </a:r>
            <a:endParaRPr b="1" lang="en-US" sz="3200" spc="-1" strike="noStrike">
              <a:solidFill>
                <a:srgbClr val="ffffff"/>
              </a:solidFill>
              <a:latin typeface="Trebuchet MS"/>
            </a:endParaRPr>
          </a:p>
        </p:txBody>
      </p:sp>
      <p:sp>
        <p:nvSpPr>
          <p:cNvPr id="213"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idenfeld J, Samson DJ, Rothenberg BM, et al. Evidence Report/Technology Assessment No. 172. Available at</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ww.ahrq.gov/research/findings/evidence-based-reports/her2-evidence-report.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6840" y="114300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esting for the BRCA mutation is used to predict risk of breast and ovarian cancer in high-risk wome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need for such testing exemplifies the importance of obtaining an accurate family histor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opulation-based BRCA testing is currently not appropriate.</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ll contributing genes are not known.</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utation detection methods are not perfect.</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used to determine risk categories instead.</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t is the key preanalytic factor with influence on analytic valid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a genetic/genomics tool used to:</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dentify people with possible inherited susceptibilitie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uide genetic testing</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elp interpret genetic test result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ssess disease risk</a:t>
            </a:r>
            <a:endParaRPr b="0" lang="en-US" sz="16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1 of 2)</a:t>
            </a:r>
            <a:endParaRPr b="1" lang="en-US" sz="3000" spc="-1" strike="noStrike">
              <a:solidFill>
                <a:srgbClr val="ffffff"/>
              </a:solidFill>
              <a:latin typeface="Trebuchet MS"/>
            </a:endParaRPr>
          </a:p>
        </p:txBody>
      </p:sp>
      <p:sp>
        <p:nvSpPr>
          <p:cNvPr id="216" name="TextBox 1"/>
          <p:cNvSpPr/>
          <p:nvPr/>
        </p:nvSpPr>
        <p:spPr>
          <a:xfrm>
            <a:off x="609480" y="5638680"/>
            <a:ext cx="9220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onas DE, Wilt TJ, Taylor BC, et al. Challenges in and principles for conducting systematic reviews of genetic tests used as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edictive indicators. In: Methods guide for medical test reviews. Available at www.effectivehealthcare.ahrq.gov/medtestsguide.cfm.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elson HD, Huffman LH, Fu R, et al. Ann Intern Med 2005 Sep 6;143(5):362-79. PMID: 16144895.</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 Preventive Services Task Force. Ann Intern Med 2005 Sep 6;143(5):355-61. PMID: 16144894.</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229600" cy="4827600"/>
          </a:xfrm>
          <a:prstGeom prst="rect">
            <a:avLst/>
          </a:prstGeom>
          <a:noFill/>
          <a:ln w="0">
            <a:noFill/>
          </a:ln>
        </p:spPr>
        <p:txBody>
          <a:bodyPr lIns="0" rIns="0" tIns="0" bIns="0" anchor="t">
            <a:normAutofit/>
          </a:bodyPr>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bility of providers to accurately determine a family history that indicates increased risk is needed for BRCA mutation tests and other predictive genetic tests to be usefu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times it is difficult for people to accurately recall whether their relatives have a medical condi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ensitivity and specificity of family history self-reports are important in determining overall usefulness of predictive genetic testing.</a:t>
            </a:r>
            <a:endParaRPr b="0" lang="en-US" sz="22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2 of 2)</a:t>
            </a:r>
            <a:endParaRPr b="1" lang="en-US" sz="3000" spc="-1" strike="noStrike">
              <a:solidFill>
                <a:srgbClr val="ffffff"/>
              </a:solidFill>
              <a:latin typeface="Trebuchet MS"/>
            </a:endParaRPr>
          </a:p>
        </p:txBody>
      </p:sp>
      <p:sp>
        <p:nvSpPr>
          <p:cNvPr id="219"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elson HD, Huffman LH, Fu R, et al. Ann Intern Med 2005 Sep 6;143(5):362-79. PMID: 16144895.</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general principles for evaluating genetic tests are similar to prognostic or predictive tests, but differences exist in their application and relevan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clearly defined clinical scenario and analytic framework are important for evaluating any tes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a:t>
            </a:r>
            <a:r>
              <a:rPr b="0" lang="en-US" sz="2000" spc="-1" strike="noStrike">
                <a:solidFill>
                  <a:srgbClr val="ffffff"/>
                </a:solidFill>
                <a:latin typeface="Arial"/>
                <a:ea typeface="Arial"/>
              </a:rPr>
              <a:t>—</a:t>
            </a:r>
            <a:r>
              <a:rPr b="0" lang="en-US" sz="2000" spc="-1" strike="noStrike">
                <a:solidFill>
                  <a:srgbClr val="ffffff"/>
                </a:solidFill>
                <a:latin typeface="Trebuchet MS"/>
              </a:rPr>
              <a:t>such as the ACCE model (</a:t>
            </a:r>
            <a:r>
              <a:rPr b="0" lang="en-US" sz="2000" spc="-1" strike="noStrike">
                <a:solidFill>
                  <a:srgbClr val="ffc000"/>
                </a:solidFill>
                <a:latin typeface="Trebuchet MS"/>
              </a:rPr>
              <a:t>a</a:t>
            </a:r>
            <a:r>
              <a:rPr b="0" lang="en-US" sz="2000" spc="-1" strike="noStrike">
                <a:solidFill>
                  <a:srgbClr val="ffffff"/>
                </a:solidFill>
                <a:latin typeface="Trebuchet MS"/>
              </a:rPr>
              <a:t>nalytic validity, </a:t>
            </a:r>
            <a:r>
              <a:rPr b="0" lang="en-US" sz="2000" spc="-1" strike="noStrike">
                <a:solidFill>
                  <a:srgbClr val="ffc000"/>
                </a:solidFill>
                <a:latin typeface="Trebuchet MS"/>
              </a:rPr>
              <a:t>c</a:t>
            </a:r>
            <a:r>
              <a:rPr b="0" lang="en-US" sz="2000" spc="-1" strike="noStrike">
                <a:solidFill>
                  <a:srgbClr val="ffffff"/>
                </a:solidFill>
                <a:latin typeface="Trebuchet MS"/>
              </a:rPr>
              <a:t>linical validity, </a:t>
            </a:r>
            <a:r>
              <a:rPr b="0" lang="en-US" sz="2000" spc="-1" strike="noStrike">
                <a:solidFill>
                  <a:srgbClr val="ffc000"/>
                </a:solidFill>
                <a:latin typeface="Trebuchet MS"/>
              </a:rPr>
              <a:t>c</a:t>
            </a:r>
            <a:r>
              <a:rPr b="0" lang="en-US" sz="2000" spc="-1" strike="noStrike">
                <a:solidFill>
                  <a:srgbClr val="ffffff"/>
                </a:solidFill>
                <a:latin typeface="Trebuchet MS"/>
              </a:rPr>
              <a:t>linical utility, and </a:t>
            </a:r>
            <a:r>
              <a:rPr b="0" lang="en-US" sz="2000" spc="-1" strike="noStrike">
                <a:solidFill>
                  <a:srgbClr val="ffc000"/>
                </a:solidFill>
                <a:latin typeface="Trebuchet MS"/>
              </a:rPr>
              <a:t>e</a:t>
            </a:r>
            <a:r>
              <a:rPr b="0" lang="en-US" sz="2000" spc="-1" strike="noStrike">
                <a:solidFill>
                  <a:srgbClr val="ffffff"/>
                </a:solidFill>
                <a:latin typeface="Trebuchet MS"/>
              </a:rPr>
              <a:t>thical, legal, and social implications)</a:t>
            </a:r>
            <a:r>
              <a:rPr b="0" lang="en-US" sz="2000" spc="-1" strike="noStrike">
                <a:solidFill>
                  <a:srgbClr val="ffffff"/>
                </a:solidFill>
                <a:latin typeface="Arial"/>
                <a:ea typeface="Arial"/>
              </a:rPr>
              <a:t>—</a:t>
            </a:r>
            <a:r>
              <a:rPr b="0" lang="en-US" sz="2000" spc="-1" strike="noStrike">
                <a:solidFill>
                  <a:srgbClr val="ffffff"/>
                </a:solidFill>
                <a:latin typeface="Trebuchet MS"/>
              </a:rPr>
              <a:t>and analytic frameworks are useful for evaluating genetic tes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analytic, analytic, and postanalytic factors should be considered when constructing an analytic framework.</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ive genetic tests generally have a time lag between testing and clinically important events.</a:t>
            </a:r>
            <a:endParaRPr b="0" lang="en-US" sz="20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1 of 2)</a:t>
            </a:r>
            <a:endParaRPr b="1" lang="en-US" sz="3200" spc="-1" strike="noStrike">
              <a:solidFill>
                <a:srgbClr val="ffffff"/>
              </a:solidFill>
              <a:latin typeface="Trebuchet MS"/>
            </a:endParaRPr>
          </a:p>
        </p:txBody>
      </p:sp>
      <p:sp>
        <p:nvSpPr>
          <p:cNvPr id="2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ed information on the analytic validity of genetic tests may be difficult to locate</a:t>
            </a:r>
            <a:r>
              <a:rPr b="0" lang="en-US" sz="2400" spc="-1" strike="noStrike">
                <a:solidFill>
                  <a:srgbClr val="ffffff"/>
                </a:solidFill>
                <a:latin typeface="Arial"/>
                <a:ea typeface="Arial"/>
              </a:rPr>
              <a:t>—W</a:t>
            </a:r>
            <a:r>
              <a:rPr b="0" lang="en-US" sz="2400" spc="-1" strike="noStrike">
                <a:solidFill>
                  <a:srgbClr val="ffffff"/>
                </a:solidFill>
                <a:latin typeface="Trebuchet MS"/>
              </a:rPr>
              <a:t>eb sites and gray literature may be important sourc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clinical factors associated with risk are well known, genetic tests should be evaluated for added valu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genome-wide association studies, it should be determined whether the association has been validated in multiple studies to minimize confounding and publication bias and whether appropriate adjustments for multiple comparisons were used.</a:t>
            </a:r>
            <a:endParaRPr b="0" lang="en-US" sz="24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2 of 2)</a:t>
            </a:r>
            <a:endParaRPr b="1" lang="en-US" sz="3200" spc="-1" strike="noStrike">
              <a:solidFill>
                <a:srgbClr val="ffffff"/>
              </a:solidFill>
              <a:latin typeface="Trebuchet MS"/>
            </a:endParaRPr>
          </a:p>
        </p:txBody>
      </p:sp>
      <p:sp>
        <p:nvSpPr>
          <p:cNvPr id="2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which of the following:</a:t>
            </a:r>
            <a:endParaRPr b="0" lang="en-US" sz="24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n risk factor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 sex, hypertension, etc.</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unctional assays</a:t>
            </a:r>
            <a:endParaRPr b="0" lang="en-US" sz="2200" spc="-1" strike="noStrike">
              <a:solidFill>
                <a:srgbClr val="ffffff"/>
              </a:solidFill>
              <a:latin typeface="Trebuchet MS"/>
            </a:endParaRPr>
          </a:p>
          <a:p>
            <a:pPr lvl="1" marL="1004760" indent="-5140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only </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ii, and iii</a:t>
            </a:r>
            <a:endParaRPr b="0" lang="en-US" sz="2200" spc="-1" strike="noStrike">
              <a:solidFill>
                <a:srgbClr val="ffffff"/>
              </a:solidFill>
              <a:latin typeface="Trebuchet MS"/>
            </a:endParaRPr>
          </a:p>
        </p:txBody>
      </p:sp>
      <p:sp>
        <p:nvSpPr>
          <p:cNvPr id="2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Reviewers should assess the added value of using genetic testing technology along with known risk factors. Age, sex, and hypertension are examples of known risk factors that may apply to the disease being studied, and genetic tests should be evaluated in context with known risk factors such as these.</a:t>
            </a:r>
            <a:endParaRPr b="0" lang="en-US" sz="24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tic frameworks for evaluating predictive genetic tests only focus on the preanalytic, analytic, and postanalytic factors that affect the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nalytic frameworks for evaluating predictive genetic tests do include considerations of preanalytic, analytic, and postanalytic factors; however, other factors are also included, such as outcomes, benefits, harms, and the intended use of the test.</a:t>
            </a:r>
            <a:endParaRPr b="0" lang="en-US" sz="24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18960"/>
            <a:ext cx="8229600" cy="502596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s on genetic tests that:</a:t>
            </a:r>
            <a:endParaRPr b="0" lang="en-US" sz="22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Determine risk</a:t>
            </a:r>
            <a:r>
              <a:rPr b="0" lang="en-US" sz="2000" spc="-1" strike="noStrike">
                <a:solidFill>
                  <a:srgbClr val="ffffff"/>
                </a:solidFill>
                <a:latin typeface="Trebuchet MS"/>
              </a:rPr>
              <a:t> in asymptomatic individuals</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BRCA1/BRCA2 hereditary mutations for breast and ovarian cancer</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veal prognostic information </a:t>
            </a:r>
            <a:r>
              <a:rPr b="0" lang="en-US" sz="2000" spc="-1" strike="noStrike">
                <a:solidFill>
                  <a:srgbClr val="ffffff"/>
                </a:solidFill>
                <a:latin typeface="Trebuchet MS"/>
              </a:rPr>
              <a:t>to guide future clinical management and treatment in those with a condition</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the Oncotype Dx</a:t>
            </a:r>
            <a:r>
              <a:rPr b="0" lang="en-US" sz="1800" spc="-1" strike="noStrike" baseline="30000">
                <a:solidFill>
                  <a:srgbClr val="ffffff"/>
                </a:solidFill>
                <a:latin typeface="Trebuchet MS"/>
              </a:rPr>
              <a:t>®</a:t>
            </a:r>
            <a:r>
              <a:rPr b="0" lang="en-US" sz="1800" spc="-1" strike="noStrike">
                <a:solidFill>
                  <a:srgbClr val="ffffff"/>
                </a:solidFill>
                <a:latin typeface="Trebuchet MS"/>
              </a:rPr>
              <a:t> test of acquired tumor genome mutations for breast cancer recurrence</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redict response</a:t>
            </a:r>
            <a:r>
              <a:rPr b="0" lang="en-US" sz="2000" spc="-1" strike="noStrike">
                <a:solidFill>
                  <a:srgbClr val="ffffff"/>
                </a:solidFill>
                <a:latin typeface="Trebuchet MS"/>
              </a:rPr>
              <a:t>, using hereditary genetic makeup, to treatments or environmental factors including:</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et (nutri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rugs (pharmaco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fectious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hemical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hysical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havioral factors</a:t>
            </a:r>
            <a:endParaRPr b="0" lang="en-US" sz="18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rebuchet MS"/>
              </a:rPr>
              <a:t>Background: Genetic Tests (1 of 2)</a:t>
            </a:r>
            <a:endParaRPr b="1" lang="en-US" sz="3200" spc="-1" strike="noStrike">
              <a:solidFill>
                <a:srgbClr val="ffffff"/>
              </a:solidFill>
              <a:latin typeface="Trebuchet MS"/>
            </a:endParaRPr>
          </a:p>
        </p:txBody>
      </p:sp>
      <p:sp>
        <p:nvSpPr>
          <p:cNvPr id="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in the ACCE model refers to which of the follow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ressivit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ectivenes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icac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thical</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vironmental</a:t>
            </a:r>
            <a:endParaRPr b="0" lang="en-US" sz="22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stands for ethical. ACCE is an acronym for </a:t>
            </a:r>
            <a:r>
              <a:rPr b="0" lang="en-US" sz="2400" spc="-1" strike="noStrike">
                <a:solidFill>
                  <a:srgbClr val="ffc000"/>
                </a:solidFill>
                <a:latin typeface="Trebuchet MS"/>
              </a:rPr>
              <a:t>a</a:t>
            </a:r>
            <a:r>
              <a:rPr b="0" lang="en-US" sz="2400" spc="-1" strike="noStrike">
                <a:solidFill>
                  <a:srgbClr val="ffffff"/>
                </a:solidFill>
                <a:latin typeface="Trebuchet MS"/>
              </a:rPr>
              <a:t>nalytic validity, </a:t>
            </a:r>
            <a:r>
              <a:rPr b="0" lang="en-US" sz="2400" spc="-1" strike="noStrike">
                <a:solidFill>
                  <a:srgbClr val="ffc000"/>
                </a:solidFill>
                <a:latin typeface="Trebuchet MS"/>
              </a:rPr>
              <a:t>c</a:t>
            </a:r>
            <a:r>
              <a:rPr b="0" lang="en-US" sz="2400" spc="-1" strike="noStrike">
                <a:solidFill>
                  <a:srgbClr val="ffffff"/>
                </a:solidFill>
                <a:latin typeface="Trebuchet MS"/>
              </a:rPr>
              <a:t>linical validity, </a:t>
            </a:r>
            <a:r>
              <a:rPr b="0" lang="en-US" sz="2400" spc="-1" strike="noStrike">
                <a:solidFill>
                  <a:srgbClr val="ffc000"/>
                </a:solidFill>
                <a:latin typeface="Trebuchet MS"/>
              </a:rPr>
              <a:t>c</a:t>
            </a:r>
            <a:r>
              <a:rPr b="0" lang="en-US" sz="2400" spc="-1" strike="noStrike">
                <a:solidFill>
                  <a:srgbClr val="ffffff"/>
                </a:solidFill>
                <a:latin typeface="Trebuchet MS"/>
              </a:rPr>
              <a:t>linical utility, and </a:t>
            </a:r>
            <a:r>
              <a:rPr b="0" lang="en-US" sz="2400" spc="-1" strike="noStrike">
                <a:solidFill>
                  <a:srgbClr val="ffc000"/>
                </a:solidFill>
                <a:latin typeface="Trebuchet MS"/>
              </a:rPr>
              <a:t>e</a:t>
            </a:r>
            <a:r>
              <a:rPr b="0" lang="en-US" sz="2400" spc="-1" strike="noStrike">
                <a:solidFill>
                  <a:srgbClr val="ffffff"/>
                </a:solidFill>
                <a:latin typeface="Trebuchet MS"/>
              </a:rPr>
              <a:t>thical, legal, and social implications.</a:t>
            </a:r>
            <a:endParaRPr b="0" lang="en-US" sz="2400" spc="-1" strike="noStrike">
              <a:solidFill>
                <a:srgbClr val="ffffff"/>
              </a:solidFill>
              <a:latin typeface="Trebuchet MS"/>
            </a:endParaRPr>
          </a:p>
        </p:txBody>
      </p:sp>
      <p:sp>
        <p:nvSpPr>
          <p:cNvPr id="2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2400" spc="-1" strike="noStrike">
              <a:solidFill>
                <a:srgbClr val="ffffff"/>
              </a:solidFill>
              <a:latin typeface="Trebuchet MS"/>
            </a:endParaRPr>
          </a:p>
        </p:txBody>
      </p:sp>
      <p:sp>
        <p:nvSpPr>
          <p:cNvPr id="2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2193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A: Background concepts. JAMA 2009 Jan 7;301(1):74-81. PMID: 1912681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B: Are the results of the study valid? JAMA 2009 Jan 14;301(2):191-7. PMID: 1914176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tto LD, Yang Q. 5,10-Methylenetetrahydrofolate reductase gene variants and congenital anomalies: a HuGE review. Am J Epidemiol 2000 May 1;151(9):862-77. PMID: 10791559.</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ockton N, Little J, Sharp L, et al. N-acetyltransferase polymorphisms and colorectal cancer: a HuGE review. Am J Epidemiol 2000 May 1;151(9):846-61. PMID: 1079155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urke W, Atkins D, Gwinn M, et al. Genetic test evaluation: information needs of clinicians, policy makers, and the public. Am J Epidemiol 2002 Aug 15;156(4):311-8. PMID: 12181100.</a:t>
            </a:r>
            <a:endParaRPr b="0" lang="en-US" sz="2000" spc="-1" strike="noStrike">
              <a:solidFill>
                <a:srgbClr val="ffffff"/>
              </a:solidFill>
              <a:latin typeface="Trebuchet MS"/>
            </a:endParaRPr>
          </a:p>
        </p:txBody>
      </p:sp>
      <p:sp>
        <p:nvSpPr>
          <p:cNvPr id="2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poraso N. Selection of candidate genes for population studies. IARC Sci Publ 1999;(148):23-36. PMID: 10493246.</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enters for Disease Control and Prevention. Public Health Genomics. Genomic Testing. ACCE Model Process for Evaluating Genetic Tests. Available at www.cdc.gov/genomics/gtesting/ACCE/index.htm. Accessed August 22, 2011.</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in KM, Wessler B, Chew P, et al. Genetic Tests for Cancer. Technology Assessment (Prepared by the Tufts</a:t>
            </a:r>
            <a:r>
              <a:rPr b="0" lang="en-US" sz="2000" spc="-1" strike="noStrike">
                <a:solidFill>
                  <a:srgbClr val="ffffff"/>
                </a:solidFill>
                <a:latin typeface="Arial"/>
                <a:ea typeface="Arial"/>
              </a:rPr>
              <a:t>–New England Medical Center Evidence-based Practice Center under Contract No. 290-02-0022)</a:t>
            </a:r>
            <a:r>
              <a:rPr b="0" lang="en-US" sz="2000" spc="-1" strike="noStrike">
                <a:solidFill>
                  <a:srgbClr val="ffffff"/>
                </a:solidFill>
                <a:latin typeface="Trebuchet MS"/>
              </a:rPr>
              <a:t>. Rockville, MD: Agency for Healthcare Research and Quality; January 2006. Available at www.archive.ahrq.gov/clinic/ta/ gentests/gentests.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tton SC, Sharp L, Little J, et al. Glutathione S-transferase polymorphisms and colorectal cancer: a HuGE review. Am J Epidemiol 2000 Jan 1;151(1):7-32. PMID: 10625170.</a:t>
            </a:r>
            <a:endParaRPr b="0" lang="en-US" sz="2000" spc="-1" strike="noStrike">
              <a:solidFill>
                <a:srgbClr val="ffffff"/>
              </a:solidFill>
              <a:latin typeface="Trebuchet MS"/>
            </a:endParaRPr>
          </a:p>
        </p:txBody>
      </p:sp>
      <p:sp>
        <p:nvSpPr>
          <p:cNvPr id="2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344600"/>
            <a:ext cx="830592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rrico A, Malats N, Vineis P, et al. Review of studies of selected metabolic polymorphisms and cancer. IARC Sci Publ 1999;(148):323-93. PMID: 1049326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rman JS, Bunker CH. HLA-DQ locus of the human leukocyte antigen complex and type 1 diabetes mellitus: a HuGE review. Epidemiol Rev 2000;22(2):218-27. PMID: 1121837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le KB, Ford AM, Repp R, et al. Backtracking leukemia to birth: identification of clonotypic gene fusion sequences in neonatal blood spots. Proc Natl Acad Sci USA 1997 Dec;94(25):13950-4. PMID: 939113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cia-Closas M, Egan KM, Abruzzo J, et al. Collection of genomic DNA from adults in epidemiological studies by buccal cytobrush and mouthwash. Cancer Epidemiol Biomarkers Prev 2001 Jun;10(6):687-96. PMID: 11401920.</a:t>
            </a:r>
            <a:endParaRPr b="0" lang="en-US" sz="2000" spc="-1" strike="noStrike">
              <a:solidFill>
                <a:srgbClr val="ffffff"/>
              </a:solidFill>
              <a:latin typeface="Trebuchet MS"/>
            </a:endParaRPr>
          </a:p>
        </p:txBody>
      </p:sp>
      <p:sp>
        <p:nvSpPr>
          <p:cNvPr id="2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95280"/>
            <a:ext cx="8305920" cy="4827600"/>
          </a:xfrm>
          <a:prstGeom prst="rect">
            <a:avLst/>
          </a:prstGeom>
          <a:noFill/>
          <a:ln w="0">
            <a:noFill/>
          </a:ln>
        </p:spPr>
        <p:txBody>
          <a:bodyPr lIns="0" rIns="0" tIns="0" bIns="0" anchor="t">
            <a:normAutofit fontScale="98000"/>
          </a:bodyPr>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ris RP, Helfand M, Woolf SH, et al; Methods Work Group, Third US Preventive Services Task Force. Current methods of the US Preventive Services Task Force: a review of the process. Am J Prev Med 2001 Apr;20(3 Suppl):21-35. PMID: 11306229.</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y LC, Shields PG, Winn DM, et al. Self-collection of oral epithelial cell DNA under instruction from epidemiologic interviewers. Am J Epidemiol 2000 Jan 15;151(2):199-205. PMID: 10645823.</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ggart CJ, Clark TG, De Iorio M, et al. Genome-wide significance for dense SNP and resequencing data. Genet Epidemiol 2008 Feb;32(2): 179-85. PMID: 18200594.</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900" spc="-1" strike="noStrike">
              <a:solidFill>
                <a:srgbClr val="ffffff"/>
              </a:solidFill>
              <a:latin typeface="Trebuchet MS"/>
            </a:endParaRPr>
          </a:p>
        </p:txBody>
      </p:sp>
      <p:sp>
        <p:nvSpPr>
          <p:cNvPr id="2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Khoury MJ, Dorman JS. The Human Genome Epidemiology Network. Am J Epidemiol 1998 Jul 1;148(1):1-3. PMID: 966339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ster Hill National Center for Biomedical Communications. Genetics Home Reference: What are reduced penetrance and variable expressivity? Available at www.ghr.nlm.nih.gov/ handbook/inheritance/penetranceexpressivity. Accessed August 22, 2011.</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ttle J, Bradley L, Bray MS, et al. Reporting, appraising, and integrating data on genotype prevalence and gene-disease associations. Am J Epidemiol 2002 Aug 15;156(4):300-10. PMID: 12181099.</a:t>
            </a:r>
            <a:endParaRPr b="0" lang="en-US" sz="21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 evidence/pdf/cyp450/cyp450.pdf.</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cCarthy MI, Abecasis GR, Cardon LR, et al. Genome-wide association studies for complex traits: consensus, uncertainty and challenges. Nat Rev Genet 2008 May;9(5):356-69. PMID: 18398418.</a:t>
            </a:r>
            <a:endParaRPr b="0" lang="en-US" sz="2100" spc="-1" strike="noStrike">
              <a:solidFill>
                <a:srgbClr val="ffffff"/>
              </a:solidFill>
              <a:latin typeface="Trebuchet MS"/>
            </a:endParaRPr>
          </a:p>
        </p:txBody>
      </p:sp>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lomaki GE, Bradley LA, Richards CS, et al. Analytic validity of cystic fibrosis testing: a preliminary estimate. Genet Med 2003 Jan-Feb;5(1):15-20. PMID: 12544471.</a:t>
            </a:r>
            <a:endParaRPr b="0" lang="en-US" sz="20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factors specifically affecting hereditary genetic tests need to be taken into account. These ar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etrance of the diseas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able expressiv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leiotrop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 lag to outcome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first three terms (penetrance, variable expressivity, and pleiotropy) usually refer to single-gene disorder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gle-gene disorder: Occurs as the result of a single mutated gene; is inherited in well-described way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enic disorder: Occurs as the result of combined action of more than one gene; is not inherited in simple Mendelian patterns</a:t>
            </a:r>
            <a:endParaRPr b="0" lang="en-US" sz="20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Genetic Tests (2 of 2)</a:t>
            </a:r>
            <a:endParaRPr b="1" lang="en-US" sz="3200" spc="-1" strike="noStrike">
              <a:solidFill>
                <a:srgbClr val="ffffff"/>
              </a:solidFill>
              <a:latin typeface="Trebuchet MS"/>
            </a:endParaRPr>
          </a:p>
        </p:txBody>
      </p:sp>
      <p:sp>
        <p:nvSpPr>
          <p:cNvPr id="1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Updated assessment of cystic fibrosis mutation frequencies in non-Hispanic Caucasians. Genet Med 2002 Mar-Apr;4(2):90-4. PMID: 1188278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Estimated analytic validity of HFE C282Y mutation testing in population screening: the potential value of confirmatory testing. Genet Med 2003 Nov-Dec;5(6):440-3. PMID: 14614395.</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hunkert H, Gotz A, Braund P, et al; Cardiogenics Consortium. Repeated replication and a prospective meta-analysis of the association between chromosome 9p21.3 and coronary artery disease. Circulation 2008 Apr 1;117(13):1675-84. PMID: 18362232.</a:t>
            </a:r>
            <a:endParaRPr b="0" lang="en-US" sz="21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93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 findings/evidence-based-reports/her2-evidence-report.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20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eutsch SM, Bradley LA, Palomaki GE, et al. The Evaluation of Genomic Applications in Practice and Prevention (EGAPP) Initiative: methods of the EGAPP Working Group. Genet Med 2009 Jan;11(1):3-14. PMID: 18813139.</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 Preventive Services Task Force. Genetic risk assessment and BRCA mutation testing for breast and ovarian cancer susceptibility: recommendation statement. Ann Intern Med 2005 Sep 6;143(5):355-61. PMID: 16144894.</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lker AH, Najarian D, White DL, et al. Collection of genomic DNA by buccal swabs for polymerase chain reaction-based biomarker assays. Environ Health Perspect 1999 Jul;107(7):517-20. PMID: 10378997.</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itlock EP, Garlitz BA, Harris EL, et al. Screening for hereditary hemochromatosis: a systematic review for the U.S. Preventive Services Task Force. Ann Intern Med 2006 Aug 1;145(3):209-23. PMID: 16880463.</a:t>
            </a:r>
            <a:endParaRPr b="0" lang="en-US" sz="19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0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iams JA, Johnson K, Paulauskis J, et al. So many studies, too few subjects: establishing functional relevance of genetic polymorphisms on pharmacokinetics. J Clin Pharmacol 2006 Mar;46(3):258-64. PMID: 1649080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ang M, Hendrie HC, Hall KS, et al. Improved procedure for eluting DNA from dried blood spots. Clin Chem 1996 Jul;42(7):1115-6. PMID: 8674202.</a:t>
            </a:r>
            <a:endParaRPr b="0" lang="en-US" sz="2000" spc="-1" strike="noStrike">
              <a:solidFill>
                <a:srgbClr val="ffffff"/>
              </a:solidFill>
              <a:latin typeface="Trebuchet MS"/>
            </a:endParaRPr>
          </a:p>
        </p:txBody>
      </p:sp>
      <p:sp>
        <p:nvSpPr>
          <p:cNvPr id="26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2</a:t>
            </a:r>
            <a:endParaRPr b="1" lang="en-US" sz="2800" spc="-1" strike="noStrike">
              <a:solidFill>
                <a:srgbClr val="ffffff"/>
              </a:solidFill>
              <a:latin typeface="Trebuchet MS"/>
            </a:endParaRPr>
          </a:p>
        </p:txBody>
      </p:sp>
      <p:sp>
        <p:nvSpPr>
          <p:cNvPr id="10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netrance</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enetrance is the proportion of people with a particular genetic change who exhibit signs and symptoms of a disorder.</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essential in determining the future risk of developing a disease and for assessing clinical utility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ata may be lacking to estimate penetrance.</a:t>
            </a:r>
            <a:endParaRPr b="0" lang="en-US" sz="2600" spc="-1" strike="noStrike">
              <a:solidFill>
                <a:srgbClr val="ffffff"/>
              </a:solidFill>
              <a:latin typeface="Trebuchet MS"/>
            </a:endParaRPr>
          </a:p>
        </p:txBody>
      </p:sp>
      <p:sp>
        <p:nvSpPr>
          <p:cNvPr id="10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1 of 6)</a:t>
            </a:r>
            <a:endParaRPr b="1" lang="en-US" sz="3000" spc="-1" strike="noStrike">
              <a:solidFill>
                <a:srgbClr val="ffffff"/>
              </a:solidFill>
              <a:latin typeface="Trebuchet MS"/>
            </a:endParaRPr>
          </a:p>
        </p:txBody>
      </p:sp>
      <p:sp>
        <p:nvSpPr>
          <p:cNvPr id="107"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Variable Expressivit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Variable expressivity is the range of severity of symptoms among different people with the same condition.</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Hemochromatosis manifests into a wide spectrum of symptoms that vary in severity from mild to life threatening.</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degree of expressivity should be considered in evaluating genetic tests.</a:t>
            </a:r>
            <a:endParaRPr b="0" lang="en-US" sz="2600" spc="-1" strike="noStrike">
              <a:solidFill>
                <a:srgbClr val="ffffff"/>
              </a:solidFill>
              <a:latin typeface="Trebuchet MS"/>
            </a:endParaRPr>
          </a:p>
        </p:txBody>
      </p:sp>
      <p:sp>
        <p:nvSpPr>
          <p:cNvPr id="10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2 of 6)</a:t>
            </a:r>
            <a:endParaRPr b="1" lang="en-US" sz="3000" spc="-1" strike="noStrike">
              <a:solidFill>
                <a:srgbClr val="ffffff"/>
              </a:solidFill>
              <a:latin typeface="Trebuchet MS"/>
            </a:endParaRPr>
          </a:p>
        </p:txBody>
      </p:sp>
      <p:sp>
        <p:nvSpPr>
          <p:cNvPr id="110"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5:44:51Z</dcterms:created>
  <dc:creator>Alex P Vaz</dc:creator>
  <dc:description/>
  <dc:language>en-US</dc:language>
  <cp:lastModifiedBy>Tony Adams</cp:lastModifiedBy>
  <dcterms:modified xsi:type="dcterms:W3CDTF">2013-05-30T12:18:17Z</dcterms:modified>
  <cp:revision>277</cp:revision>
  <dc:subject/>
  <dc:title>PowerPoint Presentation</dc:title>
</cp:coreProperties>
</file>