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wmf" ContentType="image/x-wmf"/>
  <Override PartName="/ppt/media/image7.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00E8-72C1-442A-B5E6-AC9B82C6DB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ta-analysis of Test Performance When There Is a </a:t>
            </a:r>
            <a:r>
              <a:rPr b="1" lang="ja-JP" sz="1200" spc="-1" strike="noStrike">
                <a:solidFill>
                  <a:srgbClr val="000000"/>
                </a:solidFill>
                <a:latin typeface="Calibri"/>
              </a:rPr>
              <a:t>“</a:t>
            </a:r>
            <a:r>
              <a:rPr b="1" lang="en-US" sz="1200" spc="-1" strike="noStrike">
                <a:solidFill>
                  <a:srgbClr val="000000"/>
                </a:solidFill>
                <a:latin typeface="Calibri"/>
              </a:rPr>
              <a:t>Gold Standard</a:t>
            </a:r>
            <a:r>
              <a:rPr b="1"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8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discusses how to conduct a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for Addressing th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principles described in this module for addressing the challenges in summarizing performance data on a diagnostic test. The first suggests deciding on the most informative way to summarize the data using either a summary point, a summary line, or both. This is a subjective decision without hard-and-fast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rinciple suggests exploring the variability between study results with graphs and analysis without relying on a single summary stat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ich Metrics To Meta-analyze (1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viewer must decide which summary statistics will be most helpful when presenting the data on a diagnostic test. Many performance statistics </a:t>
            </a:r>
            <a:r>
              <a:rPr b="0" lang="en-US" sz="1200" spc="-1" strike="noStrike">
                <a:solidFill>
                  <a:srgbClr val="000000"/>
                </a:solidFill>
                <a:latin typeface="Calibri"/>
                <a:ea typeface="Arial"/>
              </a:rPr>
              <a:t>—</a:t>
            </a:r>
            <a:r>
              <a:rPr b="0" lang="en-US" sz="1200" spc="-1" strike="noStrike">
                <a:solidFill>
                  <a:srgbClr val="000000"/>
                </a:solidFill>
                <a:latin typeface="Calibri"/>
              </a:rPr>
              <a:t> including sensitivity, specificity, positive predictive value, and negative predictive value </a:t>
            </a:r>
            <a:r>
              <a:rPr b="0" lang="en-US" sz="1200" spc="-1" strike="noStrike">
                <a:solidFill>
                  <a:srgbClr val="000000"/>
                </a:solidFill>
                <a:latin typeface="Calibri"/>
                <a:ea typeface="Arial"/>
              </a:rPr>
              <a:t>—</a:t>
            </a:r>
            <a:r>
              <a:rPr b="0" lang="en-US" sz="1200" spc="-1" strike="noStrike">
                <a:solidFill>
                  <a:srgbClr val="000000"/>
                </a:solidFill>
                <a:latin typeface="Calibri"/>
              </a:rPr>
              <a:t> are all interrelated and can be calculated with simple formulas when prevalence is known. If a meta-analysis was performed on each metric, the summary metric across all the studies would not be consistent with the usual formulas. A better approach is to perform meta-analyses for the sensitivities and specificities and then back-calculate the summary predictive values or likelihood ratios using the usual formulas. This can be done for a range of prevalence val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ich Metrics To Meta-analyze (2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llustrates the strategy for meta-analyzing sensitivity and specificity for the individual studies and then back-calculating the other performance statistics for a plausible range of prevalenc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ding Which Metrics To Meta-analyze (3 of 6)</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etrics of sensitivity and specificity are suggested as the most reasonable for meta-analysis for several reason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y align with our understanding of the effect that positivity thresholds can have on diagnostic tes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y are often considered independent of prevalenc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 summary numbers will always be between 0 and 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They cannot be as intuitively interpreted using formulas for back calculation as when compared with the other metric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eeflang MM, Bossuyt PM, Irwig L. Diagnostic test accuracy may vary with prevalence: implications for evidence-based diagnosis. J Clin Epidemiol 2009 Jan;62(1):5-12. PMID: 1877891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77891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ong TW. Understanding sensitivity and specificity with the right side of the brain. BMJ 2003 Sep 27;327(7417):716-9. PMID: 1451247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512479</a:t>
            </a:r>
            <a:endParaRPr b="0" lang="en-US" sz="10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ciding Which Metrics To Meta-analyze (4 of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ess helpful to meta-analyze predictive values because they are dependent on prevalence. Prevalence is often wide-ranging and cannot be estimated from case-control studies which is the main study design available for medical tests. It is more useful to back-calculate predictive values using summary sensitivity and specificity metrics for a range of plausible prevalenc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ciding Which Metrics To Meta-analyze (5 of 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ikelihood ratios are also problematic metrics for a meta-analysis. It </a:t>
            </a:r>
            <a:r>
              <a:rPr b="0" i="1" lang="en-US" sz="900" spc="-1" strike="noStrike">
                <a:solidFill>
                  <a:srgbClr val="000000"/>
                </a:solidFill>
                <a:latin typeface="Calibri"/>
              </a:rPr>
              <a:t>is</a:t>
            </a:r>
            <a:r>
              <a:rPr b="0" lang="en-US" sz="900" spc="-1" strike="noStrike">
                <a:solidFill>
                  <a:srgbClr val="000000"/>
                </a:solidFill>
                <a:latin typeface="Calibri"/>
              </a:rPr>
              <a:t> possible to combine likelihood ratios across studies when there is no threshold variation, but this does not guarantee internal consistency. Summary likelihood ratios may correspond to summary sensitivities and specificities that do not make sense, such as results that are less than 0 or greater than 1. Back-calculating the likelihood ratios using summary sensitivity and specificity metrics avoids this complication. However, this is not a common case; often the results of the meta-analysis are the same as those of the back calculation.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eeks JJ, Altman DG. Diagnostic tests 4: likelihood ratios. BMJ 2004 Jul 17;329(7458):168-9. PMID: 152580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2580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mel DL, Bossuyt PM. Differences between univariate and bivariate models for summarizing diagnostic accuracy may not be large. J Clin Epidemiol 2009 Dec;62(12):1292-300. PMID: 1944700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44700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Zwinderman AH, Bossuyt PM. We should not pool diagnostic likelihood ratios in systematic reviews. Stat Med 2008 Feb 28;27(5):687-97. PMID: 1761195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611957</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Deciding Which Metrics To Meta-analyze (6 of 6)</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meta-analysis of diagnostic odds ratios is straightforward and follows standard meta-analysis methods. The ratio is closely linked to sensitivity, specificity, and likelihood ratios. It can easily be included in meta-regression models to look at the impact of variables on between-study heterogeneity. Disadvantages of using diagnostic odds ratios in a meta-analysis include the challenges in interpreting them and the impossibility of weighing the true-positive and false-positive rates separatel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 R, Gartlehner G, Grant M, et al. Conducting quantitative synthesis when comparing medical interventions: AHRQ and the Effective Health Care Program. J Clin Epidemiol 2011 Nov;64(11):1187-97. PMID: 2147799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2147799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las AS, Lijmer JG, Prins MH, et al. The diagnostic odds ratio: a single indicator of test performance. J Clin Epidemiol 2003 Nov;56(11):1129-35. PMID: 1461500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4615004</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sired Characteristics of Meta-analytic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challenges discussed so far, meta-analytic methods should respect the multivariate nature of test performance metrics such as sensitivity and specificity, allow for nonindependence between sensitivity and specificity across studies, and allow for between-study heterogeneity or variability in the data beyond that explained by statistical distribution within each study. The most theoretically motivated approaches to meta-analysis are based on multivariate methods, also known as hierarchical mod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802040"/>
          </a:xfrm>
          <a:prstGeom prst="rect">
            <a:avLst/>
          </a:prstGeom>
          <a:noFill/>
          <a:ln w="0">
            <a:noFill/>
          </a:ln>
        </p:spPr>
        <p:txBody>
          <a:bodyPr lIns="93240" rIns="93240" tIns="46440" bIns="4644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Preferred Methods for Obtaining a Summary Point (1 of 4)</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Certain methods are preferred for obtaining a summary point for sensitivity and specificity across studies in a meta-analysis. Ideally, the analysis of both quantities should be performed jointly using multivariate meta-analysis versus separate univariate meta-analysis. There are two families of advanced hierarchical modeling available for this type of meta-analysis. One is a </a:t>
            </a:r>
            <a:r>
              <a:rPr b="0" i="1" lang="en-US" sz="700" spc="-1" strike="noStrike">
                <a:solidFill>
                  <a:srgbClr val="000000"/>
                </a:solidFill>
                <a:latin typeface="Calibri"/>
              </a:rPr>
              <a:t>bivariate</a:t>
            </a:r>
            <a:r>
              <a:rPr b="0" lang="en-US" sz="700" spc="-1" strike="noStrike">
                <a:solidFill>
                  <a:srgbClr val="000000"/>
                </a:solidFill>
                <a:latin typeface="Calibri"/>
              </a:rPr>
              <a:t> model. The other is a </a:t>
            </a:r>
            <a:r>
              <a:rPr b="0" i="1" lang="en-US" sz="700" spc="-1" strike="noStrike">
                <a:solidFill>
                  <a:srgbClr val="000000"/>
                </a:solidFill>
                <a:latin typeface="Calibri"/>
              </a:rPr>
              <a:t>hierarchical summary receiver operator characteristic</a:t>
            </a:r>
            <a:r>
              <a:rPr b="0" lang="en-US" sz="700" spc="-1" strike="noStrike">
                <a:solidFill>
                  <a:srgbClr val="000000"/>
                </a:solidFill>
                <a:latin typeface="Calibri"/>
              </a:rPr>
              <a:t> model. Both use two levels to model the statistical distributions of data. At the first level, they model the within-study variability using the counts from the 2 × 2 table. At the second level, they model between-study variability to allow for the theoretically expected nonindependence of sensitivity and specificity across studi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rikalinos TA, Coleman CI, Griffith L, et al. Meta-analysis of test performance when there is a </a:t>
            </a:r>
            <a:r>
              <a:rPr b="0" lang="ja-JP" sz="700" spc="-1" strike="noStrike">
                <a:solidFill>
                  <a:srgbClr val="000000"/>
                </a:solidFill>
                <a:latin typeface="Calibri"/>
              </a:rPr>
              <a:t>“</a:t>
            </a:r>
            <a:r>
              <a:rPr b="0" lang="en-US" sz="700" spc="-1" strike="noStrike">
                <a:solidFill>
                  <a:srgbClr val="000000"/>
                </a:solidFill>
                <a:latin typeface="Calibri"/>
              </a:rPr>
              <a:t>gold standard.</a:t>
            </a:r>
            <a:r>
              <a:rPr b="0" lang="ja-JP" sz="700" spc="-1" strike="noStrike">
                <a:solidFill>
                  <a:srgbClr val="000000"/>
                </a:solidFill>
                <a:latin typeface="Calibri"/>
              </a:rPr>
              <a:t>”</a:t>
            </a:r>
            <a:r>
              <a:rPr b="0" lang="en-US" sz="7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rbord RM, Whiting P, Sterne JA, et al. An empirical comparison of methods for meta-analysis of diagnostic accuracy showed hierarchical models are necessary. J Clin Epidemiol 2008 Nov;61(11):1095-103. PMID: 19208372.</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9208372</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Lau J, Ioannidis JP, Schmid CH. Summing up evidence: one answer is not always enough. Lancet 1998 Jan 10;351(9096):123-7. PMID: 943950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943950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itsma JB, Glas AS, Rutjes AW, et al. Bivariate analysis of sensitivity and specificity produces informative summary measures in diagnostic reviews. J Clin Epidemiol 2005 Oct;58(10):982-90. PMID: 1616834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168343</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ley RD, Abrams KR, Lambert PC, et al. An evaluation of bivariate random-effects meta-analysis for the joint synthesis of two correlated outcomes. Stat Med 2007 Jan 15;26(1):78-97. PMID: 16526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52601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iley RD, Abrams KR, Sutton AJ, et al. Bivariate random-effects meta-analysis and the estimation of between-study correlation. BMC Med Res Methodol 2007 Jan 12;7:3. PMID: 1722233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7222330</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utter CM, Gatsonis CA. Regression methods for meta-analysis of diagnostic test data. Acad Radiol 1995 Mar;2 Suppl 1:S48-56; discussion S65-7, S70-1 pas. PMID: 941970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9419705</a:t>
            </a:r>
            <a:endParaRPr b="0" lang="en-US" sz="7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ferred Methods for Obtaining a Summary Point (2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two families of hierarchical models differ in the parameters used at the second level when modeling the between-study variability. The bivariate model uses parameters that are transformations of the average sensitivity and specificity. The hierarchical summary receiver operator characteristic (HSROC) model uses a scale parameter and an accuracy parameter that are both functions of sensitivity and specificity. These parameters also define an underlying HSROC curve. Both families of hierarchical models are mathematically equivalent in the absence of covariat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bord RM, Deeks JJ, Egger M, et al. A unification of models for meta-analysis of diagnostic accuracy studies. Biostatistics 2007 Apr;8(2):239-51. PMID: 1669876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669876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ulherin SA, Miller WC. Spectrum bias or spectrum effect? Subgroup variation in diagnostic test evaluation. Ann Intern Med 2002 Oct 1;137(7):598-602. PMID: 1235394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2353947</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graphically display the summary diagnostic test performance data for a medical test that has a gold standard for comparison, explain the need for multivariate or joint analysis of sensitivity and specificity as they show dependence across multiple studies, and describe choices for the meta-analysis to summarize test performance depending on whether sensitivity and specificity vary or not between the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eferred Methods for Obtaining a Summary Point (3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covariates are used to look at between-study heterogeneity, choosing between the two families of hierarchical modeling becomes important. The bivariate approach is best when between-study variation in disease severity will likely affect sensitivity but not specificity. The bivariate model allows direct evaluation of the difference in sensitivity or specificity or bot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pectrum effects are present</a:t>
            </a:r>
            <a:r>
              <a:rPr b="0" lang="en-US" sz="1100" spc="-1" strike="noStrike">
                <a:solidFill>
                  <a:srgbClr val="000000"/>
                </a:solidFill>
                <a:latin typeface="Calibri"/>
                <a:ea typeface="Arial"/>
              </a:rPr>
              <a:t>—</a:t>
            </a:r>
            <a:r>
              <a:rPr b="0" lang="en-US" sz="1100" spc="-1" strike="noStrike">
                <a:solidFill>
                  <a:srgbClr val="000000"/>
                </a:solidFill>
                <a:latin typeface="Calibri"/>
              </a:rPr>
              <a:t>where the study participants are not representative of the patients who will receive the test in practice—test accuracy may be affected but not the threshold. This would be best investigated using the HSROC approach. It allows direct evaluation of the difference in accuracy or threshold parameters or both.</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bord RM, Deeks JJ, Egger M, et al. A unification of models for meta-analysis of diagnostic accuracy studies. Biostatistics 2007 Apr;8(2):239-51. PMID: 16698768.</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6698768</a:t>
            </a:r>
            <a:endParaRPr b="0" lang="en-US" sz="11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ferred Methods for Obtaining a Summary Point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summary in table format of the methods available to calculate a summary point. An independent meta-analysis of sensitivity and specificity can be done, or a joint meta-analysis of both based on hierarchical modeling. The first option requires a separate meta-analysis for each metric and is better for modeling within-study variability. It ignores the correlation between sensitivity and specificity and underestimates the summary metrics. The multivariate modeling of sensitivity and specificity is generally preferred. The two families of models are considered equivalent when no covariates are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eferred Methods for Obtaining a Summary Line (1 of 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hen a summary line is desired to present data on available studies, hierarchical modeling is recommended. There are simpler approaches, but they are not optimal. When there are no covariates, hierarchical summary receiver operator characteristic lines can be calculated from the parameters of the bivariate random-effects models using formulas. The fitted bivariate model can help calculate a whole range of hierarchical summary lines. An example is the model proposed by Rutter and Gatsonis. Using their model, the various lines represent alternative characterizations of the bivariate distribution of sensitivity and specificity. The lines curve as summary sensitivity changes with summary specificity.</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Coleman CI, Griffith L, et al. Meta-analysis of test performance when there is a </a:t>
            </a:r>
            <a:r>
              <a:rPr b="0" lang="ja-JP" sz="800" spc="-1" strike="noStrike">
                <a:solidFill>
                  <a:srgbClr val="000000"/>
                </a:solidFill>
                <a:latin typeface="Calibri"/>
              </a:rPr>
              <a:t>“</a:t>
            </a:r>
            <a:r>
              <a:rPr b="0" lang="en-US" sz="800" spc="-1" strike="noStrike">
                <a:solidFill>
                  <a:srgbClr val="000000"/>
                </a:solidFill>
                <a:latin typeface="Calibri"/>
              </a:rPr>
              <a:t>gold standard.</a:t>
            </a:r>
            <a:r>
              <a:rPr b="0" lang="ja-JP" sz="800" spc="-1" strike="noStrike">
                <a:solidFill>
                  <a:srgbClr val="000000"/>
                </a:solidFill>
                <a:latin typeface="Calibri"/>
              </a:rPr>
              <a:t>”</a:t>
            </a:r>
            <a:r>
              <a:rPr b="0" lang="en-US" sz="8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ends LR, Hamza TH, van Houwelingen JC, et al. Bivariate random effects meta-analysis of ROC curves. Med Decis Making 2008 Sep-Oct;28(5):621-38. PMID: 1859154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59154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happell FM, Raab GM, Wardlaw JM. When are summary ROC curves appropriate for diagnostic meta-analyses? Stat Med 2009 Sep 20;28(21):2653-68. PMID: 1959111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59111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bord RM, Deeks JJ, Egger M, et al. A unification of models for meta-analysis of diagnostic accuracy studies. Biostatistics 2007 Apr;8(2):239-51. PMID: 1669876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698768</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utter CM, Gatsonis CA. Regression methods for meta-analysis of diagnostic test data. Acad Radiol 1995 Mar;2 Suppl 1:S48-56; discussion S65-7, S70-1 pas. PMID: 9419705.</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9419705</a:t>
            </a:r>
            <a:endParaRPr b="0" lang="en-US" sz="8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Preferred Methods for Obtaining a Summary Line (2 of 2)</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is table lists the alternative methods for developing a summary line. The first two rows summarize the simpler methods along with their potential drawbacks in the final column. These methods include the Moses-Littenberg model and the random intercept augmentation of the Moses-Littenberg model. The third row describes the method of developing a summary receiver operator characteristic based on hierarchical modeling. This third method is more complicated but is preferred.</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Coleman CI, Griffith L, et al. Meta-analysis of test performance when there is a </a:t>
            </a:r>
            <a:r>
              <a:rPr b="0" lang="ja-JP" sz="600" spc="-1" strike="noStrike">
                <a:solidFill>
                  <a:srgbClr val="000000"/>
                </a:solidFill>
                <a:latin typeface="Calibri"/>
              </a:rPr>
              <a:t>“</a:t>
            </a:r>
            <a:r>
              <a:rPr b="0" lang="en-US" sz="600" spc="-1" strike="noStrike">
                <a:solidFill>
                  <a:srgbClr val="000000"/>
                </a:solidFill>
                <a:latin typeface="Calibri"/>
              </a:rPr>
              <a:t>gold standard.</a:t>
            </a:r>
            <a:r>
              <a:rPr b="0" lang="ja-JP" sz="600" spc="-1" strike="noStrike">
                <a:solidFill>
                  <a:srgbClr val="000000"/>
                </a:solidFill>
                <a:latin typeface="Calibri"/>
              </a:rPr>
              <a:t>”</a:t>
            </a:r>
            <a:r>
              <a:rPr b="0" lang="en-US" sz="6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ardaun JW, Kardaun OJ. Comparative diagnostic performance of three radiological procedures for the detection of lumbar disk herniation. Methods Inf Med 1990 Jan;29(1):12-22. PMID: 230852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230852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ttenberg B, Moses LE. Estimating diagnostic accuracy from multiple conflicting reports: a new meta-analytic method. Med Decis Making 1993 Oct-Dec;13(4):313-21. PMID: 824670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824670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oses LE, Shapiro D, Littenberg B. Combining independent studies of a diagnostic test into a summary ROC curve: data-analytic approaches and some additional considerations. Stat Med 1993 Jul 30;12(14):1293-316. PMID: 821082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821082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ei EH, Nikken JJ, Verstijnen AC, et al. MR imaging of the menisci and cruciate ligaments: a systematic review. Radiology 2003 Mar;226(3):837-48. PMID: 126012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60121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utter CM, Gatsonis CA. Regression methods for meta-analysis of diagnostic test data. Acad Radiol 1995 Mar;2 Suppl 1:S48-56; discussion S65-7, S70-1 pas. PMID: 94197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94197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Visser K, Hunink MG. Peripheral arterial disease: gadolinium-enhanced MR angiography versus color-guided duplex US--a meta-analysis. Radiology 2000 Jul;216(1):67-77. PMID: 1088722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887229</a:t>
            </a:r>
            <a:endParaRPr b="0" lang="en-US" sz="6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pecial Case: Joint Analysis of Sensitivity and Specificity With Multiple Thresholds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ome studies will report multiple sensitivity and specificity pairs at several thresholds for positive tests. This requires special consideration when trying to summarize sensitivity and specificity across studies. One option is to choose a single threshold from each study and use the analytic methods discussed previously. It may make sense to choose the threshold with the highest sensitivity, for example, especially if the test will be used to rule out disease. A second option is to use all thresholds reported from the individual studies. An extension of the hierarchical summary receiver operator characteristic (ROC) model was developed to analyze sensitivity and specificity data reported for more than one threshold. There is also a method that combines whole ROC curves, but it has not been used much. This module does not strongly recommend performing such an analysis, instead recommending at a minimum that reviewers should graphically depict and explore the data in the ROC space. This will highlight similarities and differences among the stud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ukic V, Gatsonis C. Meta-analysis of diagnostic test accuracy assessment studies with varying number of thresholds. Biometrics 2003 Dec;59(4):936-46. PMID: 1496947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496947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Kester AD, Buntinx F. Meta-analysis of ROC curves. Med Decis Making 2000 Oct-Dec;20(4):430-9. PMID: 1105947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059476</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hung M, Lau J, et al. Systematic review of screening for bilirubin encephalopathy in neonates. Pediatrics 2009 Oct;124(4):1162-71. PMID: 1978645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786450</a:t>
            </a:r>
            <a:endParaRPr b="0" lang="en-US" sz="9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pecial Case: Joint Analysis of Sensitivity and Specificity With Multiple Thresholds (2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n the left is a typical receiver operator characteristic (ROC) graph for four hypothetical studies. Studies in the vertical shaded area have a positive likelihood ratio greater </a:t>
            </a:r>
            <a:r>
              <a:rPr b="0" lang="en-US" sz="900" spc="-1" strike="noStrike">
                <a:solidFill>
                  <a:srgbClr val="000000"/>
                </a:solidFill>
                <a:latin typeface="Calibri"/>
                <a:ea typeface="Arial"/>
              </a:rPr>
              <a:t>≥</a:t>
            </a:r>
            <a:r>
              <a:rPr b="0" lang="en-US" sz="900" spc="-1" strike="noStrike">
                <a:solidFill>
                  <a:srgbClr val="000000"/>
                </a:solidFill>
                <a:latin typeface="Calibri"/>
              </a:rPr>
              <a:t>10. Studies in the horizontal shaded area have a negative likelihood ratio </a:t>
            </a:r>
            <a:r>
              <a:rPr b="0" lang="en-US" sz="900" spc="-1" strike="noStrike">
                <a:solidFill>
                  <a:srgbClr val="000000"/>
                </a:solidFill>
                <a:latin typeface="Calibri"/>
                <a:ea typeface="Arial"/>
              </a:rPr>
              <a:t>≤</a:t>
            </a:r>
            <a:r>
              <a:rPr b="0" lang="en-US" sz="900" spc="-1" strike="noStrike">
                <a:solidFill>
                  <a:srgbClr val="000000"/>
                </a:solidFill>
                <a:latin typeface="Calibri"/>
              </a:rPr>
              <a:t>0.1. Studies that fall in the intersection have both. This hypothetical graph is also overlaid on the graph to the right, which is a graphical representation of studies reporting data at multiple thresholds. Different thresholds of total serum bilirubin levels are reported for a positive test. The points on the line for each study represent the sensitivity and specificity pairs at different threshold valu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hung M, Lau J, et al. Systematic review of screening for bilirubin encephalopathy in neonates. Pediatrics 2009 Oct;124(4):1162-71. PMID: 1978645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9786450</a:t>
            </a:r>
            <a:endParaRPr b="0" lang="en-US" sz="9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commended Algorit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ree-step algorithm is recommended for meta-analyzing studies of medical test performance when a gold standard is available as the reference test. The steps are: consider sensitivity and specificity separately, perform a multivariate meta-analysis, and explore the between-study heterogene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1: Start by Considering Sensitivity and Specificity Separately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 one involves considering sensitivity and specificity separately. Reviewers should become familiar with patterns in study-level sensitivities and specificities using graphical tools. Side-by-side forest plots of sensitivities and specificities with their confidence intervals are helpful to see the variability and relationship to each other across studies. A receiver operator characteristic graph, which is a square plot with sensitivity on the vertical axis and 1 </a:t>
            </a:r>
            <a:r>
              <a:rPr b="0" lang="en-US" sz="1200" spc="-1" strike="noStrike">
                <a:solidFill>
                  <a:srgbClr val="000000"/>
                </a:solidFill>
                <a:latin typeface="Calibri"/>
                <a:ea typeface="Arial"/>
              </a:rPr>
              <a:t>– </a:t>
            </a:r>
            <a:r>
              <a:rPr b="0" lang="en-US" sz="1200" spc="-1" strike="noStrike">
                <a:solidFill>
                  <a:srgbClr val="000000"/>
                </a:solidFill>
                <a:latin typeface="Calibri"/>
              </a:rPr>
              <a:t>specificity on the horizontal axis, should result in a shoulder-and-arm pattern when a threshold effect is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1: Start by Considering Sensitivity and Specificity Separately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p figure in this slide is an example of side-by-side forest plots of sensitivity and specificity for each study with their confidence intervals. One can see the variability, or lack thereof, between studies. Note how the sensitivity changes with specificity, which could indicate a threshold effect. The figure below is an example of a receiver operator characteristic graph with the shoulder-and-arm pattern that is indicative of a threshold effect. Increasing the threshold decreases the sensitivity but increases the specif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ker DM, Philbrick JT, Bachhuber TL, et al. D-dimer testing and acute venous thromboembolism. A shortcut to accurate diagnosis? Arch Intern Med 1996 May 13;156(9):939-46. PMID: 86241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8624174</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2: Multivariate Meta-analysis (When Each Study Reports a Single Thresh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tep is to perform multivariate meta-analysis when each study reports only one threshold for a positive test. Bivariate meta-analyses, preferably with binomial error, can be used to obtain a summary point of the sensitivity and specificity across the studies. Multivariate meta-analytic models can be used to obtain summary lines. When a positive correlation between sensitivity and specificity exists, it can</a:t>
            </a:r>
            <a:r>
              <a:rPr b="0" lang="ja-JP" sz="1200" spc="-1" strike="noStrike">
                <a:solidFill>
                  <a:srgbClr val="000000"/>
                </a:solidFill>
                <a:latin typeface="Calibri"/>
              </a:rPr>
              <a:t>’</a:t>
            </a:r>
            <a:r>
              <a:rPr b="0" lang="en-US" sz="1200" spc="-1" strike="noStrike">
                <a:solidFill>
                  <a:srgbClr val="000000"/>
                </a:solidFill>
                <a:latin typeface="Calibri"/>
              </a:rPr>
              <a:t>t automatically be assumed that there is a threshold effect. In the case of multiple reported thresholds for a positive test, more than one threshold should be considered for analysis. Qualitative analysis with graphs and quantitative analyses using proper methods can help discer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ack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evaluating medical test performance, a reference standard for comparison is considered a gold standard when it is known to accurately identify people with the disease or condition of concern. This module focuses on how to conduct a meta-analysis for medical test performance when a gold standard exists; module 9 will cover options for conducting a meta-analysis when there is no gold standa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eta-analysis is performed in a systematic review, it should accomplish two things: provide summary estimates of key numbers, and explain heterogeneity between the studies. Available medical test data are usually focused on test performance or accuracy; therefore, meta-analyses usually focuses on the synthesis of these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p 3: Explore Between-Study Heterogeneit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hird and last step in the algorithm is to explore between-study heterogeneity with the hierarchical summary receiver operator characteristic (HSROC) and the bivariate models. Heterogeneity refers to the variability across studies. The HSROC model allows direct evaluation of heterogeneity in accuracy or threshold parameters or both. Bivariate models allow direct evaluation of heterogeneity in sensitivity or specificity or both. Covariates, or study characteristics, for each parameter in either model may be the same or different. Covariates that are sources of heterogeneity include patient population and selection, methods of interpreting results, clinical setting, and disease severity. The addition of covariates to the modeling can reduce unexplained heterogeneity. When covariates are present that contribute to heterogeneity they should be discussed when summarizing the stud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 R, Gartlehner G, Grant M, et al. Conducting quantitative synthesis when comparing medical interventions: AHRQ and the Effective Health Care Program. J Clin Epidemiol 2011 Nov;64(11):1187-97. PMID: 2147799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21477993</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ompson SG, Sharp SJ. Explaining heterogeneity in meta-analysis: a comparison of methods. Stat Med 1999 Oct 30;18(20):2693-708. PMID: 1052186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0521860</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ample 1: D-Dimer Assays for Diagnosing Venous Thromboembolism (1 of 4)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example looks at D-dimer assays for diagnosing venous thromboembolism. D-dimers are fragments of fibrin degradation in blood that are elevated in the presence of a clot or a thromboembolism. This figure shows the side-by-side forest plots of sensitivity, specificity, and likelihood ratios for all of the studies in the review. It allows the reader to see the agreement or lack of agreement between the studies. Note that sensitivity changes with specificity, indicating a possible threshold effec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ker DM, Philbrick JT, Bachhuber TL, et al. D-dimer testing and acute venous thromboembolism. A shortcut to accurate diagnosis? Arch Intern Med 1996 May 13;156(9):939-46. PMID: 862417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862417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2111918</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 1: D-Dimer Assays for Diagnosing Venous Thromboembolism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est plots showed that the sensitivity and specificity were more heterogeneous between the studies than the likelihood ratios. Formal testing for heterogeneity confirmed this finding. The threshold effect may have been a contributing factor in the heterogeneity. Because of varying thresholds for a positive test in the D-dimer studies, the hierarchical summary receiver operator characteristic method for summarizing performance data is more helpful. Summarizing sensitivities and specificities would be less informative with the multiple thresho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11918</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 1: D-Dimer Assays for Diagnosing Venous Thromboembolism (3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hierarchical summary receiver operator characteristic (HSROC) plot of the D-dimer tests using the highest thresholds reported shows the shoulder-and-arm pattern that is indicative of a threshold effect. On this plot, the tests that cluster in the upper shaded area have higher sensitivity, but lower specificity minimizes false-negative results and is good for ruling out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11918</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6960"/>
            <a:ext cx="4648320" cy="3486240"/>
          </a:xfrm>
          <a:prstGeom prst="rect">
            <a:avLst/>
          </a:prstGeom>
          <a:ln w="0">
            <a:noFill/>
          </a:ln>
        </p:spPr>
      </p:sp>
      <p:sp>
        <p:nvSpPr>
          <p:cNvPr id="3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ample 1: D-Dimer Assays for Diagnosing Venous Thromboembolism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helpful to show summarized predictive values for the test. Here, the predictive values of a negative D-dimer test are shown for a range of possible prevalence values. Summary sensitivity and specificity values are used in this calculation. The negative predictive value remains high over the range of prevalence values, indicating that a high percentage of the people who receive a negative result from this test actually do not have a thromboembolism (true neg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jmer JG, Bossuyt PM, Heisterkamp SH. Exploring sources of heterogeneity in systematic reviews of diagnostic tests. Stat Med 2002 Jun 15;21(11):1525-37. PMID: 1211191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2111918</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6960"/>
            <a:ext cx="4648320" cy="3486240"/>
          </a:xfrm>
          <a:prstGeom prst="rect">
            <a:avLst/>
          </a:prstGeom>
          <a:ln w="0">
            <a:noFill/>
          </a:ln>
        </p:spPr>
      </p:sp>
      <p:sp>
        <p:nvSpPr>
          <p:cNvPr id="335" name="PlaceHolder 2"/>
          <p:cNvSpPr>
            <a:spLocks noGrp="1"/>
          </p:cNvSpPr>
          <p:nvPr>
            <p:ph type="body"/>
          </p:nvPr>
        </p:nvSpPr>
        <p:spPr>
          <a:xfrm>
            <a:off x="701280" y="4416120"/>
            <a:ext cx="5607000" cy="433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ample 2: Serial Measurements of the Creatine Kinase-Myocardial Band To Diagnose Acute Cardiac Ischemia (1 of 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second example involves the evaluation of serial measurements of the creatine kinase-myocardial band (CK-MB) for diagnosing acute cardiac ischemia. The accuracy of this test is affected by time, since blood levels of CK-MB increase as more time passes from symptom onset. This is a factor that must be considered when evaluating test results. Fourteen studies were reviewed that performed measurements of CK-MG at different times relative to symptom onset. There was clear heterogeneity between the studies with regard to sensitivity. The sensitivity increased when the levels of CK-MB were tested further out from symptom onset. To test whether this difference in sensitivity was largely due to time, a bivariate meta-analytic model was us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132618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1079073</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4146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 2: Serial Measurements of the Creatine Kinase-Myocardial Band To Diagnose Acute Cardiac Ischemia (2 of 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graph on the left shows the sensitivity and specificity of the 14 studies with the hours between onset of symptoms and measurement of the creatine-kinase myocardial band (CK-MB) noted next to the data point. The right graph shows the same data points of sensitivity and specificity but also overlays the 95-percent confidence regions for the subgroups of </a:t>
            </a:r>
            <a:r>
              <a:rPr b="0" lang="en-US" sz="1100" spc="-1" strike="noStrike">
                <a:solidFill>
                  <a:srgbClr val="000000"/>
                </a:solidFill>
                <a:latin typeface="Calibri"/>
                <a:ea typeface="Arial"/>
              </a:rPr>
              <a:t>≤</a:t>
            </a:r>
            <a:r>
              <a:rPr b="0" lang="en-US" sz="1100" spc="-1" strike="noStrike">
                <a:solidFill>
                  <a:srgbClr val="000000"/>
                </a:solidFill>
                <a:latin typeface="Calibri"/>
              </a:rPr>
              <a:t>3 hours and &gt;3 hours since onset of symptoms. The blue area shows confidence regions for the data when the CK-MB was tested </a:t>
            </a:r>
            <a:r>
              <a:rPr b="0" lang="en-US" sz="1100" spc="-1" strike="noStrike">
                <a:solidFill>
                  <a:srgbClr val="000000"/>
                </a:solidFill>
                <a:latin typeface="Calibri"/>
                <a:ea typeface="Arial"/>
              </a:rPr>
              <a:t>≤</a:t>
            </a:r>
            <a:r>
              <a:rPr b="0" lang="en-US" sz="1100" spc="-1" strike="noStrike">
                <a:solidFill>
                  <a:srgbClr val="000000"/>
                </a:solidFill>
                <a:latin typeface="Calibri"/>
              </a:rPr>
              <a:t>3 hours from symptom onset. The red area shows the confidence regions when the CK-MB was tested &gt;3 hours from symptom onset. These estimates were calculated using bivariate meta-regression with time interval as the predict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079073</a:t>
            </a:r>
            <a:endParaRPr b="0" lang="en-US" sz="11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6960"/>
            <a:ext cx="46483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xample 2: Serial Measurements of the Creatine Kinase-Myocardial Band To Diagnose Acute Cardiac Ischemia (3 of 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bivariate multi-level model was used to compare summary sensitivity and specificity of studies where the last measurement was performed within 3 hours of symptom onset versus more than 3 hours from onset. This allowed the variable of timing to have different effects on the summary sensitivity and summary specificity. Properly specified bivariate meta-regressions can be used to compare two or more index te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32618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079073</a:t>
            </a:r>
            <a:endParaRPr b="0" lang="en-US" sz="11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6960"/>
            <a:ext cx="4648320" cy="3486240"/>
          </a:xfrm>
          <a:prstGeom prst="rect">
            <a:avLst/>
          </a:prstGeom>
          <a:ln w="0">
            <a:noFill/>
          </a:ln>
        </p:spPr>
      </p:sp>
      <p:sp>
        <p:nvSpPr>
          <p:cNvPr id="3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Recommendations (1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bivariate random-effects meta-analytic models can be used to obtain a summary sensitivity and specificity across studies. It makes more sense to estimate the summary sensitivity and specificity and then back-calculate overall predictive values and likelihood rat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Recommendations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 lines of sensitivity and specificity across the studies can be obtained by using multivariate meta-analysis. The hierarchical summary receiver operator characteristic (HSROC) is an example of a multivariate meta-analytic model recommended in this module. Several summary lines can be developed that can differ when the estimated correlation between sensitivity and specificity is positive and when there is little between-study variability. If there is a positive correlation between sensitivity and specificity, then the reviewer should consider missing covariates because the variability cannot automatically be attributed to the threshold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ortant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previously, a gold standard is a type of reference standard that is recognized to accurately identify the presence or absence of the condition of interest. A diagnostic test is used to identify the condition of interest but may be less accurate than the gold standard. The data mainly focus on tests with a positive or negative result that is determined by a threshold instead of a continuum of results. This allows the use of 2-by-2 tabulation to calculate true-positive, false-positive, true-negatives, and false-negative results as shown by the 2-by-2 table presented here. Patients in the </a:t>
            </a:r>
            <a:r>
              <a:rPr b="0" lang="ja-JP" sz="1200" spc="-1" strike="noStrike">
                <a:solidFill>
                  <a:srgbClr val="000000"/>
                </a:solidFill>
                <a:latin typeface="Calibri"/>
              </a:rPr>
              <a:t>“</a:t>
            </a:r>
            <a:r>
              <a:rPr b="0" lang="en-US" sz="1200" spc="-1" strike="noStrike">
                <a:solidFill>
                  <a:srgbClr val="000000"/>
                </a:solidFill>
                <a:latin typeface="Calibri"/>
              </a:rPr>
              <a:t>With Disease</a:t>
            </a:r>
            <a:r>
              <a:rPr b="0" lang="ja-JP" sz="1200" spc="-1" strike="noStrike">
                <a:solidFill>
                  <a:srgbClr val="000000"/>
                </a:solidFill>
                <a:latin typeface="Calibri"/>
              </a:rPr>
              <a:t>”</a:t>
            </a:r>
            <a:r>
              <a:rPr b="0" lang="en-US" sz="1200" spc="-1" strike="noStrike">
                <a:solidFill>
                  <a:srgbClr val="000000"/>
                </a:solidFill>
                <a:latin typeface="Calibri"/>
              </a:rPr>
              <a:t> category actually have the disease of interest, and those in the </a:t>
            </a:r>
            <a:r>
              <a:rPr b="0" lang="ja-JP" sz="1200" spc="-1" strike="noStrike">
                <a:solidFill>
                  <a:srgbClr val="000000"/>
                </a:solidFill>
                <a:latin typeface="Calibri"/>
              </a:rPr>
              <a:t>“</a:t>
            </a:r>
            <a:r>
              <a:rPr b="0" lang="en-US" sz="1200" spc="-1" strike="noStrike">
                <a:solidFill>
                  <a:srgbClr val="000000"/>
                </a:solidFill>
                <a:latin typeface="Calibri"/>
              </a:rPr>
              <a:t>Healthy</a:t>
            </a:r>
            <a:r>
              <a:rPr b="0" lang="ja-JP" sz="1200" spc="-1" strike="noStrike">
                <a:solidFill>
                  <a:srgbClr val="000000"/>
                </a:solidFill>
                <a:latin typeface="Calibri"/>
              </a:rPr>
              <a:t>”</a:t>
            </a:r>
            <a:r>
              <a:rPr b="0" lang="en-US" sz="1200" spc="-1" strike="noStrike">
                <a:solidFill>
                  <a:srgbClr val="000000"/>
                </a:solidFill>
                <a:latin typeface="Calibri"/>
              </a:rPr>
              <a:t> category do not. If a patient is in the </a:t>
            </a:r>
            <a:r>
              <a:rPr b="0" lang="ja-JP" sz="1200" spc="-1" strike="noStrike">
                <a:solidFill>
                  <a:srgbClr val="000000"/>
                </a:solidFill>
                <a:latin typeface="Calibri"/>
              </a:rPr>
              <a:t>“</a:t>
            </a:r>
            <a:r>
              <a:rPr b="0" lang="en-US" sz="1200" spc="-1" strike="noStrike">
                <a:solidFill>
                  <a:srgbClr val="000000"/>
                </a:solidFill>
                <a:latin typeface="Calibri"/>
              </a:rPr>
              <a:t>With Disease</a:t>
            </a:r>
            <a:r>
              <a:rPr b="0" lang="ja-JP" sz="1200" spc="-1" strike="noStrike">
                <a:solidFill>
                  <a:srgbClr val="000000"/>
                </a:solidFill>
                <a:latin typeface="Calibri"/>
              </a:rPr>
              <a:t>”</a:t>
            </a:r>
            <a:r>
              <a:rPr b="0" lang="en-US" sz="1200" spc="-1" strike="noStrike">
                <a:solidFill>
                  <a:srgbClr val="000000"/>
                </a:solidFill>
                <a:latin typeface="Calibri"/>
              </a:rPr>
              <a:t> category and tests positive for the disease using the test of interest, then it is a true-positive finding. If, on the other hand, the patient is in the </a:t>
            </a:r>
            <a:r>
              <a:rPr b="0" lang="ja-JP" sz="1200" spc="-1" strike="noStrike">
                <a:solidFill>
                  <a:srgbClr val="000000"/>
                </a:solidFill>
                <a:latin typeface="Calibri"/>
              </a:rPr>
              <a:t>“</a:t>
            </a:r>
            <a:r>
              <a:rPr b="0" lang="en-US" sz="1200" spc="-1" strike="noStrike">
                <a:solidFill>
                  <a:srgbClr val="000000"/>
                </a:solidFill>
                <a:latin typeface="Calibri"/>
              </a:rPr>
              <a:t>Healthy</a:t>
            </a:r>
            <a:r>
              <a:rPr b="0" lang="ja-JP" sz="1200" spc="-1" strike="noStrike">
                <a:solidFill>
                  <a:srgbClr val="000000"/>
                </a:solidFill>
                <a:latin typeface="Calibri"/>
              </a:rPr>
              <a:t>”</a:t>
            </a:r>
            <a:r>
              <a:rPr b="0" lang="en-US" sz="1200" spc="-1" strike="noStrike">
                <a:solidFill>
                  <a:srgbClr val="000000"/>
                </a:solidFill>
                <a:latin typeface="Calibri"/>
              </a:rPr>
              <a:t> category and tests positive, then it is a false-positive diagnosis, and so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6960"/>
            <a:ext cx="4648320" cy="3486240"/>
          </a:xfrm>
          <a:prstGeom prst="rect">
            <a:avLst/>
          </a:prstGeom>
          <a:ln w="0">
            <a:noFill/>
          </a:ln>
        </p:spPr>
      </p:sp>
      <p:sp>
        <p:nvSpPr>
          <p:cNvPr id="3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all Recommendations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more than one threshold for a positive test is reported per study, this must be considered in the analyses. Qualitative analysis with graphs and quantitative analysis with proper methods are encouraged. Finally, meta-regression-based analyses or subgroup analyses should be used to look at the impact of study characteristics on summary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6960"/>
            <a:ext cx="46483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6960"/>
            <a:ext cx="46483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6960"/>
            <a:ext cx="4648320" cy="3486240"/>
          </a:xfrm>
          <a:prstGeom prst="rect">
            <a:avLst/>
          </a:prstGeom>
          <a:ln w="0">
            <a:noFill/>
          </a:ln>
        </p:spPr>
      </p:sp>
      <p:sp>
        <p:nvSpPr>
          <p:cNvPr id="3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6960"/>
            <a:ext cx="4648320" cy="3486240"/>
          </a:xfrm>
          <a:prstGeom prst="rect">
            <a:avLst/>
          </a:prstGeom>
          <a:ln w="0">
            <a:noFill/>
          </a:ln>
        </p:spPr>
      </p:sp>
      <p:sp>
        <p:nvSpPr>
          <p:cNvPr id="3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asures Used To Assess Test Performance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ensitivity</a:t>
            </a:r>
            <a:r>
              <a:rPr b="0" lang="en-US" sz="1200" spc="-1" strike="noStrike">
                <a:solidFill>
                  <a:srgbClr val="000000"/>
                </a:solidFill>
                <a:latin typeface="Calibri"/>
              </a:rPr>
              <a:t> is the proportion of people with disease who will test positive for the disease. This is also considered the true-positive rate. </a:t>
            </a:r>
            <a:r>
              <a:rPr b="0" i="1" lang="en-US" sz="1200" spc="-1" strike="noStrike">
                <a:solidFill>
                  <a:srgbClr val="000000"/>
                </a:solidFill>
                <a:latin typeface="Calibri"/>
              </a:rPr>
              <a:t>Specificity</a:t>
            </a:r>
            <a:r>
              <a:rPr b="0" lang="en-US" sz="1200" spc="-1" strike="noStrike">
                <a:solidFill>
                  <a:srgbClr val="000000"/>
                </a:solidFill>
                <a:latin typeface="Calibri"/>
              </a:rPr>
              <a:t> is the proportion of people without disease who test negative for the disease. This is also considered the true-negative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ositive predictive value </a:t>
            </a:r>
            <a:r>
              <a:rPr b="0" lang="en-US" sz="1200" spc="-1" strike="noStrike">
                <a:solidFill>
                  <a:srgbClr val="000000"/>
                </a:solidFill>
                <a:latin typeface="Calibri"/>
              </a:rPr>
              <a:t>is calculated as the proportion of people who test positive who actually have the disease and are correctly diagnosed. This can also be referred to as the predictive value of a positive test result. The </a:t>
            </a:r>
            <a:r>
              <a:rPr b="0" i="1" lang="en-US" sz="1200" spc="-1" strike="noStrike">
                <a:solidFill>
                  <a:srgbClr val="000000"/>
                </a:solidFill>
                <a:latin typeface="Calibri"/>
              </a:rPr>
              <a:t>negative predictive value </a:t>
            </a:r>
            <a:r>
              <a:rPr b="0" lang="en-US" sz="1200" spc="-1" strike="noStrike">
                <a:solidFill>
                  <a:srgbClr val="000000"/>
                </a:solidFill>
                <a:latin typeface="Calibri"/>
              </a:rPr>
              <a:t>is the proportion of people who test negative who truly do not have the disease. The positive and negative predictive values can be calculated from the sensitivity, specificity and disease prevalenc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kalinos TA, Coleman CI, Griffith L, et al. Meta-analysis of test performance when there is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9)</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9)</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9)</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9)</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9)</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1160" y="696960"/>
            <a:ext cx="4648320" cy="3486240"/>
          </a:xfrm>
          <a:prstGeom prst="rect">
            <a:avLst/>
          </a:prstGeom>
          <a:ln w="0">
            <a:noFill/>
          </a:ln>
        </p:spPr>
      </p:sp>
      <p:sp>
        <p:nvSpPr>
          <p:cNvPr id="3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9)</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9)</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9)</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81160" y="696960"/>
            <a:ext cx="4648320" cy="3486240"/>
          </a:xfrm>
          <a:prstGeom prst="rect">
            <a:avLst/>
          </a:prstGeom>
          <a:ln w="0">
            <a:noFill/>
          </a:ln>
        </p:spPr>
      </p:sp>
      <p:sp>
        <p:nvSpPr>
          <p:cNvPr id="3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9)</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57020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easures Used To Assess Test Performance (2 of 2)</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more ways to assess test performance. A </a:t>
            </a:r>
            <a:r>
              <a:rPr b="0" i="1" lang="en-US" sz="1000" spc="-1" strike="noStrike">
                <a:solidFill>
                  <a:srgbClr val="000000"/>
                </a:solidFill>
                <a:latin typeface="Calibri"/>
              </a:rPr>
              <a:t>positive likelihood ratio</a:t>
            </a:r>
            <a:r>
              <a:rPr b="0" lang="en-US" sz="1000" spc="-1" strike="noStrike">
                <a:solidFill>
                  <a:srgbClr val="000000"/>
                </a:solidFill>
                <a:latin typeface="Calibri"/>
              </a:rPr>
              <a:t> is the probability of a positive test result in people with disease divided by the probability of a positive result in people without the disease. For example, if a positive test result is found in 80 percent of people with the disease and 40 percent of people without the disease, the positive likelihood ratio would be 2. People with a positive test result are then considered two times as likely to have the disease. This can also be calculated from the test</a:t>
            </a:r>
            <a:r>
              <a:rPr b="0" lang="ja-JP" sz="1000" spc="-1" strike="noStrike">
                <a:solidFill>
                  <a:srgbClr val="000000"/>
                </a:solidFill>
                <a:latin typeface="Calibri"/>
              </a:rPr>
              <a:t>’</a:t>
            </a:r>
            <a:r>
              <a:rPr b="0" lang="en-US" sz="1000" spc="-1" strike="noStrike">
                <a:solidFill>
                  <a:srgbClr val="000000"/>
                </a:solidFill>
                <a:latin typeface="Calibri"/>
              </a:rPr>
              <a:t>s sensitivity and specificity by dividing the sensitivity by 1 minus the specificit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a:t>
            </a:r>
            <a:r>
              <a:rPr b="0" i="1" lang="en-US" sz="1000" spc="-1" strike="noStrike">
                <a:solidFill>
                  <a:srgbClr val="000000"/>
                </a:solidFill>
                <a:latin typeface="Calibri"/>
              </a:rPr>
              <a:t>negative likelihood ratio </a:t>
            </a:r>
            <a:r>
              <a:rPr b="0" lang="en-US" sz="1000" spc="-1" strike="noStrike">
                <a:solidFill>
                  <a:srgbClr val="000000"/>
                </a:solidFill>
                <a:latin typeface="Calibri"/>
              </a:rPr>
              <a:t>is the opposite </a:t>
            </a:r>
            <a:r>
              <a:rPr b="0" lang="en-US" sz="1000" spc="-1" strike="noStrike">
                <a:solidFill>
                  <a:srgbClr val="000000"/>
                </a:solidFill>
                <a:latin typeface="Calibri"/>
                <a:ea typeface="Arial"/>
              </a:rPr>
              <a:t>—</a:t>
            </a:r>
            <a:r>
              <a:rPr b="0" lang="en-US" sz="1000" spc="-1" strike="noStrike">
                <a:solidFill>
                  <a:srgbClr val="000000"/>
                </a:solidFill>
                <a:latin typeface="Calibri"/>
              </a:rPr>
              <a:t> the probability of a negative test in people with disease divided by the probability of a negative test in people without the disease. This ratio can also be calculated from the sensitivity and specificity by dividing 1 minus the sensitivity by the specificit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lihood ratios range from 0 to infinity. A likelihood ratio &gt;1 suggests that the test result is associated with the presence of the disease. The higher the likelihood ratio, the higher the likelihood of disease presence with that test result. A test with a smaller negative likelihood ratio is better for ruling out a disease. A test with a large positive likelihood ratio is good for ruling in a diseas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i="1" lang="en-US" sz="1000" spc="-1" strike="noStrike">
                <a:solidFill>
                  <a:srgbClr val="000000"/>
                </a:solidFill>
                <a:latin typeface="Calibri"/>
              </a:rPr>
              <a:t>diagnostic odds ratio </a:t>
            </a:r>
            <a:r>
              <a:rPr b="0" lang="en-US" sz="1000" spc="-1" strike="noStrike">
                <a:solidFill>
                  <a:srgbClr val="000000"/>
                </a:solidFill>
                <a:latin typeface="Calibri"/>
              </a:rPr>
              <a:t>is a measure of the effectiveness of a diagnostic test. The higher the diagnostic odds ratio, the higher the diagnostic accuracy. It is calculated by the odds of the test being positive in people with a disease, divided by the odds of the test being positive in people without a disease. The formula takes the quotient of true-positive results divided by false-negative results and divides that by the quotient of false-positive results divided by true-negative results. Because the true-positive and false-positive rates are considered in this formula, they cannot be compared against each other separately.</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Coleman CI, Griffith L, et al. Meta-analysis of test performance when there is a </a:t>
            </a:r>
            <a:r>
              <a:rPr b="0" lang="ja-JP" sz="1000" spc="-1" strike="noStrike">
                <a:solidFill>
                  <a:srgbClr val="000000"/>
                </a:solidFill>
                <a:latin typeface="Calibri"/>
              </a:rPr>
              <a:t>“</a:t>
            </a:r>
            <a:r>
              <a:rPr b="0" lang="en-US" sz="1000" spc="-1" strike="noStrike">
                <a:solidFill>
                  <a:srgbClr val="000000"/>
                </a:solidFill>
                <a:latin typeface="Calibri"/>
              </a:rPr>
              <a:t>gold standard.</a:t>
            </a:r>
            <a:r>
              <a:rPr b="0" lang="ja-JP" sz="1000" spc="-1" strike="noStrike">
                <a:solidFill>
                  <a:srgbClr val="000000"/>
                </a:solidFill>
                <a:latin typeface="Calibri"/>
              </a:rPr>
              <a:t>”</a:t>
            </a:r>
            <a:r>
              <a:rPr b="0" lang="en-US" sz="10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5702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pendence of Sensitivity and Specificity Across Studies (1 of 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goal of using meta-analysis in a systematic review is to provide meaningful summary estimates of sensitivity and specificity across the studies used in the review. Within each study, the sensitivity and specificity are independent because they are estimated from different patients who either have a disease or are healthy. Across the studies in a review, the sensitivity and specificity are generally negatively correlated. As sensitivity increases, the specificity usually decreases and vice-versa. This is most obvious when studies have different thresholds for a positive test, also known as the threshold effect, or when the time between symptom onset and the diagnostic test affects test performance. A positive correlation between sensitivity and specificity suggests a possible missing covariate.</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rikalinos TA, Coleman CI, Griffith L, et al. Meta-analysis of test performance when there is a </a:t>
            </a:r>
            <a:r>
              <a:rPr b="0" lang="ja-JP" sz="900" spc="-1" strike="noStrike">
                <a:solidFill>
                  <a:srgbClr val="000000"/>
                </a:solidFill>
                <a:latin typeface="Calibri"/>
              </a:rPr>
              <a:t>“</a:t>
            </a:r>
            <a:r>
              <a:rPr b="0" lang="en-US" sz="900" spc="-1" strike="noStrike">
                <a:solidFill>
                  <a:srgbClr val="000000"/>
                </a:solidFill>
                <a:latin typeface="Calibri"/>
              </a:rPr>
              <a:t>gold standard.</a:t>
            </a:r>
            <a:r>
              <a:rPr b="0" lang="ja-JP" sz="900" spc="-1" strike="noStrike">
                <a:solidFill>
                  <a:srgbClr val="000000"/>
                </a:solidFill>
                <a:latin typeface="Calibri"/>
              </a:rPr>
              <a:t>”</a:t>
            </a:r>
            <a:r>
              <a:rPr b="0" lang="en-US" sz="9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lk EM, Ioannidis JP, Salem D, et al. Accuracy of biomarkers to diagnose acute cardiac ischemia in the emergency department: a meta-analysis. Ann Emerg Med 2001 May;37(5):478-94. PMID: 1132618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326184</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rbord RM, Deeks JJ, Egger M, et al. A unification of models for meta-analysis of diagnostic accuracy studies. Biostatistics 2007 Apr;8(2):239-51. PMID: 16698768.</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698768</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rwig L, Tosteson AN, Gatsonis C, et al. Guidelines for meta-analyses evaluating diagnostic tests. Ann Intern Med 1994 Apr 15;120(8):667-76. PMID: 813545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813545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u J, Ioannidis JP, Balk E, et al. Evaluation of technologies for identifying acute cardiac ischemia in emergency departments. Evid Rep Technol Assess (Summ) 2000 Sep;(26):1-4. PMID: 1107907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079073</a:t>
            </a:r>
            <a:endParaRPr b="0" lang="en-US" sz="9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Dependence of Sensitivity and Specificity Across Studies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re is an example of how the threshold effect can lead to a negative correlation between sensitivity and specificity. The D-dimer concentration threshold for diagnosing an acute coronary event can vary between studies from approximately 200 to more than 600 ng/mL. Higher thresholds will correspond to a lower sensitivity and a higher specificity, while lower thresholds will lead to a higher sensitivity and a lower specificity. This figure displays the sensitivity and specificity for 11 different studies that have varying thresholds for a positive D-dimer test. The studies with a higher sensitivity tend to have a lower specificity. Since they are correlated, summarizing sensitivity and specificity across studies requires multivariate method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rikalinos TA, Coleman CI, Griffith L, et al. Meta-analysis of test performance when there is a </a:t>
            </a:r>
            <a:r>
              <a:rPr b="0" lang="ja-JP" sz="1100" spc="-1" strike="noStrike">
                <a:solidFill>
                  <a:srgbClr val="000000"/>
                </a:solidFill>
                <a:latin typeface="Calibri"/>
              </a:rPr>
              <a:t>“</a:t>
            </a:r>
            <a:r>
              <a:rPr b="0" lang="en-US" sz="1100" spc="-1" strike="noStrike">
                <a:solidFill>
                  <a:srgbClr val="000000"/>
                </a:solidFill>
                <a:latin typeface="Calibri"/>
              </a:rPr>
              <a:t>gold standard.</a:t>
            </a:r>
            <a:r>
              <a:rPr b="0" lang="ja-JP" sz="1100" spc="-1" strike="noStrike">
                <a:solidFill>
                  <a:srgbClr val="000000"/>
                </a:solidFill>
                <a:latin typeface="Calibri"/>
              </a:rPr>
              <a:t>”</a:t>
            </a:r>
            <a:r>
              <a:rPr b="0" lang="en-US" sz="11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ecker DM, Philbrick JT, Bachhuber TL, et al. D-dimer testing and acute venous thromboembolism. A shortcut to accurate diagnosis? Arch Intern Med 1996 May 13;156(9):939-46. PMID: 862417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8624174</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Challeng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re are two main situations that present challenges in quantitatively summarizing performance data for a medical test. The first situation occurs when sensitivity and specificity between the studies do not vary widely. This can happen when all of the studies use the same threshold for a positive test. In this situation a </a:t>
            </a:r>
            <a:r>
              <a:rPr b="0" i="1" lang="en-US" sz="600" spc="-1" strike="noStrike">
                <a:solidFill>
                  <a:srgbClr val="000000"/>
                </a:solidFill>
                <a:latin typeface="Calibri"/>
              </a:rPr>
              <a:t>summary point</a:t>
            </a:r>
            <a:r>
              <a:rPr b="0" lang="en-US" sz="600" spc="-1" strike="noStrike">
                <a:solidFill>
                  <a:srgbClr val="000000"/>
                </a:solidFill>
                <a:latin typeface="Calibri"/>
              </a:rPr>
              <a:t>, which is a summary sensitivity and specificity pair, may be the most helpful to use to summarize test performance. The second situation involves studies that have widely varying sensitivities and specificities. A </a:t>
            </a:r>
            <a:r>
              <a:rPr b="0" i="1" lang="en-US" sz="600" spc="-1" strike="noStrike">
                <a:solidFill>
                  <a:srgbClr val="000000"/>
                </a:solidFill>
                <a:latin typeface="Calibri"/>
              </a:rPr>
              <a:t>summary line </a:t>
            </a:r>
            <a:r>
              <a:rPr b="0" lang="en-US" sz="600" spc="-1" strike="noStrike">
                <a:solidFill>
                  <a:srgbClr val="000000"/>
                </a:solidFill>
                <a:latin typeface="Calibri"/>
              </a:rPr>
              <a:t>can be used instead to show the relationship between average sensitivity and average specificity. This case can be less important than other types of variation between the tests, such as variations in thresholds, reference standards, study designs, or others. There are situations when it is helpful to present the summary data using both a summary point and a summary line.</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rikalinos TA, Coleman CI, Griffith L, et al. Meta-analysis of test performance when there is a </a:t>
            </a:r>
            <a:r>
              <a:rPr b="0" lang="ja-JP" sz="600" spc="-1" strike="noStrike">
                <a:solidFill>
                  <a:srgbClr val="000000"/>
                </a:solidFill>
                <a:latin typeface="Calibri"/>
              </a:rPr>
              <a:t>“</a:t>
            </a:r>
            <a:r>
              <a:rPr b="0" lang="en-US" sz="600" spc="-1" strike="noStrike">
                <a:solidFill>
                  <a:srgbClr val="000000"/>
                </a:solidFill>
                <a:latin typeface="Calibri"/>
              </a:rPr>
              <a:t>gold standard.</a:t>
            </a:r>
            <a:r>
              <a:rPr b="0" lang="ja-JP" sz="600" spc="-1" strike="noStrike">
                <a:solidFill>
                  <a:srgbClr val="000000"/>
                </a:solidFill>
                <a:latin typeface="Calibri"/>
              </a:rPr>
              <a:t>”</a:t>
            </a:r>
            <a:r>
              <a:rPr b="0" lang="en-US" sz="600" spc="-1" strike="noStrike">
                <a:solidFill>
                  <a:srgbClr val="000000"/>
                </a:solidFill>
                <a:latin typeface="Calibri"/>
              </a:rPr>
              <a:t> In: Chang SM and Matchar DB, eds. Methods guide for medical test reviews. Rockville, MD: Agency for Healthcare Research and Quality; June 2012. p. 8.1-21.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ossuyt PM, Reitsma JB, Bruns DE, et al. The STARD statement for reporting studies of diagnostic accuracy: explanation and elaboration. Ann Intern Med 2003 Jan 7;138(1):W1-12. PMID: 1251306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51306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rtmann KE, Matchar DB, Chang S. Chapter 6: assessing applicability of medical test studies in systematic reviews. J Gen Intern Med 2012 Jun;27 Suppl 1;S39-46. PMID: 2264867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2264867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ijmer JG, Mol BW, Heisterkamp S, et al. Empirical evidence of design-related bias in studies of diagnostic tests. JAMA 1999 Sep 15;282(11):1061-6. PMID: 104932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49320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oong TW. Understanding sensitivity and specificity with the right side of the brain. BMJ 2003 Sep 27;327(7417):716-9. PMID: 145124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45124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utjes AW, Reitsma JB, Di Nisio M, et al. Evidence of bias and variation in diagnostic accuracy studies. CMAJ 2006 Feb 14;174(4):469-76. PMID: 1647705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47705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iting P, Rutjes AW, Reitsma JB, et al. Sources of variation and bias in studies of diagnostic accuracy: a systematic review. Ann Intern Med 2004 Feb 3;140(3):189-202. PMID: 1475761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4757617</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ta-analysis of Test Performance When There Is a </a:t>
            </a:r>
            <a:r>
              <a:rPr b="1" lang="ja-JP" sz="3200" spc="-1" strike="noStrike">
                <a:solidFill>
                  <a:srgbClr val="ffffff"/>
                </a:solidFill>
                <a:latin typeface="Trebuchet MS"/>
              </a:rPr>
              <a:t>“</a:t>
            </a:r>
            <a:r>
              <a:rPr b="1" lang="en-US" sz="3200" spc="-1" strike="noStrike">
                <a:solidFill>
                  <a:srgbClr val="ffffff"/>
                </a:solidFill>
                <a:latin typeface="Trebuchet MS"/>
              </a:rPr>
              <a:t>Gold Standard</a:t>
            </a:r>
            <a:r>
              <a:rPr b="1" lang="ja-JP" sz="3200" spc="-1" strike="noStrike">
                <a:solidFill>
                  <a:srgbClr val="ffffff"/>
                </a:solidFill>
                <a:latin typeface="Trebuchet MS"/>
              </a:rPr>
              <a:t>”</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nciple 1:</a:t>
            </a:r>
            <a:r>
              <a:rPr b="0" lang="en-US" sz="2200" spc="-1" strike="noStrike">
                <a:solidFill>
                  <a:srgbClr val="ffffff"/>
                </a:solidFill>
                <a:latin typeface="Trebuchet MS"/>
              </a:rPr>
              <a:t> Favor the most informative way to summarize the data.</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oose between a summary point and a summary line.</a:t>
            </a:r>
            <a:endParaRPr b="0" lang="en-US" sz="20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the summary point when sensitivity/specificity do not vary much.</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the summary line when there are different thresholds for positive tests or estimates vary widely.</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Both can also be used, since they convey complementary information.</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choice is subjective; there are no hard-and-fast rule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inciple 2:</a:t>
            </a:r>
            <a:r>
              <a:rPr b="0" lang="en-US" sz="2200" spc="-1" strike="noStrike">
                <a:solidFill>
                  <a:srgbClr val="ffffff"/>
                </a:solidFill>
                <a:latin typeface="Trebuchet MS"/>
              </a:rPr>
              <a:t> Explore the variability in study results with graphs and suitable analyses rather than relying exclusively on </a:t>
            </a:r>
            <a:r>
              <a:rPr b="0" lang="ja-JP" sz="2200" spc="-1" strike="noStrike">
                <a:solidFill>
                  <a:srgbClr val="ffffff"/>
                </a:solidFill>
                <a:latin typeface="Trebuchet MS"/>
              </a:rPr>
              <a:t>“</a:t>
            </a:r>
            <a:r>
              <a:rPr b="0" lang="en-US" sz="2200" spc="-1" strike="noStrike">
                <a:solidFill>
                  <a:srgbClr val="ffffff"/>
                </a:solidFill>
                <a:latin typeface="Trebuchet MS"/>
              </a:rPr>
              <a:t>grand means</a:t>
            </a:r>
            <a:r>
              <a:rPr b="0" lang="ja-JP" sz="2200" spc="-1" strike="noStrike">
                <a:solidFill>
                  <a:srgbClr val="ffffff"/>
                </a:solidFill>
                <a:latin typeface="Trebuchet MS"/>
              </a:rPr>
              <a:t>”</a:t>
            </a:r>
            <a:r>
              <a:rPr b="0" lang="en-US" sz="2200" spc="-1" strike="noStrike">
                <a:solidFill>
                  <a:srgbClr val="ffffff"/>
                </a:solidFill>
                <a:latin typeface="Trebuchet MS"/>
              </a:rPr>
              <a:t> (i.e., a single summary statistic). </a:t>
            </a:r>
            <a:endParaRPr b="0" lang="en-US" sz="2200" spc="-1" strike="noStrike">
              <a:solidFill>
                <a:srgbClr val="ffffff"/>
              </a:solidFill>
              <a:latin typeface="Trebuchet MS"/>
            </a:endParaRPr>
          </a:p>
        </p:txBody>
      </p:sp>
      <p:sp>
        <p:nvSpPr>
          <p:cNvPr id="11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inciples for Addressing the Challenges</a:t>
            </a:r>
            <a:endParaRPr b="1" lang="en-US" sz="3200" spc="-1" strike="noStrike">
              <a:solidFill>
                <a:srgbClr val="ffffff"/>
              </a:solidFill>
              <a:latin typeface="Trebuchet MS"/>
            </a:endParaRPr>
          </a:p>
        </p:txBody>
      </p:sp>
      <p:sp>
        <p:nvSpPr>
          <p:cNvPr id="115"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blem:</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ithin a study, sensitivity, specificity, positive/negative predictive values, and prevalence are all interrelated via simple formula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ta-analyzing each metric across studies will create summaries that are inconsistent with these formula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posed solutio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btain summaries for sensitivities and specificities across studies via meta-analysis, then back-calculate the rest of the metrics (using the formulas) over a range of prevalence values.</a:t>
            </a:r>
            <a:endParaRPr b="0" lang="en-US" sz="2200" spc="-1" strike="noStrike">
              <a:solidFill>
                <a:srgbClr val="ffffff"/>
              </a:solidFill>
              <a:latin typeface="Trebuchet MS"/>
            </a:endParaRPr>
          </a:p>
        </p:txBody>
      </p:sp>
      <p:sp>
        <p:nvSpPr>
          <p:cNvPr id="1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1 of 6)</a:t>
            </a:r>
            <a:endParaRPr b="1" lang="en-US" sz="2800" spc="-1" strike="noStrike">
              <a:solidFill>
                <a:srgbClr val="ffffff"/>
              </a:solidFill>
              <a:latin typeface="Trebuchet MS"/>
            </a:endParaRPr>
          </a:p>
        </p:txBody>
      </p:sp>
      <p:sp>
        <p:nvSpPr>
          <p:cNvPr id="118" name="TextBox 3"/>
          <p:cNvSpPr/>
          <p:nvPr/>
        </p:nvSpPr>
        <p:spPr>
          <a:xfrm>
            <a:off x="8380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18680" y="1298160"/>
            <a:ext cx="5543640" cy="1063800"/>
          </a:xfrm>
          <a:prstGeom prst="rect">
            <a:avLst/>
          </a:prstGeom>
          <a:noFill/>
          <a:ln w="0">
            <a:noFill/>
          </a:ln>
        </p:spPr>
        <p:txBody>
          <a:bodyPr lIns="0" rIns="0" tIns="0" bIns="0" anchor="t">
            <a:norm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 Visual Summary of Sensitivity/Specificity Across Studies With back calculation of the Other Metrics</a:t>
            </a:r>
            <a:endParaRPr b="0" lang="en-US" sz="18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2 of 6)</a:t>
            </a:r>
            <a:endParaRPr b="1" lang="en-US" sz="2800" spc="-1" strike="noStrike">
              <a:solidFill>
                <a:srgbClr val="ffffff"/>
              </a:solidFill>
              <a:latin typeface="Trebuchet MS"/>
            </a:endParaRPr>
          </a:p>
        </p:txBody>
      </p:sp>
      <p:pic>
        <p:nvPicPr>
          <p:cNvPr id="121" name="Picture 2" descr="This is an illustration of the idea that meta-analysis can be done for sensitivity and specificity for the individual studies, then the other performance statistics can be back-calculated for a plausible range of prevalence values.  "/>
          <p:cNvPicPr/>
          <p:nvPr/>
        </p:nvPicPr>
        <p:blipFill>
          <a:blip r:embed="rId1"/>
          <a:stretch/>
        </p:blipFill>
        <p:spPr>
          <a:xfrm>
            <a:off x="476280" y="1990800"/>
            <a:ext cx="5543640" cy="3800520"/>
          </a:xfrm>
          <a:prstGeom prst="rect">
            <a:avLst/>
          </a:prstGeom>
          <a:ln w="0">
            <a:noFill/>
          </a:ln>
        </p:spPr>
      </p:pic>
      <p:sp>
        <p:nvSpPr>
          <p:cNvPr id="122" name="TextBox 3"/>
          <p:cNvSpPr/>
          <p:nvPr/>
        </p:nvSpPr>
        <p:spPr>
          <a:xfrm>
            <a:off x="6095880" y="4191120"/>
            <a:ext cx="28958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LR = negative likelihood ratio</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NPV = negative predictive value</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LR = positive likelihood ratio PPV = positive predictive value Prev = prevalence</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 = sensitivity</a:t>
            </a:r>
            <a:endParaRPr b="0" lang="en-US" sz="1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p = specificity</a:t>
            </a:r>
            <a:endParaRPr b="0" lang="en-US" sz="1400" spc="-1" strike="noStrike">
              <a:solidFill>
                <a:srgbClr val="000000"/>
              </a:solidFill>
              <a:latin typeface="Palatino Linotype"/>
            </a:endParaRPr>
          </a:p>
        </p:txBody>
      </p:sp>
      <p:sp>
        <p:nvSpPr>
          <p:cNvPr id="123" name="TextBox 5"/>
          <p:cNvSpPr/>
          <p:nvPr/>
        </p:nvSpPr>
        <p:spPr>
          <a:xfrm>
            <a:off x="3808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7008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y does it make sense to directly meta-analyze sensitivity and specificity?</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aligns well with our understanding of positivity threshold effect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are often considered independent of prevale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y sensitivity and specificity obtained by direct meta-analysis will always be between 0 and 1.</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two metrics are not as easily understood as predictive values and likelihood ratios, so back calculation of these other metrics is useful.</a:t>
            </a:r>
            <a:endParaRPr b="0" lang="en-US" sz="22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3 of 6)</a:t>
            </a:r>
            <a:endParaRPr b="1" lang="en-US" sz="2800" spc="-1" strike="noStrike">
              <a:solidFill>
                <a:srgbClr val="ffffff"/>
              </a:solidFill>
              <a:latin typeface="Trebuchet MS"/>
            </a:endParaRPr>
          </a:p>
        </p:txBody>
      </p:sp>
      <p:sp>
        <p:nvSpPr>
          <p:cNvPr id="126" name="TextBox 4"/>
          <p:cNvSpPr/>
          <p:nvPr/>
        </p:nvSpPr>
        <p:spPr>
          <a:xfrm>
            <a:off x="8380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Why does it </a:t>
            </a:r>
            <a:r>
              <a:rPr b="0" i="1" lang="en-US" sz="2600" spc="-1" strike="noStrike">
                <a:solidFill>
                  <a:srgbClr val="ffffff"/>
                </a:solidFill>
                <a:latin typeface="Trebuchet MS"/>
              </a:rPr>
              <a:t>not</a:t>
            </a:r>
            <a:r>
              <a:rPr b="0" lang="en-US" sz="2600" spc="-1" strike="noStrike">
                <a:solidFill>
                  <a:srgbClr val="ffffff"/>
                </a:solidFill>
                <a:latin typeface="Trebuchet MS"/>
              </a:rPr>
              <a:t> make sense to directly meta-analyze predictive values or prevalence?</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dictive values are dependent on prevalence.</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arely is it meaningful to meta-analyze each value across studies.</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alence is often wide ranging.</a:t>
            </a:r>
            <a:endParaRPr b="0" lang="en-US" sz="22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alence cannot be estimated from case-control studies (the main design of many medical test studies).</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better to back calculate these values over a range of plausible prevalence values.</a:t>
            </a:r>
            <a:endParaRPr b="0" lang="en-US" sz="24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4 of 6)</a:t>
            </a:r>
            <a:endParaRPr b="1" lang="en-US" sz="2800" spc="-1" strike="noStrike">
              <a:solidFill>
                <a:srgbClr val="ffffff"/>
              </a:solidFill>
              <a:latin typeface="Trebuchet MS"/>
            </a:endParaRPr>
          </a:p>
        </p:txBody>
      </p:sp>
      <p:sp>
        <p:nvSpPr>
          <p:cNvPr id="129" name="TextBox 3"/>
          <p:cNvSpPr/>
          <p:nvPr/>
        </p:nvSpPr>
        <p:spPr>
          <a:xfrm>
            <a:off x="8380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Why can directly meta-analyzing positive and negative likelihood ratios be problematic?</a:t>
            </a:r>
            <a:endParaRPr b="0" lang="en-US" sz="25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ombining likelihood ratios across studies does not guarantee the summary values are </a:t>
            </a:r>
            <a:r>
              <a:rPr b="0" lang="ja-JP" sz="2300" spc="-1" strike="noStrike">
                <a:solidFill>
                  <a:srgbClr val="ffffff"/>
                </a:solidFill>
                <a:latin typeface="Trebuchet MS"/>
              </a:rPr>
              <a:t>“</a:t>
            </a:r>
            <a:r>
              <a:rPr b="0" lang="en-US" sz="2300" spc="-1" strike="noStrike">
                <a:solidFill>
                  <a:srgbClr val="ffffff"/>
                </a:solidFill>
                <a:latin typeface="Trebuchet MS"/>
              </a:rPr>
              <a:t>internally consistent.</a:t>
            </a:r>
            <a:r>
              <a:rPr b="0" lang="ja-JP" sz="2300" spc="-1" strike="noStrike">
                <a:solidFill>
                  <a:srgbClr val="ffffff"/>
                </a:solidFill>
                <a:latin typeface="Trebuchet MS"/>
              </a:rPr>
              <a:t>”</a:t>
            </a:r>
            <a:endParaRPr b="0" lang="en-US" sz="23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is possible to obtain summary likelihood ratios that correspond to impossible summary sensitivities or specificities (i.e., values &lt;0 or &gt;1).</a:t>
            </a:r>
            <a:endParaRPr b="0" lang="en-US" sz="2100" spc="-1" strike="noStrike">
              <a:solidFill>
                <a:srgbClr val="ffffff"/>
              </a:solidFill>
              <a:latin typeface="Trebuchet MS"/>
            </a:endParaRPr>
          </a:p>
          <a:p>
            <a:pPr lvl="2" marL="1096920" indent="-291960">
              <a:lnSpc>
                <a:spcPct val="100000"/>
              </a:lnSpc>
              <a:spcBef>
                <a:spcPts val="78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Back calculation avoids this.</a:t>
            </a:r>
            <a:endParaRPr b="0" lang="en-US" sz="2100" spc="-1" strike="noStrike">
              <a:solidFill>
                <a:srgbClr val="ffffff"/>
              </a:solidFill>
              <a:latin typeface="Trebuchet MS"/>
            </a:endParaRPr>
          </a:p>
          <a:p>
            <a:pPr lvl="1" marL="69372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is is not a common case, however; often direct meta-analysis yields the same conclusions as back calculation. </a:t>
            </a:r>
            <a:endParaRPr b="0" lang="en-US" sz="23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5 of 6)</a:t>
            </a:r>
            <a:endParaRPr b="1" lang="en-US" sz="2800" spc="-1" strike="noStrike">
              <a:solidFill>
                <a:srgbClr val="ffffff"/>
              </a:solidFill>
              <a:latin typeface="Trebuchet MS"/>
            </a:endParaRPr>
          </a:p>
        </p:txBody>
      </p:sp>
      <p:sp>
        <p:nvSpPr>
          <p:cNvPr id="132" name="TextBox 3"/>
          <p:cNvSpPr/>
          <p:nvPr/>
        </p:nvSpPr>
        <p:spPr>
          <a:xfrm>
            <a:off x="838080" y="586728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rectly analyzing diagnostic odds ratios</a:t>
            </a:r>
            <a:endParaRPr b="0" lang="en-US" sz="26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s straightforward and follows standard meta-analytic methods</a:t>
            </a:r>
            <a:endParaRPr b="0" lang="en-US" sz="24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racteristics of the diagnostic odds ratio</a:t>
            </a:r>
            <a:endParaRPr b="0" lang="en-US" sz="24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osely linked to sensitivity, specificity, and likelihood ratios</a:t>
            </a:r>
            <a:endParaRPr b="0" lang="en-US" sz="22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an easily be included in meta-regression models for analysis of heterogeneity between studies</a:t>
            </a:r>
            <a:endParaRPr b="0" lang="en-US" sz="2200" spc="-1" strike="noStrike">
              <a:solidFill>
                <a:srgbClr val="ffffff"/>
              </a:solidFill>
              <a:latin typeface="Trebuchet MS"/>
            </a:endParaRPr>
          </a:p>
          <a:p>
            <a:pPr lvl="1" marL="69372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advantages </a:t>
            </a:r>
            <a:endParaRPr b="0" lang="en-US" sz="24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llenging to interpret</a:t>
            </a:r>
            <a:endParaRPr b="0" lang="en-US" sz="22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mpossible to weigh the true-positive rate and the false-positive rate separately</a:t>
            </a:r>
            <a:endParaRPr b="0" lang="en-US" sz="22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ciding Which Metrics To Meta-analyze (6 of 6)</a:t>
            </a:r>
            <a:endParaRPr b="1" lang="en-US" sz="2800" spc="-1" strike="noStrike">
              <a:solidFill>
                <a:srgbClr val="ffffff"/>
              </a:solidFill>
              <a:latin typeface="Trebuchet MS"/>
            </a:endParaRPr>
          </a:p>
        </p:txBody>
      </p:sp>
      <p:sp>
        <p:nvSpPr>
          <p:cNvPr id="135" name="TextBox 3"/>
          <p:cNvSpPr/>
          <p:nvPr/>
        </p:nvSpPr>
        <p:spPr>
          <a:xfrm>
            <a:off x="8380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eta-analytic methods should:</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pect the multivariate nature of test performance metrics (i.e., sensitivity and specificity)</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ow for nonindependence between sensitivity and specificity across studies (</a:t>
            </a:r>
            <a:r>
              <a:rPr b="0" lang="ja-JP" sz="2400" spc="-1" strike="noStrike">
                <a:solidFill>
                  <a:srgbClr val="ffffff"/>
                </a:solidFill>
                <a:latin typeface="Trebuchet MS"/>
              </a:rPr>
              <a:t>“</a:t>
            </a:r>
            <a:r>
              <a:rPr b="0" lang="en-US" sz="2400" spc="-1" strike="noStrike">
                <a:solidFill>
                  <a:srgbClr val="ffffff"/>
                </a:solidFill>
                <a:latin typeface="Trebuchet MS"/>
              </a:rPr>
              <a:t>threshold effect</a:t>
            </a:r>
            <a:r>
              <a:rPr b="0" lang="ja-JP" sz="2400" spc="-1" strike="noStrike">
                <a:solidFill>
                  <a:srgbClr val="ffffff"/>
                </a:solidFill>
                <a:latin typeface="Trebuchet MS"/>
              </a:rPr>
              <a:t>”</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ow for between-study heterogeneity (i.e., variability not explained by the statistical distribution of the data in each study)</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e most theoretically motivated approaches are based on multivariate methods (hierarchical modeling).</a:t>
            </a:r>
            <a:endParaRPr b="0" lang="en-US" sz="26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sired Characteristics of Meta-analytic Methods</a:t>
            </a:r>
            <a:endParaRPr b="1" lang="en-US" sz="2800" spc="-1" strike="noStrike">
              <a:solidFill>
                <a:srgbClr val="ffffff"/>
              </a:solidFill>
              <a:latin typeface="Trebuchet MS"/>
            </a:endParaRPr>
          </a:p>
        </p:txBody>
      </p:sp>
      <p:sp>
        <p:nvSpPr>
          <p:cNvPr id="138"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0880" y="1218960"/>
            <a:ext cx="8382240" cy="502596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ultivariate meta-analysis of sensitivity and specificity (i.e., joint analysis of both) should be performed, rather than separate univariate meta-analyse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It requires hierarchical modeling.</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Bivariate</a:t>
            </a:r>
            <a:r>
              <a:rPr b="0" lang="en-US" sz="2100" spc="-1" strike="noStrike">
                <a:solidFill>
                  <a:srgbClr val="ffffff"/>
                </a:solidFill>
                <a:latin typeface="Trebuchet MS"/>
              </a:rPr>
              <a:t> model</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Hierarchical summary receiver operator characteristic </a:t>
            </a:r>
            <a:r>
              <a:rPr b="0" lang="en-US" sz="2100" spc="-1" strike="noStrike">
                <a:solidFill>
                  <a:srgbClr val="ffffff"/>
                </a:solidFill>
                <a:latin typeface="Trebuchet MS"/>
              </a:rPr>
              <a:t>model</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Both families of models use two levels to model data.</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1st level = within-study variability, from 2 × 2 table count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2nd level = between-study variability (i.e. heterogeneity), allowing for nonindependence of sensitivity and specificity across studies </a:t>
            </a:r>
            <a:endParaRPr b="0" lang="en-US" sz="21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1 of 4)</a:t>
            </a:r>
            <a:endParaRPr b="1" lang="en-US" sz="3200" spc="-1" strike="noStrike">
              <a:solidFill>
                <a:srgbClr val="ffffff"/>
              </a:solidFill>
              <a:latin typeface="Trebuchet MS"/>
            </a:endParaRPr>
          </a:p>
        </p:txBody>
      </p:sp>
      <p:sp>
        <p:nvSpPr>
          <p:cNvPr id="141"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295280"/>
            <a:ext cx="8382240" cy="502632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el families differ in the parameters used for between-study variability in the 2nd level.</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bivariate model uses parameters that are transformations of the average sensitivity and specificit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hierarchical summary receiver operator characteristic (HSROC) model uses a scale parameter and an accuracy parameter.</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oth models are functions of the sensitivity and specificity.</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y also define an underlying HSROC curv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oth models are mathematically the same in the absence of covariat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oth models assume a normal distribution of parameters, which can be difficult to satisfy.</a:t>
            </a:r>
            <a:endParaRPr b="0" lang="en-US" sz="22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2 of 4)</a:t>
            </a:r>
            <a:endParaRPr b="1" lang="en-US" sz="3200" spc="-1" strike="noStrike">
              <a:solidFill>
                <a:srgbClr val="ffffff"/>
              </a:solidFill>
              <a:latin typeface="Trebuchet MS"/>
            </a:endParaRPr>
          </a:p>
        </p:txBody>
      </p:sp>
      <p:sp>
        <p:nvSpPr>
          <p:cNvPr id="144" name="TextBox 3"/>
          <p:cNvSpPr/>
          <p:nvPr/>
        </p:nvSpPr>
        <p:spPr>
          <a:xfrm>
            <a:off x="6094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phically display diagnostic test performance across multiple studies using a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 refer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the dependence of sensitivity and specificity over studies and thus the need for a multivariate (joint) analysi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choices for a meta-analysis to summarize test performance depending on whether the sensitivity and specificity estimates from multiple studies vary (or do not vary) widel</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9" name="TextBox 1"/>
          <p:cNvSpPr/>
          <p:nvPr/>
        </p:nvSpPr>
        <p:spPr>
          <a:xfrm>
            <a:off x="690840" y="5943600"/>
            <a:ext cx="76618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0880" y="1142640"/>
            <a:ext cx="8382240" cy="502596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Researchers need to choose between the bivariate and the hierarchical summary receiver operator characteristic (HSROC) models when covariates are present (i.e., meta-regression analysis). For example:</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bivariate model is more appropriate when there is variation in disease severity.</a:t>
            </a:r>
            <a:endParaRPr b="0" lang="en-US" sz="19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is affects sensitivity but not specificity.</a:t>
            </a:r>
            <a:endParaRPr b="0" lang="en-US" sz="17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bivariate model allows direct evaluation of the difference in sensitivity and/or specificity.</a:t>
            </a:r>
            <a:endParaRPr b="0" lang="en-US" sz="17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HSROC model is more effective when </a:t>
            </a:r>
            <a:r>
              <a:rPr b="0" lang="ja-JP" sz="1900" spc="-1" strike="noStrike">
                <a:solidFill>
                  <a:srgbClr val="ffffff"/>
                </a:solidFill>
                <a:latin typeface="Trebuchet MS"/>
              </a:rPr>
              <a:t>“</a:t>
            </a:r>
            <a:r>
              <a:rPr b="0" lang="en-US" sz="1900" spc="-1" strike="noStrike">
                <a:solidFill>
                  <a:srgbClr val="ffffff"/>
                </a:solidFill>
                <a:latin typeface="Trebuchet MS"/>
              </a:rPr>
              <a:t>spectrum effects</a:t>
            </a:r>
            <a:r>
              <a:rPr b="0" lang="ja-JP" sz="1900" spc="-1" strike="noStrike">
                <a:solidFill>
                  <a:srgbClr val="ffffff"/>
                </a:solidFill>
                <a:latin typeface="Trebuchet MS"/>
              </a:rPr>
              <a:t>”</a:t>
            </a:r>
            <a:r>
              <a:rPr b="0" lang="en-US" sz="1900" spc="-1" strike="noStrike">
                <a:solidFill>
                  <a:srgbClr val="ffffff"/>
                </a:solidFill>
                <a:latin typeface="Trebuchet MS"/>
              </a:rPr>
              <a:t> (the subjects in a study do not represent the patients who will receive the test in practice) are present.</a:t>
            </a:r>
            <a:endParaRPr b="0" lang="en-US" sz="19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is is more likely to affect test accuracy rather than threshold.</a:t>
            </a:r>
            <a:endParaRPr b="0" lang="en-US" sz="1700" spc="-1" strike="noStrike">
              <a:solidFill>
                <a:srgbClr val="ffffff"/>
              </a:solidFill>
              <a:latin typeface="Trebuchet MS"/>
            </a:endParaRPr>
          </a:p>
          <a:p>
            <a:pPr lvl="2" marL="1096920" indent="-29196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e HSROC model allows direct evaluation of the difference in accuracy and/or threshold parameters.</a:t>
            </a:r>
            <a:endParaRPr b="0" lang="en-US" sz="17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3 of 4)</a:t>
            </a:r>
            <a:endParaRPr b="1" lang="en-US" sz="3200" spc="-1" strike="noStrike">
              <a:solidFill>
                <a:srgbClr val="ffffff"/>
              </a:solidFill>
              <a:latin typeface="Trebuchet MS"/>
            </a:endParaRPr>
          </a:p>
        </p:txBody>
      </p:sp>
      <p:sp>
        <p:nvSpPr>
          <p:cNvPr id="147" name="TextBox 3"/>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371240"/>
            <a:ext cx="8229600" cy="5302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ethods Commonly Used To Calculate a Summary Point</a:t>
            </a:r>
            <a:endParaRPr b="0" lang="en-US" sz="20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Point (4 of 4)</a:t>
            </a:r>
            <a:endParaRPr b="1" lang="en-US" sz="3200" spc="-1" strike="noStrike">
              <a:solidFill>
                <a:srgbClr val="ffffff"/>
              </a:solidFill>
              <a:latin typeface="Trebuchet MS"/>
            </a:endParaRPr>
          </a:p>
        </p:txBody>
      </p:sp>
      <p:graphicFrame>
        <p:nvGraphicFramePr>
          <p:cNvPr id="150" name=""/>
          <p:cNvGraphicFramePr/>
          <p:nvPr/>
        </p:nvGraphicFramePr>
        <p:xfrm>
          <a:off x="457200" y="1828800"/>
          <a:ext cx="8153280" cy="3733920"/>
        </p:xfrm>
        <a:graphic>
          <a:graphicData uri="http://schemas.openxmlformats.org/drawingml/2006/table">
            <a:tbl>
              <a:tblPr/>
              <a:tblGrid>
                <a:gridCol w="2133720"/>
                <a:gridCol w="2666880"/>
                <a:gridCol w="3352680"/>
              </a:tblGrid>
              <a:tr h="45756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thod</a:t>
                      </a:r>
                      <a:endParaRPr b="0" lang="en-US" sz="1400" spc="-1" strike="noStrike">
                        <a:solidFill>
                          <a:srgbClr val="000000"/>
                        </a:solidFill>
                        <a:latin typeface="Palatino Linotype"/>
                      </a:endParaRPr>
                    </a:p>
                  </a:txBody>
                  <a:tcPr anchor="ctr" marL="44280" marR="44280">
                    <a:lnL>
                      <a:no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Description or Comment</a:t>
                      </a:r>
                      <a:endParaRPr b="0" lang="en-US" sz="1400" spc="-1" strike="noStrike">
                        <a:solidFill>
                          <a:srgbClr val="000000"/>
                        </a:solidFill>
                        <a:latin typeface="Palatino Linotype"/>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Does It Have the Desired Characteristics?</a:t>
                      </a:r>
                      <a:endParaRPr b="0" lang="en-US" sz="1400" spc="-1" strike="noStrike">
                        <a:solidFill>
                          <a:srgbClr val="000000"/>
                        </a:solidFill>
                        <a:latin typeface="Palatino Linotype"/>
                      </a:endParaRPr>
                    </a:p>
                  </a:txBody>
                  <a:tcPr anchor="ctr" marL="44280" marR="44280">
                    <a:lnL w="5760">
                      <a:solidFill>
                        <a:srgbClr val="ffffff"/>
                      </a:solidFill>
                    </a:lnL>
                    <a:lnR>
                      <a:noFill/>
                    </a:lnR>
                    <a:lnT w="5760">
                      <a:solidFill>
                        <a:srgbClr val="ffffff"/>
                      </a:solidFill>
                    </a:lnT>
                    <a:lnB w="5760">
                      <a:solidFill>
                        <a:srgbClr val="ffffff"/>
                      </a:solidFill>
                    </a:lnB>
                    <a:solidFill>
                      <a:srgbClr val="4d6799"/>
                    </a:solidFill>
                  </a:tcPr>
                </a:tc>
              </a:tr>
              <a:tr h="114516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dependent meta-analysis of sensitivity and specificity</a:t>
                      </a:r>
                      <a:endParaRPr b="0" lang="en-US" sz="14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eparate meta-analyses per metric</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Within-study variability preferably modeled by the binomial distribution</a:t>
                      </a:r>
                      <a:endParaRPr b="0" lang="en-US" sz="14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gnores the correlation between sensitivity and specificity </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Underestimates the summary sensitivity and specificity and wrong confidence intervals</a:t>
                      </a:r>
                      <a:endParaRPr b="0" lang="en-US" sz="14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ffffff"/>
                      </a:solidFill>
                    </a:lnB>
                    <a:solidFill>
                      <a:srgbClr val="dde3ee"/>
                    </a:solidFill>
                  </a:tcPr>
                </a:tc>
              </a:tr>
              <a:tr h="213156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Joint (multivariate) meta-analysis of sensitivity and specificity based on hierarchical modeling</a:t>
                      </a:r>
                      <a:endParaRPr b="0" lang="en-US" sz="14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000000"/>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Based on multivariate (joint) modeling of sensitivity and specificity</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wo families of models that are equivalent when there are no covariates</a:t>
                      </a:r>
                      <a:endParaRPr b="0" lang="en-US" sz="14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Modeling preferably using binomial likelihood rather than normal approximations</a:t>
                      </a:r>
                      <a:endParaRPr b="0" lang="en-US" sz="14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The generally preferred method</a:t>
                      </a:r>
                      <a:endParaRPr b="0" lang="en-US" sz="14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000000"/>
                      </a:solidFill>
                    </a:lnB>
                    <a:solidFill>
                      <a:srgbClr val="c3cee1"/>
                    </a:solidFill>
                  </a:tcPr>
                </a:tc>
              </a:tr>
            </a:tbl>
          </a:graphicData>
        </a:graphic>
      </p:graphicFrame>
      <p:sp>
        <p:nvSpPr>
          <p:cNvPr id="151" name="TextBox 4"/>
          <p:cNvSpPr/>
          <p:nvPr/>
        </p:nvSpPr>
        <p:spPr>
          <a:xfrm>
            <a:off x="4572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880" y="1218960"/>
            <a:ext cx="8382240" cy="502596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erarchical modeling is recommended.</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ierarchical summary lines can be calculated from bivariate random-effects model parameters</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range of hierarchical summary receiver operator characteristic (HSROC) lines can be calculated from fitted bivariate model parameter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n example is the Rutter-Gatsonis HSROC model.</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present alternative characterizations of the bivariate distribution of sensitivity and specific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how the summary sensitivity changes with the summary specificity</a:t>
            </a:r>
            <a:endParaRPr b="0" lang="en-US" sz="2200" spc="-1" strike="noStrike">
              <a:solidFill>
                <a:srgbClr val="ffffff"/>
              </a:solidFill>
              <a:latin typeface="Trebuchet MS"/>
            </a:endParaRPr>
          </a:p>
        </p:txBody>
      </p:sp>
      <p:sp>
        <p:nvSpPr>
          <p:cNvPr id="1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Line (1 of 2)</a:t>
            </a:r>
            <a:endParaRPr b="1" lang="en-US" sz="3200" spc="-1" strike="noStrike">
              <a:solidFill>
                <a:srgbClr val="ffffff"/>
              </a:solidFill>
              <a:latin typeface="Trebuchet MS"/>
            </a:endParaRPr>
          </a:p>
        </p:txBody>
      </p:sp>
      <p:sp>
        <p:nvSpPr>
          <p:cNvPr id="154" name="TextBox 3"/>
          <p:cNvSpPr/>
          <p:nvPr/>
        </p:nvSpPr>
        <p:spPr>
          <a:xfrm>
            <a:off x="685800" y="571500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utter CM, Gatsonis CA. Acad Radiol 1995 Mar;2 Suppl 1:S48-56; discussion S65-7, S70-1 pas. PMID: 9419705.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1145880"/>
            <a:ext cx="8229600" cy="530280"/>
          </a:xfrm>
          <a:prstGeom prst="rect">
            <a:avLst/>
          </a:prstGeom>
          <a:noFill/>
          <a:ln w="0">
            <a:noFill/>
          </a:ln>
        </p:spPr>
        <p:txBody>
          <a:bodyPr lIns="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Methods Commonly Used To Calculate a Summary Line</a:t>
            </a:r>
            <a:endParaRPr b="0" lang="en-US" sz="20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a:p>
            <a:pPr>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eferred Methods for Obtaining a Summary Line (2 of 2)</a:t>
            </a:r>
            <a:endParaRPr b="1" lang="en-US" sz="3200" spc="-1" strike="noStrike">
              <a:solidFill>
                <a:srgbClr val="ffffff"/>
              </a:solidFill>
              <a:latin typeface="Trebuchet MS"/>
            </a:endParaRPr>
          </a:p>
        </p:txBody>
      </p:sp>
      <p:graphicFrame>
        <p:nvGraphicFramePr>
          <p:cNvPr id="157" name=""/>
          <p:cNvGraphicFramePr/>
          <p:nvPr/>
        </p:nvGraphicFramePr>
        <p:xfrm>
          <a:off x="457200" y="1523880"/>
          <a:ext cx="8229600" cy="4191120"/>
        </p:xfrm>
        <a:graphic>
          <a:graphicData uri="http://schemas.openxmlformats.org/drawingml/2006/table">
            <a:tbl>
              <a:tblPr/>
              <a:tblGrid>
                <a:gridCol w="1523880"/>
                <a:gridCol w="3200400"/>
                <a:gridCol w="3505320"/>
              </a:tblGrid>
              <a:tr h="182880">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Method</a:t>
                      </a:r>
                      <a:endParaRPr b="0" lang="en-US" sz="1200" spc="-1" strike="noStrike">
                        <a:solidFill>
                          <a:srgbClr val="000000"/>
                        </a:solidFill>
                        <a:latin typeface="Palatino Linotype"/>
                      </a:endParaRPr>
                    </a:p>
                  </a:txBody>
                  <a:tcPr anchor="ctr" marL="44280" marR="44280">
                    <a:lnL>
                      <a:no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Description or Comment</a:t>
                      </a:r>
                      <a:endParaRPr b="0" lang="en-US" sz="1200" spc="-1" strike="noStrike">
                        <a:solidFill>
                          <a:srgbClr val="000000"/>
                        </a:solidFill>
                        <a:latin typeface="Palatino Linotype"/>
                      </a:endParaRPr>
                    </a:p>
                  </a:txBody>
                  <a:tcPr anchor="ctr" marL="44280" marR="4428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44280" rIns="442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Does It Have the Desired Characteristics?</a:t>
                      </a:r>
                      <a:endParaRPr b="0" lang="en-US" sz="1200" spc="-1" strike="noStrike">
                        <a:solidFill>
                          <a:srgbClr val="000000"/>
                        </a:solidFill>
                        <a:latin typeface="Palatino Linotype"/>
                      </a:endParaRPr>
                    </a:p>
                  </a:txBody>
                  <a:tcPr anchor="ctr" marL="44280" marR="44280">
                    <a:lnL w="5760">
                      <a:solidFill>
                        <a:srgbClr val="ffffff"/>
                      </a:solidFill>
                    </a:lnL>
                    <a:lnR>
                      <a:noFill/>
                    </a:lnR>
                    <a:lnT w="5760">
                      <a:solidFill>
                        <a:srgbClr val="ffffff"/>
                      </a:solidFill>
                    </a:lnT>
                    <a:lnB w="5760">
                      <a:solidFill>
                        <a:srgbClr val="ffffff"/>
                      </a:solidFill>
                    </a:lnB>
                    <a:solidFill>
                      <a:srgbClr val="4d6799"/>
                    </a:solidFill>
                  </a:tcPr>
                </a:tc>
              </a:tr>
              <a:tr h="164304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oses-Littenberg model </a:t>
                      </a:r>
                      <a:endParaRPr b="0" lang="en-US" sz="12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ummary line based on a simple regression of the difference of logit-transformed true-positive and false-positive rates versus their average</a:t>
                      </a:r>
                      <a:endParaRPr b="0" lang="en-US" sz="12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Ignores unexplained variation between-studies (fixed effects)</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correlation between sensitivity and specificity </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variability in the independent variable</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Inability to weight studies optimally – yields wrong inferences when covariates are used </a:t>
                      </a:r>
                      <a:endParaRPr b="0" lang="en-US" sz="12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ffffff"/>
                      </a:solidFill>
                    </a:lnB>
                    <a:solidFill>
                      <a:srgbClr val="dde3ee"/>
                    </a:solidFill>
                  </a:tcPr>
                </a:tc>
              </a:tr>
              <a:tr h="109548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andom intercept augmentation of the Moses-Littenberg model</a:t>
                      </a:r>
                      <a:endParaRPr b="0" lang="en-US" sz="12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ffffff"/>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egression of the difference of logit-transformed true-positive and false-positive rates versus their average for random effects that allows for variability across studies</a:t>
                      </a:r>
                      <a:endParaRPr b="0" lang="en-US" sz="12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correlation between sensitivity and specificity </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es not account for variability in the independent variable</a:t>
                      </a:r>
                      <a:endParaRPr b="0" lang="en-US" sz="12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ffffff"/>
                      </a:solidFill>
                    </a:lnB>
                    <a:solidFill>
                      <a:srgbClr val="c3cee1"/>
                    </a:solidFill>
                  </a:tcPr>
                </a:tc>
              </a:tr>
              <a:tr h="1278000">
                <a:tc>
                  <a:txBody>
                    <a:bodyPr lIns="44280" rIns="44280" tIns="0" bIns="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ummary receiver operator characteristic (ROC) based on hierarchical modeling </a:t>
                      </a:r>
                      <a:endParaRPr b="0" lang="en-US" sz="1200" spc="-1" strike="noStrike">
                        <a:solidFill>
                          <a:srgbClr val="000000"/>
                        </a:solidFill>
                        <a:latin typeface="Palatino Linotype"/>
                      </a:endParaRPr>
                    </a:p>
                  </a:txBody>
                  <a:tcPr anchor="t" marL="44280" marR="44280">
                    <a:lnL>
                      <a:noFill/>
                    </a:lnL>
                    <a:lnR w="5760">
                      <a:solidFill>
                        <a:srgbClr val="ffffff"/>
                      </a:solidFill>
                    </a:lnR>
                    <a:lnT w="5760">
                      <a:solidFill>
                        <a:srgbClr val="ffffff"/>
                      </a:solidFill>
                    </a:lnT>
                    <a:lnB w="5760">
                      <a:solidFill>
                        <a:srgbClr val="000000"/>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ame as for multivariate meta-analysis to obtain a summary point </a:t>
                      </a:r>
                      <a:r>
                        <a:rPr b="1" lang="en-US" sz="1200" spc="-1" strike="noStrike">
                          <a:solidFill>
                            <a:srgbClr val="000000"/>
                          </a:solidFill>
                          <a:latin typeface="Arial"/>
                          <a:ea typeface="Arial"/>
                        </a:rPr>
                        <a:t>—</a:t>
                      </a:r>
                      <a:r>
                        <a:rPr b="1" lang="en-US" sz="1200" spc="-1" strike="noStrike">
                          <a:solidFill>
                            <a:srgbClr val="000000"/>
                          </a:solidFill>
                          <a:latin typeface="Palatino Linotype"/>
                        </a:rPr>
                        <a:t> hierarchical modeling</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any ways to obtain a (hierarchical) summary ROC:</a:t>
                      </a:r>
                      <a:endParaRPr b="0" lang="en-US" sz="1200" spc="-1" strike="noStrike">
                        <a:solidFill>
                          <a:srgbClr val="000000"/>
                        </a:solidFill>
                        <a:latin typeface="Palatino Linotype"/>
                      </a:endParaRPr>
                    </a:p>
                    <a:p>
                      <a:pPr lvl="2" marL="365040" indent="-18252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ea typeface="MS PGothic"/>
                        </a:rPr>
                        <a:t>Rutter-Gatsonis (most common)</a:t>
                      </a:r>
                      <a:endParaRPr b="0" lang="en-US" sz="1200" spc="-1" strike="noStrike">
                        <a:solidFill>
                          <a:srgbClr val="000000"/>
                        </a:solidFill>
                        <a:latin typeface="Palatino Linotype"/>
                      </a:endParaRPr>
                    </a:p>
                    <a:p>
                      <a:pPr lvl="2" marL="365040" indent="-182520">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ea typeface="MS PGothic"/>
                        </a:rPr>
                        <a:t>Several alternative curves</a:t>
                      </a:r>
                      <a:endParaRPr b="0" lang="en-US" sz="1200" spc="-1" strike="noStrike">
                        <a:solidFill>
                          <a:srgbClr val="000000"/>
                        </a:solidFill>
                        <a:latin typeface="Palatino Linotype"/>
                      </a:endParaRPr>
                    </a:p>
                  </a:txBody>
                  <a:tcPr anchor="t" marL="44280" marR="44280">
                    <a:lnL w="5760">
                      <a:solidFill>
                        <a:srgbClr val="ffffff"/>
                      </a:solidFill>
                    </a:lnL>
                    <a:lnR w="5760">
                      <a:solidFill>
                        <a:srgbClr val="ffffff"/>
                      </a:solidFill>
                    </a:lnR>
                    <a:lnT w="5760">
                      <a:solidFill>
                        <a:srgbClr val="ffffff"/>
                      </a:solidFill>
                    </a:lnT>
                    <a:lnB w="5760">
                      <a:solidFill>
                        <a:srgbClr val="000000"/>
                      </a:solidFill>
                    </a:lnB>
                    <a:solidFill>
                      <a:srgbClr val="dde3ee"/>
                    </a:solidFill>
                  </a:tcPr>
                </a:tc>
                <a:tc>
                  <a:txBody>
                    <a:bodyPr lIns="44280" rIns="44280" tIns="0" bIns="0" anchor="t">
                      <a:noAutofit/>
                    </a:bodyPr>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ost theoretically motivated method </a:t>
                      </a:r>
                      <a:endParaRPr b="0" lang="en-US" sz="12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utter-Gatsonis hierarchical summary ROC is recommended in the </a:t>
                      </a:r>
                      <a:r>
                        <a:rPr b="1" i="1" lang="en-US" sz="1200" spc="-1" strike="noStrike">
                          <a:solidFill>
                            <a:srgbClr val="000000"/>
                          </a:solidFill>
                          <a:latin typeface="Palatino Linotype"/>
                        </a:rPr>
                        <a:t>Cochrane Handbook</a:t>
                      </a:r>
                      <a:r>
                        <a:rPr b="1" lang="en-US" sz="1200" spc="-1" strike="noStrike">
                          <a:solidFill>
                            <a:srgbClr val="000000"/>
                          </a:solidFill>
                          <a:latin typeface="Palatino Linotype"/>
                        </a:rPr>
                        <a:t>, as it is the method that has been used most often </a:t>
                      </a:r>
                      <a:endParaRPr b="0" lang="en-US" sz="1200" spc="-1" strike="noStrike">
                        <a:solidFill>
                          <a:srgbClr val="000000"/>
                        </a:solidFill>
                        <a:latin typeface="Palatino Linotype"/>
                      </a:endParaRPr>
                    </a:p>
                  </a:txBody>
                  <a:tcPr anchor="t" marL="44280" marR="44280">
                    <a:lnL w="5760">
                      <a:solidFill>
                        <a:srgbClr val="ffffff"/>
                      </a:solidFill>
                    </a:lnL>
                    <a:lnR w="5760">
                      <a:solidFill>
                        <a:srgbClr val="000000"/>
                      </a:solidFill>
                    </a:lnR>
                    <a:lnT w="5760">
                      <a:solidFill>
                        <a:srgbClr val="ffffff"/>
                      </a:solidFill>
                    </a:lnT>
                    <a:lnB w="5760">
                      <a:solidFill>
                        <a:srgbClr val="000000"/>
                      </a:solidFill>
                    </a:lnB>
                    <a:solidFill>
                      <a:srgbClr val="dde3ee"/>
                    </a:solidFill>
                  </a:tcPr>
                </a:tc>
              </a:tr>
            </a:tbl>
          </a:graphicData>
        </a:graphic>
      </p:graphicFrame>
      <p:sp>
        <p:nvSpPr>
          <p:cNvPr id="158" name="TextBox 4"/>
          <p:cNvSpPr/>
          <p:nvPr/>
        </p:nvSpPr>
        <p:spPr>
          <a:xfrm>
            <a:off x="380880" y="5691240"/>
            <a:ext cx="8153640" cy="87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Coleman CI, Griffith L, et al. Meta-analysis of test performance when there is a </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gold standard.</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 In: Methods guide for medical test reviews. Available at www.effectivehealthcare.ahrq.gov/medtestsguide.cfm.</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ittenberg B, Moses LE. Med Decis Making 1993 Oct-Dec;13(4):313-21. PMID: 8246704.</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utter CM, Gatsonis CA. Acad Radiol 1995 Mar;2 Suppl 1:S48-56; discussion S65-7, S70-1 pas. PMID: 9419705.</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 </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0880" y="1298160"/>
            <a:ext cx="8382240" cy="502596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not uncommon for studies to report multiple sensitivity/ specificity pairs at several thresholds for positive test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ption 1: Decide on one threshold from each study (e.g., the threshold with the highest sensitivity)</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ption 2: Use all thresholds</a:t>
            </a:r>
            <a:endParaRPr b="0" lang="en-US" sz="20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n extension of the hierarchical summary receiver operator characteristic model has been developed for this purpose.</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method combining whole receiver operator characteristic (ROC) curves can also be used.</a:t>
            </a:r>
            <a:endParaRPr b="0" lang="en-US" sz="18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recommended that data be explored graphically in ROC space to highlight similarities and differences among the studies.</a:t>
            </a:r>
            <a:endParaRPr b="0" lang="en-US" sz="22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pecial Case: Joint Analysis of Sensitivity and Specificity With Multiple Thresholds (1 of 2)</a:t>
            </a:r>
            <a:endParaRPr b="1" lang="en-US" sz="2800" spc="-1" strike="noStrike">
              <a:solidFill>
                <a:srgbClr val="ffffff"/>
              </a:solidFill>
              <a:latin typeface="Trebuchet MS"/>
            </a:endParaRPr>
          </a:p>
        </p:txBody>
      </p:sp>
      <p:sp>
        <p:nvSpPr>
          <p:cNvPr id="161" name="TextBox 4"/>
          <p:cNvSpPr/>
          <p:nvPr/>
        </p:nvSpPr>
        <p:spPr>
          <a:xfrm>
            <a:off x="6094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800240" y="1218960"/>
            <a:ext cx="3381480" cy="1444680"/>
          </a:xfrm>
          <a:prstGeom prst="rect">
            <a:avLst/>
          </a:prstGeom>
          <a:noFill/>
          <a:ln w="0">
            <a:noFill/>
          </a:ln>
        </p:spPr>
        <p:txBody>
          <a:bodyPr lIns="0" rIns="0" tIns="0" bIns="0" anchor="t">
            <a:norm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is is an example of an ROC graph for studies with different thresholds for total serum bilirubin. Points on the line for each study represent sensitivity/specificity pairs at different threshold values.</a:t>
            </a:r>
            <a:endParaRPr b="0" lang="en-US" sz="15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pecial Case: Joint Analysis of Sensitivity and Specificity With Multiple Thresholds (2 of 2)</a:t>
            </a:r>
            <a:endParaRPr b="1" lang="en-US" sz="2800" spc="-1" strike="noStrike">
              <a:solidFill>
                <a:srgbClr val="ffffff"/>
              </a:solidFill>
              <a:latin typeface="Trebuchet MS"/>
            </a:endParaRPr>
          </a:p>
        </p:txBody>
      </p:sp>
      <p:pic>
        <p:nvPicPr>
          <p:cNvPr id="164" name="Picture 10" descr="There are two figures on this slide.  The first is a typical ROC graph for four hypothetical studies.  It includes a shaded area where the studies have a positive likelihood ratio of greater than or equal to 10.  Another distinct shaded area includes studies that have a negative likelihood ratio of less than or equal to 0.1.  The area where these two shaded areas intersect includes studies that have both.  This hypothetical graph is also overlaid on the second graph.  The second graph is a representation of studies reporting data at multiple thresholds.  Different thresholds of total serum bilirubin levels are reported for a positive test. There are points for each sensitivity and specificity pair at different threshold values."/>
          <p:cNvPicPr/>
          <p:nvPr/>
        </p:nvPicPr>
        <p:blipFill>
          <a:blip r:embed="rId1"/>
          <a:stretch/>
        </p:blipFill>
        <p:spPr>
          <a:xfrm>
            <a:off x="4800600" y="2724120"/>
            <a:ext cx="3381480" cy="2990880"/>
          </a:xfrm>
          <a:prstGeom prst="rect">
            <a:avLst/>
          </a:prstGeom>
          <a:ln w="0">
            <a:noFill/>
          </a:ln>
        </p:spPr>
      </p:pic>
      <p:sp>
        <p:nvSpPr>
          <p:cNvPr id="165" name="Content Placeholder 1"/>
          <p:cNvSpPr/>
          <p:nvPr/>
        </p:nvSpPr>
        <p:spPr>
          <a:xfrm>
            <a:off x="685800" y="1235160"/>
            <a:ext cx="3505320" cy="1657440"/>
          </a:xfrm>
          <a:prstGeom prst="rect">
            <a:avLst/>
          </a:prstGeom>
          <a:noFill/>
          <a:ln w="0">
            <a:noFill/>
          </a:ln>
        </p:spPr>
        <p:style>
          <a:lnRef idx="0"/>
          <a:fillRef idx="0"/>
          <a:effectRef idx="0"/>
          <a:fontRef idx="minor"/>
        </p:style>
        <p:txBody>
          <a:bodyPr lIns="0" rIns="0" tIns="0" bIns="0" anchor="t">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This is a typical receiver operator characteristic (ROC) graph for four hypothetical studies. Studies in the left shaded area have an LR+ ≥10. Studies in the top shaded area have an LR- ≤ 0.1. Those in the intersection have both.</a:t>
            </a:r>
            <a:endParaRPr b="0" lang="en-US" sz="1500" spc="-1" strike="noStrike">
              <a:solidFill>
                <a:srgbClr val="000000"/>
              </a:solidFill>
              <a:latin typeface="Palatino Linotype"/>
            </a:endParaRPr>
          </a:p>
        </p:txBody>
      </p:sp>
      <p:pic>
        <p:nvPicPr>
          <p:cNvPr id="166" name="Picture 1" descr="There are two figures on this slide.  The first is a typical ROC graph for four hypothetical studies.  It includes a shaded area where the studies have a positive likelihood ratio of greater than or equal to 10.  Another distinct shaded area includes studies that have a negative likelihood ratio of less than or equal to 0.1.  The area where these two shaded areas intersect includes studies that have both.  This hypothetical graph is also overlaid on the second graph.  The second graph is a representation of studies reporting data at multiple thresholds.  Different thresholds of total serum bilirubin levels are reported for a positive test. There are points for each sensitivity and specificity pair at different threshold values."/>
          <p:cNvPicPr/>
          <p:nvPr/>
        </p:nvPicPr>
        <p:blipFill>
          <a:blip r:embed="rId2"/>
          <a:stretch/>
        </p:blipFill>
        <p:spPr>
          <a:xfrm>
            <a:off x="685800" y="2739960"/>
            <a:ext cx="3333600" cy="2971800"/>
          </a:xfrm>
          <a:prstGeom prst="rect">
            <a:avLst/>
          </a:prstGeom>
          <a:ln w="0">
            <a:noFill/>
          </a:ln>
        </p:spPr>
      </p:pic>
      <p:sp>
        <p:nvSpPr>
          <p:cNvPr id="167" name="TextBox 4"/>
          <p:cNvSpPr/>
          <p:nvPr/>
        </p:nvSpPr>
        <p:spPr>
          <a:xfrm>
            <a:off x="533520" y="579132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hung M, Lau J, et al. Pediatrics 2009 Oct;124(4):1162-71. PMID: 19786450.</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 three-step algorithm is recommended for meta-analyzing studies with a gold standard reference:</a:t>
            </a:r>
            <a:endParaRPr b="0" lang="en-US" sz="26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rt by considering sensitivity and specificity separatel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rform a multivariate meta-analysis (when each study reports a single threshold).</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ore between-study heterogeneit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commended Algorithm</a:t>
            </a:r>
            <a:endParaRPr b="1" lang="en-US" sz="3200" spc="-1" strike="noStrike">
              <a:solidFill>
                <a:srgbClr val="ffffff"/>
              </a:solidFill>
              <a:latin typeface="Trebuchet MS"/>
            </a:endParaRPr>
          </a:p>
        </p:txBody>
      </p:sp>
      <p:sp>
        <p:nvSpPr>
          <p:cNvPr id="170" name="TextBox 4"/>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Reviewers should familiarize themselves with the pattern of study-level sensitivities and specificitie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Use graphical display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Forest plots of study sensitivities and specificities with their confidence intervals </a:t>
            </a:r>
            <a:r>
              <a:rPr b="0" lang="en-US" sz="2100" spc="-1" strike="noStrike">
                <a:solidFill>
                  <a:srgbClr val="ffffff"/>
                </a:solidFill>
                <a:latin typeface="Trebuchet MS"/>
              </a:rPr>
              <a:t>give a visual impression of variability of sensitivity and specificity across studies</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 plot of sensitivity (vertical axis) versus 1 </a:t>
            </a:r>
            <a:r>
              <a:rPr b="0" lang="en-US" sz="2100" spc="-1" strike="noStrike">
                <a:solidFill>
                  <a:srgbClr val="ffffff"/>
                </a:solidFill>
                <a:latin typeface="Arial"/>
                <a:ea typeface="Arial"/>
              </a:rPr>
              <a:t>– </a:t>
            </a:r>
            <a:r>
              <a:rPr b="0" lang="en-US" sz="2100" spc="-1" strike="noStrike">
                <a:solidFill>
                  <a:srgbClr val="ffffff"/>
                </a:solidFill>
                <a:latin typeface="Trebuchet MS"/>
              </a:rPr>
              <a:t>specificity (horizontal axis) give a </a:t>
            </a:r>
            <a:r>
              <a:rPr b="0" lang="en-US" sz="2100" spc="-1" strike="noStrike">
                <a:solidFill>
                  <a:srgbClr val="ffffff"/>
                </a:solidFill>
                <a:latin typeface="Trebuchet MS"/>
              </a:rPr>
              <a:t>visual impression of the relationship between sensitivity and specificity across studies. These plots are also known as receiver operator characteristic graphs.</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shoulder-and-arm pattern is present when there is a threshold effect.</a:t>
            </a:r>
            <a:endParaRPr b="0" lang="en-US" sz="19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1: Start by Considering Sensitivity and Specificity Separately (1 of 2)</a:t>
            </a:r>
            <a:endParaRPr b="1" lang="en-US" sz="3200" spc="-1" strike="noStrike">
              <a:solidFill>
                <a:srgbClr val="ffffff"/>
              </a:solidFill>
              <a:latin typeface="Trebuchet MS"/>
            </a:endParaRPr>
          </a:p>
        </p:txBody>
      </p:sp>
      <p:sp>
        <p:nvSpPr>
          <p:cNvPr id="173" name="TextBox 4"/>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14280"/>
            <a:ext cx="2286000" cy="2664000"/>
          </a:xfrm>
          <a:prstGeom prst="rect">
            <a:avLst/>
          </a:prstGeom>
          <a:noFill/>
          <a:ln w="0">
            <a:noFill/>
          </a:ln>
        </p:spPr>
        <p:txBody>
          <a:bodyPr lIns="0" rIns="0" tIns="0" bIns="0" anchor="t">
            <a:normAutofit fontScale="77000"/>
          </a:bodyPr>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s of forest plots</a:t>
            </a:r>
            <a:endParaRPr b="0" lang="en-US" sz="2000" spc="-1" strike="noStrike">
              <a:solidFill>
                <a:srgbClr val="ffffff"/>
              </a:solidFill>
              <a:latin typeface="Trebuchet MS"/>
            </a:endParaRPr>
          </a:p>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4640" indent="-224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224640" indent="-2246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 example of a receiver operator characteristic graph with the shoulder-and-arm pattern</a:t>
            </a:r>
            <a:endParaRPr b="0" lang="en-US" sz="20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1: Start by Considering Sensitivity and Specificity Separately (2 of 2)</a:t>
            </a:r>
            <a:endParaRPr b="1" lang="en-US" sz="3200" spc="-1" strike="noStrike">
              <a:solidFill>
                <a:srgbClr val="ffffff"/>
              </a:solidFill>
              <a:latin typeface="Trebuchet MS"/>
            </a:endParaRPr>
          </a:p>
        </p:txBody>
      </p:sp>
      <p:pic>
        <p:nvPicPr>
          <p:cNvPr id="176" name="Picture 2" descr="There are two figures on this slide.  The upper one is an example of a forest plot of sensitivity and specificity for each study with their confidence intervals.  It allows one to visually see the variability, or lack of, between studies.  Below is an example of an ROC graph with the shoulder arm pattern that is indicative of a threshold effect.  Increasing the threshold decreases the sensitivity but increases the specificity. "/>
          <p:cNvPicPr/>
          <p:nvPr/>
        </p:nvPicPr>
        <p:blipFill>
          <a:blip r:embed="rId1"/>
          <a:srcRect l="7797" t="45374" r="0" b="30102"/>
          <a:stretch/>
        </p:blipFill>
        <p:spPr>
          <a:xfrm>
            <a:off x="2895480" y="1290600"/>
            <a:ext cx="5562720" cy="1701720"/>
          </a:xfrm>
          <a:prstGeom prst="rect">
            <a:avLst/>
          </a:prstGeom>
          <a:ln w="0">
            <a:noFill/>
          </a:ln>
        </p:spPr>
      </p:pic>
      <p:pic>
        <p:nvPicPr>
          <p:cNvPr id="177" name="Picture 2" descr="There are two figures on this slide.  The upper one is an example of a forest plot of sensitivity and specificity for each study with their confidence intervals.  It allows one to visually see the variability, or lack of, between studies.  Below is an example of an ROC graph with the shoulder arm pattern that is indicative of a threshold effect.  Increasing the threshold decreases the sensitivity but increases the specificity. "/>
          <p:cNvPicPr/>
          <p:nvPr/>
        </p:nvPicPr>
        <p:blipFill>
          <a:blip r:embed="rId2"/>
          <a:srcRect l="6794" t="1771" r="46523" b="60402"/>
          <a:stretch/>
        </p:blipFill>
        <p:spPr>
          <a:xfrm>
            <a:off x="2895480" y="3195720"/>
            <a:ext cx="2619360" cy="2442960"/>
          </a:xfrm>
          <a:prstGeom prst="rect">
            <a:avLst/>
          </a:prstGeom>
          <a:ln w="0">
            <a:noFill/>
          </a:ln>
        </p:spPr>
      </p:pic>
      <p:sp>
        <p:nvSpPr>
          <p:cNvPr id="178" name="Arc 4"/>
          <p:cNvSpPr/>
          <p:nvPr/>
        </p:nvSpPr>
        <p:spPr>
          <a:xfrm flipH="1">
            <a:off x="3962520" y="3424320"/>
            <a:ext cx="1371600" cy="380880"/>
          </a:xfrm>
          <a:custGeom>
            <a:avLst/>
            <a:gdLst/>
            <a:ahLst/>
            <a:rect l="l" t="t" r="r" b="b"/>
            <a:pathLst>
              <a:path stroke="0" w="1371600" h="381000">
                <a:moveTo>
                  <a:pt x="685800" y="0"/>
                </a:moveTo>
                <a:cubicBezTo>
                  <a:pt x="1064557" y="0"/>
                  <a:pt x="1371600" y="85290"/>
                  <a:pt x="1371600" y="190500"/>
                </a:cubicBezTo>
                <a:lnTo>
                  <a:pt x="685800" y="190500"/>
                </a:lnTo>
                <a:lnTo>
                  <a:pt x="685800" y="0"/>
                </a:lnTo>
                <a:close/>
              </a:path>
              <a:path fill="none" w="1371600" h="381000">
                <a:moveTo>
                  <a:pt x="685800" y="0"/>
                </a:moveTo>
                <a:cubicBezTo>
                  <a:pt x="1064557" y="0"/>
                  <a:pt x="1371600" y="85290"/>
                  <a:pt x="1371600" y="190500"/>
                </a:cubicBezTo>
              </a:path>
            </a:pathLst>
          </a:custGeom>
          <a:noFill/>
          <a:ln w="25560">
            <a:solidFill>
              <a:srgbClr val="ffc000"/>
            </a:solidFill>
            <a:round/>
          </a:ln>
          <a:effectLst>
            <a:outerShdw dist="25560" dir="5400000" blurRad="0" rotWithShape="0">
              <a:srgbClr val="000000">
                <a:alpha val="44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9" name="TextBox 5"/>
          <p:cNvSpPr/>
          <p:nvPr/>
        </p:nvSpPr>
        <p:spPr>
          <a:xfrm>
            <a:off x="5638680" y="395748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Trebuchet MS"/>
              </a:rPr>
              <a:t>Increasing the threshold decreases sensitivity but increases specificity</a:t>
            </a:r>
            <a:endParaRPr b="0" lang="en-US" sz="1800" spc="-1" strike="noStrike">
              <a:solidFill>
                <a:srgbClr val="000000"/>
              </a:solidFill>
              <a:latin typeface="Palatino Linotype"/>
            </a:endParaRPr>
          </a:p>
        </p:txBody>
      </p:sp>
      <p:sp>
        <p:nvSpPr>
          <p:cNvPr id="180" name="TextBox 4"/>
          <p:cNvSpPr/>
          <p:nvPr/>
        </p:nvSpPr>
        <p:spPr>
          <a:xfrm>
            <a:off x="609480" y="5800680"/>
            <a:ext cx="78487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Trikalinos TA, Coleman CI, Griffith L, et al. Meta-analysis of test performance when there is a </a:t>
            </a:r>
            <a:r>
              <a:rPr b="0" lang="ja-JP" sz="1100" spc="-1" strike="noStrike">
                <a:solidFill>
                  <a:srgbClr val="ffffff"/>
                </a:solidFill>
                <a:latin typeface="Arial"/>
                <a:ea typeface="Arial"/>
              </a:rPr>
              <a:t>“</a:t>
            </a:r>
            <a:r>
              <a:rPr b="0" lang="en-US" sz="1100" spc="-1" strike="noStrike">
                <a:solidFill>
                  <a:srgbClr val="ffffff"/>
                </a:solidFill>
                <a:latin typeface="Arial"/>
                <a:ea typeface="Arial"/>
              </a:rPr>
              <a:t>gold standard.</a:t>
            </a:r>
            <a:r>
              <a:rPr b="0" lang="ja-JP" sz="1100" spc="-1" strike="noStrike">
                <a:solidFill>
                  <a:srgbClr val="ffffff"/>
                </a:solidFill>
                <a:latin typeface="Arial"/>
                <a:ea typeface="Arial"/>
              </a:rPr>
              <a:t>”</a:t>
            </a:r>
            <a:r>
              <a:rPr b="0" lang="en-US" sz="1100" spc="-1" strike="noStrike">
                <a:solidFill>
                  <a:srgbClr val="ffffff"/>
                </a:solidFill>
                <a:latin typeface="Arial"/>
                <a:ea typeface="Arial"/>
              </a:rPr>
              <a:t>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Becker DM, Philbrick JT, Bachhuber TL, et al. Arch Intern Med 1996 May 13;156(9):939-46. PMID: 8624174.</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btain a 2-dimensional summary point (sensitivity, specificity) using the bivariate model of meta-analysis, preferably with utilization of binomial error.</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btain summary lines based on multivariate meta-analytic model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rpretation of a summary line is not </a:t>
            </a:r>
            <a:r>
              <a:rPr b="0" lang="ja-JP" sz="2200" spc="-1" strike="noStrike">
                <a:solidFill>
                  <a:srgbClr val="ffffff"/>
                </a:solidFill>
                <a:latin typeface="Trebuchet MS"/>
              </a:rPr>
              <a:t>“</a:t>
            </a:r>
            <a:r>
              <a:rPr b="0" lang="en-US" sz="2200" spc="-1" strike="noStrike">
                <a:solidFill>
                  <a:srgbClr val="ffffff"/>
                </a:solidFill>
                <a:latin typeface="Trebuchet MS"/>
              </a:rPr>
              <a:t>automatically</a:t>
            </a:r>
            <a:r>
              <a:rPr b="0" lang="ja-JP" sz="2200" spc="-1" strike="noStrike">
                <a:solidFill>
                  <a:srgbClr val="ffffff"/>
                </a:solidFill>
                <a:latin typeface="Trebuchet MS"/>
              </a:rPr>
              <a:t>”</a:t>
            </a:r>
            <a:r>
              <a:rPr b="0" lang="en-US" sz="2200" spc="-1" strike="noStrike">
                <a:solidFill>
                  <a:srgbClr val="ffffff"/>
                </a:solidFill>
                <a:latin typeface="Trebuchet MS"/>
              </a:rPr>
              <a:t> that of </a:t>
            </a:r>
            <a:r>
              <a:rPr b="0" lang="ja-JP" sz="2200" spc="-1" strike="noStrike">
                <a:solidFill>
                  <a:srgbClr val="ffffff"/>
                </a:solidFill>
                <a:latin typeface="Trebuchet MS"/>
              </a:rPr>
              <a:t>“</a:t>
            </a:r>
            <a:r>
              <a:rPr b="0" lang="en-US" sz="2200" spc="-1" strike="noStrike">
                <a:solidFill>
                  <a:srgbClr val="ffffff"/>
                </a:solidFill>
                <a:latin typeface="Trebuchet MS"/>
              </a:rPr>
              <a:t>threshold effects,</a:t>
            </a:r>
            <a:r>
              <a:rPr b="0" lang="ja-JP" sz="2200" spc="-1" strike="noStrike">
                <a:solidFill>
                  <a:srgbClr val="ffffff"/>
                </a:solidFill>
                <a:latin typeface="Trebuchet MS"/>
              </a:rPr>
              <a:t>”</a:t>
            </a:r>
            <a:r>
              <a:rPr b="0" lang="en-US" sz="2200" spc="-1" strike="noStrike">
                <a:solidFill>
                  <a:srgbClr val="ffffff"/>
                </a:solidFill>
                <a:latin typeface="Trebuchet MS"/>
              </a:rPr>
              <a:t> especially if there is a positive correlation between sensitivity and specificity across studies </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more than one threshold is reported per study, consider incorporating all of them in the analysis both qualitatively (via graphs) and quantitatively (via proper methods).</a:t>
            </a:r>
            <a:endParaRPr b="0" lang="en-US" sz="24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2: Multivariate Meta-analysis (When Each Study Reports a Single Threshold)</a:t>
            </a:r>
            <a:endParaRPr b="1" lang="en-US" sz="3200" spc="-1" strike="noStrike">
              <a:solidFill>
                <a:srgbClr val="ffffff"/>
              </a:solidFill>
              <a:latin typeface="Trebuchet MS"/>
            </a:endParaRPr>
          </a:p>
        </p:txBody>
      </p:sp>
      <p:sp>
        <p:nvSpPr>
          <p:cNvPr id="183" name="TextBox 4"/>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module focuses on how to conduct a meta-analysis with a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 referenc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odule 9 discusses how to conduct a meta-analysis when no gold standard reference exist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two goals for a meta-analysis in a systematic review:</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vide summary estimates for key quantiti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ain observed heterogeneity in the results of studies included in the review</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systematic reviews of medical tests, a meta-analysis often focuses on synthesis of test performance data.</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Background</a:t>
            </a:r>
            <a:endParaRPr b="1" lang="en-US" sz="3200" spc="-1" strike="noStrike">
              <a:solidFill>
                <a:srgbClr val="ffffff"/>
              </a:solidFill>
              <a:latin typeface="Trebuchet MS"/>
            </a:endParaRPr>
          </a:p>
        </p:txBody>
      </p:sp>
      <p:sp>
        <p:nvSpPr>
          <p:cNvPr id="92"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19320"/>
            <a:ext cx="8229600" cy="4827600"/>
          </a:xfrm>
          <a:prstGeom prst="rect">
            <a:avLst/>
          </a:prstGeom>
          <a:noFill/>
          <a:ln w="0">
            <a:noFill/>
          </a:ln>
        </p:spPr>
        <p:txBody>
          <a:bodyPr lIns="0" rIns="0" tIns="0" bIns="0" anchor="t">
            <a:normAutofit fontScale="98000"/>
          </a:bodyPr>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hierarchical summary receiver operator characteristic (HSROC) model allows direct evaluation of heterogeneity in accuracy and threshold parameters.</a:t>
            </a:r>
            <a:endParaRPr b="0" lang="en-US" sz="22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ivariate models allow direct evaluation of sensitivity and specificity.</a:t>
            </a:r>
            <a:endParaRPr b="0" lang="en-US" sz="22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dded covariates that reduce variability across studies may need to be taken into account when summarizing the studies.</a:t>
            </a:r>
            <a:endParaRPr b="0" lang="en-US" sz="2200" spc="-1" strike="noStrike">
              <a:solidFill>
                <a:srgbClr val="ffffff"/>
              </a:solidFill>
              <a:latin typeface="Trebuchet MS"/>
            </a:endParaRPr>
          </a:p>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ome common sources of heterogeneity:</a:t>
            </a:r>
            <a:endParaRPr b="0" lang="en-US" sz="22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 population/selection</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to verify/interpret results</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setting</a:t>
            </a:r>
            <a:endParaRPr b="0" lang="en-US" sz="20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sease severity</a:t>
            </a:r>
            <a:endParaRPr b="0" lang="en-US" sz="20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tep 3: Explore Between-Study Heterogeneity </a:t>
            </a:r>
            <a:endParaRPr b="1" lang="en-US" sz="3200" spc="-1" strike="noStrike">
              <a:solidFill>
                <a:srgbClr val="ffffff"/>
              </a:solidFill>
              <a:latin typeface="Trebuchet MS"/>
            </a:endParaRPr>
          </a:p>
        </p:txBody>
      </p:sp>
      <p:sp>
        <p:nvSpPr>
          <p:cNvPr id="186" name="TextBox 4"/>
          <p:cNvSpPr/>
          <p:nvPr/>
        </p:nvSpPr>
        <p:spPr>
          <a:xfrm>
            <a:off x="838080" y="593892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219320"/>
            <a:ext cx="3124080" cy="1216080"/>
          </a:xfrm>
          <a:prstGeom prst="rect">
            <a:avLst/>
          </a:prstGeom>
          <a:noFill/>
          <a:ln w="0">
            <a:noFill/>
          </a:ln>
        </p:spPr>
        <p:txBody>
          <a:bodyPr lIns="0" rIns="0" tIns="0" bIns="0" anchor="t">
            <a:normAutofit fontScale="57000"/>
          </a:bodyPr>
          <a:p>
            <a:pPr marL="166320" indent="-166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dimers are fragments specific to fibrin degradation.</a:t>
            </a:r>
            <a:endParaRPr b="0" lang="en-US" sz="2200" spc="-1" strike="noStrike">
              <a:solidFill>
                <a:srgbClr val="ffffff"/>
              </a:solidFill>
              <a:latin typeface="Trebuchet MS"/>
            </a:endParaRPr>
          </a:p>
          <a:p>
            <a:pPr marL="166320" indent="-1663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y are measured by using an enzyme-linked immunosorbent assay (ELISA) to diagnose venous thromboembolism.</a:t>
            </a:r>
            <a:endParaRPr b="0" lang="en-US" sz="22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1 of 4)</a:t>
            </a:r>
            <a:endParaRPr b="1" lang="en-US" sz="3200" spc="-1" strike="noStrike">
              <a:solidFill>
                <a:srgbClr val="ffffff"/>
              </a:solidFill>
              <a:latin typeface="Trebuchet MS"/>
            </a:endParaRPr>
          </a:p>
        </p:txBody>
      </p:sp>
      <p:pic>
        <p:nvPicPr>
          <p:cNvPr id="189" name="Picture 2" descr="This figure shows the forest plots of sensitivity, specificity, and likelihood ratios for all of the studies in the review.  It allows the reader to visually see the agreement or lack of agreement between the studies.  These are example results of a meta-analysis using the steps we discussed."/>
          <p:cNvPicPr/>
          <p:nvPr/>
        </p:nvPicPr>
        <p:blipFill>
          <a:blip r:embed="rId1"/>
          <a:srcRect l="8405" t="44872" r="0" b="0"/>
          <a:stretch/>
        </p:blipFill>
        <p:spPr>
          <a:xfrm>
            <a:off x="3809880" y="1789200"/>
            <a:ext cx="4876920" cy="3378240"/>
          </a:xfrm>
          <a:prstGeom prst="rect">
            <a:avLst/>
          </a:prstGeom>
          <a:ln w="0">
            <a:noFill/>
          </a:ln>
        </p:spPr>
      </p:pic>
      <p:sp>
        <p:nvSpPr>
          <p:cNvPr id="190" name="TextBox 2"/>
          <p:cNvSpPr/>
          <p:nvPr/>
        </p:nvSpPr>
        <p:spPr>
          <a:xfrm>
            <a:off x="3809880" y="1143000"/>
            <a:ext cx="487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Forest Plots of Sensitivity, Specificity, and Likelihood Ratios</a:t>
            </a:r>
            <a:endParaRPr b="0" lang="en-US" sz="1800" spc="-1" strike="noStrike">
              <a:solidFill>
                <a:srgbClr val="000000"/>
              </a:solidFill>
              <a:latin typeface="Palatino Linotype"/>
            </a:endParaRPr>
          </a:p>
        </p:txBody>
      </p:sp>
      <p:sp>
        <p:nvSpPr>
          <p:cNvPr id="191" name="TextBox 4"/>
          <p:cNvSpPr/>
          <p:nvPr/>
        </p:nvSpPr>
        <p:spPr>
          <a:xfrm>
            <a:off x="685800" y="5715000"/>
            <a:ext cx="8153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ecker DM, Philbrick JT, Bachhuber TL, et al. Ann Intern Med 1996 May 13;156(9):939-46. PMID: 8624174.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rest plots show more heterogeneity in sensitivity/specificity than in likelihood ratio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Verified by formal heterogeneity testing</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y be a threshold effect</a:t>
            </a:r>
            <a:endParaRPr b="0" lang="en-US" sz="22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Because of the variety of thresholds being used in each study, it is more informative to summarize test performance with an hierarchical summary receiver operator characteristic plot rather than by summarizing sensitivities and specificities.</a:t>
            </a:r>
            <a:endParaRPr b="0" lang="en-US" sz="26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2 of 4)</a:t>
            </a:r>
            <a:endParaRPr b="1" lang="en-US" sz="3200" spc="-1" strike="noStrike">
              <a:solidFill>
                <a:srgbClr val="ffffff"/>
              </a:solidFill>
              <a:latin typeface="Trebuchet MS"/>
            </a:endParaRPr>
          </a:p>
        </p:txBody>
      </p:sp>
      <p:sp>
        <p:nvSpPr>
          <p:cNvPr id="194" name="TextBox 4"/>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6840" y="1295280"/>
            <a:ext cx="4419720" cy="1905120"/>
          </a:xfrm>
          <a:prstGeom prst="rect">
            <a:avLst/>
          </a:prstGeom>
          <a:noFill/>
          <a:ln w="0">
            <a:noFill/>
          </a:ln>
        </p:spPr>
        <p:txBody>
          <a:bodyPr lIns="0" rIns="0" tIns="0" bIns="0" anchor="t">
            <a:normAutofit fontScale="73000"/>
          </a:bodyPr>
          <a:p>
            <a:pPr marL="213120" indent="-2131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houlder-and-arm pattern indicates the threshold effect.</a:t>
            </a:r>
            <a:endParaRPr b="0" lang="en-US" sz="2000" spc="-1" strike="noStrike">
              <a:solidFill>
                <a:srgbClr val="ffffff"/>
              </a:solidFill>
              <a:latin typeface="Trebuchet MS"/>
            </a:endParaRPr>
          </a:p>
          <a:p>
            <a:pPr marL="213120" indent="-2131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location of points in the upper shaded area of the receiver operator characteristic space indicates high sensitivity and low specificity.</a:t>
            </a:r>
            <a:endParaRPr b="0" lang="en-US" sz="2000" spc="-1" strike="noStrike">
              <a:solidFill>
                <a:srgbClr val="ffffff"/>
              </a:solidFill>
              <a:latin typeface="Trebuchet MS"/>
            </a:endParaRPr>
          </a:p>
          <a:p>
            <a:pPr marL="213120" indent="-2131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test minimizes false-negative results and is good for ruling out disease.</a:t>
            </a:r>
            <a:endParaRPr b="0" lang="en-US" sz="2000" spc="-1" strike="noStrike">
              <a:solidFill>
                <a:srgbClr val="ffffff"/>
              </a:solidFill>
              <a:latin typeface="Trebuchet MS"/>
            </a:endParaRPr>
          </a:p>
        </p:txBody>
      </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3 of 4)</a:t>
            </a:r>
            <a:endParaRPr b="1" lang="en-US" sz="3200" spc="-1" strike="noStrike">
              <a:solidFill>
                <a:srgbClr val="ffffff"/>
              </a:solidFill>
              <a:latin typeface="Trebuchet MS"/>
            </a:endParaRPr>
          </a:p>
        </p:txBody>
      </p:sp>
      <p:pic>
        <p:nvPicPr>
          <p:cNvPr id="197" name="Picture 2" descr="This figure is the HSROC plot of the D-dimer tests using the highest thresholds reported showing the shoulder arm that is indicative of a threshold effect.  This means that as sensitivity increased, specificity decreased.  On this plot there is a cluster of tests that have higher sensitivity, but lower specificity that minimizes false negatives and is good for ruling out disease.  "/>
          <p:cNvPicPr/>
          <p:nvPr/>
        </p:nvPicPr>
        <p:blipFill>
          <a:blip r:embed="rId1"/>
          <a:srcRect l="0" t="10258" r="57503" b="0"/>
          <a:stretch/>
        </p:blipFill>
        <p:spPr>
          <a:xfrm>
            <a:off x="5294160" y="2046240"/>
            <a:ext cx="3087720" cy="2906640"/>
          </a:xfrm>
          <a:prstGeom prst="rect">
            <a:avLst/>
          </a:prstGeom>
          <a:ln w="0">
            <a:noFill/>
          </a:ln>
        </p:spPr>
      </p:pic>
      <p:sp>
        <p:nvSpPr>
          <p:cNvPr id="198" name="TextBox 2"/>
          <p:cNvSpPr/>
          <p:nvPr/>
        </p:nvSpPr>
        <p:spPr>
          <a:xfrm>
            <a:off x="5181480" y="1258920"/>
            <a:ext cx="3353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HSROC Plot of D-Dimer Tests Using the Highest Thresholds</a:t>
            </a:r>
            <a:endParaRPr b="0" lang="en-US" sz="1800" spc="-1" strike="noStrike">
              <a:solidFill>
                <a:srgbClr val="000000"/>
              </a:solidFill>
              <a:latin typeface="Palatino Linotype"/>
            </a:endParaRPr>
          </a:p>
        </p:txBody>
      </p:sp>
      <p:sp>
        <p:nvSpPr>
          <p:cNvPr id="199" name="TextBox 4"/>
          <p:cNvSpPr/>
          <p:nvPr/>
        </p:nvSpPr>
        <p:spPr>
          <a:xfrm>
            <a:off x="609480" y="5715000"/>
            <a:ext cx="8153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jmer JG, Bossuyt PM, Heisterkamp SH. Stat Med 2002 Jun 15;21(11):1525-37. PMID: 12111918.</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xample 1: D-Dimer Assays for Diagnosing Venous Thromboembolism (4 of 4)</a:t>
            </a:r>
            <a:endParaRPr b="1" lang="en-US" sz="3200" spc="-1" strike="noStrike">
              <a:solidFill>
                <a:srgbClr val="ffffff"/>
              </a:solidFill>
              <a:latin typeface="Trebuchet MS"/>
            </a:endParaRPr>
          </a:p>
        </p:txBody>
      </p:sp>
      <p:sp>
        <p:nvSpPr>
          <p:cNvPr id="201" name=""/>
          <p:cNvSpPr txBox="1"/>
          <p:nvPr/>
        </p:nvSpPr>
        <p:spPr>
          <a:xfrm>
            <a:off x="457200" y="1222200"/>
            <a:ext cx="3657600" cy="502632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informative to give a summary of the negative and positive predictive values for this test.</a:t>
            </a:r>
            <a:endParaRPr b="0" lang="en-US" sz="22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alculate over a range of prevalence values using the summary sensitivity and specificity value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consistently high negative predictive value line means that a high percentage of people who test negative actually are negative for the disease.</a:t>
            </a:r>
            <a:endParaRPr b="0" lang="en-US" sz="1900" spc="-1" strike="noStrike">
              <a:solidFill>
                <a:srgbClr val="ffffff"/>
              </a:solidFill>
              <a:latin typeface="Trebuchet MS"/>
            </a:endParaRPr>
          </a:p>
        </p:txBody>
      </p:sp>
      <p:pic>
        <p:nvPicPr>
          <p:cNvPr id="202" name="Picture 2" descr="Here the predictive values of a negative D-dimer test are shown for a range of possible prevalence values. Summary sensitivity and specificity values are used to calculate the predictive values. The negative predictive value remains high over the range of prevalence values."/>
          <p:cNvPicPr/>
          <p:nvPr/>
        </p:nvPicPr>
        <p:blipFill>
          <a:blip r:embed="rId1"/>
          <a:srcRect l="42154" t="8942" r="0" b="0"/>
          <a:stretch/>
        </p:blipFill>
        <p:spPr>
          <a:xfrm>
            <a:off x="4648320" y="2708280"/>
            <a:ext cx="3962160" cy="2778120"/>
          </a:xfrm>
          <a:prstGeom prst="rect">
            <a:avLst/>
          </a:prstGeom>
          <a:ln w="0">
            <a:noFill/>
          </a:ln>
        </p:spPr>
      </p:pic>
      <p:sp>
        <p:nvSpPr>
          <p:cNvPr id="203" name="TextBox 1"/>
          <p:cNvSpPr/>
          <p:nvPr/>
        </p:nvSpPr>
        <p:spPr>
          <a:xfrm>
            <a:off x="4648320" y="1189080"/>
            <a:ext cx="39621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Calculated Negative Predictive Values for the D-Dimer Test With the Prevalence of Venous Thromboembolism Between</a:t>
            </a: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5 and 50 Percent</a:t>
            </a:r>
            <a:endParaRPr b="0" lang="en-US" sz="1800" spc="-1" strike="noStrike">
              <a:solidFill>
                <a:srgbClr val="000000"/>
              </a:solidFill>
              <a:latin typeface="Palatino Linotype"/>
            </a:endParaRPr>
          </a:p>
        </p:txBody>
      </p:sp>
      <p:sp>
        <p:nvSpPr>
          <p:cNvPr id="204" name="TextBox 4"/>
          <p:cNvSpPr/>
          <p:nvPr/>
        </p:nvSpPr>
        <p:spPr>
          <a:xfrm>
            <a:off x="762120" y="5715000"/>
            <a:ext cx="8153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ijmer JG, Bossuyt PM, Heisterkamp SH. Stat Med 2002 Jun 15;21(11):1525-37. PMID: 12111918.</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rial measurements of the creatine kinase-myocardial band (CK-MB) are used to diagnose acute cardiac ischemia in the emergency room.</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lood levels of CK-MB increase over time from symptom onset.</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14 studies performed CK-MB testing at varying times after symptom onset.</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was evident heterogeneity in sensitivity that was not attributable to the threshold effect.</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sensitivity of the test increased as the time from symptom onset increased.</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difference in sensitivity may be attributable to time; to test this possibility, a bivariate meta-analytic model was used.</a:t>
            </a:r>
            <a:endParaRPr b="0" lang="en-US" sz="2000" spc="-1" strike="noStrike">
              <a:solidFill>
                <a:srgbClr val="ffffff"/>
              </a:solidFill>
              <a:latin typeface="Trebuchet MS"/>
            </a:endParaRPr>
          </a:p>
        </p:txBody>
      </p:sp>
      <p:sp>
        <p:nvSpPr>
          <p:cNvPr id="206"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xample 2: Serial Measurements of the Creatine Kinase-Myocardial Band To Diagnose Acute Cardiac Ischemia (1 of 3)</a:t>
            </a:r>
            <a:endParaRPr b="1" lang="en-US" sz="2300" spc="-1" strike="noStrike">
              <a:solidFill>
                <a:srgbClr val="ffffff"/>
              </a:solidFill>
              <a:latin typeface="Trebuchet MS"/>
            </a:endParaRPr>
          </a:p>
        </p:txBody>
      </p:sp>
      <p:sp>
        <p:nvSpPr>
          <p:cNvPr id="207" name="TextBox 4"/>
          <p:cNvSpPr/>
          <p:nvPr/>
        </p:nvSpPr>
        <p:spPr>
          <a:xfrm>
            <a:off x="685800" y="594360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222200"/>
            <a:ext cx="8229600" cy="835200"/>
          </a:xfrm>
          <a:prstGeom prst="rect">
            <a:avLst/>
          </a:prstGeom>
          <a:noFill/>
          <a:ln w="0">
            <a:noFill/>
          </a:ln>
        </p:spPr>
        <p:txBody>
          <a:bodyPr lIns="0" rIns="0" tIns="0" bIns="0" anchor="t">
            <a:normAutofit/>
          </a:bodyPr>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Sensitivity increases with longer hours from symptom onset to the last measurement of the creatine kinase-myocardial band.</a:t>
            </a:r>
            <a:endParaRPr b="0" lang="en-US" sz="1600" spc="-1" strike="noStrike">
              <a:solidFill>
                <a:srgbClr val="ffffff"/>
              </a:solidFill>
              <a:latin typeface="Trebuchet MS"/>
            </a:endParaRPr>
          </a:p>
        </p:txBody>
      </p:sp>
      <p:sp>
        <p:nvSpPr>
          <p:cNvPr id="209"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xample 2: Serial Measurements of the Creatine Kinase-Myocardial Band To Diagnose Acute Cardiac Ischemia (2 of 3)</a:t>
            </a:r>
            <a:endParaRPr b="1" lang="en-US" sz="2300" spc="-1" strike="noStrike">
              <a:solidFill>
                <a:srgbClr val="ffffff"/>
              </a:solidFill>
              <a:latin typeface="Trebuchet MS"/>
            </a:endParaRPr>
          </a:p>
        </p:txBody>
      </p:sp>
      <p:pic>
        <p:nvPicPr>
          <p:cNvPr id="210" name="Picture 2" descr="the same data points of sensitivity and specificity, but also overlays in different colors the 95% confidence regions for the subgroups of 3 hours or less, and more than 3 hours since onset of symptoms. These estimates were calculated using bivariate meta-regression with time interval as the predictor.  Sensitivity of creatine kinase-MB for diagnosis of acute cardiac ischemia increased with longer hours between symptom onset and measurement."/>
          <p:cNvPicPr/>
          <p:nvPr/>
        </p:nvPicPr>
        <p:blipFill>
          <a:blip r:embed="rId1"/>
          <a:srcRect l="0" t="0" r="50003" b="0"/>
          <a:stretch/>
        </p:blipFill>
        <p:spPr>
          <a:xfrm>
            <a:off x="762120" y="2124000"/>
            <a:ext cx="3200400" cy="3049560"/>
          </a:xfrm>
          <a:prstGeom prst="rect">
            <a:avLst/>
          </a:prstGeom>
          <a:ln w="0">
            <a:noFill/>
          </a:ln>
        </p:spPr>
      </p:pic>
      <p:pic>
        <p:nvPicPr>
          <p:cNvPr id="211" name="Picture 3" descr="the same data points of sensitivity and specificity, but also overlays in different colors the 95% confidence regions for the subgroups of 3 hours or less, and more than 3 hours since onset of symptoms. These estimates were calculated using bivariate meta-regression with time interval as the predictor.  Sensitivity of creatine kinase-MB for diagnosis of acute cardiac ischemia increased with longer hours between symptom onset and measurement."/>
          <p:cNvPicPr/>
          <p:nvPr/>
        </p:nvPicPr>
        <p:blipFill>
          <a:blip r:embed="rId2"/>
          <a:srcRect l="50003" t="0" r="0" b="0"/>
          <a:stretch/>
        </p:blipFill>
        <p:spPr>
          <a:xfrm>
            <a:off x="4952880" y="2124000"/>
            <a:ext cx="3200400" cy="3049560"/>
          </a:xfrm>
          <a:prstGeom prst="rect">
            <a:avLst/>
          </a:prstGeom>
          <a:ln w="0">
            <a:noFill/>
          </a:ln>
        </p:spPr>
      </p:pic>
      <p:sp>
        <p:nvSpPr>
          <p:cNvPr id="212" name="TextBox 1"/>
          <p:cNvSpPr/>
          <p:nvPr/>
        </p:nvSpPr>
        <p:spPr>
          <a:xfrm>
            <a:off x="685800" y="5176800"/>
            <a:ext cx="3390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Actual hours are indicated next to the points; circles ≤ 3 hours; Xs &gt; 3 hours</a:t>
            </a:r>
            <a:endParaRPr b="0" lang="en-US" sz="1200" spc="-1" strike="noStrike">
              <a:solidFill>
                <a:srgbClr val="000000"/>
              </a:solidFill>
              <a:latin typeface="Palatino Linotype"/>
            </a:endParaRPr>
          </a:p>
        </p:txBody>
      </p:sp>
      <p:sp>
        <p:nvSpPr>
          <p:cNvPr id="213" name="TextBox 7"/>
          <p:cNvSpPr/>
          <p:nvPr/>
        </p:nvSpPr>
        <p:spPr>
          <a:xfrm>
            <a:off x="4952880" y="5176800"/>
            <a:ext cx="3391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Linotype"/>
              </a:rPr>
              <a:t>Dashed lines = 95-percent confidence regions; blue ≤ 3 hours; red &gt; 3 hours</a:t>
            </a:r>
            <a:endParaRPr b="0" lang="en-US" sz="1200" spc="-1" strike="noStrike">
              <a:solidFill>
                <a:srgbClr val="000000"/>
              </a:solidFill>
              <a:latin typeface="Palatino Linotype"/>
            </a:endParaRPr>
          </a:p>
        </p:txBody>
      </p:sp>
      <p:sp>
        <p:nvSpPr>
          <p:cNvPr id="214" name="TextBox 2"/>
          <p:cNvSpPr/>
          <p:nvPr/>
        </p:nvSpPr>
        <p:spPr>
          <a:xfrm>
            <a:off x="1581120" y="1758960"/>
            <a:ext cx="1695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Actual Hours</a:t>
            </a:r>
            <a:endParaRPr b="0" lang="en-US" sz="1600" spc="-1" strike="noStrike">
              <a:solidFill>
                <a:srgbClr val="000000"/>
              </a:solidFill>
              <a:latin typeface="Palatino Linotype"/>
            </a:endParaRPr>
          </a:p>
        </p:txBody>
      </p:sp>
      <p:sp>
        <p:nvSpPr>
          <p:cNvPr id="215" name="TextBox 9"/>
          <p:cNvSpPr/>
          <p:nvPr/>
        </p:nvSpPr>
        <p:spPr>
          <a:xfrm>
            <a:off x="4800600" y="1758960"/>
            <a:ext cx="3581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95-Percent Confidence Regions</a:t>
            </a:r>
            <a:endParaRPr b="0" lang="en-US" sz="1600" spc="-1" strike="noStrike">
              <a:solidFill>
                <a:srgbClr val="000000"/>
              </a:solidFill>
              <a:latin typeface="Palatino Linotype"/>
            </a:endParaRPr>
          </a:p>
        </p:txBody>
      </p:sp>
      <p:sp>
        <p:nvSpPr>
          <p:cNvPr id="216" name="TextBox 4"/>
          <p:cNvSpPr/>
          <p:nvPr/>
        </p:nvSpPr>
        <p:spPr>
          <a:xfrm>
            <a:off x="685800" y="5692680"/>
            <a:ext cx="7658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Trikalinos TA, Coleman CI, Griffith L, et al. Meta-analysis of test performance when there is a </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gold standard.</a:t>
            </a:r>
            <a:r>
              <a:rPr b="0" lang="ja-JP" sz="1000" spc="-1" strike="noStrike">
                <a:solidFill>
                  <a:srgbClr val="ffffff"/>
                </a:solidFill>
                <a:latin typeface="Arial"/>
                <a:ea typeface="Arial"/>
              </a:rPr>
              <a:t>”</a:t>
            </a:r>
            <a:r>
              <a:rPr b="0" lang="en-US" sz="1000" spc="-1" strike="noStrike">
                <a:solidFill>
                  <a:srgbClr val="ffffff"/>
                </a:solidFill>
                <a:latin typeface="Arial"/>
                <a:ea typeface="Arial"/>
              </a:rPr>
              <a:t> In: Methods guide for medical test reviews. Available at www.effectivehealthcare.ahrq.gov/medtestsguide.cfm. </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Balk EM, Ioannidis JP, Salem D, et al. Ann Emerg Med 2001 May;37(5):478-94. PMID: 11326184.</a:t>
            </a:r>
            <a:endParaRPr b="0" lang="en-US" sz="1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Lau J, Ioannidis JP, Balk E, et al. Evid Rep Technol Assess (Summ) 2000 Sep;(26):1-4. PMID: 11079073.</a:t>
            </a:r>
            <a:endParaRPr b="0" lang="en-US" sz="1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1218960"/>
            <a:ext cx="8229600" cy="236196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hierarchical summary receiver operator characteristic (HSROC) model (bivariate meta-regression) was used to compare summary sensitivity and specificity with a binary variable to account for timing of the last serial creatine kinase-myocardial band measurement (fixed-effects binary covariat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te that properly specified bivariate/HSROC meta-regressions can be used to compare two or more index tests.</a:t>
            </a:r>
            <a:endParaRPr b="0" lang="en-US" sz="2000" spc="-1" strike="noStrike">
              <a:solidFill>
                <a:srgbClr val="ffffff"/>
              </a:solidFill>
              <a:latin typeface="Trebuchet MS"/>
            </a:endParaRPr>
          </a:p>
        </p:txBody>
      </p:sp>
      <p:sp>
        <p:nvSpPr>
          <p:cNvPr id="218" name="PlaceHolder 1"/>
          <p:cNvSpPr>
            <a:spLocks noGrp="1"/>
          </p:cNvSpPr>
          <p:nvPr>
            <p:ph type="title"/>
          </p:nvPr>
        </p:nvSpPr>
        <p:spPr>
          <a:xfrm>
            <a:off x="456840" y="130320"/>
            <a:ext cx="83818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Example 2: Serial Measurements of the Creatine Kinase-Myocardial Band To Diagnose Acute Cardiac Ischemia (3 of 3)</a:t>
            </a:r>
            <a:endParaRPr b="1" lang="en-US" sz="2300" spc="-1" strike="noStrike">
              <a:solidFill>
                <a:srgbClr val="ffffff"/>
              </a:solidFill>
              <a:latin typeface="Trebuchet MS"/>
            </a:endParaRPr>
          </a:p>
        </p:txBody>
      </p:sp>
      <p:sp>
        <p:nvSpPr>
          <p:cNvPr id="219" name="TextBox 4"/>
          <p:cNvSpPr/>
          <p:nvPr/>
        </p:nvSpPr>
        <p:spPr>
          <a:xfrm>
            <a:off x="685800" y="5562720"/>
            <a:ext cx="81532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Balk EM, Ioannidis JP, Salem D, et al. Ann Emerg Med 2001 May;37(5):478-94. PMID: 11326184.</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au J, Ioannidis JP, Balk E, et al. Evid Rep Technol Assess (Summ) 2000 Sep;(26):1-4. PMID: 11079073.</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endParaRPr b="0" lang="en-US" sz="1200" spc="-1" strike="noStrike">
              <a:solidFill>
                <a:srgbClr val="000000"/>
              </a:solidFill>
              <a:latin typeface="Palatino Linotype"/>
            </a:endParaRPr>
          </a:p>
        </p:txBody>
      </p:sp>
      <p:graphicFrame>
        <p:nvGraphicFramePr>
          <p:cNvPr id="220" name=""/>
          <p:cNvGraphicFramePr/>
          <p:nvPr/>
        </p:nvGraphicFramePr>
        <p:xfrm>
          <a:off x="762120" y="3641760"/>
          <a:ext cx="7619760" cy="1770120"/>
        </p:xfrm>
        <a:graphic>
          <a:graphicData uri="http://schemas.openxmlformats.org/drawingml/2006/table">
            <a:tbl>
              <a:tblPr/>
              <a:tblGrid>
                <a:gridCol w="2033640"/>
                <a:gridCol w="1815840"/>
                <a:gridCol w="1962360"/>
                <a:gridCol w="1807920"/>
              </a:tblGrid>
              <a:tr h="73116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Meta-analysis Metric</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ea typeface="Arial"/>
                        </a:rPr>
                        <a:t>≤</a:t>
                      </a:r>
                      <a:r>
                        <a:rPr b="1" lang="en-US" sz="1400" spc="-1" strike="noStrike">
                          <a:solidFill>
                            <a:srgbClr val="ffffff"/>
                          </a:solidFill>
                          <a:latin typeface="Palatino Linotype"/>
                          <a:ea typeface="Arial"/>
                        </a:rPr>
                        <a:t>3 Hours</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latino Linotype"/>
                        </a:rPr>
                        <a:t>&gt;3 Hours</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Palatino Linotype"/>
                        </a:rPr>
                        <a:t>P</a:t>
                      </a:r>
                      <a:r>
                        <a:rPr b="1" lang="en-US" sz="1400" spc="-1" strike="noStrike">
                          <a:solidFill>
                            <a:srgbClr val="ffffff"/>
                          </a:solidFill>
                          <a:latin typeface="Palatino Linotype"/>
                        </a:rPr>
                        <a:t>-Value for the Comparison Across Subgroups</a:t>
                      </a:r>
                      <a:endParaRPr b="0" lang="en-US" sz="14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ummary sensitiv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ercentage)</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80 (64 to 90)</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96 (85 to 99)</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0.36</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5b5d3"/>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Summary specificity</a:t>
                      </a: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ercentage)</a:t>
                      </a:r>
                      <a:endParaRPr b="0" lang="en-US" sz="14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97 (94 to 98)</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97 (95 to 99)</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0.56</a:t>
                      </a:r>
                      <a:endParaRPr b="0" lang="en-US" sz="1400" spc="-1" strike="noStrike">
                        <a:solidFill>
                          <a:srgbClr val="000000"/>
                        </a:solidFill>
                        <a:latin typeface="Palatino Linotype"/>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Use the bivariate random-effects meta-analytic models to obtain a summary sensitivity and specificity. </a:t>
            </a:r>
            <a:endParaRPr b="0" lang="en-US" sz="25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Back-calculate the overall positive and negative predictive values (over a range of prevalence values) from summary estimates of sensitivity and specificity, rather than meta-analyzing them directly.</a:t>
            </a:r>
            <a:endParaRPr b="0" lang="en-US" sz="2500" spc="-1" strike="noStrike">
              <a:solidFill>
                <a:srgbClr val="ffffff"/>
              </a:solidFill>
              <a:latin typeface="Trebuchet MS"/>
            </a:endParaRPr>
          </a:p>
          <a:p>
            <a:pPr marL="291960" indent="-291960">
              <a:lnSpc>
                <a:spcPct val="100000"/>
              </a:lnSpc>
              <a:spcBef>
                <a:spcPts val="9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rebuchet MS"/>
              </a:rPr>
              <a:t>Back-calculate overall positive and negative likelihood ratios from summary estimates of sensitivity and specificity, rather than meta-analyzing them directly.</a:t>
            </a:r>
            <a:endParaRPr b="0" lang="en-US" sz="25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all Recommendations (1 of 3)</a:t>
            </a:r>
            <a:endParaRPr b="1" lang="en-US" sz="3200" spc="-1" strike="noStrike">
              <a:solidFill>
                <a:srgbClr val="ffffff"/>
              </a:solidFill>
              <a:latin typeface="Trebuchet MS"/>
            </a:endParaRPr>
          </a:p>
        </p:txBody>
      </p:sp>
      <p:sp>
        <p:nvSpPr>
          <p:cNvPr id="223" name="TextBox 3"/>
          <p:cNvSpPr/>
          <p:nvPr/>
        </p:nvSpPr>
        <p:spPr>
          <a:xfrm>
            <a:off x="685800" y="586260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obtain a summary line, use multivariate meta-analysis methods such as the hierarchical summary receiver operator characteristic (HSROC) model.</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ral summary lines can be obtained based on multivariate meta-analytic models.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y can differ when the estimated correlation between sensitivity and specificity is positive and when there is little between-study variabil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f there is evidence of a positive correlation, the variability in the studies cannot be attributed to a threshold effec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plore for missing important covariates.</a:t>
            </a:r>
            <a:endParaRPr b="0" lang="en-US" sz="2200" spc="-1" strike="noStrike">
              <a:solidFill>
                <a:srgbClr val="ffffff"/>
              </a:solidFill>
              <a:latin typeface="Trebuchet MS"/>
            </a:endParaRPr>
          </a:p>
        </p:txBody>
      </p:sp>
      <p:sp>
        <p:nvSpPr>
          <p:cNvPr id="2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all Recommendations (2 of 3)</a:t>
            </a:r>
            <a:endParaRPr b="1" lang="en-US" sz="3200" spc="-1" strike="noStrike">
              <a:solidFill>
                <a:srgbClr val="ffffff"/>
              </a:solidFill>
              <a:latin typeface="Trebuchet MS"/>
            </a:endParaRPr>
          </a:p>
        </p:txBody>
      </p:sp>
      <p:sp>
        <p:nvSpPr>
          <p:cNvPr id="226" name="TextBox 3"/>
          <p:cNvSpPr/>
          <p:nvPr/>
        </p:nvSpPr>
        <p:spPr>
          <a:xfrm>
            <a:off x="838080" y="5862600"/>
            <a:ext cx="815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160"/>
            <a:ext cx="8229600" cy="32734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Gold Standard</a:t>
            </a:r>
            <a:r>
              <a:rPr b="0" lang="en-US" sz="2200" spc="-1" strike="noStrike">
                <a:solidFill>
                  <a:srgbClr val="ffffff"/>
                </a:solidFill>
                <a:latin typeface="Trebuchet MS"/>
              </a:rPr>
              <a:t>: A reference standard that is considered adequate in defining the presence or absence of the condition of interest (diseas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Diagnostic Test</a:t>
            </a:r>
            <a:r>
              <a:rPr b="0" lang="en-US" sz="2200" spc="-1" strike="noStrike">
                <a:solidFill>
                  <a:srgbClr val="ffffff"/>
                </a:solidFill>
                <a:latin typeface="Trebuchet MS"/>
              </a:rPr>
              <a:t>: This type of test is potentially less accurate than using the gold standard to ascertain disease.</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Data</a:t>
            </a:r>
            <a:r>
              <a:rPr b="0" lang="en-US" sz="2200" spc="-1" strike="noStrike">
                <a:solidFill>
                  <a:srgbClr val="ffffff"/>
                </a:solidFill>
                <a:latin typeface="Trebuchet MS"/>
              </a:rPr>
              <a:t>: The main focus is on tests with positive or negative results because of the use of a cut-off level (threshold); each study provides 2 </a:t>
            </a:r>
            <a:r>
              <a:rPr b="0" lang="en-US" sz="2200" spc="-1" strike="noStrike">
                <a:solidFill>
                  <a:srgbClr val="ffffff"/>
                </a:solidFill>
                <a:latin typeface="Arial"/>
                <a:ea typeface="Arial"/>
              </a:rPr>
              <a:t>× </a:t>
            </a:r>
            <a:r>
              <a:rPr b="0" lang="en-US" sz="2200" spc="-1" strike="noStrike">
                <a:solidFill>
                  <a:srgbClr val="ffffff"/>
                </a:solidFill>
                <a:latin typeface="Trebuchet MS"/>
              </a:rPr>
              <a:t>2 tabulation.</a:t>
            </a:r>
            <a:endParaRPr b="0" lang="en-US" sz="22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mportant Terms</a:t>
            </a:r>
            <a:endParaRPr b="1" lang="en-US" sz="3200" spc="-1" strike="noStrike">
              <a:solidFill>
                <a:srgbClr val="ffffff"/>
              </a:solidFill>
              <a:latin typeface="Trebuchet MS"/>
            </a:endParaRPr>
          </a:p>
        </p:txBody>
      </p:sp>
      <p:graphicFrame>
        <p:nvGraphicFramePr>
          <p:cNvPr id="95" name=""/>
          <p:cNvGraphicFramePr/>
          <p:nvPr/>
        </p:nvGraphicFramePr>
        <p:xfrm>
          <a:off x="762120" y="4419720"/>
          <a:ext cx="7391160" cy="1279440"/>
        </p:xfrm>
        <a:graphic>
          <a:graphicData uri="http://schemas.openxmlformats.org/drawingml/2006/table">
            <a:tbl>
              <a:tblPr/>
              <a:tblGrid>
                <a:gridCol w="1904760"/>
                <a:gridCol w="2743200"/>
                <a:gridCol w="2743200"/>
              </a:tblGrid>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Test Result</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With Diseas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rPr>
                        <a:t>Healthy</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76190"/>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Positiv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Palatino Linotype"/>
                        </a:rPr>
                        <a:t> </a:t>
                      </a:r>
                      <a:r>
                        <a:rPr b="1" lang="en-US" sz="2200" spc="-1" strike="noStrike">
                          <a:solidFill>
                            <a:srgbClr val="000000"/>
                          </a:solidFill>
                          <a:latin typeface="Palatino Linotype"/>
                        </a:rPr>
                        <a:t>True positive </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False positiv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Negative </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Palatino Linotype"/>
                        </a:rPr>
                        <a:t> </a:t>
                      </a:r>
                      <a:r>
                        <a:rPr b="1" lang="en-US" sz="2200" spc="-1" strike="noStrike">
                          <a:solidFill>
                            <a:srgbClr val="000000"/>
                          </a:solidFill>
                          <a:latin typeface="Palatino Linotype"/>
                        </a:rPr>
                        <a:t>False negative </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True negative</a:t>
                      </a:r>
                      <a:endParaRPr b="0" lang="en-US" sz="2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bl>
          </a:graphicData>
        </a:graphic>
      </p:graphicFrame>
      <p:sp>
        <p:nvSpPr>
          <p:cNvPr id="96" name="TextBox 4"/>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f more than one threshold is reported per study, this must be taken into account in the quantitative analyse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Qualitative analysis with graphs and quantitative analyses with proper methods are encouraged.</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lore the impact of study characteristics on summary results using meta-regression</a:t>
            </a:r>
            <a:r>
              <a:rPr b="0" lang="en-US" sz="2600" spc="-1" strike="noStrike">
                <a:solidFill>
                  <a:srgbClr val="ffffff"/>
                </a:solidFill>
                <a:latin typeface="Arial"/>
                <a:ea typeface="Arial"/>
              </a:rPr>
              <a:t>–</a:t>
            </a:r>
            <a:r>
              <a:rPr b="0" lang="en-US" sz="2600" spc="-1" strike="noStrike">
                <a:solidFill>
                  <a:srgbClr val="ffffff"/>
                </a:solidFill>
                <a:latin typeface="Trebuchet MS"/>
              </a:rPr>
              <a:t>based analyses or subgroup analyses in the context of the primary methodology used to summarize the studies.</a:t>
            </a:r>
            <a:endParaRPr b="0" lang="en-US" sz="2600" spc="-1" strike="noStrike">
              <a:solidFill>
                <a:srgbClr val="ffffff"/>
              </a:solidFill>
              <a:latin typeface="Trebuchet MS"/>
            </a:endParaRPr>
          </a:p>
        </p:txBody>
      </p:sp>
      <p:sp>
        <p:nvSpPr>
          <p:cNvPr id="2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all Recommendations (3 of 3)</a:t>
            </a:r>
            <a:endParaRPr b="1" lang="en-US" sz="3200" spc="-1" strike="noStrike">
              <a:solidFill>
                <a:srgbClr val="ffffff"/>
              </a:solidFill>
              <a:latin typeface="Trebuchet MS"/>
            </a:endParaRPr>
          </a:p>
        </p:txBody>
      </p:sp>
      <p:sp>
        <p:nvSpPr>
          <p:cNvPr id="229" name="TextBox 3"/>
          <p:cNvSpPr/>
          <p:nvPr/>
        </p:nvSpPr>
        <p:spPr>
          <a:xfrm>
            <a:off x="685800" y="586260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thin individual studies of a systematic review, sensitivity and specificity are independent variables.</a:t>
            </a:r>
            <a:endParaRPr b="0" lang="en-US" sz="2400" spc="-1" strike="noStrike">
              <a:solidFill>
                <a:srgbClr val="ffffff"/>
              </a:solidFill>
              <a:latin typeface="Trebuchet MS"/>
            </a:endParaRPr>
          </a:p>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 </a:t>
            </a:r>
            <a:endParaRPr b="0" lang="en-US" sz="2200" spc="-1" strike="noStrike">
              <a:solidFill>
                <a:srgbClr val="ffffff"/>
              </a:solidFill>
              <a:latin typeface="Trebuchet MS"/>
            </a:endParaRPr>
          </a:p>
        </p:txBody>
      </p:sp>
      <p:sp>
        <p:nvSpPr>
          <p:cNvPr id="2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statement is true. Sensitivity and specificity within each study are independent because they are estimated from different patients. Across studies they typically are negatively correlated.</a:t>
            </a:r>
            <a:endParaRPr b="0" lang="en-US" sz="2400" spc="-1" strike="noStrike">
              <a:solidFill>
                <a:srgbClr val="ffffff"/>
              </a:solidFill>
              <a:latin typeface="Trebuchet MS"/>
            </a:endParaRPr>
          </a:p>
        </p:txBody>
      </p:sp>
      <p:sp>
        <p:nvSpPr>
          <p:cNvPr id="2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y does this module recommend directly meta-analyzing sensitivity and specificity?</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are dependent on the prevalence of the condition under stud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predictive values and likelihood ratios can be back-calculated for a range of prevalence values by using known formula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y sensitivity and specificity obtained by direct meta-analysis will always be greater than 1.</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terpretation of sensitivity and specificity is very intuitive.</a:t>
            </a:r>
            <a:endParaRPr b="0" lang="en-US" sz="2200" spc="-1" strike="noStrike">
              <a:solidFill>
                <a:srgbClr val="ffffff"/>
              </a:solidFill>
              <a:latin typeface="Trebuchet MS"/>
            </a:endParaRPr>
          </a:p>
        </p:txBody>
      </p:sp>
      <p:sp>
        <p:nvSpPr>
          <p:cNvPr id="2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Once the summary sensitivity and specificity are calculated by meta-analysis, there are formulas that allow the back calculation of overall predictive values and likelihood ratios. Likelihood ratios and predicative values are more easily interpreted by the reader of the review. Sensitivity and specificity are often considered to be independent of prevalence because they do not depend on it mathematically and will always be between 0 and 1.</a:t>
            </a:r>
            <a:endParaRPr b="0" lang="en-US" sz="2400" spc="-1" strike="noStrike">
              <a:solidFill>
                <a:srgbClr val="ffffff"/>
              </a:solidFill>
              <a:latin typeface="Trebuchet MS"/>
            </a:endParaRPr>
          </a:p>
        </p:txBody>
      </p:sp>
      <p:sp>
        <p:nvSpPr>
          <p:cNvPr id="2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preferred method for obtaining a summary sensitivity and specificity in a meta-analysi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ultivariate meta-analysi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parate univariate meta-analyses</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ing a summary line</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Kester and Buntinx variant</a:t>
            </a:r>
            <a:endParaRPr b="0" lang="en-US" sz="2200" spc="-1" strike="noStrike">
              <a:solidFill>
                <a:srgbClr val="ffffff"/>
              </a:solidFill>
              <a:latin typeface="Trebuchet MS"/>
            </a:endParaRPr>
          </a:p>
        </p:txBody>
      </p:sp>
      <p:sp>
        <p:nvSpPr>
          <p:cNvPr id="2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A multivariate meta-analysis of sensitivity and specificity is the recommended method for obtaining a summary point (summary sensitivity and specificity). This is a joint analysis of both quantities instead of a separate univariate meta-analyses. Obtaining a summary line is an alternative to calculating a summary point. The Kester and Buntinx method is used to analyze sensitivity and specificity pairs when there are several thresholds for positive tests.</a:t>
            </a:r>
            <a:endParaRPr b="0" lang="en-US" sz="2400" spc="-1" strike="noStrike">
              <a:solidFill>
                <a:srgbClr val="ffffff"/>
              </a:solidFill>
              <a:latin typeface="Trebuchet MS"/>
            </a:endParaRPr>
          </a:p>
        </p:txBody>
      </p:sp>
      <p:sp>
        <p:nvSpPr>
          <p:cNvPr id="2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which situation would a summary line be more helpful in summarizing medical test performanc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estimates of various studies do not vary widely.</a:t>
            </a:r>
            <a:endParaRPr b="0" lang="en-US" sz="2200" spc="-1" strike="noStrike">
              <a:solidFill>
                <a:srgbClr val="ffffff"/>
              </a:solidFill>
              <a:latin typeface="Trebuchet MS"/>
            </a:endParaRPr>
          </a:p>
          <a:p>
            <a:pPr lvl="1" marL="1004760" indent="-457200">
              <a:lnSpc>
                <a:spcPct val="100000"/>
              </a:lnSpc>
              <a:spcBef>
                <a:spcPts val="825"/>
              </a:spcBef>
              <a:buClr>
                <a:srgbClr val="dfb20f"/>
              </a:buClr>
              <a:buFont typeface="Trebuchet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nsitivity and specificity of various studies vary over a large range.</a:t>
            </a:r>
            <a:endParaRPr b="0" lang="en-US" sz="2200" spc="-1" strike="noStrike">
              <a:solidFill>
                <a:srgbClr val="ffffff"/>
              </a:solidFill>
              <a:latin typeface="Trebuchet MS"/>
            </a:endParaRPr>
          </a:p>
        </p:txBody>
      </p:sp>
      <p:sp>
        <p:nvSpPr>
          <p:cNvPr id="2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Both a summary point and a summary line are informative and are useful in synthesizing data. There are no strict rules to follow in deciding which to use. A summary line may be more helpful as a summary of test performance when the sensitivity and specificity estimates of various studies vary over a large range.</a:t>
            </a:r>
            <a:endParaRPr b="0" lang="en-US" sz="2400" spc="-1" strike="noStrike">
              <a:solidFill>
                <a:srgbClr val="ffffff"/>
              </a:solidFill>
              <a:latin typeface="Trebuchet MS"/>
            </a:endParaRPr>
          </a:p>
        </p:txBody>
      </p:sp>
      <p:sp>
        <p:nvSpPr>
          <p:cNvPr id="2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Andrzej Kosinski, Rachael Posey, Lorraine Sease, Remy Coeytaux, Gillian Sanders, and Alex Vaz, of the Duke University Evidence-based Practice Center.</a:t>
            </a:r>
            <a:endParaRPr b="0" lang="en-US" sz="2400" spc="-1" strike="noStrike">
              <a:solidFill>
                <a:srgbClr val="ffffff"/>
              </a:solidFill>
              <a:latin typeface="Trebuchet MS"/>
            </a:endParaRPr>
          </a:p>
          <a:p>
            <a:pPr marL="288720" indent="-2887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Trikalinos TA, Coleman CI, Griffith L, et al. Meta-analysis of test performance when there is a </a:t>
            </a:r>
            <a:r>
              <a:rPr b="0" lang="ja-JP" sz="2400" spc="-1" strike="noStrike">
                <a:solidFill>
                  <a:srgbClr val="ffffff"/>
                </a:solidFill>
                <a:latin typeface="Trebuchet MS"/>
              </a:rPr>
              <a:t>“</a:t>
            </a:r>
            <a:r>
              <a:rPr b="0" lang="en-US" sz="2400" spc="-1" strike="noStrike">
                <a:solidFill>
                  <a:srgbClr val="ffffff"/>
                </a:solidFill>
                <a:latin typeface="Trebuchet MS"/>
              </a:rPr>
              <a:t>gold standard.</a:t>
            </a:r>
            <a:r>
              <a:rPr b="0" lang="ja-JP" sz="2400" spc="-1" strike="noStrike">
                <a:solidFill>
                  <a:srgbClr val="ffffff"/>
                </a:solidFill>
                <a:latin typeface="Trebuchet MS"/>
              </a:rPr>
              <a:t>”</a:t>
            </a:r>
            <a:r>
              <a:rPr b="0" lang="en-US" sz="2400" spc="-1" strike="noStrike">
                <a:solidFill>
                  <a:srgbClr val="ffffff"/>
                </a:solidFill>
                <a:latin typeface="Trebuchet MS"/>
              </a:rPr>
              <a:t> In: Chang SM and Matchar DB, eds. Methods guide for medical test reviews. Rockville, MD: Agency for Healthcare Research and Quality; June 2012. p. 8.1-21. AHRQ Publication No. 12-EHC017. Available at www.effectivehealthcare.ahrq.gov/medtestsguide.cfm.</a:t>
            </a:r>
            <a:endParaRPr b="0" lang="en-US" sz="2400" spc="-1" strike="noStrike">
              <a:solidFill>
                <a:srgbClr val="ffffff"/>
              </a:solidFill>
              <a:latin typeface="Trebuchet MS"/>
            </a:endParaRPr>
          </a:p>
        </p:txBody>
      </p:sp>
      <p:sp>
        <p:nvSpPr>
          <p:cNvPr id="24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Sensitivity</a:t>
            </a:r>
            <a:r>
              <a:rPr b="0" lang="en-US" sz="2400" spc="-1" strike="noStrike">
                <a:solidFill>
                  <a:srgbClr val="ffffff"/>
                </a:solidFill>
                <a:latin typeface="Trebuchet MS"/>
              </a:rPr>
              <a:t> = The proportion of test positives among people with a disease (true-positive rat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rebuchet MS"/>
              </a:rPr>
              <a:t>Specificity</a:t>
            </a:r>
            <a:r>
              <a:rPr b="0" lang="en-US" sz="2400" spc="-1" strike="noStrike">
                <a:solidFill>
                  <a:srgbClr val="ffffff"/>
                </a:solidFill>
                <a:latin typeface="Trebuchet MS"/>
              </a:rPr>
              <a:t> = The proportion of test negatives among healthy people (true-negative rate)</a:t>
            </a:r>
            <a:endParaRPr b="0" lang="en-US" sz="24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rebuchet MS"/>
              </a:rPr>
              <a:t>Positive predictive value </a:t>
            </a:r>
            <a:r>
              <a:rPr b="0" lang="en-US" sz="2600" spc="-1" strike="noStrike">
                <a:solidFill>
                  <a:srgbClr val="ffffff"/>
                </a:solidFill>
                <a:latin typeface="Trebuchet MS"/>
              </a:rPr>
              <a:t>= Proportion with disease among people with test-positive results</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rebuchet MS"/>
              </a:rPr>
              <a:t>Negative predictive value </a:t>
            </a:r>
            <a:r>
              <a:rPr b="0" lang="en-US" sz="2600" spc="-1" strike="noStrike">
                <a:solidFill>
                  <a:srgbClr val="ffffff"/>
                </a:solidFill>
                <a:latin typeface="Trebuchet MS"/>
              </a:rPr>
              <a:t>= Proportion of healthy people with test-negative result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predictive values can be computed from sensitivity, specificity, and disease prevalence.</a:t>
            </a:r>
            <a:endParaRPr b="0" lang="en-US" sz="2200" spc="-1" strike="noStrike">
              <a:solidFill>
                <a:srgbClr val="ffffff"/>
              </a:solidFill>
              <a:latin typeface="Trebuchet MS"/>
            </a:endParaRPr>
          </a:p>
        </p:txBody>
      </p:sp>
      <p:sp>
        <p:nvSpPr>
          <p:cNvPr id="98"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es Used To Assess Test Performance (1 of 2)</a:t>
            </a:r>
            <a:endParaRPr b="1" lang="en-US" sz="2800" spc="-1" strike="noStrike">
              <a:solidFill>
                <a:srgbClr val="ffffff"/>
              </a:solidFill>
              <a:latin typeface="Trebuchet MS"/>
            </a:endParaRPr>
          </a:p>
        </p:txBody>
      </p:sp>
      <p:sp>
        <p:nvSpPr>
          <p:cNvPr id="99"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nds LR, Hamza TH, van Houwelingen JC, et al. Bivariate random effects meta-analysis of ROC curves. Med Decis Making 2008 Sep-Oct;28(5):621-38. PMID: 18591542.</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lk EM, Ioannidis JP, Salem D, et al. Accuracy of biomarkers to diagnose acute cardiac ischemia in the emergency department: a meta-analysis. Ann Emerg Med 2001 May;37(5):478-94. PMID: 11326184.</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ecker DM, Philbrick JT, Bachhuber TL, et al. D-dimer testing and acute venous thromboembolism. A shortcut to accurate diagnosis? Arch Intern Med 1996 May 13;156(9):939-46. PMID: 8624174.</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ossuyt PM, Reitsma JB, Bruns DE, et al. The STARD statement for reporting studies of diagnostic accuracy: explanation and elaboration. Ann Intern Med 2003 Jan 7;138(1):W1-12. PMID: 12513067.</a:t>
            </a:r>
            <a:endParaRPr b="0" lang="en-US" sz="2000" spc="-1" strike="noStrike">
              <a:solidFill>
                <a:srgbClr val="ffffff"/>
              </a:solidFill>
              <a:latin typeface="Trebuchet MS"/>
            </a:endParaRPr>
          </a:p>
        </p:txBody>
      </p:sp>
      <p:sp>
        <p:nvSpPr>
          <p:cNvPr id="2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ppell FM, Raab GM, Wardlaw JM. When are summary ROC curves appropriate for diagnostic meta-analyses? Stat Med 2009 Sep 20;28(21):2653-68. PMID: 1959111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eks JJ, Altman DG. Diagnostic tests 4: likelihood ratios. BMJ 2004 Jul 17;329(7458):168-9. PMID: 1525807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ukic V, Gatsonis C. Meta-analysis of diagnostic test accuracy assessment studies with varying number of thresholds. Biometrics 2003 Dec;59(4):936-46. PMID: 1496947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u R, Gartlehner G, Grant M, et al. Conducting quantitative synthesis when comparing medical interventions: AHRQ and the Effective Health Care Program. J Clin Epidemiol 2011 Nov;64(11):1187-97. PMID: 2147799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las AS, Lijmer JG, Prins MH, et al. The diagnostic odds ratio: a single indicator of test performance. J Clin Epidemiol 2003 Nov;56(11):1129-35. PMID: 14615004.</a:t>
            </a:r>
            <a:endParaRPr b="0" lang="en-US" sz="2000" spc="-1" strike="noStrike">
              <a:solidFill>
                <a:srgbClr val="ffffff"/>
              </a:solidFill>
              <a:latin typeface="Trebuchet MS"/>
            </a:endParaRPr>
          </a:p>
        </p:txBody>
      </p:sp>
      <p:sp>
        <p:nvSpPr>
          <p:cNvPr id="2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bord RM, Deeks JJ, Egger M, et al. A unification of models for meta-analysis of diagnostic accuracy studies. Biostatistics 2007 Apr;8(2):239-51. PMID: 16698768.</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bord RM, Whiting P, Sterne JA, et al. An empirical comparison of methods for meta-analysis of diagnostic accuracy showed hierarchical models are necessary. J Clin Epidemiol 2008 Nov;61(11):1095-103. PMID: 19208372.</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tmann KE, Matchar DB, Chang S. Chapter 6: assessing applicability of medical test studies in systematic reviews. J Gen Intern Med 2012 Jun;27 Suppl 1;S39-46. PMID: 2264867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rwig L, Tosteson AN, Gatsonis C, et al. Guidelines for meta-analyses evaluating diagnostic tests. Ann Intern Med 1994 Apr 15;120(8):667-76. PMID: 8135452.</a:t>
            </a:r>
            <a:endParaRPr b="0" lang="en-US" sz="20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ardaun JW, Kardaun OJ. Comparative diagnostic performance of three radiological procedures for the detection of lumbar disk herniation. Methods Inf Med 1990 Jan;29(1):12-22. PMID: 2308524.</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ester AD, Buntinx F. Meta-analysis of ROC curves. Med Decis Making 2000 Oct-Dec;20(4):430-9. PMID: 11059476.</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au J, Ioannidis JP, Balk E, et al. Evaluation of technologies for identifying acute cardiac ischemia in emergency departments. Evid Rep Technol Assess (Summ) 2000 Sep;(26):1-4. PMID: 11079073.</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au J, Ioannidis JP, Schmid CH. Summing up evidence: one answer is not always enough. Lancet 1998 Jan 10;351(9096):123-7. PMID: 9439507.</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eflang MM, Bossuyt PM, Irwig L. Diagnostic test accuracy may vary with prevalence: implications for evidence-based diagnosis. J Clin Epidemiol 2009 Jan;62(1):5-12. PMID: 18778913.</a:t>
            </a:r>
            <a:endParaRPr b="0" lang="en-US" sz="20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jmer JG, Bossuyt PM, Heisterkamp SH. Exploring sources of heterogeneity in systematic reviews of diagnostic tests. Stat Med 2002 Jun 15;21(11):1525-37. PMID: 12111918.</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jmer JG, Mol BW, Heisterkamp S, et al. Empirical evidence of design-related bias in studies of diagnostic tests. JAMA 1999 Sep 15;282(11):1061-6. PMID: 10493205.</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ttenberg B, Moses LE. Estimating diagnostic accuracy from multiple conflicting reports: a new meta-analytic method. Med Decis Making 1993 Oct-Dec;13(4):313-21. PMID: 8246704.</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ong TW. Understanding sensitivity and specificity with the right side of the brain. BMJ 2003 Sep 27;327(7417):716-9. PMID: 14512479.</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ses LE, Shapiro D, Littenberg B. Combining independent studies of a diagnostic test into a summary ROC curve: data-analytic approaches and some additional considerations. Stat Med 1993 Jul 30;12(14):1293-316. PMID: 8210827.</a:t>
            </a:r>
            <a:endParaRPr b="0" lang="en-US" sz="20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ulherin SA, Miller WC. Spectrum bias or spectrum effect? Subgroup variation in diagnostic test evaluation. Ann Intern Med 2002 Oct 1;137(7):598-602. PMID: 1235394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ei EH, Nikken JJ, Verstijnen AC, et al. MR imaging of the menisci and cruciate ligaments: a systematic review. Radiology 2003 Mar;226(3):837-48. PMID: 1260121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itsma JB, Glas AS, Rutjes AW, et al. Bivariate analysis of sensitivity and specificity produces informative summary measures in diagnostic reviews. J Clin Epidemiol 2005 Oct;58(10):982-90. PMID: 1616834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ley RD, Abrams KR, Lambert PC, et al. An evaluation of bivariate random-effects meta-analysis for the joint synthesis of two correlated outcomes. Stat Med 2007 Jan 15;26(1):78-97. PMID: 16526010.</a:t>
            </a:r>
            <a:endParaRPr b="0" lang="en-US" sz="20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ley RD, Abrams KR, Sutton AJ, et al. Bivariate random-effects meta-analysis and the estimation of between-study correlation. BMC Med Res Methodol 2007 Jan 12;7:3. PMID: 17222330.</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utjes AW, Reitsma JB, Di Nisio M, et al. Evidence of bias and variation in diagnostic accuracy studies. CMAJ 2006 Feb 14;174(4):469-76. PMID: 1647705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utter CM, Gatsonis CA. Regression methods for meta-analysis of diagnostic test data. Acad Radiol 1995 Mar;2 Suppl 1:S48-56; discussion S65-7, S70-1 pas. PMID: 9419705.</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mel DL, Bossuyt PM. Differences between univariate and bivariate models for summarizing diagnostic accuracy may not be large. J Clin Epidemiol 2009 Dec;62(12):1292-300. PMID: 19447007.</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ompson SG, Sharp SJ. Explaining heterogeneity in meta-analysis: a comparison of methods. Stat Med 1999 Oct 30;18(20):2693-708. PMID: 10521860.</a:t>
            </a:r>
            <a:endParaRPr b="0" lang="en-US" sz="2000" spc="-1" strike="noStrike">
              <a:solidFill>
                <a:srgbClr val="ffffff"/>
              </a:solidFill>
              <a:latin typeface="Trebuchet MS"/>
            </a:endParaRPr>
          </a:p>
        </p:txBody>
      </p:sp>
      <p:sp>
        <p:nvSpPr>
          <p:cNvPr id="26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7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Coleman CI, Griffith L, et al. Meta-analysis of test performance when there is a </a:t>
            </a:r>
            <a:r>
              <a:rPr b="0" lang="ja-JP" sz="2000" spc="-1" strike="noStrike">
                <a:solidFill>
                  <a:srgbClr val="ffffff"/>
                </a:solidFill>
                <a:latin typeface="Trebuchet MS"/>
              </a:rPr>
              <a:t>“</a:t>
            </a:r>
            <a:r>
              <a:rPr b="0" lang="en-US" sz="2000" spc="-1" strike="noStrike">
                <a:solidFill>
                  <a:srgbClr val="ffffff"/>
                </a:solidFill>
                <a:latin typeface="Trebuchet MS"/>
              </a:rPr>
              <a:t>gold standard.</a:t>
            </a:r>
            <a:r>
              <a:rPr b="0" lang="ja-JP" sz="2000" spc="-1" strike="noStrike">
                <a:solidFill>
                  <a:srgbClr val="ffffff"/>
                </a:solidFill>
                <a:latin typeface="Trebuchet MS"/>
              </a:rPr>
              <a:t>”</a:t>
            </a:r>
            <a:r>
              <a:rPr b="0" lang="en-US" sz="2000" spc="-1" strike="noStrike">
                <a:solidFill>
                  <a:srgbClr val="ffffff"/>
                </a:solidFill>
                <a:latin typeface="Trebuchet MS"/>
              </a:rPr>
              <a:t> In: Chang SM and Matchar DB, eds. Methods guide for medical test reviews. Rockville, MD: Agency for Healthcare Research and Quality; June 2012. p. 8.1-21. AHRQ Publication No. 12-EHC017. Available at www.effectivehealthcare.ahrq.gov/medtestsguide.cfm.</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Chung M, Lau J, et al. Systematic review of screening for bilirubin encephalopathy in neonates. Pediatrics 2009 Oct;124(4):1162-71. PMID: 19786450.</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Visser K, Hunink MG. Peripheral arterial disease: gadolinium-enhanced MR angiography versus color-guided duplex US--a meta-analysis. Radiology 2000 Jul;216(1):67-77. PMID: 10887229.</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iting P, Rutjes AW, Reitsma JB, et al. Sources of variation and bias in studies of diagnostic accuracy: a systematic review. Ann Intern Med 2004 Feb 3;140(3):189-202. PMID: 14757617.</a:t>
            </a:r>
            <a:endParaRPr b="0" lang="en-US" sz="2000" spc="-1" strike="noStrike">
              <a:solidFill>
                <a:srgbClr val="ffffff"/>
              </a:solidFill>
              <a:latin typeface="Trebuchet MS"/>
            </a:endParaRPr>
          </a:p>
        </p:txBody>
      </p:sp>
      <p:sp>
        <p:nvSpPr>
          <p:cNvPr id="2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8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Zwinderman AH, Bossuyt PM. We should not pool diagnostic likelihood ratios in systematic reviews. Stat Med 2008 Feb 28;27(5):687-97. PMID: 17611957.</a:t>
            </a:r>
            <a:endParaRPr b="0" lang="en-US" sz="2000" spc="-1" strike="noStrike">
              <a:solidFill>
                <a:srgbClr val="ffffff"/>
              </a:solidFill>
              <a:latin typeface="Trebuchet MS"/>
            </a:endParaRPr>
          </a:p>
        </p:txBody>
      </p:sp>
      <p:sp>
        <p:nvSpPr>
          <p:cNvPr id="26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9 of 9)</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0880" y="1219320"/>
            <a:ext cx="8229600" cy="50292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rebuchet MS"/>
              </a:rPr>
              <a:t>Positive likelihood ratio </a:t>
            </a:r>
            <a:r>
              <a:rPr b="0" lang="en-US" sz="2300" spc="-1" strike="noStrike">
                <a:solidFill>
                  <a:srgbClr val="ffffff"/>
                </a:solidFill>
                <a:latin typeface="Trebuchet MS"/>
              </a:rPr>
              <a:t>= sensitivity/(1 </a:t>
            </a:r>
            <a:r>
              <a:rPr b="0" lang="en-US" sz="2300" spc="-1" strike="noStrike">
                <a:solidFill>
                  <a:srgbClr val="ffffff"/>
                </a:solidFill>
                <a:latin typeface="Arial"/>
                <a:ea typeface="Arial"/>
              </a:rPr>
              <a:t>‒ </a:t>
            </a:r>
            <a:r>
              <a:rPr b="0" lang="en-US" sz="2300" spc="-1" strike="noStrike">
                <a:solidFill>
                  <a:srgbClr val="ffffff"/>
                </a:solidFill>
                <a:latin typeface="Trebuchet MS"/>
              </a:rPr>
              <a:t>specificity) = proportion of test positives among diseased/proportion of test positives among healthy </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rebuchet MS"/>
              </a:rPr>
              <a:t>Negative likelihood ratio </a:t>
            </a:r>
            <a:r>
              <a:rPr b="0" lang="en-US" sz="2300" spc="-1" strike="noStrike">
                <a:solidFill>
                  <a:srgbClr val="ffffff"/>
                </a:solidFill>
                <a:latin typeface="Trebuchet MS"/>
              </a:rPr>
              <a:t>= (1 ‒ sensitivity)/specificity = proportion of test negatives among diseased/proportion of test negatives among healthy</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Trebuchet MS"/>
              </a:rPr>
              <a:t>Diagnostic odds ratio </a:t>
            </a:r>
            <a:r>
              <a:rPr b="0" lang="en-US" sz="2300" spc="-1" strike="noStrike">
                <a:solidFill>
                  <a:srgbClr val="ffffff"/>
                </a:solidFill>
                <a:latin typeface="Trebuchet MS"/>
              </a:rPr>
              <a:t>= (true positives/false negatives)/(false positives/true negatives) = odds of a positive test with disease over odds of a positive test without disease</a:t>
            </a:r>
            <a:endParaRPr b="0" lang="en-US" sz="23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odds ratios do not allow weighing of the true-positive and false-positive rates separately.</a:t>
            </a:r>
            <a:endParaRPr b="0" lang="en-US" sz="2200" spc="-1" strike="noStrike">
              <a:solidFill>
                <a:srgbClr val="ffffff"/>
              </a:solidFill>
              <a:latin typeface="Trebuchet MS"/>
            </a:endParaRPr>
          </a:p>
        </p:txBody>
      </p:sp>
      <p:sp>
        <p:nvSpPr>
          <p:cNvPr id="101" name="PlaceHolder 1"/>
          <p:cNvSpPr>
            <a:spLocks noGrp="1"/>
          </p:cNvSpPr>
          <p:nvPr>
            <p:ph type="title"/>
          </p:nvPr>
        </p:nvSpPr>
        <p:spPr>
          <a:xfrm>
            <a:off x="304920" y="130320"/>
            <a:ext cx="853416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easures Used To Assess Test Performance (2 of 2)</a:t>
            </a:r>
            <a:endParaRPr b="1" lang="en-US" sz="2800" spc="-1" strike="noStrike">
              <a:solidFill>
                <a:srgbClr val="ffffff"/>
              </a:solidFill>
              <a:latin typeface="Trebuchet MS"/>
            </a:endParaRPr>
          </a:p>
        </p:txBody>
      </p:sp>
      <p:sp>
        <p:nvSpPr>
          <p:cNvPr id="102" name="TextBox 3"/>
          <p:cNvSpPr/>
          <p:nvPr/>
        </p:nvSpPr>
        <p:spPr>
          <a:xfrm>
            <a:off x="68580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eta-analysis aims to provide a meaningful summary of sensitivity and specificity across studie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Within each study</a:t>
            </a:r>
            <a:r>
              <a:rPr b="0" lang="en-US" sz="2200" spc="-1" strike="noStrike">
                <a:solidFill>
                  <a:srgbClr val="ffffff"/>
                </a:solidFill>
                <a:latin typeface="Trebuchet MS"/>
              </a:rPr>
              <a:t>, sensitivity and specificity are independent </a:t>
            </a:r>
            <a:r>
              <a:rPr b="0" lang="en-US" sz="2200" spc="-1" strike="noStrike">
                <a:solidFill>
                  <a:srgbClr val="ffffff"/>
                </a:solidFill>
                <a:latin typeface="Arial"/>
                <a:ea typeface="Arial"/>
              </a:rPr>
              <a:t>— </a:t>
            </a:r>
            <a:r>
              <a:rPr b="0" lang="en-US" sz="2200" spc="-1" strike="noStrike">
                <a:solidFill>
                  <a:srgbClr val="ffffff"/>
                </a:solidFill>
                <a:latin typeface="Trebuchet MS"/>
              </a:rPr>
              <a:t>they are estimated from different patients (those with a disease or those who are health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rebuchet MS"/>
              </a:rPr>
              <a:t>Across studies</a:t>
            </a:r>
            <a:r>
              <a:rPr b="0" lang="en-US" sz="2200" spc="-1" strike="noStrike">
                <a:solidFill>
                  <a:srgbClr val="ffffff"/>
                </a:solidFill>
                <a:latin typeface="Trebuchet MS"/>
              </a:rPr>
              <a:t>, sensitivity and specificity are generally </a:t>
            </a:r>
            <a:r>
              <a:rPr b="0" i="1" lang="en-US" sz="2200" spc="-1" strike="noStrike">
                <a:solidFill>
                  <a:srgbClr val="ffffff"/>
                </a:solidFill>
                <a:latin typeface="Trebuchet MS"/>
              </a:rPr>
              <a:t>negatively</a:t>
            </a:r>
            <a:r>
              <a:rPr b="0" lang="en-US" sz="2200" spc="-1" strike="noStrike">
                <a:solidFill>
                  <a:srgbClr val="ffffff"/>
                </a:solidFill>
                <a:latin typeface="Trebuchet MS"/>
              </a:rPr>
              <a:t> correlated </a:t>
            </a:r>
            <a:r>
              <a:rPr b="0" lang="en-US" sz="2200" spc="-1" strike="noStrike">
                <a:solidFill>
                  <a:srgbClr val="ffffff"/>
                </a:solidFill>
                <a:latin typeface="Arial"/>
                <a:ea typeface="Arial"/>
              </a:rPr>
              <a:t>—</a:t>
            </a:r>
            <a:r>
              <a:rPr b="0" lang="en-US" sz="2200" spc="-1" strike="noStrike">
                <a:solidFill>
                  <a:srgbClr val="ffffff"/>
                </a:solidFill>
                <a:latin typeface="Trebuchet MS"/>
              </a:rPr>
              <a:t> as one increases the other is expected to decreas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negative correlation is most obvious with varying thresholds (known as </a:t>
            </a:r>
            <a:r>
              <a:rPr b="0" lang="ja-JP" sz="2000" spc="-1" strike="noStrike">
                <a:solidFill>
                  <a:srgbClr val="ffffff"/>
                </a:solidFill>
                <a:latin typeface="Trebuchet MS"/>
              </a:rPr>
              <a:t>“</a:t>
            </a:r>
            <a:r>
              <a:rPr b="0" lang="en-US" sz="2000" spc="-1" strike="noStrike">
                <a:solidFill>
                  <a:srgbClr val="ffffff"/>
                </a:solidFill>
                <a:latin typeface="Trebuchet MS"/>
              </a:rPr>
              <a:t>threshold effect</a:t>
            </a:r>
            <a:r>
              <a:rPr b="0" lang="ja-JP" sz="2000" spc="-1" strike="noStrike">
                <a:solidFill>
                  <a:srgbClr val="ffffff"/>
                </a:solidFill>
                <a:latin typeface="Trebuchet MS"/>
              </a:rPr>
              <a:t>”</a:t>
            </a:r>
            <a:r>
              <a:rPr b="0" lang="en-US" sz="2000" spc="-1" strike="noStrike">
                <a:solidFill>
                  <a:srgbClr val="ffffff"/>
                </a:solidFill>
                <a:latin typeface="Trebuchet MS"/>
              </a:rPr>
              <a:t>), varying time from onset of symptom to test, et cetera.</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sitive correlations are often due to a missing covari</a:t>
            </a: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pendence of Sensitivity and Specificity Across Studies (1 of 2)</a:t>
            </a:r>
            <a:endParaRPr b="1" lang="en-US" sz="3200" spc="-1" strike="noStrike">
              <a:solidFill>
                <a:srgbClr val="ffffff"/>
              </a:solidFill>
              <a:latin typeface="Trebuchet MS"/>
            </a:endParaRPr>
          </a:p>
        </p:txBody>
      </p:sp>
      <p:sp>
        <p:nvSpPr>
          <p:cNvPr id="105" name="TextBox 3"/>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153280" cy="487368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s an example with 11 studies using D-dimer tests to diagnose acute coronary events, showing that sensitivity increases as specificity decreases:</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mmarizing the two correlated quantities is a multivariate problem, and multivariate methods should be used to address it.</a:t>
            </a:r>
            <a:endParaRPr b="0" lang="en-US" sz="20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Dependence of Sensitivity and Specificity Across Studies (2 of 2)</a:t>
            </a:r>
            <a:endParaRPr b="1" lang="en-US" sz="3200" spc="-1" strike="noStrike">
              <a:solidFill>
                <a:srgbClr val="ffffff"/>
              </a:solidFill>
              <a:latin typeface="Trebuchet MS"/>
            </a:endParaRPr>
          </a:p>
        </p:txBody>
      </p:sp>
      <p:pic>
        <p:nvPicPr>
          <p:cNvPr id="108" name="Picture 2" descr="This figure displays the sensitivity and specificity for 11 different studies that likely have varying thresholds for a positive D-dimer test. The studies with a higher sensitivity tend to have a lower specificity. This is an example of how the threshold effect can lead to a negative correlation between sensitivity and specificity."/>
          <p:cNvPicPr/>
          <p:nvPr/>
        </p:nvPicPr>
        <p:blipFill>
          <a:blip r:embed="rId1"/>
          <a:srcRect l="7797" t="45374" r="0" b="30102"/>
          <a:stretch/>
        </p:blipFill>
        <p:spPr>
          <a:xfrm>
            <a:off x="1295280" y="2514600"/>
            <a:ext cx="6237360" cy="1909800"/>
          </a:xfrm>
          <a:prstGeom prst="rect">
            <a:avLst/>
          </a:prstGeom>
          <a:ln w="0">
            <a:noFill/>
          </a:ln>
        </p:spPr>
      </p:pic>
      <p:sp>
        <p:nvSpPr>
          <p:cNvPr id="109" name="TextBox 3"/>
          <p:cNvSpPr/>
          <p:nvPr/>
        </p:nvSpPr>
        <p:spPr>
          <a:xfrm>
            <a:off x="533520" y="5638680"/>
            <a:ext cx="84582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Trikalinos TA, Coleman CI, Griffith L, et al. Meta-analysis of test performance when there is a </a:t>
            </a:r>
            <a:r>
              <a:rPr b="0" lang="ja-JP" sz="1300" spc="-1" strike="noStrike">
                <a:solidFill>
                  <a:srgbClr val="ffffff"/>
                </a:solidFill>
                <a:latin typeface="Arial"/>
                <a:ea typeface="Arial"/>
              </a:rPr>
              <a:t>“</a:t>
            </a:r>
            <a:r>
              <a:rPr b="0" lang="en-US" sz="1300" spc="-1" strike="noStrike">
                <a:solidFill>
                  <a:srgbClr val="ffffff"/>
                </a:solidFill>
                <a:latin typeface="Arial"/>
                <a:ea typeface="Arial"/>
              </a:rPr>
              <a:t>gold standard.</a:t>
            </a:r>
            <a:r>
              <a:rPr b="0" lang="ja-JP" sz="1300" spc="-1" strike="noStrike">
                <a:solidFill>
                  <a:srgbClr val="ffffff"/>
                </a:solidFill>
                <a:latin typeface="Arial"/>
                <a:ea typeface="Arial"/>
              </a:rPr>
              <a:t>”</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ecker DM, Philbrick JT, Bachhuber TL, et al. Ann Intern Med 1996 May 13;156(9):939-46. PMID: 8624174. </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268280"/>
            <a:ext cx="8229600" cy="4827600"/>
          </a:xfrm>
          <a:prstGeom prst="rect">
            <a:avLst/>
          </a:prstGeom>
          <a:noFill/>
          <a:ln w="0">
            <a:noFill/>
          </a:ln>
        </p:spPr>
        <p:txBody>
          <a:bodyPr lIns="0" rIns="0" tIns="0" bIns="0" anchor="t">
            <a:normAutofit fontScale="99000"/>
          </a:bodyPr>
          <a:p>
            <a:pPr marL="288720" indent="-288720">
              <a:lnSpc>
                <a:spcPct val="100000"/>
              </a:lnSpc>
              <a:spcBef>
                <a:spcPts val="862"/>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How to quantitatively summarize medical test performance when:</a:t>
            </a:r>
            <a:endParaRPr b="0" lang="en-US" sz="2300" spc="-1" strike="noStrike">
              <a:solidFill>
                <a:srgbClr val="ffffff"/>
              </a:solidFill>
              <a:latin typeface="Trebuchet MS"/>
            </a:endParaRPr>
          </a:p>
          <a:p>
            <a:pPr lvl="1" marL="850320" indent="-45252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sensitivity and specificity estimates of various studies do not vary widely or extensively</a:t>
            </a:r>
            <a:endParaRPr b="0" lang="en-US" sz="21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an use a </a:t>
            </a:r>
            <a:r>
              <a:rPr b="1" i="1" lang="en-US" sz="1900" spc="-1" strike="noStrike">
                <a:solidFill>
                  <a:srgbClr val="ffffff"/>
                </a:solidFill>
                <a:latin typeface="Trebuchet MS"/>
              </a:rPr>
              <a:t>summary point</a:t>
            </a:r>
            <a:r>
              <a:rPr b="1" lang="en-US" sz="1900" spc="-1" strike="noStrike">
                <a:solidFill>
                  <a:srgbClr val="ffffff"/>
                </a:solidFill>
                <a:latin typeface="Trebuchet MS"/>
              </a:rPr>
              <a:t> </a:t>
            </a:r>
            <a:r>
              <a:rPr b="0" lang="en-US" sz="1900" spc="-1" strike="noStrike">
                <a:solidFill>
                  <a:srgbClr val="ffffff"/>
                </a:solidFill>
                <a:latin typeface="Trebuchet MS"/>
              </a:rPr>
              <a:t>to obtain summary test performance if the tests have the same threshold</a:t>
            </a:r>
            <a:endParaRPr b="0" lang="en-US" sz="19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ummary point = a summary sensitivity and summary specificity pair</a:t>
            </a:r>
            <a:endParaRPr b="0" lang="en-US" sz="1900" spc="-1" strike="noStrike">
              <a:solidFill>
                <a:srgbClr val="ffffff"/>
              </a:solidFill>
              <a:latin typeface="Trebuchet MS"/>
            </a:endParaRPr>
          </a:p>
          <a:p>
            <a:pPr lvl="1" marL="850320" indent="-45252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sensitivity and specificity of multiple studies vary widely</a:t>
            </a:r>
            <a:endParaRPr b="0" lang="en-US" sz="21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an use a </a:t>
            </a:r>
            <a:r>
              <a:rPr b="1" i="1" lang="en-US" sz="1900" spc="-1" strike="noStrike">
                <a:solidFill>
                  <a:srgbClr val="ffffff"/>
                </a:solidFill>
                <a:latin typeface="Trebuchet MS"/>
              </a:rPr>
              <a:t>summary line </a:t>
            </a:r>
            <a:r>
              <a:rPr b="0" lang="en-US" sz="1900" spc="-1" strike="noStrike">
                <a:solidFill>
                  <a:srgbClr val="ffffff"/>
                </a:solidFill>
                <a:latin typeface="Trebuchet MS"/>
              </a:rPr>
              <a:t>to describe the relationship between average sensitivity and average specificity</a:t>
            </a:r>
            <a:endParaRPr b="0" lang="en-US" sz="1900" spc="-1" strike="noStrike">
              <a:solidFill>
                <a:srgbClr val="ffffff"/>
              </a:solidFill>
              <a:latin typeface="Trebuchet MS"/>
            </a:endParaRPr>
          </a:p>
          <a:p>
            <a:pPr lvl="2" marL="1085760" indent="-2887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ay be less important than variations in thresholds, reference standards, study designs, et cetera, between the studies</a:t>
            </a:r>
            <a:endParaRPr b="0" lang="en-US" sz="1900" spc="-1" strike="noStrike">
              <a:solidFill>
                <a:srgbClr val="ffffff"/>
              </a:solidFill>
              <a:latin typeface="Trebuchet MS"/>
            </a:endParaRPr>
          </a:p>
        </p:txBody>
      </p:sp>
      <p:sp>
        <p:nvSpPr>
          <p:cNvPr id="1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hallenges</a:t>
            </a:r>
            <a:endParaRPr b="1" lang="en-US" sz="3200" spc="-1" strike="noStrike">
              <a:solidFill>
                <a:srgbClr val="ffffff"/>
              </a:solidFill>
              <a:latin typeface="Trebuchet MS"/>
            </a:endParaRPr>
          </a:p>
        </p:txBody>
      </p:sp>
      <p:sp>
        <p:nvSpPr>
          <p:cNvPr id="112" name="TextBox 3"/>
          <p:cNvSpPr/>
          <p:nvPr/>
        </p:nvSpPr>
        <p:spPr>
          <a:xfrm>
            <a:off x="7621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rikalinos TA, Coleman CI, Griffith L, et al. Meta-analysis of test performance when there is a </a:t>
            </a:r>
            <a:r>
              <a:rPr b="0" lang="ja-JP" sz="1200" spc="-1" strike="noStrike">
                <a:solidFill>
                  <a:srgbClr val="ffffff"/>
                </a:solidFill>
                <a:latin typeface="Arial"/>
                <a:ea typeface="Arial"/>
              </a:rPr>
              <a:t>“</a:t>
            </a:r>
            <a:r>
              <a:rPr b="0" lang="en-US" sz="1200" spc="-1" strike="noStrike">
                <a:solidFill>
                  <a:srgbClr val="ffffff"/>
                </a:solidFill>
                <a:latin typeface="Arial"/>
                <a:ea typeface="Arial"/>
              </a:rPr>
              <a:t>gold standard.</a:t>
            </a:r>
            <a:r>
              <a:rPr b="0" lang="ja-JP" sz="1200" spc="-1" strike="noStrike">
                <a:solidFill>
                  <a:srgbClr val="ffffff"/>
                </a:solidFill>
                <a:latin typeface="Arial"/>
                <a:ea typeface="Arial"/>
              </a:rPr>
              <a:t>”</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www.effectivehealthcare.ahrq.gov/medtestsguide.cfm. </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6:11:53Z</dcterms:created>
  <dc:creator>Alex P Vaz</dc:creator>
  <dc:description/>
  <dc:language>en-US</dc:language>
  <cp:lastModifiedBy>Tony Adams</cp:lastModifiedBy>
  <cp:lastPrinted>2013-02-14T20:39:02Z</cp:lastPrinted>
  <dcterms:modified xsi:type="dcterms:W3CDTF">2013-05-30T12:18:41Z</dcterms:modified>
  <cp:revision>458</cp:revision>
  <dc:subject/>
  <dc:title>Meta-analysis of Test Performance Evidence When There is a “Gold Standard” Reference Standard</dc:title>
</cp:coreProperties>
</file>