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D27F0-D2E5-46AC-A43A-476341BF7D6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ystematic Review of Prognostic Te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et is based on chapter 12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rPr>
              <a:t>Methods Guide </a:t>
            </a:r>
            <a:r>
              <a:rPr b="0" lang="en-US" sz="1200" spc="-1" strike="noStrike">
                <a:solidFill>
                  <a:srgbClr val="000000"/>
                </a:solidFill>
                <a:latin typeface="Calibri"/>
              </a:rPr>
              <a:t>focuses on how to conduct a systematic review of prognostic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Step 2: Searching for Studies (3 of 5)</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urrently, there are no reliable, validated methods to exhaustively search the literature for information about prognostic tests. The best indexes and search strategies to use also have not been determined. As a result, searching is carried out in several ways. One strategy has been to find studies that meet the selection criteria and then take the keywords in the title or abstract and the index terms and use variations of these to search for other studies. Others have used search terms such as </a:t>
            </a:r>
            <a:r>
              <a:rPr b="0" lang="ja-JP" sz="600" spc="-1" strike="noStrike">
                <a:solidFill>
                  <a:srgbClr val="000000"/>
                </a:solidFill>
                <a:latin typeface="Calibri"/>
              </a:rPr>
              <a:t>“</a:t>
            </a:r>
            <a:r>
              <a:rPr b="0" lang="en-US" sz="600" spc="-1" strike="noStrike">
                <a:solidFill>
                  <a:srgbClr val="000000"/>
                </a:solidFill>
                <a:latin typeface="Calibri"/>
              </a:rPr>
              <a:t>cohort,</a:t>
            </a:r>
            <a:r>
              <a:rPr b="0" lang="ja-JP" sz="600" spc="-1" strike="noStrike">
                <a:solidFill>
                  <a:srgbClr val="000000"/>
                </a:solidFill>
                <a:latin typeface="Calibri"/>
              </a:rPr>
              <a:t>”</a:t>
            </a:r>
            <a:r>
              <a:rPr b="0" lang="en-US" sz="600" spc="-1" strike="noStrike">
                <a:solidFill>
                  <a:srgbClr val="000000"/>
                </a:solidFill>
                <a:latin typeface="Calibri"/>
              </a:rPr>
              <a:t> </a:t>
            </a:r>
            <a:r>
              <a:rPr b="0" lang="ja-JP" sz="600" spc="-1" strike="noStrike">
                <a:solidFill>
                  <a:srgbClr val="000000"/>
                </a:solidFill>
                <a:latin typeface="Calibri"/>
              </a:rPr>
              <a:t>“</a:t>
            </a:r>
            <a:r>
              <a:rPr b="0" lang="en-US" sz="600" spc="-1" strike="noStrike">
                <a:solidFill>
                  <a:srgbClr val="000000"/>
                </a:solidFill>
                <a:latin typeface="Calibri"/>
              </a:rPr>
              <a:t>incidence,</a:t>
            </a:r>
            <a:r>
              <a:rPr b="0" lang="ja-JP" sz="600" spc="-1" strike="noStrike">
                <a:solidFill>
                  <a:srgbClr val="000000"/>
                </a:solidFill>
                <a:latin typeface="Calibri"/>
              </a:rPr>
              <a:t>”</a:t>
            </a:r>
            <a:r>
              <a:rPr b="0" lang="en-US" sz="600" spc="-1" strike="noStrike">
                <a:solidFill>
                  <a:srgbClr val="000000"/>
                </a:solidFill>
                <a:latin typeface="Calibri"/>
              </a:rPr>
              <a:t> </a:t>
            </a:r>
            <a:r>
              <a:rPr b="0" lang="ja-JP" sz="600" spc="-1" strike="noStrike">
                <a:solidFill>
                  <a:srgbClr val="000000"/>
                </a:solidFill>
                <a:latin typeface="Calibri"/>
              </a:rPr>
              <a:t>“</a:t>
            </a:r>
            <a:r>
              <a:rPr b="0" lang="en-US" sz="600" spc="-1" strike="noStrike">
                <a:solidFill>
                  <a:srgbClr val="000000"/>
                </a:solidFill>
                <a:latin typeface="Calibri"/>
              </a:rPr>
              <a:t>mortality,</a:t>
            </a:r>
            <a:r>
              <a:rPr b="0" lang="ja-JP" sz="600" spc="-1" strike="noStrike">
                <a:solidFill>
                  <a:srgbClr val="000000"/>
                </a:solidFill>
                <a:latin typeface="Calibri"/>
              </a:rPr>
              <a:t>”</a:t>
            </a:r>
            <a:r>
              <a:rPr b="0" lang="en-US" sz="600" spc="-1" strike="noStrike">
                <a:solidFill>
                  <a:srgbClr val="000000"/>
                </a:solidFill>
                <a:latin typeface="Calibri"/>
              </a:rPr>
              <a:t> </a:t>
            </a:r>
            <a:r>
              <a:rPr b="0" lang="ja-JP" sz="600" spc="-1" strike="noStrike">
                <a:solidFill>
                  <a:srgbClr val="000000"/>
                </a:solidFill>
                <a:latin typeface="Calibri"/>
              </a:rPr>
              <a:t>“</a:t>
            </a:r>
            <a:r>
              <a:rPr b="0" lang="en-US" sz="600" spc="-1" strike="noStrike">
                <a:solidFill>
                  <a:srgbClr val="000000"/>
                </a:solidFill>
                <a:latin typeface="Calibri"/>
              </a:rPr>
              <a:t>followup studies,</a:t>
            </a:r>
            <a:r>
              <a:rPr b="0" lang="ja-JP" sz="600" spc="-1" strike="noStrike">
                <a:solidFill>
                  <a:srgbClr val="000000"/>
                </a:solidFill>
                <a:latin typeface="Calibri"/>
              </a:rPr>
              <a:t>”</a:t>
            </a:r>
            <a:r>
              <a:rPr b="0" lang="en-US" sz="600" spc="-1" strike="noStrike">
                <a:solidFill>
                  <a:srgbClr val="000000"/>
                </a:solidFill>
                <a:latin typeface="Calibri"/>
              </a:rPr>
              <a:t> </a:t>
            </a:r>
            <a:r>
              <a:rPr b="0" lang="ja-JP" sz="600" spc="-1" strike="noStrike">
                <a:solidFill>
                  <a:srgbClr val="000000"/>
                </a:solidFill>
                <a:latin typeface="Calibri"/>
              </a:rPr>
              <a:t>“</a:t>
            </a:r>
            <a:r>
              <a:rPr b="0" lang="en-US" sz="600" spc="-1" strike="noStrike">
                <a:solidFill>
                  <a:srgbClr val="000000"/>
                </a:solidFill>
                <a:latin typeface="Calibri"/>
              </a:rPr>
              <a:t>course,</a:t>
            </a:r>
            <a:r>
              <a:rPr b="0" lang="ja-JP" sz="600" spc="-1" strike="noStrike">
                <a:solidFill>
                  <a:srgbClr val="000000"/>
                </a:solidFill>
                <a:latin typeface="Calibri"/>
              </a:rPr>
              <a:t>”</a:t>
            </a:r>
            <a:r>
              <a:rPr b="0" lang="en-US" sz="600" spc="-1" strike="noStrike">
                <a:solidFill>
                  <a:srgbClr val="000000"/>
                </a:solidFill>
                <a:latin typeface="Calibri"/>
              </a:rPr>
              <a:t> or the word roots </a:t>
            </a:r>
            <a:r>
              <a:rPr b="0" lang="ja-JP" sz="600" spc="-1" strike="noStrike">
                <a:solidFill>
                  <a:srgbClr val="000000"/>
                </a:solidFill>
                <a:latin typeface="Calibri"/>
              </a:rPr>
              <a:t>“</a:t>
            </a:r>
            <a:r>
              <a:rPr b="0" lang="en-US" sz="600" spc="-1" strike="noStrike">
                <a:solidFill>
                  <a:srgbClr val="000000"/>
                </a:solidFill>
                <a:latin typeface="Calibri"/>
              </a:rPr>
              <a:t>prognos*</a:t>
            </a:r>
            <a:r>
              <a:rPr b="0" lang="ja-JP" sz="600" spc="-1" strike="noStrike">
                <a:solidFill>
                  <a:srgbClr val="000000"/>
                </a:solidFill>
                <a:latin typeface="Calibri"/>
              </a:rPr>
              <a:t>”</a:t>
            </a:r>
            <a:r>
              <a:rPr b="0" lang="en-US" sz="600" spc="-1" strike="noStrike">
                <a:solidFill>
                  <a:srgbClr val="000000"/>
                </a:solidFill>
                <a:latin typeface="Calibri"/>
              </a:rPr>
              <a:t> and </a:t>
            </a:r>
            <a:r>
              <a:rPr b="0" lang="ja-JP" sz="600" spc="-1" strike="noStrike">
                <a:solidFill>
                  <a:srgbClr val="000000"/>
                </a:solidFill>
                <a:latin typeface="Calibri"/>
              </a:rPr>
              <a:t>“</a:t>
            </a:r>
            <a:r>
              <a:rPr b="0" lang="en-US" sz="600" spc="-1" strike="noStrike">
                <a:solidFill>
                  <a:srgbClr val="000000"/>
                </a:solidFill>
                <a:latin typeface="Calibri"/>
              </a:rPr>
              <a:t>predict*</a:t>
            </a:r>
            <a:r>
              <a:rPr b="0" lang="ja-JP" sz="600" spc="-1" strike="noStrike">
                <a:solidFill>
                  <a:srgbClr val="000000"/>
                </a:solidFill>
                <a:latin typeface="Calibri"/>
              </a:rPr>
              <a:t>”</a:t>
            </a:r>
            <a:r>
              <a:rPr b="0" lang="en-US" sz="600" spc="-1" strike="noStrike">
                <a:solidFill>
                  <a:srgbClr val="000000"/>
                </a:solidFill>
                <a:latin typeface="Calibri"/>
              </a:rPr>
              <a:t> to identify relevant studies. The range of terms used to describe the test and its associated condition or medical event should always be included in a search. Some bibliographic indexes have </a:t>
            </a:r>
            <a:r>
              <a:rPr b="0" lang="ja-JP" sz="600" spc="-1" strike="noStrike">
                <a:solidFill>
                  <a:srgbClr val="000000"/>
                </a:solidFill>
                <a:latin typeface="Calibri"/>
              </a:rPr>
              <a:t>“</a:t>
            </a:r>
            <a:r>
              <a:rPr b="0" lang="en-US" sz="600" spc="-1" strike="noStrike">
                <a:solidFill>
                  <a:srgbClr val="000000"/>
                </a:solidFill>
                <a:latin typeface="Calibri"/>
              </a:rPr>
              <a:t>find similar” or </a:t>
            </a:r>
            <a:r>
              <a:rPr b="0" lang="ja-JP" sz="600" spc="-1" strike="noStrike">
                <a:solidFill>
                  <a:srgbClr val="000000"/>
                </a:solidFill>
                <a:latin typeface="Calibri"/>
              </a:rPr>
              <a:t>“</a:t>
            </a:r>
            <a:r>
              <a:rPr b="0" lang="en-US" sz="600" spc="-1" strike="noStrike">
                <a:solidFill>
                  <a:srgbClr val="000000"/>
                </a:solidFill>
                <a:latin typeface="Calibri"/>
              </a:rPr>
              <a:t>related article</a:t>
            </a:r>
            <a:r>
              <a:rPr b="0" lang="ja-JP" sz="600" spc="-1" strike="noStrike">
                <a:solidFill>
                  <a:srgbClr val="000000"/>
                </a:solidFill>
                <a:latin typeface="Calibri"/>
              </a:rPr>
              <a:t>”</a:t>
            </a:r>
            <a:r>
              <a:rPr b="0" lang="en-US" sz="600" spc="-1" strike="noStrike">
                <a:solidFill>
                  <a:srgbClr val="000000"/>
                </a:solidFill>
                <a:latin typeface="Calibri"/>
              </a:rPr>
              <a:t> functions that can be helpful in finding relevant studies. Even when using these strategies, a manual search of reference lists from papers that meet the search criteria will still be necessary. The U.S. Food and Drug Administration and other regulatory agencies have records that can be useful if the test was submitted for review. Lastly, the Web site of the test producer may contain useful information for the review.</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ferences:</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600" spc="-1" strike="noStrike">
                <a:solidFill>
                  <a:srgbClr val="000000"/>
                </a:solidFill>
                <a:latin typeface="Calibri"/>
                <a:ea typeface="Arial"/>
              </a:rPr>
              <a:t>. </a:t>
            </a:r>
            <a:r>
              <a:rPr b="0" lang="en-US" sz="600" spc="-1" strike="noStrike">
                <a:solidFill>
                  <a:srgbClr val="000000"/>
                </a:solidFill>
                <a:latin typeface="Calibri"/>
              </a:rPr>
              <a:t>AHRQ Publication No. 12-EHC017. Available at www.effectivehealthcare.ahrq.gov/medtestsguide.cfm.</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ayden JA, Cote P, Bombardier C. Evaluation of the quality of prognosis studies in systematic reviews. Ann Intern Med 2006 Mar 21;144(6):427-37. PMID: 16549855.</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16549855</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gui BJ, Rogers MA. Searching for clinical prediction rules in MEDLINE. J Am Med Inform Assoc 2001 Jul-Aug;8(4):391-7. PMID: 11418546.</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1418546</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Kyzas PA, Denaxa-Kyza D, Ioannidis JP. Almost all articles on cancer prognostic markers report statistically significant results. Eur J Cancer 2007 Nov;43(17):2559-79. PMID: 17981458.</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7981458</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Kyzas PA, Loizou KT, Ioannidis JP. Selective reporting biases in cancer prognostic factor studies. J Natl Cancer Inst 2005 Jul 20;97(14):1043-55. PMID: 16030302.</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6030302</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cShane LM, Altman DG, Sauerbrei W, et al; Statistics Subcommittee of the NCI-EORTC Working Group on Cancer Diagnostics. Reporting recommendations for tumor marker prognostic studies (REMARK). J Natl Cancer Inst 2005 Aug 17;97(16):1180-4. PMID: 16106022.</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6106022</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iley RD, Abrams KR, Sutton AJ, et al. Reporting of prognostic markers: current problems and development of guidelines for evidence-based practice in the future. Br J Cancer 2003 Apr 22;88(8):1191-8. PMID: 12698183.</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2698183</a:t>
            </a:r>
            <a:endParaRPr b="0" lang="en-US" sz="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Step 2: Searching for Studies (4 of 5)</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like diagnostic tests, prognostic tests are often incorporated into multivariable regression models or algorithms. To provide support for a prognostic test, many reports in the literature only show an independent association of one particular variable with the patient outcome of interest. Finding the opposite </a:t>
            </a:r>
            <a:r>
              <a:rPr b="0" lang="en-US" sz="700" spc="-1" strike="noStrike">
                <a:solidFill>
                  <a:srgbClr val="000000"/>
                </a:solidFill>
                <a:latin typeface="Arial"/>
                <a:ea typeface="Arial"/>
              </a:rPr>
              <a:t>—</a:t>
            </a:r>
            <a:r>
              <a:rPr b="0" lang="en-US" sz="700" spc="-1" strike="noStrike">
                <a:solidFill>
                  <a:srgbClr val="000000"/>
                </a:solidFill>
                <a:latin typeface="Calibri"/>
              </a:rPr>
              <a:t> that a variable did not significantly add to a multivariable regression model </a:t>
            </a:r>
            <a:r>
              <a:rPr b="0" lang="en-US" sz="700" spc="-1" strike="noStrike">
                <a:solidFill>
                  <a:srgbClr val="000000"/>
                </a:solidFill>
                <a:latin typeface="Arial"/>
                <a:ea typeface="Arial"/>
              </a:rPr>
              <a:t>—</a:t>
            </a:r>
            <a:r>
              <a:rPr b="0" lang="en-US" sz="700" spc="-1" strike="noStrike">
                <a:solidFill>
                  <a:srgbClr val="000000"/>
                </a:solidFill>
                <a:latin typeface="Calibri"/>
              </a:rPr>
              <a:t> is difficult due to the lack of publication of negative data. As a result of the potential bias that this situation introduces, </a:t>
            </a:r>
            <a:r>
              <a:rPr b="0" i="1" lang="en-US" sz="700" spc="-1" strike="noStrike">
                <a:solidFill>
                  <a:srgbClr val="000000"/>
                </a:solidFill>
                <a:latin typeface="Calibri"/>
              </a:rPr>
              <a:t>all</a:t>
            </a:r>
            <a:r>
              <a:rPr b="1" lang="en-US" sz="700" spc="-1" strike="noStrike">
                <a:solidFill>
                  <a:srgbClr val="000000"/>
                </a:solidFill>
                <a:latin typeface="Calibri"/>
              </a:rPr>
              <a:t> </a:t>
            </a:r>
            <a:r>
              <a:rPr b="0" lang="en-US" sz="700" spc="-1" strike="noStrike">
                <a:solidFill>
                  <a:srgbClr val="000000"/>
                </a:solidFill>
                <a:latin typeface="Calibri"/>
              </a:rPr>
              <a:t>studies including the test variable should be sought out, even if a study mentions only that the outcome was not independently related to the potential test or a component of a multivariable prediction model.</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ferences:</a:t>
            </a: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700" spc="-1" strike="noStrike">
                <a:solidFill>
                  <a:srgbClr val="000000"/>
                </a:solidFill>
                <a:latin typeface="Arial"/>
                <a:ea typeface="Arial"/>
              </a:rPr>
              <a:t>. </a:t>
            </a:r>
            <a:r>
              <a:rPr b="0" lang="en-US" sz="700" spc="-1" strike="noStrike">
                <a:solidFill>
                  <a:srgbClr val="000000"/>
                </a:solidFill>
                <a:latin typeface="Calibri"/>
              </a:rPr>
              <a:t>AHRQ Publication No. 12-EHC017. Available at www.effectivehealthcare.ahrq.gov/medtestsguide.cfm.</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ltman DG. Systematic reviews of evaluations of prognostic variables. BMJ 2001 Jul 28;323(7306):224-8. PMID: 11473921.</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1473921</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ltman DG, Riley RD. Primer: an evidence-based approach to prognostic markers. Nat Clin Pract Oncol 2005 Sep;2(9):466-72. PMID: 16265015.</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6265015</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all PA, Going JJ. Predicting the future: a critical appraisal of cancer prognosis studies. Histopathology 1999 Dec;35(6):489-94. PMID: 10583572.</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0583572</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ayden JA, Cote P, Bombardier C. Evaluation of the quality of prognosis studies in systematic reviews. Ann Intern Med 2006 Mar 21;144(6):427-37. PMID: 16549855.</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16549855</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epe MS, Feng Z, Janes H, et al. Pivotal evaluation of the accuracy of a biomarker used for classification or prediction: standards for study design. J Natl Cancer Inst 2008 Oct 15;100(20):1432-8. PMID: 18840817.</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8840817</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peight PM, Palmer S, Moles DR, et al. The cost-effectiveness of screening for oral cancer in primary care. Health Technol Assess 2006 Apr;10(14):1-144, iii-iv. PMID: 16707071.</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6707071</a:t>
            </a:r>
            <a:endParaRPr b="0" lang="en-US" sz="7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tep 2: Searching for Studies (5 of 5)</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gnostic groups can be defined by predicted outcome probabilities. When the groups will be treated differently because of their predicted outcome, it is known as a </a:t>
            </a:r>
            <a:r>
              <a:rPr b="0" lang="ja-JP" sz="800" spc="-1" strike="noStrike">
                <a:solidFill>
                  <a:srgbClr val="000000"/>
                </a:solidFill>
                <a:latin typeface="Calibri"/>
              </a:rPr>
              <a:t>“</a:t>
            </a:r>
            <a:r>
              <a:rPr b="0" lang="en-US" sz="800" spc="-1" strike="noStrike">
                <a:solidFill>
                  <a:srgbClr val="000000"/>
                </a:solidFill>
                <a:latin typeface="Calibri"/>
              </a:rPr>
              <a:t>clinically meaningful” grouping. If a review is going to focus on Key Questions around prognostic groups that are defined by predicted outcome probabilities, then decision analyses, guidelines, or expert opinions should be found that help support the thresholds used to create these groups. Randomized controlled trials are the ideal way to support using the prognostic test to classify patients into prognostic groups, but this is not always sufficient to evaluate this use of a prognostic test.</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800" spc="-1" strike="noStrike">
                <a:solidFill>
                  <a:srgbClr val="000000"/>
                </a:solidFill>
                <a:latin typeface="Arial"/>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tman DG. Systematic reviews of evaluations of prognostic variables. BMJ 2001 Jul 28;323(7306):224-8. PMID: 11473921.</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1473921</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tman DG, Riley RD. Primer: an evidence-based approach to prognostic markers. Nat Clin Pract Oncol 2005 Sep;2(9):466-72. PMID: 16265015.</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6265015</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ll PA, Going JJ. Predicting the future: a critical appraisal of cancer prognosis studies. Histopathology 1999 Dec;35(6):489-94. PMID: 10583572.</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0583572</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yden JA, Cote P, Bombardier C. Evaluation of the quality of prognosis studies in systematic reviews. Ann Intern Med 2006 Mar 21;144(6):427-37. PMID: 16549855.</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16549855</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epe MS, Feng Z, Janes H, et al. Pivotal evaluation of the accuracy of a biomarker used for classification or prediction: standards for study design. J Natl Cancer Inst 2008 Oct 15;100(20):1432-8. PMID: 18840817.</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8840817</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peight PM, Palmer S, Moles DR, et al. The cost-effectiveness of screening for oral cancer in primary care. Health Technol Assess 2006 Apr;10(14):1-144, iii-iv. PMID: 16707071.</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6707071</a:t>
            </a:r>
            <a:endParaRPr b="0" lang="en-US" sz="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Step 3: Selecting Studies and Assessing Quality (1 of 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 third step in the review process involves selecting studies and assessing their quality. When selecting studies, bear in mind that previous reviews of prognostic indicators have shown variation in study design, subject inclusion criteria, methods of measuring key variables, followup time, methods of analysis (including definition of prognostic groups), adjustments for covariates, and presentation of results. Some of the difficulties presented by these factors could be overcome if the reviewers had the individual patient-level data from the study and could do their own analyses. When these data are not available, the questions listed in the following slides can help make decisions about including or excluding reports from a review.</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ferences:</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600" spc="-1" strike="noStrike">
                <a:solidFill>
                  <a:srgbClr val="000000"/>
                </a:solidFill>
                <a:latin typeface="Calibri"/>
                <a:ea typeface="Arial"/>
              </a:rPr>
              <a:t>. </a:t>
            </a:r>
            <a:r>
              <a:rPr b="0" lang="en-US" sz="600" spc="-1" strike="noStrike">
                <a:solidFill>
                  <a:srgbClr val="000000"/>
                </a:solidFill>
                <a:latin typeface="Calibri"/>
              </a:rPr>
              <a:t>AHRQ Publication No. 12-EHC017. Available at www.effectivehealthcare.ahrq.gov/medtestsguide.cfm.</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ltman DG. Systematic reviews of evaluations of prognostic variables. BMJ 2001 Jul 28;323(7306):224-8. PMID: 11473921.</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1473921</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ltman DG, Riley RD. Primer: an evidence-based approach to prognostic markers. Nat Clin Pract Oncol 2005 Sep;2(9):466-72. PMID: 16265015.</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6265015</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all PA, Going JJ. Predicting the future: a critical appraisal of cancer prognosis studies. Histopathology 1999 Dec;35(6):489-94. PMID: 10583572.</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0583572</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ayden JA, Cote P, Bombardier C. Evaluation of the quality of prognosis studies in systematic reviews. Ann Intern Med 2006 Mar 21;144(6):427-37. PMID: 16549855.</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16549855</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Pepe MS, Feng Z, Janes H, et al. Pivotal evaluation of the accuracy of a biomarker used for classification or prediction: standards for study design. J Natl Cancer Inst 2008 Oct 15;100(20):1432-8. PMID: 18840817.</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8840817</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peight PM, Palmer S, Moles DR, et al. The cost-effectiveness of screening for oral cancer in primary care. Health Technol Assess 2006 Apr;10(14):1-144, iii-iv. PMID: 16707071.</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6707071</a:t>
            </a: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Questions for Judging the Quality of Individual Studies of Prognostic Tests (1 of 3)</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se are the first four of seven questions that can help reviewers judge the quality of individual studies of prognostic tests. Reviewers will need to decide which of these questions are appropriate for their needs or if others are necessary. The first question asks whether the study in question was a primary or secondary analysis of the new test. The second question asks about the subject selection and testing scenario. The third question concerns the clarity of the methods used to select the clinical population and report the test results. It also asks about applicability of the population tested to the real world. The fourth question asks whether all of the patients had a common starting point in the study.</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ayden JA, Cote P, Bombardier C. Evaluation of the quality of prognosis studies in systematic reviews. Ann Intern Med 2006 Mar 21;144(6):427-37. PMID: 1654985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1654985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epe MS, Feng Z, Janes H, et al. Pivotal evaluation of the accuracy of a biomarker used for classification or prediction: standards for study design. J Natl Cancer Inst 2008 Oct 15;100(20):1432-8. PMID: 1884081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884081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peight PM, Palmer S, Moles DR, et al. The cost-effectiveness of screening for oral cancer in primary care. Health Technol Assess 2006 Apr;10(14):1-144, iii-iv. PMID: 16707071.</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707071</a:t>
            </a:r>
            <a:endParaRPr b="0" lang="en-US" sz="9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Questions for Judging the Quality of Individual Studies of Prognostic Tests (2 of 3)</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fifth of the seven questions has four subparts. The overall question asks whether the tests used were clearly described and whether the methods were standardized, reliable, and valid. Subpart A asks about uniformity of testing across all sites or all studies being reported. Subpart B asks whether the results were obtained without knowledge of the outcome. Subpart C asks if the investigators were blinded, and subpart D asks if previous prognostic tests were included and how.</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ixth of the seven questions also has subparts. The main question is similar to the fifth question but it concerns the description and validity of the predicted outcome rather than the test itself. Subpart A asks how complete was the followup of subjects and if the losses were related to either the test results or the predicted outcome. Subpart B asks if the duration of the followup period was long enough.</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900" spc="-1" strike="noStrike">
                <a:solidFill>
                  <a:srgbClr val="000000"/>
                </a:solidFill>
                <a:latin typeface="Arial"/>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ayden JA, Cote P, Bombardier C. Evaluation of the quality of prognosis studies in systematic reviews. Ann Intern Med 2006 Mar 21;144(6):427-37. PMID: 16549855.</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16549855</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epe MS, Feng Z, Janes H, et al. Pivotal evaluation of the accuracy of a biomarker used for classification or prediction: standards for study design. J Natl Cancer Inst 2008 Oct 15;100(20):1432-8. PMID: 18840817.</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8840817</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peight PM, Palmer S, Moles DR, et al. The cost-effectiveness of screening for oral cancer in primary care. Health Technol Assess 2006 Apr;10(14):1-144, iii-iv. PMID: 16707071.</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707071</a:t>
            </a:r>
            <a:endParaRPr b="0" lang="en-US" sz="9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Questions for Judging the Quality of Individual Studies of Prognostic Tests (3 of 3)</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venth question also has four subparts. The main question is whether the data generated in the study were used to develop the prognostic test itself. Subpart A asks if the prognostic groups were predefined on the basis of clinically meaningful decision thresholds. Subpart B asks if the results were externally or internally validated. Subpart C asks if any previously established prognostic tests being used were treated in the same way as the test being studied. Finally, subpart D asks which (if any) other factors were used to adjust outcome predictions, and if so, how.</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ayden JA, Cote P, Bombardier C. Evaluation of the quality of prognosis studies in systematic reviews. Ann Intern Med 2006 Mar 21;144(6):427-37. PMID: 1654985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1654985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epe MS, Feng Z, Janes H, et al. Pivotal evaluation of the accuracy of a biomarker used for classification or prediction: standards for study design. J Natl Cancer Inst 2008 Oct 15;100(20):1432-8. PMID: 1884081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884081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peight PM, Palmer S, Moles DR, et al. The cost-effectiveness of screening for oral cancer in primary care. Health Technol Assess 2006 Apr;10(14):1-144, iii-iv. PMID: 16707071.</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707071</a:t>
            </a:r>
            <a:endParaRPr b="0" lang="en-US" sz="9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ep 3: Selecting Studies and Assessing Quality (2 of 4)</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assessing the quality of studies, the following should be kept in mind. Reviewers should always explicitly state the inclusion and exclusion criteria they are using. When prognostic tests are being compared, the data should come from the same cohort of subjects to minimize confounding. When tests are being compared in the same study, they should be conducted at the same time to make sure there is a common starting point for all of the patients with respect to the predicted outcome. Reviewers should note the starting point of each study reviewed. Validated methods for using criteria to score the quality of studies of prognostic tests are still neede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anes H, Pepe MS. Adjusting for covariates in studies of diagnostic, screening, or prognostic markers: an old concept in a new setting. Am J Epidemiol 2008 Jul 1;168(1):89-97. PMID: 18477651.</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8477651</a:t>
            </a:r>
            <a:endParaRPr b="0" lang="en-US" sz="11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tep 3: Selecting Studies and Assessing Their Quality (3 of 4)</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avoid ascertainment bias in the review, determining the test results and their interpretation should happen without knowledge of the outcome. Additionally, investigators should be blinded to the test results to prevent selective changes in treatment that might affect the predicted outcome. It</a:t>
            </a:r>
            <a:r>
              <a:rPr b="0" lang="ja-JP" sz="900" spc="-1" strike="noStrike">
                <a:solidFill>
                  <a:srgbClr val="000000"/>
                </a:solidFill>
                <a:latin typeface="Calibri"/>
              </a:rPr>
              <a:t>’</a:t>
            </a:r>
            <a:r>
              <a:rPr b="0" lang="en-US" sz="900" spc="-1" strike="noStrike">
                <a:solidFill>
                  <a:srgbClr val="000000"/>
                </a:solidFill>
                <a:latin typeface="Calibri"/>
              </a:rPr>
              <a:t>s also important to be aware of any previously established prognostic indicators that should be included in a comparison of prognostic tests. Also pay attention to which of these indicators a new test is compared. Any adjustments for covariates that could make studies more or less comparable also need to be note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900" spc="-1" strike="noStrike">
                <a:solidFill>
                  <a:srgbClr val="000000"/>
                </a:solidFill>
                <a:latin typeface="Arial"/>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eng Z, Prentice R, Srivastava S. Research issues and strategies for genomic and proteomic biomarker discovery and validation: a statistical perspective. Pharmacogenomics 2004 Sep;5(6):709-19. PMID: 15335291.</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5335291</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epe MS, Janes H, Longton G, et al. Limitations of the odds ratio in gauging the performance of a diagnostic, prognostic, or screening marker. Am J Epidemiol 2004 May 1;159(9):882-90. PMID: 15105181.</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5105181</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iesterer O, Milas L, Ang KK. Use of molecular biomarkers for predicting the response to radiotherapy with or without chemotherapy. J Clin Oncol 2007 Sep 10;25(26):4075-83. PMID: 17827456.</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7827456</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are JH. The limitations of risk factors as prognostic tools. N Engl J Med 2006 Dec 21;355(25):2615-7. PMID: 17182986.</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7182986</a:t>
            </a:r>
            <a:endParaRPr b="0" lang="en-US" sz="9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tep 3: Selecting Studies and Assessing Their Quality (4 of 4)</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re is one last situation to consider when assessing study quality. When a new test is fitted to the data by using the data itself to define the cutoff levels or to model the relationships to the outcome, two things may happen. The first is that the estimated predictive performance of the test can be overly optimistic </a:t>
            </a:r>
            <a:r>
              <a:rPr b="0" lang="en-US" sz="900" spc="-1" strike="noStrike">
                <a:solidFill>
                  <a:srgbClr val="000000"/>
                </a:solidFill>
                <a:latin typeface="Calibri"/>
                <a:ea typeface="Arial"/>
              </a:rPr>
              <a:t>—</a:t>
            </a:r>
            <a:r>
              <a:rPr b="0" lang="en-US" sz="900" spc="-1" strike="noStrike">
                <a:solidFill>
                  <a:srgbClr val="000000"/>
                </a:solidFill>
                <a:latin typeface="Calibri"/>
              </a:rPr>
              <a:t> it looks like the test is working better than it actually is. Second, this type of fitting might bias a comparison with an established test that was not fitted to the same samp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eng Z, Prentice R, Srivastava S. Research issues and strategies for genomic and proteomic biomarker discovery and validation: a statistical perspective. Pharmacogenomics 2004 Sep;5(6):709-19. PMID: 15335291.</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5335291</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epe MS, Janes H, Longton G, et al. Limitations of the odds ratio in gauging the performance of a diagnostic, prognostic, or screening marker. Am J Epidemiol 2004 May 1;159(9):882-90. PMID: 15105181.</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5105181</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iesterer O, Milas L, Ang KK. Use of molecular biomarkers for predicting the response to radiotherapy with or without chemotherapy. J Clin Oncol 2007 Sep 10;25(26):4075-83. PMID: 17827456.</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are JH. The limitations of risk factors as prognostic tools. N Engl J Med 2006 Dec 21;355(25):2615-7. PMID: 17182986.</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7182986</a:t>
            </a:r>
            <a:endParaRPr b="0" lang="en-US" sz="9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conclusion of this activity, successful learners will be able to develop the topic and structure the systematic review of a prognostic test, recognize the similarities and differences in the evaluation of diagnostic and prognostic tests, recognize the time-dependent characteristics of prognostic tests, and perform appropriate statistical analyses based on the outcome probabilities of these t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tep 4: Extracting Statistics To Evaluate Test Performance (1 of 12)</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ep 4 in systematically reviewing prognostic tests entails extracting statistics to evaluate test performance. The summary statistics that are reported in each article that have passed the selection criteria need to be appropriate for the Key Questions the review is trying to address. For example, investigators commonly report estimated hazard ratios (HRs) from Cox regression analyses or odds ratios (ORs) from logistic regression analyses to test for associations between a prognostic test and the patient outcome. These measures address only the early phases in the development of a prognostic test, such as proof of concept, validation of a predictive relationship to an outcome, and to a very limited extent the potential to provide an incremental predictive value. Even when they are statistically significant, these numbers often do not discriminate well between who did and who did not experience an outcome because the test result distributions in the two outcome groups often overlap substantially. Statistically significant associations such as HRs, relative risk, or ORs ratios indicate only that it is worthwhile to further evaluate the new test. If these ratios are of interest to the review, then there are well-established methods for summarizing these estimates. However, the questions a systematic review could answer about the use of a prognostic test by summarizing its association with an outcome are limited because of the above concerns and are not likely to impact clinical practice. The estimates of absolute risk in different groups are more releva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800" spc="-1" strike="noStrike">
                <a:solidFill>
                  <a:srgbClr val="000000"/>
                </a:solidFill>
                <a:latin typeface="Arial"/>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eng Z, Prentice R, Srivastava S. Research issues and strategies for genomic and proteomic biomarker discovery and validation: a statistical perspective. Pharmacogenomics 2004 Sep;5(6):709-19. PMID: 1533529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533529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epe MS, Janes H, Longton G, et al. Limitations of the odds ratio in gauging the performance of a diagnostic, prognostic, or screening marker. Am J Epidemiol 2004 May 1;159(9):882-90. PMID: 1510518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510518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iesterer O, Milas L, Ang KK. Use of molecular biomarkers for predicting the response to radiotherapy with or without chemotherapy. J Clin Oncol 2007 Sep 10;25(26):4075-83. PMID: 17827456.</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are JH. The limitations of risk factors as prognostic tools. N Engl J Med 2006 Dec 21;355(25):2615-7. PMID: 17182986.</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7182986</a:t>
            </a:r>
            <a:endParaRPr b="0" lang="en-US" sz="8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Step 4: Extracting Statistics To Evaluate Test Performance (2 of 12)</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Discrimination statistics are one of the types of statistics that can be used to evaluate prognostic tests. The predictive performance of prognostic tests is often reported like diagnostic tests by using estimates of sensitivity, specificity, and the area under the receiver operating characteristic curve. For prognostic tests, these measurements are done at one particular followup time. These indices of discrimination can be calculated retrospectively and can be compared when a new prognostic indicator is added to a predictive model or when the prognostic test under evaluation is compared to predictions made by other methods. The drawbacks of these retrospective indices is that they do not summarize the predicted outcome probabilities nor do they directly address questions about the predictions made by a new prognostic test or the test</a:t>
            </a:r>
            <a:r>
              <a:rPr b="0" lang="ja-JP" sz="500" spc="-1" strike="noStrike">
                <a:solidFill>
                  <a:srgbClr val="000000"/>
                </a:solidFill>
                <a:latin typeface="Calibri"/>
              </a:rPr>
              <a:t>’</a:t>
            </a:r>
            <a:r>
              <a:rPr b="0" lang="en-US" sz="500" spc="-1" strike="noStrike">
                <a:solidFill>
                  <a:srgbClr val="000000"/>
                </a:solidFill>
                <a:latin typeface="Calibri"/>
              </a:rPr>
              <a:t>s impact on patient outcomes. More information on these limitations is available in Poses et al. (1986), Cook (2007), Pepe et al. (2008), and Pepe and Janes (2008).</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References:</a:t>
            </a: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500" spc="-1" strike="noStrike">
                <a:solidFill>
                  <a:srgbClr val="000000"/>
                </a:solidFill>
                <a:latin typeface="Calibri"/>
                <a:ea typeface="Arial"/>
              </a:rPr>
              <a:t>. </a:t>
            </a:r>
            <a:r>
              <a:rPr b="0" lang="en-US" sz="500" spc="-1" strike="noStrike">
                <a:solidFill>
                  <a:srgbClr val="000000"/>
                </a:solidFill>
                <a:latin typeface="Calibri"/>
              </a:rPr>
              <a:t>AHRQ Publication No. 12-EHC017. Available at www.effectivehealthcare.ahrq.gov/medtestsguide.cfm.</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ook NR. Use and misuse of the receiver operating characteristic curve in risk prediction. Circulation 2007 Feb 20;115(7):928-35. PMID: 17309939.</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ttp://www.ncbi.nlm.nih.gov/pubmed?term=17309939</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Fibrinogen Studies Collaboration. Measures to assess the prognostic ability of the stratified Cox proportional hazards model. Stat Med 2009 Feb 1;28(3):389-411. PMID: 18833567.</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ttp://www.ncbi.nlm.nih.gov/pubmed?term=18833567</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Groenveld HF, Januzzi JL, Damman K, et al. Anemia and mortality in heart failure patients a systematic review and meta-analysis. J Am Coll Cardiol 2008 Sep 2;52(10):818-27. PMID: 18755344.</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ttp://www.ncbi.nlm.nih.gov/pubmed?term=18755344</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Ingelsson E, Schaefer EJ, Contois JH, et al. Clinical utility of different lipid measures for prediction of coronary heart disease in men and women. JAMA 2007 Aug 15;298(7):776-85. PMID: 17699011.</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ttp://www.ncbi.nlm.nih.gov/pubmed?term=17699011</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Mackillop WJ, Quirt CF. Measuring the accuracy of prognostic judgments in oncology. J Clin Epidemiol 1997 Jan;50(1):21-9. PMID: 9048687.</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ttp://www.ncbi.nlm.nih.gov/pubmed?term=9048687</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encina MJ, D'Agostino RB. Overall C as a measure of discrimination in survival analysis: model specific population value and confidence interval estimation. Stat Med 2004 Jul 15;23(13):2109-23. PMID: 15211606.</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ttp://www.ncbi.nlm.nih.gov/pubmed?term=15211606</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epe MS. Section 9.2: Incorporating the time dimension. In: The statistical evaluation of medical tests for classification and prediction. New York, NY: Oxford University Press USA; 2004. p. 259-67.</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epe MS, Janes HE. Gauging the performance of SNPs, biomarkers, and clinical factors for predicting risk of breast cancer. J Natl Cancer Inst 2008 Jul 16;100(14):978-9. PMID: 18612128.</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ttp://www.ncbi.nlm.nih.gov/pubmed?term=18612128</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epe MS, Zheng Y, Jin Y, et al. Evaluating the ROC performance of markers for future events. Lifetime Data Anal 2008 Mar;14(1):86-113. PMID: 18064569.</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ttp://www.ncbi.nlm.nih.gov/pubmed?term=18064569</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oses RM, Cebul RD, Collins M, et al. The importance of disease prevalence in transporting clinical prediction rules. The case of streptococcal pharyngitis. Ann Intern Med 1986 Oct;105(4):586-91. PMID: 3530079.</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ttp://www.ncbi.nlm.nih.gov/pubmed?term=3530079</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Sinuff T, Adhikari NK, Cook DJ, et al. Mortality predictions in the intensive care unit: comparing physicians with scoring systems. Crit Care Med 2006 Mar;34(3):878-85. PMID: 16505667.</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ttp://www.ncbi.nlm.nih.gov/pubmed?term=16505667</a:t>
            </a:r>
            <a:endParaRPr b="0" lang="en-US" sz="5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Extracting Statistics To Evaluate Test Performance (3 of 12)</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classification tables are better suited for assessing the clinical impact of prognostic test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Discrimination statistics are more familiar and more often reported than reclassification tables. If reviewers choose to use discrimination statistics over reclassification tables, they must be aware that these statistics change over time as more patients develop the outcome being predicted. Time-dependent measures of sensitivity, specificity, and the area under the receiver operating characteristic curve, such as Harrell</a:t>
            </a:r>
            <a:r>
              <a:rPr b="0" lang="ja-JP" sz="600" spc="-1" strike="noStrike">
                <a:solidFill>
                  <a:srgbClr val="000000"/>
                </a:solidFill>
                <a:latin typeface="Calibri"/>
              </a:rPr>
              <a:t>’</a:t>
            </a:r>
            <a:r>
              <a:rPr b="0" lang="en-US" sz="600" spc="-1" strike="noStrike">
                <a:solidFill>
                  <a:srgbClr val="000000"/>
                </a:solidFill>
                <a:latin typeface="Calibri"/>
              </a:rPr>
              <a:t>s C-statistic, have been developed; however, no reviews were found that used the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ferences:</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600" spc="-1" strike="noStrike">
                <a:solidFill>
                  <a:srgbClr val="000000"/>
                </a:solidFill>
                <a:latin typeface="Calibri"/>
                <a:ea typeface="Arial"/>
              </a:rPr>
              <a:t>. </a:t>
            </a:r>
            <a:r>
              <a:rPr b="0" lang="en-US" sz="600" spc="-1" strike="noStrike">
                <a:solidFill>
                  <a:srgbClr val="000000"/>
                </a:solidFill>
                <a:latin typeface="Calibri"/>
              </a:rPr>
              <a:t>AHRQ Publication No. 12-EHC017. Available at www.effectivehealthcare.ahrq.gov/medtestsguide.cf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ok NR. Statistical evaluation of prognostic versus diagnostic models: beyond the ROC curve. Clin Chem 2008 Jan;54(1):17-23. PMID:18024533.</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8024533</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ok NR, Ridker PM. Advances in measuring the effect of individual predictors of cardiovascular risk: the role of reclassification measures. Ann Intern Med 2009 Jun 2;150(11):795-802. PMID: 19487714.</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9487714</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Fowkes FG, Murray GD, Butcher I, et al. Ankle brachial index combined with Framingham Risk Score to predict cardiovascular events and mortality: a meta-analysis. JAMA 2008 Jul 9;300(2):197-208. PMID: 1861211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861211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Grundy SM, Cleeman JI, Merz CN, et al; National Heart, Lung, and Blood Institute; American College of Cardiology Foundation; American Heart Association. Implications of recent clinical trials for the National Cholesterol Education Program Adult Treatment Panel III guidelines. Circulation 2004 Jul 13;110(2):227-39. PMID: 15249516.</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5249516</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Janes H, Pepe MS, Gu W. Assessing the value of risk predictions by using risk stratification tables. Ann Intern Med 2008 Nov 18;149(10):751-60. PMID: 19017593.</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9017593</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eigs JB, Shrader P, Sullivan LM, et al. Genotype score in addition to common risk factors for prediction of type 2 diabetes. N Engl J Med 2008 Nov 20;359(21):2208-19. PMID: 19020323.</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9020323</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idker PM, Buring JE, Rifai N, et al. Development and validation of improved algorithms for the assessment of global cardiovascular risk in women: the Reynolds Risk Score. JAMA 2007 Feb 14;297(6):611-9. PMID: 17299196.</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7299196</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idker PM, Paynter NP, Rifai N, et al. C-reactive protein and parental history improve global cardiovascular risk prediction: the Reynolds Risk Score for men. Circulation 2008 Nov 25;118(22):2243-51, 4p following 2251. PMID: 18997194.</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8997194</a:t>
            </a:r>
            <a:endParaRPr b="0" lang="en-US" sz="6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ep 4: Extracting Statistics To Evaluate Test Performance (4 of 12)</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xt group of statistics used to evaluate prognostic test performance are reclassification tables. The clinical usefulness of a prognostic test depends mostly on its ability to put patients into different prognostic groups and give accurate predictions about their future health. As an example, patients are placed into prognostic groups for the estimated 10-year risk of developing </a:t>
            </a:r>
            <a:r>
              <a:rPr b="0" lang="en-US" sz="1200" spc="-1" strike="noStrike">
                <a:solidFill>
                  <a:srgbClr val="000000"/>
                </a:solidFill>
                <a:latin typeface="Calibri"/>
              </a:rPr>
              <a:t>cardiovascular</a:t>
            </a:r>
            <a:r>
              <a:rPr b="0" lang="en-US" sz="1100" spc="-1" strike="noStrike">
                <a:solidFill>
                  <a:srgbClr val="000000"/>
                </a:solidFill>
                <a:latin typeface="Calibri"/>
              </a:rPr>
              <a:t> disease risk based on the Framingham cardiovascular risk score. Currently, reclassification tables are being analyzed to determine how adding a prognostic test reclassifies patients into prognostic groups. Ideally, the outcome probabilities that are used to classify patients into prognostic groups should be ones that would lead to different courses of action. If they are not, then the reclassifications that result could be clinically meaningless by not making a difference in patient car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100" spc="-1" strike="noStrike">
                <a:solidFill>
                  <a:srgbClr val="000000"/>
                </a:solidFill>
                <a:latin typeface="Arial"/>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 4 : Extracting Statistics To Evaluate Test Performance (5 of 12)</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hypothetical reclassification table, patients are grouped by a mortality prediction model into two groups with an arbitrary cutoff of 0.10. The rows on the left show the how the patients were divided into the two prognostic groups (0 to 0.10 is </a:t>
            </a:r>
            <a:r>
              <a:rPr b="0" lang="ja-JP" sz="1200" spc="-1" strike="noStrike">
                <a:solidFill>
                  <a:srgbClr val="000000"/>
                </a:solidFill>
                <a:latin typeface="Calibri"/>
              </a:rPr>
              <a:t>“</a:t>
            </a:r>
            <a:r>
              <a:rPr b="0" lang="en-US" sz="1200" spc="-1" strike="noStrike">
                <a:solidFill>
                  <a:srgbClr val="000000"/>
                </a:solidFill>
                <a:latin typeface="Calibri"/>
              </a:rPr>
              <a:t>low risk” and &gt;0.10 is “high risk”) based on the original test. The columns show how the patients were placed into groups after adding the new prognostic tes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cross the </a:t>
            </a:r>
            <a:r>
              <a:rPr b="0" lang="ja-JP" sz="1200" spc="-1" strike="noStrike">
                <a:solidFill>
                  <a:srgbClr val="000000"/>
                </a:solidFill>
                <a:latin typeface="Calibri"/>
              </a:rPr>
              <a:t>“</a:t>
            </a:r>
            <a:r>
              <a:rPr b="0" lang="en-US" sz="1200" spc="-1" strike="noStrike">
                <a:solidFill>
                  <a:srgbClr val="000000"/>
                </a:solidFill>
                <a:latin typeface="Calibri"/>
              </a:rPr>
              <a:t>Patients in prognostic group</a:t>
            </a:r>
            <a:r>
              <a:rPr b="0" lang="ja-JP" sz="1200" spc="-1" strike="noStrike">
                <a:solidFill>
                  <a:srgbClr val="000000"/>
                </a:solidFill>
                <a:latin typeface="Calibri"/>
              </a:rPr>
              <a:t>”</a:t>
            </a:r>
            <a:r>
              <a:rPr b="0" lang="en-US" sz="1200" spc="-1" strike="noStrike">
                <a:solidFill>
                  <a:srgbClr val="000000"/>
                </a:solidFill>
                <a:latin typeface="Calibri"/>
              </a:rPr>
              <a:t> row of the original low-risk group, you can see that there were originally 1,000 people placed in this group (in the Total column). Using the new test, 100 of these people (10%) were moved into the high-risk group (in the &gt;0.10 column). Looking across the </a:t>
            </a:r>
            <a:r>
              <a:rPr b="0" lang="ja-JP" sz="1200" spc="-1" strike="noStrike">
                <a:solidFill>
                  <a:srgbClr val="000000"/>
                </a:solidFill>
                <a:latin typeface="Calibri"/>
              </a:rPr>
              <a:t>“</a:t>
            </a:r>
            <a:r>
              <a:rPr b="0" lang="en-US" sz="1200" spc="-1" strike="noStrike">
                <a:solidFill>
                  <a:srgbClr val="000000"/>
                </a:solidFill>
                <a:latin typeface="Calibri"/>
              </a:rPr>
              <a:t>Patients in prognostic group</a:t>
            </a:r>
            <a:r>
              <a:rPr b="0" lang="ja-JP" sz="1200" spc="-1" strike="noStrike">
                <a:solidFill>
                  <a:srgbClr val="000000"/>
                </a:solidFill>
                <a:latin typeface="Calibri"/>
              </a:rPr>
              <a:t>”</a:t>
            </a:r>
            <a:r>
              <a:rPr b="0" lang="en-US" sz="1200" spc="-1" strike="noStrike">
                <a:solidFill>
                  <a:srgbClr val="000000"/>
                </a:solidFill>
                <a:latin typeface="Calibri"/>
              </a:rPr>
              <a:t> row of the original high risk group, 100 (25% in the 0 to 0.10 column) of the original 400 people (Total column) were reclassified into the low-risk group.</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ep 4: Extracting Statistics To Evaluate Test Performance (6 of 12)</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lassification tables typically provide information about the observed outcome probabilities in each group (usually shown as percentages) and predicted probabilities. The drawbacks of using reclassification tables are that this information is usually limited to one followup time, and the precision of these estimates may not be reported. A chi-square test can be used to analyze the differences between the estimated probabilities and the observed outcomes for each prognostic group, but the results will not tell you if the differences get better when a new test is adde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differences between predicted and observed values for each test may be small. For example, the predicted mortality of a group at low risk using two different tests is 4.3 percent, while the observed mortality is 4.5 percent. This small difference is expected when the prognostic groups have a narrow range of individual predicted probabilities, and the prediction models are fit to the data but not applied to a new sampl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100" spc="-1" strike="noStrike">
                <a:solidFill>
                  <a:srgbClr val="000000"/>
                </a:solidFill>
                <a:latin typeface="Arial"/>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ep 4: Extracting Statistics To Evaluate Test Performance (7 of 12)</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articles report a net reclassification improvement, or NRI, statistic. This is a summary statistic of separate reclassification tables: one for patients who did experience the outcome during a particular time period (such as those who died) and another for those who did not (in this case, those who survived). For the group who did experience the outcome, net improvement equals the proportion of patients who were reclassified into a higher probability group by a prognostic test minus the proportion who were reclassified into a lower probability group. In a 2-by-2 reclassification table of only the people who experienced the outcome, this net difference is the estimated change in sensitivit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encina MJ, D'Agostino RB Sr, D'Agostino RB Jr, et al. Evaluating the added predictive ability of a new marker: from area under the ROC curve to reclassification and beyond. Stat Med 2008 Jan 30;27(2):157-72, discussion 207-12. PMID: 17569110.</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7569110</a:t>
            </a:r>
            <a:endParaRPr b="0" lang="en-US" sz="11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 4: Extracting Statistics To Evaluate Test Performance (8 of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urvivors who do not experience the outcome, the net reclassification improvement (NRI) statistic equals the proportion of patients who were reclassified into a lower probability group minus the proportion reclassified into a higher probability group. In a 2x2 reclassification table for those who did not experience the outcome, this is the estimated change in specificity. The NRI is the sum of the net improvement in classification of patients in both groups (the net improvement of those that died plus the net improvement of those that survived). If the mean changes in probabilities for each group are used instead of the net improvement, it is called the integrated discrimination index, or ID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 4: Extracting Statistics To Evaluate Test Performance (9 of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to calculate the net reclassification improvement (NRI) is called the </a:t>
            </a:r>
            <a:r>
              <a:rPr b="0" lang="ja-JP" sz="1200" spc="-1" strike="noStrike">
                <a:solidFill>
                  <a:srgbClr val="000000"/>
                </a:solidFill>
                <a:latin typeface="Calibri"/>
              </a:rPr>
              <a:t>“</a:t>
            </a:r>
            <a:r>
              <a:rPr b="0" lang="en-US" sz="1200" spc="-1" strike="noStrike">
                <a:solidFill>
                  <a:srgbClr val="000000"/>
                </a:solidFill>
                <a:latin typeface="Calibri"/>
              </a:rPr>
              <a:t>continuous formulation.</a:t>
            </a:r>
            <a:r>
              <a:rPr b="0" lang="ja-JP" sz="1200" spc="-1" strike="noStrike">
                <a:solidFill>
                  <a:srgbClr val="000000"/>
                </a:solidFill>
                <a:latin typeface="Calibri"/>
              </a:rPr>
              <a:t>”</a:t>
            </a:r>
            <a:r>
              <a:rPr b="0" lang="en-US" sz="1200" spc="-1" strike="noStrike">
                <a:solidFill>
                  <a:srgbClr val="000000"/>
                </a:solidFill>
                <a:latin typeface="Calibri"/>
              </a:rPr>
              <a:t> This version calculates three different probabilities of the outcome event occurring: in the group of people whose probability has increased after a new test is used, in the group whose probability has decreased, and in the overall sample. These three probabilities can be estimated from time-to-event analyses, but they would still represent only a single point of followup. This method does not require clinically meaningful prognostic categories, since not all increases or decreases in predicted probabilities prompt a change in patient management. Instead, this method focuses on subjects that have a higher or lower predicted probability when a new prognostic test is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 4: Extracting Statistics To Evaluate Test Performance (10 of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pool net reclassification improvement (NRI) or integrated discrimination index (IDI) estimates from different studies for a review, there are four things that should be evaluated to make sure they are not substantially different among the studies first. These are the characteristics of the prognostic groups, the definition of the outcome event, the overall probability of the event, and the followup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s Involved in Conducting a Systematic Review of a Prognostic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five steps involved in conducting a prognostic test review. Generally speaking, the steps for reviewing evidence for prognostic tests are similar to those used in the review of a diagnostic test and discussed in other chapters in the </a:t>
            </a:r>
            <a:r>
              <a:rPr b="0" i="1" lang="en-US" sz="1200" spc="-1" strike="noStrike">
                <a:solidFill>
                  <a:srgbClr val="000000"/>
                </a:solidFill>
                <a:latin typeface="Calibri"/>
              </a:rPr>
              <a:t>Medical Guide for Medical Test Reviews. </a:t>
            </a:r>
            <a:r>
              <a:rPr b="0" lang="en-US" sz="1200" spc="-1" strike="noStrike">
                <a:solidFill>
                  <a:srgbClr val="000000"/>
                </a:solidFill>
                <a:latin typeface="Calibri"/>
              </a:rPr>
              <a:t>These steps include: (1) developing the topic and focusing the review on the most important Key Questions by using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and an analytic framework, (2) conducting a thorough literature search, (3) selecting and assessing the quality of reported studies, (4) extracting and summarizing various types of statistics from clinical trials and observational studies, and (5) conducting a meta-analysis of study results. However, the important differences between diagnostic and prognostic tests highlighted here should be considered when planning and conducting a re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 4: Extracting Statistics To Evaluate Test Performance (11 of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type of statistics discussed here that are used to evaluate prognostic tests are predictive values. Treatment decisions that are based on outcome probabilities tend to only have two directions, such as </a:t>
            </a:r>
            <a:r>
              <a:rPr b="0" lang="ja-JP" sz="1200" spc="-1" strike="noStrike">
                <a:solidFill>
                  <a:srgbClr val="000000"/>
                </a:solidFill>
                <a:latin typeface="Calibri"/>
              </a:rPr>
              <a:t>“</a:t>
            </a:r>
            <a:r>
              <a:rPr b="0" lang="en-US" sz="1200" spc="-1" strike="noStrike">
                <a:solidFill>
                  <a:srgbClr val="000000"/>
                </a:solidFill>
                <a:latin typeface="Calibri"/>
              </a:rPr>
              <a:t>treat those at high risk</a:t>
            </a:r>
            <a:r>
              <a:rPr b="0" lang="ja-JP" sz="1200" spc="-1" strike="noStrike">
                <a:solidFill>
                  <a:srgbClr val="000000"/>
                </a:solidFill>
                <a:latin typeface="Calibri"/>
              </a:rPr>
              <a:t>”</a:t>
            </a:r>
            <a:r>
              <a:rPr b="0" lang="en-US" sz="1200" spc="-1" strike="noStrike">
                <a:solidFill>
                  <a:srgbClr val="000000"/>
                </a:solidFill>
                <a:latin typeface="Calibri"/>
              </a:rPr>
              <a:t> and </a:t>
            </a:r>
            <a:r>
              <a:rPr b="0" lang="ja-JP" sz="1200" spc="-1" strike="noStrike">
                <a:solidFill>
                  <a:srgbClr val="000000"/>
                </a:solidFill>
                <a:latin typeface="Calibri"/>
              </a:rPr>
              <a:t>“</a:t>
            </a:r>
            <a:r>
              <a:rPr b="0" lang="en-US" sz="1200" spc="-1" strike="noStrike">
                <a:solidFill>
                  <a:srgbClr val="000000"/>
                </a:solidFill>
                <a:latin typeface="Calibri"/>
              </a:rPr>
              <a:t>do not treat those at low risk.</a:t>
            </a:r>
            <a:r>
              <a:rPr b="0" lang="ja-JP" sz="1200" spc="-1" strike="noStrike">
                <a:solidFill>
                  <a:srgbClr val="000000"/>
                </a:solidFill>
                <a:latin typeface="Calibri"/>
              </a:rPr>
              <a:t>”</a:t>
            </a:r>
            <a:r>
              <a:rPr b="0" lang="en-US" sz="1200" spc="-1" strike="noStrike">
                <a:solidFill>
                  <a:srgbClr val="000000"/>
                </a:solidFill>
                <a:latin typeface="Calibri"/>
              </a:rPr>
              <a:t> If a patient would be treated because a test found them to be at </a:t>
            </a:r>
            <a:r>
              <a:rPr b="0" lang="ja-JP" sz="1200" spc="-1" strike="noStrike">
                <a:solidFill>
                  <a:srgbClr val="000000"/>
                </a:solidFill>
                <a:latin typeface="Calibri"/>
              </a:rPr>
              <a:t>“</a:t>
            </a:r>
            <a:r>
              <a:rPr b="0" lang="en-US" sz="1200" spc="-1" strike="noStrike">
                <a:solidFill>
                  <a:srgbClr val="000000"/>
                </a:solidFill>
                <a:latin typeface="Calibri"/>
              </a:rPr>
              <a:t>high risk,</a:t>
            </a:r>
            <a:r>
              <a:rPr b="0" lang="ja-JP" sz="1200" spc="-1" strike="noStrike">
                <a:solidFill>
                  <a:srgbClr val="000000"/>
                </a:solidFill>
                <a:latin typeface="Calibri"/>
              </a:rPr>
              <a:t>”</a:t>
            </a:r>
            <a:r>
              <a:rPr b="0" lang="en-US" sz="1200" spc="-1" strike="noStrike">
                <a:solidFill>
                  <a:srgbClr val="000000"/>
                </a:solidFill>
                <a:latin typeface="Calibri"/>
              </a:rPr>
              <a:t> then the observed percentages of patients developing the outcome without treatment in a certain period of time are essentially positive predictive values. Another way of saying this is the proportion of people with a “positive” prognostic test result who end up having the event. If someone in the </a:t>
            </a:r>
            <a:r>
              <a:rPr b="0" lang="ja-JP" sz="1200" spc="-1" strike="noStrike">
                <a:solidFill>
                  <a:srgbClr val="000000"/>
                </a:solidFill>
                <a:latin typeface="Calibri"/>
              </a:rPr>
              <a:t>“</a:t>
            </a:r>
            <a:r>
              <a:rPr b="0" lang="en-US" sz="1200" spc="-1" strike="noStrike">
                <a:solidFill>
                  <a:srgbClr val="000000"/>
                </a:solidFill>
                <a:latin typeface="Calibri"/>
              </a:rPr>
              <a:t>low-risk</a:t>
            </a:r>
            <a:r>
              <a:rPr b="0" lang="ja-JP" sz="1200" spc="-1" strike="noStrike">
                <a:solidFill>
                  <a:srgbClr val="000000"/>
                </a:solidFill>
                <a:latin typeface="Calibri"/>
              </a:rPr>
              <a:t>”</a:t>
            </a:r>
            <a:r>
              <a:rPr b="0" lang="en-US" sz="1200" spc="-1" strike="noStrike">
                <a:solidFill>
                  <a:srgbClr val="000000"/>
                </a:solidFill>
                <a:latin typeface="Calibri"/>
              </a:rPr>
              <a:t> group would not be treated, then: 1 </a:t>
            </a:r>
            <a:r>
              <a:rPr b="0" lang="en-US" sz="1200" spc="-1" strike="noStrike">
                <a:solidFill>
                  <a:srgbClr val="000000"/>
                </a:solidFill>
                <a:latin typeface="Calibri"/>
                <a:ea typeface="Arial"/>
              </a:rPr>
              <a:t>– </a:t>
            </a:r>
            <a:r>
              <a:rPr b="0" lang="en-US" sz="1200" spc="-1" strike="noStrike">
                <a:solidFill>
                  <a:srgbClr val="000000"/>
                </a:solidFill>
                <a:latin typeface="Calibri"/>
              </a:rPr>
              <a:t>observed outcome probabilities (in the same time frame) = negative predictive values (the proportion of people who have a “negative” prognostic test that do not end up having the ev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 4: Extracting Statistics To Evaluate Test Performance (12 of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only a single point of followup, then these positive and negative predictive values can be compared using the same methods as diagnostic tests. Usually, the ratios of positive and negative predictive values are summarized in a report, along with a confidence interval. How predictive values relate to patient characteristics may be reported using the regression model proposed by Leisenring and colleagues (2000). Methods to compare predictive values of two prognostic tests in the form of time-to-event curves are available if encountered during a re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 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isenring W, Alonzo T, Pepe MS. Comparisons of predictive values of binary medical diagnostic tests for paired designs. Biometrics 2000 Jun;56(2):345-51. PMID: 1087728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10877288</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tep 5: Meta-analysis of Estimates of Outcome Probabilities (1 of 2)</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ep 5, the last step to be discussed in this module, looks at the meta-analysis of estimates of outcome probabilities. The most definitive answers to questions about a prognostic test or a comparison of tests come from randomized controlled trials (RCTs) designed to show a net improvement in patient outcomes and cost-effectiveness, but many studies do not fit this mold. A systematic review could give estimates of outcome probabilities for decision models instead. These estimates could come from either RCTs or observational studies, as long as the prognostic groups they represent are well characterized and similar. A meta-analysis could provide more precise estimates of outcome probabilities. A meta-analysis of data from several studies can also tell reviewers about the stability of the estimates and whether any variation seen is related to characteristics of the prognostic group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800" spc="-1" strike="noStrike">
                <a:solidFill>
                  <a:srgbClr val="000000"/>
                </a:solidFill>
                <a:latin typeface="Calibri"/>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rends LR, Hunink MG, Stijnen T. Meta-analysis of summary survival curve data. Stat Med 2008 Sep 30;27(22):4381-96. PMID: 18465839.</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8465839</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ar KB. Iterative generalized least squares for meta-analysis of survival data at multiple times. Biometrics 1994 Dec;50(4):989-1002. PMID: 7787011.</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7787011</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e CC, Pham B, Wells GA. An assessment of methods to combine published survival curves. Med Decis Making 2000 Jan-Mar;20(1):104-11. PMID: 10638543.</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0638543</a:t>
            </a:r>
            <a:endParaRPr b="0" lang="en-US" sz="8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ep 5: Meta-analysis of Estimates of Outcome Probabilities (2 of 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methods to combine estimates of outcome probabilities from different studies. Dear</a:t>
            </a:r>
            <a:r>
              <a:rPr b="0" lang="ja-JP" sz="1000" spc="-1" strike="noStrike">
                <a:solidFill>
                  <a:srgbClr val="000000"/>
                </a:solidFill>
                <a:latin typeface="Calibri"/>
              </a:rPr>
              <a:t>’</a:t>
            </a:r>
            <a:r>
              <a:rPr b="0" lang="en-US" sz="1000" spc="-1" strike="noStrike">
                <a:solidFill>
                  <a:srgbClr val="000000"/>
                </a:solidFill>
                <a:latin typeface="Calibri"/>
              </a:rPr>
              <a:t>s method (1994) uses a fixed-effects regression model to do this. Arend</a:t>
            </a:r>
            <a:r>
              <a:rPr b="0" lang="ja-JP" sz="1000" spc="-1" strike="noStrike">
                <a:solidFill>
                  <a:srgbClr val="000000"/>
                </a:solidFill>
                <a:latin typeface="Calibri"/>
              </a:rPr>
              <a:t>’</a:t>
            </a:r>
            <a:r>
              <a:rPr b="0" lang="en-US" sz="1000" spc="-1" strike="noStrike">
                <a:solidFill>
                  <a:srgbClr val="000000"/>
                </a:solidFill>
                <a:latin typeface="Calibri"/>
              </a:rPr>
              <a:t>s method (32008) is similar to a DerSimonian-Laird random-effects model and is used when there is only one common followup time for all studies or prognostic groups in the analysi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rends LR, Hunink MG, Stijnen T. Meta-analysis of summary survival curve data. Stat Med 2008 Sep 30;27(22):4381-96. PMID: 18465839.</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8465839</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ar KB. Iterative generalized least squares for meta-analysis of survival data at multiple times. Biometrics 1994 Dec;50(4):989-1002. PMID: 7787011.</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7787011</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rSimonian R, Laird N. Meta-analysis in clinical trials. Control Clin Trials 1986 Sep;7(3):177-88. PMID: 3802833.</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3802833</a:t>
            </a:r>
            <a:endParaRPr b="0" lang="en-US" sz="10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Key Messages (1 of 2)</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key points from this module on systematic reviews of prognostic tests are as follow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There are no well-established methods to conduct a clinically oriented systematic review of prognostic test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The intended use of the prognostic test being reviewed needs to be specified, and its predicted probabilities need to be classified into clinically meaningful prognostic groups (i.e., groups that would be treated differently in practice). These groups also need to be described in detail, including their outcome probabilities.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 large number of published reports focus on the associations between prognostic indicators and patient outcomes, which is the first stage in the development of prognostic tests. This type of information is of limited clinical value for a review.</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There are no firmly established criteria to evaluate and score study quality for prognostic tests. Modifications of criteria used to judge diagnostic tests and cohort studies can be used instead (more information on this issue can be found in the references listed below).</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feren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700" spc="-1" strike="noStrike">
                <a:solidFill>
                  <a:srgbClr val="000000"/>
                </a:solidFill>
                <a:latin typeface="Calibri"/>
                <a:ea typeface="Arial"/>
              </a:rPr>
              <a:t>. </a:t>
            </a:r>
            <a:r>
              <a:rPr b="0" lang="en-US" sz="700" spc="-1" strike="noStrike">
                <a:solidFill>
                  <a:srgbClr val="000000"/>
                </a:solidFill>
                <a:latin typeface="Calibri"/>
              </a:rPr>
              <a:t>AHRQ Publication No. 12-EHC017. Available at www.effectivehealthcare.ahrq.gov/medtestsguide.cfm.</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ayden JA, Cote P, Bombardier C. Evaluation of the quality of prognosis studies in systematic reviews. Ann Intern Med 2006 Mar 21;144(6):427-37. PMID: 16549855.</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16549855</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epe MS, Feng Z, Janes H, et al. Pivotal evaluation of the accuracy of a biomarker used for classification or prediction: standards for study design. J Natl Cancer Inst 2008 Oct 15;100(20):1432-8. PMID: 18840817.</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18840817</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peight PM, Palmer S, Moles DR, et al. The cost-effectiveness of screening for oral cancer in primary care. Health Technol Assess 2006 Apr;10(14):1-144, iii-iv. PMID: 16707071.</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6707071</a:t>
            </a:r>
            <a:endParaRPr b="0" lang="en-US" sz="7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Key Messages (2 of 2)</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agnostic tests determine the patient</a:t>
            </a:r>
            <a:r>
              <a:rPr b="0" lang="ja-JP" sz="1100" spc="-1" strike="noStrike">
                <a:solidFill>
                  <a:srgbClr val="000000"/>
                </a:solidFill>
                <a:latin typeface="Calibri"/>
              </a:rPr>
              <a:t>’</a:t>
            </a:r>
            <a:r>
              <a:rPr b="0" lang="en-US" sz="1100" spc="-1" strike="noStrike">
                <a:solidFill>
                  <a:srgbClr val="000000"/>
                </a:solidFill>
                <a:latin typeface="Calibri"/>
              </a:rPr>
              <a:t>s current health state, while prognostic tests predict a future disease state. This fundamental difference means that some of the statistics used to evaluate diagnostic tests, </a:t>
            </a:r>
            <a:r>
              <a:rPr b="0" lang="en-US" sz="1200" spc="-1" strike="noStrike">
                <a:solidFill>
                  <a:srgbClr val="000000"/>
                </a:solidFill>
                <a:latin typeface="Calibri"/>
              </a:rPr>
              <a:t>such</a:t>
            </a:r>
            <a:r>
              <a:rPr b="0" lang="en-US" sz="1100" spc="-1" strike="noStrike">
                <a:solidFill>
                  <a:srgbClr val="000000"/>
                </a:solidFill>
                <a:latin typeface="Calibri"/>
              </a:rPr>
              <a:t> as point estimates of sensitivity and specificity along with receiver operating characteristic (ROC) curves, are not as useful for prognostic tests. The summary statistics that are the most pertinent to prognostic tests are the following three: the time-dependent observed outcome probabilities within clearly defined prognostic groups, the closeness of each group</a:t>
            </a:r>
            <a:r>
              <a:rPr b="0" lang="ja-JP" sz="1100" spc="-1" strike="noStrike">
                <a:solidFill>
                  <a:srgbClr val="000000"/>
                </a:solidFill>
                <a:latin typeface="Calibri"/>
              </a:rPr>
              <a:t>’</a:t>
            </a:r>
            <a:r>
              <a:rPr b="0" lang="en-US" sz="1100" spc="-1" strike="noStrike">
                <a:solidFill>
                  <a:srgbClr val="000000"/>
                </a:solidFill>
                <a:latin typeface="Calibri"/>
              </a:rPr>
              <a:t>s predicted probabilities to the observed outcomes, and how use of a new test reclassifies patients into different groups and improves predictive accuracy and overall patient outcomes. Finally, methods for comparing and summarizing the predictive performance of prognostic tests need further development and widespread use to make systematic reviews easier.</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100" spc="-1" strike="noStrike">
                <a:solidFill>
                  <a:srgbClr val="000000"/>
                </a:solidFill>
                <a:latin typeface="Arial"/>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s 2 (1 of 2)</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 1: Developing the Review Topic and Analytic Framework (1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step of a systematic review of a prognostic test, the review topic and framework are developed. This topic and framework, along with the Key Questions they generate, can be fundamentally different for diagnostic versus prognostic tests. Diagnostic tests determine whether a patient has a disease at the time the test is conducted, while prognostic tests look forward to predict the likelihood that a patient will develop a given disease or experience a certain future medical event. While diagnostic tests tend to use a separate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reference test to determine the true presence or absence of a disease in a patient, the </a:t>
            </a:r>
            <a:r>
              <a:rPr b="0" lang="ja-JP" sz="1200" spc="-1" strike="noStrike">
                <a:solidFill>
                  <a:srgbClr val="000000"/>
                </a:solidFill>
                <a:latin typeface="Calibri"/>
              </a:rPr>
              <a:t>“</a:t>
            </a:r>
            <a:r>
              <a:rPr b="0" lang="en-US" sz="1200" spc="-1" strike="noStrike">
                <a:solidFill>
                  <a:srgbClr val="000000"/>
                </a:solidFill>
                <a:latin typeface="Calibri"/>
              </a:rPr>
              <a:t>reference test</a:t>
            </a:r>
            <a:r>
              <a:rPr b="0" lang="ja-JP" sz="1200" spc="-1" strike="noStrike">
                <a:solidFill>
                  <a:srgbClr val="000000"/>
                </a:solidFill>
                <a:latin typeface="Calibri"/>
              </a:rPr>
              <a:t>”</a:t>
            </a:r>
            <a:r>
              <a:rPr b="0" lang="en-US" sz="1200" spc="-1" strike="noStrike">
                <a:solidFill>
                  <a:srgbClr val="000000"/>
                </a:solidFill>
                <a:latin typeface="Calibri"/>
              </a:rPr>
              <a:t> that is used for prognostic tests is internal – the proportion of study subjects who actually develop the disease or condition that is being predicted by the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5 (1 of 2)</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5 (2 of 2)</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10)</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10)</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10)</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ep 1: Developing the Review Topic and Analytical Framework (2 of 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 is often useful when structuring a systematic review to group the prognostic test results into categories according to how the results will be used for decisionmaking. In the first example, if a prognostic test groups people into low-, intermediate-, and high-risk categories, and the interest is in the different treatments that patients receive because of being grouped into these categories, then it makes sense to structure the review by these categories as well. In this case, each category and its outcome probabilities will need to be clearly defined. In the second example, we are still dealing with a prognostic test that groups patients into risk categories, but a decision model is being used as a framework for both the review and meta-analysis of the test data. For this scenario, the precision and accuracy estimates of the outcomes for each prognostic group are the primary focus, and thus the review is structured around the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latky MA, Greenland P, Arnett DK, et al. Criteria for evaluation of novel markers of cardiovascular risk: a scientific statement from the American Heart Association. Circulation 2009 May 5;119(17):2408-16. PMID: 1936497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19364974</a:t>
            </a:r>
            <a:endParaRPr b="0" lang="en-US" sz="11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10)</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5 of 10)</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6 of 10)</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7 of 10)</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8 of 10)</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9 of 10)</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0 of 10)</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ep 1: Developing the Review Topic and Framework (3 of 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general, the considerations for structuring a systematic review that were mentioned on the previous slide can be summarized in the PICOTS (</a:t>
            </a:r>
            <a:r>
              <a:rPr b="1" lang="en-US" sz="1100" spc="-1" strike="noStrike">
                <a:solidFill>
                  <a:srgbClr val="000000"/>
                </a:solidFill>
                <a:latin typeface="Calibri"/>
              </a:rPr>
              <a:t>p</a:t>
            </a:r>
            <a:r>
              <a:rPr b="0" lang="en-US" sz="1100" spc="-1" strike="noStrike">
                <a:solidFill>
                  <a:srgbClr val="000000"/>
                </a:solidFill>
                <a:latin typeface="Calibri"/>
              </a:rPr>
              <a:t>opulation, </a:t>
            </a:r>
            <a:r>
              <a:rPr b="1" lang="en-US" sz="1100" spc="-1" strike="noStrike">
                <a:solidFill>
                  <a:srgbClr val="000000"/>
                </a:solidFill>
                <a:latin typeface="Calibri"/>
              </a:rPr>
              <a:t>i</a:t>
            </a:r>
            <a:r>
              <a:rPr b="0" lang="en-US" sz="1100" spc="-1" strike="noStrike">
                <a:solidFill>
                  <a:srgbClr val="000000"/>
                </a:solidFill>
                <a:latin typeface="Calibri"/>
              </a:rPr>
              <a:t>ntervention, </a:t>
            </a:r>
            <a:r>
              <a:rPr b="1" lang="en-US" sz="1100" spc="-1" strike="noStrike">
                <a:solidFill>
                  <a:srgbClr val="000000"/>
                </a:solidFill>
                <a:latin typeface="Calibri"/>
              </a:rPr>
              <a:t>c</a:t>
            </a:r>
            <a:r>
              <a:rPr b="0" lang="en-US" sz="1100" spc="-1" strike="noStrike">
                <a:solidFill>
                  <a:srgbClr val="000000"/>
                </a:solidFill>
                <a:latin typeface="Calibri"/>
              </a:rPr>
              <a:t>omparator, </a:t>
            </a:r>
            <a:r>
              <a:rPr b="1" lang="en-US" sz="1100" spc="-1" strike="noStrike">
                <a:solidFill>
                  <a:srgbClr val="000000"/>
                </a:solidFill>
                <a:latin typeface="Calibri"/>
              </a:rPr>
              <a:t>o</a:t>
            </a:r>
            <a:r>
              <a:rPr b="0" lang="en-US" sz="1100" spc="-1" strike="noStrike">
                <a:solidFill>
                  <a:srgbClr val="000000"/>
                </a:solidFill>
                <a:latin typeface="Calibri"/>
              </a:rPr>
              <a:t>utcomes, </a:t>
            </a:r>
            <a:r>
              <a:rPr b="1" lang="en-US" sz="1100" spc="-1" strike="noStrike">
                <a:solidFill>
                  <a:srgbClr val="000000"/>
                </a:solidFill>
                <a:latin typeface="Calibri"/>
              </a:rPr>
              <a:t>t</a:t>
            </a:r>
            <a:r>
              <a:rPr b="0" lang="en-US" sz="1100" spc="-1" strike="noStrike">
                <a:solidFill>
                  <a:srgbClr val="000000"/>
                </a:solidFill>
                <a:latin typeface="Calibri"/>
              </a:rPr>
              <a:t>iming, and </a:t>
            </a:r>
            <a:r>
              <a:rPr b="1" lang="en-US" sz="1100" spc="-1" strike="noStrike">
                <a:solidFill>
                  <a:srgbClr val="000000"/>
                </a:solidFill>
                <a:latin typeface="Calibri"/>
              </a:rPr>
              <a:t>s</a:t>
            </a:r>
            <a:r>
              <a:rPr b="0" lang="en-US" sz="1100" spc="-1" strike="noStrike">
                <a:solidFill>
                  <a:srgbClr val="000000"/>
                </a:solidFill>
                <a:latin typeface="Calibri"/>
              </a:rPr>
              <a:t>etting) framework shown in the table. For prognostic tests, the population </a:t>
            </a:r>
            <a:r>
              <a:rPr b="0" lang="en-US" sz="1200" spc="-1" strike="noStrike">
                <a:solidFill>
                  <a:srgbClr val="000000"/>
                </a:solidFill>
                <a:latin typeface="Calibri"/>
              </a:rPr>
              <a:t>category</a:t>
            </a:r>
            <a:r>
              <a:rPr b="0" lang="en-US" sz="1100" spc="-1" strike="noStrike">
                <a:solidFill>
                  <a:srgbClr val="000000"/>
                </a:solidFill>
                <a:latin typeface="Calibri"/>
              </a:rPr>
              <a:t> refers to the characteristics of the prognostic groups and their observed outcome probabilities; the intervention category describes the prognostic test itself in detail; the comparator category describes the standard tests used to predict the same outcome; the outcomes category talks about the data collected, such as time-to-event curves, differences in predicted outcome probabilities, reclassification of patients into different groups, changes in patient care, et cetera; the timing category clarifies at what stage the prognostic test is to be used and how much followup time is required; and finally, the setting category describes who will use the test and the applicable testing scenario.</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100" spc="-1" strike="noStrike">
                <a:solidFill>
                  <a:srgbClr val="000000"/>
                </a:solidFill>
                <a:latin typeface="Arial"/>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latky MA, Greenland P, Arnett DK, et al. Criteria for evaluation of novel markers of cardiovascular risk: a scientific statement from the American Heart Association. Circulation 2009 May 5;119(17):2408-16. PMID: 19364974.</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19364974</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ep 1: Developing the Review Topic and Framework (4 of 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some contexts, it helps to first categorize patients as those who did or did not experience the predicted outcome after a certain amount of time and then look back to categorize the results of the prognostic test. Like a diagnostic test, a systematic review could then assess the accuracy of the prognostic test by calculating the sensitivity and specificity and predictive values for that point in time. A key factor to consider is what followup times are important to patients, clinicians, or policymaker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somewhat unique category of prognostic tests are ones used to predict beneficial or adverse responses to a treatment, known as </a:t>
            </a:r>
            <a:r>
              <a:rPr b="0" i="1" lang="en-US" sz="1100" spc="-1" strike="noStrike">
                <a:solidFill>
                  <a:srgbClr val="000000"/>
                </a:solidFill>
                <a:latin typeface="Calibri"/>
              </a:rPr>
              <a:t>predictive tests</a:t>
            </a:r>
            <a:r>
              <a:rPr b="0" lang="en-US" sz="1100" spc="-1" strike="noStrike">
                <a:solidFill>
                  <a:srgbClr val="000000"/>
                </a:solidFill>
                <a:latin typeface="Calibri"/>
              </a:rPr>
              <a:t>. Predictive test evidence is typically presented as separate estimates of the treatment effect seen in individual subgroups along with a statistical test for interaction. Systematic reviews of predictive test/treatment interactions are not specifically discussed in this modul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100" spc="-1" strike="noStrike">
                <a:solidFill>
                  <a:srgbClr val="000000"/>
                </a:solidFill>
                <a:latin typeface="Arial"/>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latky MA, Greenland P, Arnett DK, et al. Criteria for evaluation of novel markers of cardiovascular risk: a scientific statement from the American Heart Association. Circulation 2009 May 5;119(17):2408-16. PMID: 1936497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19364974</a:t>
            </a:r>
            <a:endParaRPr b="0" lang="en-US" sz="11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ep 2: Searching for Studies (1 of 5)</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tep in reviewing a prognostic test involves searching for studies of the test to use in the report. Studies that are found during the literature search can fall into one or more categories as shown here. Proof-of-concept studies ask if the test result is associated with a clinically important outcome, and prospective clinical validation studies are concerned with test accuracy. Incremental predictive value studies look at how much a new test changes the predicted probabilities and groupings of patients versus older test(s), while a clinical utility study looks at whether that change is enough to reclassify patients into groups that are managed differently from their previous classification. A clinical outcomes study simply asks if using the new test would improve patient outcomes. Lastly, a cost-effectiveness study evaluates whether any improvements in patient outcomes warrant the additional costs of testing and the followup medical care involv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latky MA, Greenland P, Arnett DK, et al. Criteria for evaluation of novel markers of cardiovascular risk: a scientific statement from the American Heart Association. Circulation 2009 May 5;119(17):2408-16. PMID: 1936497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19364974</a:t>
            </a:r>
            <a:endParaRPr b="0" lang="en-US" sz="11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Step 2: Searching for Studies (2 of 5)</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o find data for the first four categories of studies listed on the previous slide, large cohort studies and secondary analyses of clinical trials are usually the best place to look. Randomized controlled trials (RCTs) are generally the most appropriate for clinical outcomes and cost-effectiveness. However, they are rarely done because of barriers including costs and time involved. Since it is possible that RCTs of the prognostic test under review may not be found, reviewers need to think about how they will handle this scenario ahead of time. One option is to focus on providing the best estimates of outcome probabilities by using a decision model.</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ferences:</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600" spc="-1" strike="noStrike">
                <a:solidFill>
                  <a:srgbClr val="000000"/>
                </a:solidFill>
                <a:latin typeface="Calibri"/>
                <a:ea typeface="Arial"/>
              </a:rPr>
              <a:t>. </a:t>
            </a:r>
            <a:r>
              <a:rPr b="0" lang="en-US" sz="600" spc="-1" strike="noStrike">
                <a:solidFill>
                  <a:srgbClr val="000000"/>
                </a:solidFill>
                <a:latin typeface="Calibri"/>
              </a:rPr>
              <a:t>AHRQ Publication No. 12-EHC017. Available at www.effectivehealthcare.ahrq.gov/medtestsguide.cfm.</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ayden JA, Cote P, Bombardier C. Evaluation of the quality of prognosis studies in systematic reviews. Ann Intern Med 2006 Mar 21;144(6):427-37. PMID: 16549855.</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16549855</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gui BJ, Rogers MA. Searching for clinical prediction rules in MEDLINE. J Am Med Inform Assoc 2001 Jul-Aug;8(4):391-7. PMID: 11418546.</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1418546</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Kyzas PA, Denaxa-Kyza D, Ioannidis JP. Almost all articles on cancer prognostic markers report statistically significant results. Eur J Cancer 2007 Nov;43(17):2559-79. PMID: 17981458.</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7981458</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Kyzas PA, Loizou KT, Ioannidis JP. Selective reporting biases in cancer prognostic factor studies. J Natl Cancer Inst 2005 Jul 20;97(14):1043-55. PMID: 16030302.</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6030302</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cShane LM, Altman DG, Sauerbrei W, et al; Statistics Subcommittee of the NCI-EORTC Working Group on Cancer Diagnostics. Reporting recommendations for tumor marker prognostic studies (REMARK). J Natl Cancer Inst 2005 Aug 17;97(16):1180-4. PMID: 16106022.</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6106022</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iley RD, Abrams KR, Sutton AJ, et al. Reporting of prognostic markers: current problems and development of guidelines for evidence-based practice in the future. Br J Cancer 2003 Apr 22;88(8):1191-8. PMID: 12698183.</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2698183</a:t>
            </a:r>
            <a:endParaRPr b="0" lang="en-US" sz="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37160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ystematic Review of Prognostic Tests</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267920"/>
            <a:ext cx="8229600" cy="429444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re are no reliable, validated methods for searching the literature for prognostic test information. </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ome strategies use key words and index terms in studies meeting selection criteria.</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Others use search terms such as </a:t>
            </a:r>
            <a:r>
              <a:rPr b="0" lang="ja-JP" sz="1800" spc="-1" strike="noStrike">
                <a:solidFill>
                  <a:srgbClr val="ffffff"/>
                </a:solidFill>
                <a:latin typeface="Trebuchet MS"/>
              </a:rPr>
              <a:t>“</a:t>
            </a:r>
            <a:r>
              <a:rPr b="0" lang="en-US" sz="1800" spc="-1" strike="noStrike">
                <a:solidFill>
                  <a:srgbClr val="ffffff"/>
                </a:solidFill>
                <a:latin typeface="Trebuchet MS"/>
              </a:rPr>
              <a:t>incidence</a:t>
            </a:r>
            <a:r>
              <a:rPr b="0" lang="ja-JP" sz="1800" spc="-1" strike="noStrike">
                <a:solidFill>
                  <a:srgbClr val="ffffff"/>
                </a:solidFill>
                <a:latin typeface="Trebuchet MS"/>
              </a:rPr>
              <a:t>”</a:t>
            </a:r>
            <a:r>
              <a:rPr b="0" lang="en-US" sz="1800" spc="-1" strike="noStrike">
                <a:solidFill>
                  <a:srgbClr val="ffffff"/>
                </a:solidFill>
                <a:latin typeface="Trebuchet MS"/>
              </a:rPr>
              <a:t> and word roots such as </a:t>
            </a:r>
            <a:r>
              <a:rPr b="0" lang="ja-JP" sz="1800" spc="-1" strike="noStrike">
                <a:solidFill>
                  <a:srgbClr val="ffffff"/>
                </a:solidFill>
                <a:latin typeface="Trebuchet MS"/>
              </a:rPr>
              <a:t>“</a:t>
            </a:r>
            <a:r>
              <a:rPr b="0" lang="en-US" sz="1800" spc="-1" strike="noStrike">
                <a:solidFill>
                  <a:srgbClr val="ffffff"/>
                </a:solidFill>
                <a:latin typeface="Trebuchet MS"/>
              </a:rPr>
              <a:t>prognos*</a:t>
            </a:r>
            <a:r>
              <a:rPr b="0" lang="ja-JP" sz="1800" spc="-1" strike="noStrike">
                <a:solidFill>
                  <a:srgbClr val="ffffff"/>
                </a:solidFill>
                <a:latin typeface="Trebuchet MS"/>
              </a:rPr>
              <a:t>”</a:t>
            </a:r>
            <a:r>
              <a:rPr b="0" lang="en-US" sz="1800" spc="-1" strike="noStrike">
                <a:solidFill>
                  <a:srgbClr val="ffffff"/>
                </a:solidFill>
                <a:latin typeface="Trebuchet MS"/>
              </a:rPr>
              <a:t>.</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erms describing the prognostic test and condition/event to be predicted should be included in the search.</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Trebuchet MS"/>
              </a:rPr>
              <a:t>“</a:t>
            </a:r>
            <a:r>
              <a:rPr b="0" lang="en-US" sz="1800" spc="-1" strike="noStrike">
                <a:solidFill>
                  <a:srgbClr val="ffffff"/>
                </a:solidFill>
                <a:latin typeface="Trebuchet MS"/>
              </a:rPr>
              <a:t>Find similar</a:t>
            </a:r>
            <a:r>
              <a:rPr b="0" lang="ja-JP" sz="1800" spc="-1" strike="noStrike">
                <a:solidFill>
                  <a:srgbClr val="ffffff"/>
                </a:solidFill>
                <a:latin typeface="Trebuchet MS"/>
              </a:rPr>
              <a:t>”</a:t>
            </a:r>
            <a:r>
              <a:rPr b="0" lang="en-US" sz="1800" spc="-1" strike="noStrike">
                <a:solidFill>
                  <a:srgbClr val="ffffff"/>
                </a:solidFill>
                <a:latin typeface="Trebuchet MS"/>
              </a:rPr>
              <a:t> or </a:t>
            </a:r>
            <a:r>
              <a:rPr b="0" lang="ja-JP" sz="1800" spc="-1" strike="noStrike">
                <a:solidFill>
                  <a:srgbClr val="ffffff"/>
                </a:solidFill>
                <a:latin typeface="Trebuchet MS"/>
              </a:rPr>
              <a:t>“</a:t>
            </a:r>
            <a:r>
              <a:rPr b="0" lang="en-US" sz="1800" spc="-1" strike="noStrike">
                <a:solidFill>
                  <a:srgbClr val="ffffff"/>
                </a:solidFill>
                <a:latin typeface="Trebuchet MS"/>
              </a:rPr>
              <a:t>related article</a:t>
            </a:r>
            <a:r>
              <a:rPr b="0" lang="ja-JP" sz="1800" spc="-1" strike="noStrike">
                <a:solidFill>
                  <a:srgbClr val="ffffff"/>
                </a:solidFill>
                <a:latin typeface="Trebuchet MS"/>
              </a:rPr>
              <a:t>”</a:t>
            </a:r>
            <a:r>
              <a:rPr b="0" lang="en-US" sz="1800" spc="-1" strike="noStrike">
                <a:solidFill>
                  <a:srgbClr val="ffffff"/>
                </a:solidFill>
                <a:latin typeface="Trebuchet MS"/>
              </a:rPr>
              <a:t> functions can be useful.</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 manual search of references will be needed.</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records of the regulatory agency for submitted tests can be useful.</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Web site of test producer may be informative.</a:t>
            </a:r>
            <a:endParaRPr b="0" lang="en-US" sz="1800" spc="-1" strike="noStrike">
              <a:solidFill>
                <a:srgbClr val="ffffff"/>
              </a:solidFill>
              <a:latin typeface="Trebuchet MS"/>
            </a:endParaRPr>
          </a:p>
        </p:txBody>
      </p:sp>
      <p:sp>
        <p:nvSpPr>
          <p:cNvPr id="1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2: Searching for Studies (3 of 5)</a:t>
            </a:r>
            <a:endParaRPr b="1" lang="en-US" sz="2800" spc="-1" strike="noStrike">
              <a:solidFill>
                <a:srgbClr val="ffffff"/>
              </a:solidFill>
              <a:latin typeface="Trebuchet MS"/>
            </a:endParaRPr>
          </a:p>
        </p:txBody>
      </p:sp>
      <p:sp>
        <p:nvSpPr>
          <p:cNvPr id="114" name="TextBox 1"/>
          <p:cNvSpPr/>
          <p:nvPr/>
        </p:nvSpPr>
        <p:spPr>
          <a:xfrm>
            <a:off x="0" y="6019920"/>
            <a:ext cx="8763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298520"/>
            <a:ext cx="8229600" cy="4035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nlike diagnostic tests, many prognostic tests are incorporated into multivariable regression models/ algorithms for prediction.</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any reports support only an independent association of a variable with the patient outcom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t is difficult to find reports where the test variable did not add significantly to a multivariable regression model.</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is introduces potential bias by failing to uncover the lack of association/predictive value.</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l studies including the variable should be sought out.</a:t>
            </a:r>
            <a:endParaRPr b="0" lang="en-US" sz="2000" spc="-1" strike="noStrike">
              <a:solidFill>
                <a:srgbClr val="ffffff"/>
              </a:solidFill>
              <a:latin typeface="Trebuchet MS"/>
            </a:endParaRPr>
          </a:p>
        </p:txBody>
      </p:sp>
      <p:sp>
        <p:nvSpPr>
          <p:cNvPr id="1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2: Searching for Studies (4 of 5)</a:t>
            </a:r>
            <a:endParaRPr b="1" lang="en-US" sz="2800" spc="-1" strike="noStrike">
              <a:solidFill>
                <a:srgbClr val="ffffff"/>
              </a:solidFill>
              <a:latin typeface="Trebuchet MS"/>
            </a:endParaRPr>
          </a:p>
        </p:txBody>
      </p:sp>
      <p:sp>
        <p:nvSpPr>
          <p:cNvPr id="117" name="TextBox 1"/>
          <p:cNvSpPr/>
          <p:nvPr/>
        </p:nvSpPr>
        <p:spPr>
          <a:xfrm>
            <a:off x="228600" y="594360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268280"/>
            <a:ext cx="8229600" cy="452304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prognostic groups are defined by predicted outcome probabilitie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arch for decision analyses, guidelines, or expert opinions that support outcome probability thresholds used to define clinically meaningful prognostic groups (i.e., groups that would be treated differently in practice because of their predicted outcom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deally use randomized controlled trials of interventions in patients selected on the basis of the prognostic test.</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is helps establish the rationale for using the test to classify patient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t is not always sufficient to evaluate this use of the test.</a:t>
            </a:r>
            <a:endParaRPr b="0" lang="en-US" sz="2000" spc="-1" strike="noStrike">
              <a:solidFill>
                <a:srgbClr val="ffffff"/>
              </a:solidFill>
              <a:latin typeface="Trebuchet MS"/>
            </a:endParaRPr>
          </a:p>
        </p:txBody>
      </p:sp>
      <p:sp>
        <p:nvSpPr>
          <p:cNvPr id="1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2: Searching for Studies (5 of 5)</a:t>
            </a:r>
            <a:endParaRPr b="1" lang="en-US" sz="2800" spc="-1" strike="noStrike">
              <a:solidFill>
                <a:srgbClr val="ffffff"/>
              </a:solidFill>
              <a:latin typeface="Trebuchet MS"/>
            </a:endParaRPr>
          </a:p>
        </p:txBody>
      </p:sp>
      <p:sp>
        <p:nvSpPr>
          <p:cNvPr id="120" name="TextBox 1"/>
          <p:cNvSpPr/>
          <p:nvPr/>
        </p:nvSpPr>
        <p:spPr>
          <a:xfrm>
            <a:off x="380880" y="6019920"/>
            <a:ext cx="8763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ognostic indicators vary substantially in:</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udy design</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ubject inclusion criteria</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ethods of measuring key variable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ethods of analysis (including definition of prognostic group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djustment for covariate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sentation of results</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viewer access to patient-level data would allow more uniform analyses to overcome these difficulties.</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en these data are lacking, following certain questions can help.</a:t>
            </a:r>
            <a:endParaRPr b="0" lang="en-US" sz="2200" spc="-1" strike="noStrike">
              <a:solidFill>
                <a:srgbClr val="ffffff"/>
              </a:solidFill>
              <a:latin typeface="Trebuchet MS"/>
            </a:endParaRPr>
          </a:p>
        </p:txBody>
      </p:sp>
      <p:sp>
        <p:nvSpPr>
          <p:cNvPr id="1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3: Selecting Studies and Assessing Their Quality (1 of 4)</a:t>
            </a:r>
            <a:endParaRPr b="1" lang="en-US" sz="2800" spc="-1" strike="noStrike">
              <a:solidFill>
                <a:srgbClr val="ffffff"/>
              </a:solidFill>
              <a:latin typeface="Trebuchet MS"/>
            </a:endParaRPr>
          </a:p>
        </p:txBody>
      </p:sp>
      <p:sp>
        <p:nvSpPr>
          <p:cNvPr id="123" name="TextBox 1"/>
          <p:cNvSpPr/>
          <p:nvPr/>
        </p:nvSpPr>
        <p:spPr>
          <a:xfrm>
            <a:off x="304920" y="5943600"/>
            <a:ext cx="8610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218960"/>
            <a:ext cx="8229600" cy="5025960"/>
          </a:xfrm>
          <a:prstGeom prst="rect">
            <a:avLst/>
          </a:prstGeom>
          <a:noFill/>
          <a:ln w="0">
            <a:noFill/>
          </a:ln>
        </p:spPr>
        <p:txBody>
          <a:bodyPr lIns="0" rIns="0" tIns="0" bIns="0" anchor="t">
            <a:normAutofit/>
          </a:bodyPr>
          <a:p>
            <a:pPr marL="457200" indent="-45720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Was the study designed to evaluate the new prognostic test, or was it a secondary analysis of data collected for other purposes? </a:t>
            </a:r>
            <a:endParaRPr b="0" lang="en-US" sz="2100" spc="-1" strike="noStrike">
              <a:solidFill>
                <a:srgbClr val="ffffff"/>
              </a:solidFill>
              <a:latin typeface="Trebuchet MS"/>
            </a:endParaRPr>
          </a:p>
          <a:p>
            <a:pPr marL="457200" indent="-45720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Were the subjects somehow referred or selected for testing? What was the testing scenario?</a:t>
            </a:r>
            <a:endParaRPr b="0" lang="en-US" sz="2100" spc="-1" strike="noStrike">
              <a:solidFill>
                <a:srgbClr val="ffffff"/>
              </a:solidFill>
              <a:latin typeface="Trebuchet MS"/>
            </a:endParaRPr>
          </a:p>
          <a:p>
            <a:pPr marL="457200" indent="-45720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Was the clinical population clearly described including the sampling plan, inclusion and exclusion criteria, subject participation, and the spectrum of test results? Did the sample represent patients who would be tested in clinical practice?</a:t>
            </a:r>
            <a:endParaRPr b="0" lang="en-US" sz="2100" spc="-1" strike="noStrike">
              <a:solidFill>
                <a:srgbClr val="ffffff"/>
              </a:solidFill>
              <a:latin typeface="Trebuchet MS"/>
            </a:endParaRPr>
          </a:p>
          <a:p>
            <a:pPr marL="457200" indent="-45720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Did everyone in the samples have a common starting point for followup with respect to the outcome of interest, including any treatments that could affect the outcome being predicted?</a:t>
            </a:r>
            <a:endParaRPr b="0" lang="en-US" sz="2100" spc="-1" strike="noStrike">
              <a:solidFill>
                <a:srgbClr val="ffffff"/>
              </a:solidFill>
              <a:latin typeface="Trebuchet MS"/>
            </a:endParaRPr>
          </a:p>
        </p:txBody>
      </p:sp>
      <p:sp>
        <p:nvSpPr>
          <p:cNvPr id="1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Questions for Judging the Quality of Individual Studies of Prognostic Tests (1 of 3)</a:t>
            </a:r>
            <a:endParaRPr b="1" lang="en-US" sz="2800" spc="-1" strike="noStrike">
              <a:solidFill>
                <a:srgbClr val="ffffff"/>
              </a:solidFill>
              <a:latin typeface="Trebuchet MS"/>
            </a:endParaRPr>
          </a:p>
        </p:txBody>
      </p:sp>
      <p:sp>
        <p:nvSpPr>
          <p:cNvPr id="126" name="TextBox 1"/>
          <p:cNvSpPr/>
          <p:nvPr/>
        </p:nvSpPr>
        <p:spPr>
          <a:xfrm>
            <a:off x="228600" y="594360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298520"/>
            <a:ext cx="8229600" cy="4827600"/>
          </a:xfrm>
          <a:prstGeom prst="rect">
            <a:avLst/>
          </a:prstGeom>
          <a:noFill/>
          <a:ln w="0">
            <a:noFill/>
          </a:ln>
        </p:spPr>
        <p:txBody>
          <a:bodyPr lIns="0" rIns="0" tIns="0" bIns="0" anchor="t">
            <a:normAutofit fontScale="99000"/>
          </a:bodyPr>
          <a:p>
            <a:pPr marL="452520" indent="-452520">
              <a:lnSpc>
                <a:spcPct val="90000"/>
              </a:lnSpc>
              <a:spcBef>
                <a:spcPts val="825"/>
              </a:spcBef>
              <a:buClr>
                <a:srgbClr val="dfb20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as the prognostic test clearly described and conducted using a standardized, reliable, and valid method?</a:t>
            </a:r>
            <a:endParaRPr b="0" lang="en-US" sz="2200" spc="-1" strike="noStrike">
              <a:solidFill>
                <a:srgbClr val="ffffff"/>
              </a:solidFill>
              <a:latin typeface="Trebuchet MS"/>
            </a:endParaRPr>
          </a:p>
          <a:p>
            <a:pPr lvl="1" marL="850320" indent="-452520">
              <a:lnSpc>
                <a:spcPct val="90000"/>
              </a:lnSpc>
              <a:spcBef>
                <a:spcPts val="71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as the test used and interpreted the same way by all sites/studies, including any indeterminate test results?</a:t>
            </a:r>
            <a:endParaRPr b="0" lang="en-US" sz="1900" spc="-1" strike="noStrike">
              <a:solidFill>
                <a:srgbClr val="ffffff"/>
              </a:solidFill>
              <a:latin typeface="Trebuchet MS"/>
            </a:endParaRPr>
          </a:p>
          <a:p>
            <a:pPr lvl="1" marL="850320" indent="-452520">
              <a:lnSpc>
                <a:spcPct val="90000"/>
              </a:lnSpc>
              <a:spcBef>
                <a:spcPts val="71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ere the results ascertained without knowledge of the outcome?</a:t>
            </a:r>
            <a:endParaRPr b="0" lang="en-US" sz="1900" spc="-1" strike="noStrike">
              <a:solidFill>
                <a:srgbClr val="ffffff"/>
              </a:solidFill>
              <a:latin typeface="Trebuchet MS"/>
            </a:endParaRPr>
          </a:p>
          <a:p>
            <a:pPr lvl="1" marL="850320" indent="-452520">
              <a:lnSpc>
                <a:spcPct val="90000"/>
              </a:lnSpc>
              <a:spcBef>
                <a:spcPts val="71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ere investigators blinded to the test results?</a:t>
            </a:r>
            <a:endParaRPr b="0" lang="en-US" sz="1900" spc="-1" strike="noStrike">
              <a:solidFill>
                <a:srgbClr val="ffffff"/>
              </a:solidFill>
              <a:latin typeface="Trebuchet MS"/>
            </a:endParaRPr>
          </a:p>
          <a:p>
            <a:pPr lvl="1" marL="850320" indent="-452520">
              <a:lnSpc>
                <a:spcPct val="90000"/>
              </a:lnSpc>
              <a:spcBef>
                <a:spcPts val="71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How were previously established prognostic indicators or other prognostic assessments included in the study and analyses?</a:t>
            </a:r>
            <a:endParaRPr b="0" lang="en-US" sz="1900" spc="-1" strike="noStrike">
              <a:solidFill>
                <a:srgbClr val="ffffff"/>
              </a:solidFill>
              <a:latin typeface="Trebuchet MS"/>
            </a:endParaRPr>
          </a:p>
          <a:p>
            <a:pPr marL="452520" indent="-452520">
              <a:lnSpc>
                <a:spcPct val="90000"/>
              </a:lnSpc>
              <a:spcBef>
                <a:spcPts val="825"/>
              </a:spcBef>
              <a:buClr>
                <a:srgbClr val="dfb20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as the outcome being predicted clearly defined and ascertained using a standardized, reliable, and valid method?</a:t>
            </a:r>
            <a:endParaRPr b="0" lang="en-US" sz="2200" spc="-1" strike="noStrike">
              <a:solidFill>
                <a:srgbClr val="ffffff"/>
              </a:solidFill>
              <a:latin typeface="Trebuchet MS"/>
            </a:endParaRPr>
          </a:p>
          <a:p>
            <a:pPr lvl="1" marL="850320" indent="-452520">
              <a:lnSpc>
                <a:spcPct val="90000"/>
              </a:lnSpc>
              <a:spcBef>
                <a:spcPts val="71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How complete was the followup of subjects, and were losses to followup related to the test results or the outcome being predicted?</a:t>
            </a:r>
            <a:endParaRPr b="0" lang="en-US" sz="1900" spc="-1" strike="noStrike">
              <a:solidFill>
                <a:srgbClr val="ffffff"/>
              </a:solidFill>
              <a:latin typeface="Trebuchet MS"/>
            </a:endParaRPr>
          </a:p>
          <a:p>
            <a:pPr lvl="1" marL="850320" indent="-452520">
              <a:lnSpc>
                <a:spcPct val="90000"/>
              </a:lnSpc>
              <a:spcBef>
                <a:spcPts val="71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as the duration of followup adequate?</a:t>
            </a:r>
            <a:endParaRPr b="0" lang="en-US" sz="1900" spc="-1" strike="noStrike">
              <a:solidFill>
                <a:srgbClr val="ffffff"/>
              </a:solidFill>
              <a:latin typeface="Trebuchet MS"/>
            </a:endParaRPr>
          </a:p>
        </p:txBody>
      </p:sp>
      <p:sp>
        <p:nvSpPr>
          <p:cNvPr id="1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Questions for Judging the Quality of Individual Studies of Prognostic Tests (2 of 3)</a:t>
            </a:r>
            <a:endParaRPr b="1" lang="en-US" sz="2800" spc="-1" strike="noStrike">
              <a:solidFill>
                <a:srgbClr val="ffffff"/>
              </a:solidFill>
              <a:latin typeface="Trebuchet MS"/>
            </a:endParaRPr>
          </a:p>
        </p:txBody>
      </p:sp>
      <p:sp>
        <p:nvSpPr>
          <p:cNvPr id="129" name="TextBox 1"/>
          <p:cNvSpPr/>
          <p:nvPr/>
        </p:nvSpPr>
        <p:spPr>
          <a:xfrm>
            <a:off x="228600" y="6019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80000"/>
              </a:lnSpc>
              <a:spcBef>
                <a:spcPts val="825"/>
              </a:spcBef>
              <a:buClr>
                <a:srgbClr val="dfb20f"/>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ere the data used to develop the prognostic test?</a:t>
            </a:r>
            <a:endParaRPr b="0" lang="en-US" sz="2200" spc="-1" strike="noStrike">
              <a:solidFill>
                <a:srgbClr val="ffffff"/>
              </a:solidFill>
              <a:latin typeface="Trebuchet MS"/>
            </a:endParaRPr>
          </a:p>
          <a:p>
            <a:pPr lvl="1" marL="858960" indent="-457200">
              <a:lnSpc>
                <a:spcPct val="80000"/>
              </a:lnSpc>
              <a:spcBef>
                <a:spcPts val="71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ere the prognostic groups predefined based on clinically meaningful decision thresholds for predicted outcome probabilities?</a:t>
            </a:r>
            <a:endParaRPr b="0" lang="en-US" sz="1900" spc="-1" strike="noStrike">
              <a:solidFill>
                <a:srgbClr val="ffffff"/>
              </a:solidFill>
              <a:latin typeface="Trebuchet MS"/>
            </a:endParaRPr>
          </a:p>
          <a:p>
            <a:pPr lvl="1" marL="858960" indent="-457200">
              <a:lnSpc>
                <a:spcPct val="80000"/>
              </a:lnSpc>
              <a:spcBef>
                <a:spcPts val="71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ere the results externally validated using an independent sample or internally validated using bootstrap or cross-validation methods?</a:t>
            </a:r>
            <a:endParaRPr b="0" lang="en-US" sz="1900" spc="-1" strike="noStrike">
              <a:solidFill>
                <a:srgbClr val="ffffff"/>
              </a:solidFill>
              <a:latin typeface="Trebuchet MS"/>
            </a:endParaRPr>
          </a:p>
          <a:p>
            <a:pPr lvl="1" marL="858960" indent="-457200">
              <a:lnSpc>
                <a:spcPct val="80000"/>
              </a:lnSpc>
              <a:spcBef>
                <a:spcPts val="71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ere previously established prognostic tests that were used as comparators fitted to the sample data in the same manner as the potential new prognostic test?</a:t>
            </a:r>
            <a:endParaRPr b="0" lang="en-US" sz="1900" spc="-1" strike="noStrike">
              <a:solidFill>
                <a:srgbClr val="ffffff"/>
              </a:solidFill>
              <a:latin typeface="Trebuchet MS"/>
            </a:endParaRPr>
          </a:p>
          <a:p>
            <a:pPr lvl="1" marL="858960" indent="-457200">
              <a:lnSpc>
                <a:spcPct val="80000"/>
              </a:lnSpc>
              <a:spcBef>
                <a:spcPts val="71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ere outcome predictions adjusted for any other factors? Which ones? How?</a:t>
            </a:r>
            <a:endParaRPr b="0" lang="en-US" sz="1900" spc="-1" strike="noStrike">
              <a:solidFill>
                <a:srgbClr val="ffffff"/>
              </a:solidFill>
              <a:latin typeface="Trebuchet MS"/>
            </a:endParaRPr>
          </a:p>
        </p:txBody>
      </p:sp>
      <p:sp>
        <p:nvSpPr>
          <p:cNvPr id="1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Questions for Judging the Quality of Individual Studies of Prognostic Tests (3 of 3)</a:t>
            </a:r>
            <a:endParaRPr b="1" lang="en-US" sz="2800" spc="-1" strike="noStrike">
              <a:solidFill>
                <a:srgbClr val="ffffff"/>
              </a:solidFill>
              <a:latin typeface="Trebuchet MS"/>
            </a:endParaRPr>
          </a:p>
        </p:txBody>
      </p:sp>
      <p:sp>
        <p:nvSpPr>
          <p:cNvPr id="132" name="TextBox 1"/>
          <p:cNvSpPr/>
          <p:nvPr/>
        </p:nvSpPr>
        <p:spPr>
          <a:xfrm>
            <a:off x="304920" y="5943600"/>
            <a:ext cx="8610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298160"/>
            <a:ext cx="8229600" cy="418788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iewers should explicitly state inclusion/exclusion criteria</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est comparisons should use data from the same cohort of subjects to minimize confounding</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ithin a study, the tests being compared should be conducted at the same time.</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ensures a common starting point with respect to the patient outcome being predicted.</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viewers should note the starting point of each study.</a:t>
            </a:r>
            <a:endParaRPr b="0" lang="en-US" sz="2200" spc="-1" strike="noStrike">
              <a:solidFill>
                <a:srgbClr val="ffffff"/>
              </a:solidFill>
              <a:latin typeface="Trebuchet MS"/>
            </a:endParaRPr>
          </a:p>
        </p:txBody>
      </p:sp>
      <p:sp>
        <p:nvSpPr>
          <p:cNvPr id="13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3: Selecting Studies and Assessing Their Quality (2 of 4)</a:t>
            </a:r>
            <a:endParaRPr b="1" lang="en-US" sz="2800" spc="-1" strike="noStrike">
              <a:solidFill>
                <a:srgbClr val="ffffff"/>
              </a:solidFill>
              <a:latin typeface="Trebuchet MS"/>
            </a:endParaRPr>
          </a:p>
        </p:txBody>
      </p:sp>
      <p:sp>
        <p:nvSpPr>
          <p:cNvPr id="135" name="TextBox 1"/>
          <p:cNvSpPr/>
          <p:nvPr/>
        </p:nvSpPr>
        <p:spPr>
          <a:xfrm>
            <a:off x="228600" y="594360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298160"/>
            <a:ext cx="8229600" cy="4568760"/>
          </a:xfrm>
          <a:prstGeom prst="rect">
            <a:avLst/>
          </a:prstGeom>
          <a:noFill/>
          <a:ln w="0">
            <a:noFill/>
          </a:ln>
        </p:spPr>
        <p:txBody>
          <a:bodyPr lIns="0" rIns="0" tIns="0" bIns="0" anchor="t">
            <a:normAutofit/>
          </a:bodyPr>
          <a:p>
            <a:pPr marL="290520" indent="-2905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gnostic test results and their interpretation should be ascertained without knowledge of outcomes to avoid ascertainment bias.</a:t>
            </a:r>
            <a:endParaRPr b="0" lang="en-US" sz="2400" spc="-1" strike="noStrike">
              <a:solidFill>
                <a:srgbClr val="ffffff"/>
              </a:solidFill>
              <a:latin typeface="Trebuchet MS"/>
            </a:endParaRPr>
          </a:p>
          <a:p>
            <a:pPr marL="290520" indent="-2905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vestigators should be blinded to the results of a test to avoid selective changes in treatment that could affect the outcome being predicted.</a:t>
            </a:r>
            <a:endParaRPr b="0" lang="en-US" sz="2400" spc="-1" strike="noStrike">
              <a:solidFill>
                <a:srgbClr val="ffffff"/>
              </a:solidFill>
              <a:latin typeface="Trebuchet MS"/>
            </a:endParaRPr>
          </a:p>
          <a:p>
            <a:pPr marL="290520" indent="-2905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e aware of any previously established prognostic indicators that should be included in the comparative analysis of potential new tests.</a:t>
            </a:r>
            <a:endParaRPr b="0" lang="en-US" sz="2400" spc="-1" strike="noStrike">
              <a:solidFill>
                <a:srgbClr val="ffffff"/>
              </a:solidFill>
              <a:latin typeface="Trebuchet MS"/>
            </a:endParaRPr>
          </a:p>
          <a:p>
            <a:pPr marL="290520" indent="-2905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ote any adjustments for covariates that could make studies more or less comparable.</a:t>
            </a:r>
            <a:endParaRPr b="0" lang="en-US" sz="2400" spc="-1" strike="noStrike">
              <a:solidFill>
                <a:srgbClr val="ffffff"/>
              </a:solidFill>
              <a:latin typeface="Trebuchet MS"/>
            </a:endParaRPr>
          </a:p>
        </p:txBody>
      </p:sp>
      <p:sp>
        <p:nvSpPr>
          <p:cNvPr id="13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3: Selecting Studies and Assessing Their Quality (3 of 4)</a:t>
            </a:r>
            <a:endParaRPr b="1" lang="en-US" sz="2800" spc="-1" strike="noStrike">
              <a:solidFill>
                <a:srgbClr val="ffffff"/>
              </a:solidFill>
              <a:latin typeface="Trebuchet MS"/>
            </a:endParaRPr>
          </a:p>
        </p:txBody>
      </p:sp>
      <p:sp>
        <p:nvSpPr>
          <p:cNvPr id="138" name="TextBox 1"/>
          <p:cNvSpPr/>
          <p:nvPr/>
        </p:nvSpPr>
        <p:spPr>
          <a:xfrm>
            <a:off x="228600" y="594360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tting a new prognostic test to the sample data (test development sample) by using these data to define cutoffs or model relationships to outcomes and estimate regression coefficients may:</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e overly optimistic for estimated predicted performanc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ias the comparison to an established prognostic method that was not fitted to the sample data</a:t>
            </a:r>
            <a:endParaRPr b="0" lang="en-US" sz="2200" spc="-1" strike="noStrike">
              <a:solidFill>
                <a:srgbClr val="ffffff"/>
              </a:solidFill>
              <a:latin typeface="Trebuchet MS"/>
            </a:endParaRPr>
          </a:p>
        </p:txBody>
      </p:sp>
      <p:sp>
        <p:nvSpPr>
          <p:cNvPr id="14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3: Selecting Studies and Assessing Their Quality (4 of 4)</a:t>
            </a:r>
            <a:endParaRPr b="1" lang="en-US" sz="2800" spc="-1" strike="noStrike">
              <a:solidFill>
                <a:srgbClr val="ffffff"/>
              </a:solidFill>
              <a:latin typeface="Trebuchet MS"/>
            </a:endParaRPr>
          </a:p>
        </p:txBody>
      </p:sp>
      <p:sp>
        <p:nvSpPr>
          <p:cNvPr id="141" name="TextBox 1"/>
          <p:cNvSpPr/>
          <p:nvPr/>
        </p:nvSpPr>
        <p:spPr>
          <a:xfrm>
            <a:off x="304920" y="5943600"/>
            <a:ext cx="8534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velop the topic and structure the systematic review of a prognostic test.</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scribe the similarities and differences between the evaluation of diagnostic and prognostic tests for systematic review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in the time-dependent characteristics of prognos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erform appropriate statistical analyses based on outcome probabilities.</a:t>
            </a:r>
            <a:endParaRPr b="0" lang="en-US" sz="2400" spc="-1" strike="noStrike">
              <a:solidFill>
                <a:srgbClr val="ffffff"/>
              </a:solidFill>
              <a:latin typeface="Trebuchet MS"/>
            </a:endParaRPr>
          </a:p>
        </p:txBody>
      </p:sp>
      <p:sp>
        <p:nvSpPr>
          <p:cNvPr id="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 </a:t>
            </a:r>
            <a:r>
              <a:rPr b="1" lang="en-US" sz="2800" spc="-1" strike="noStrike">
                <a:solidFill>
                  <a:srgbClr val="ffffff"/>
                </a:solidFill>
                <a:latin typeface="Trebuchet MS"/>
              </a:rPr>
              <a:t>Learning Objectives</a:t>
            </a:r>
            <a:endParaRPr b="1" lang="en-US" sz="2800" spc="-1" strike="noStrike">
              <a:solidFill>
                <a:srgbClr val="ffffff"/>
              </a:solidFill>
              <a:latin typeface="Trebuchet MS"/>
            </a:endParaRPr>
          </a:p>
        </p:txBody>
      </p:sp>
      <p:sp>
        <p:nvSpPr>
          <p:cNvPr id="89" name="TextBox 1"/>
          <p:cNvSpPr/>
          <p:nvPr/>
        </p:nvSpPr>
        <p:spPr>
          <a:xfrm>
            <a:off x="6858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ummary statistics must be appropriate for the review</a:t>
            </a:r>
            <a:r>
              <a:rPr b="0" lang="ja-JP" sz="2200" spc="-1" strike="noStrike">
                <a:solidFill>
                  <a:srgbClr val="ffffff"/>
                </a:solidFill>
                <a:latin typeface="Trebuchet MS"/>
              </a:rPr>
              <a:t>’</a:t>
            </a:r>
            <a:r>
              <a:rPr b="0" lang="en-US" sz="2200" spc="-1" strike="noStrike">
                <a:solidFill>
                  <a:srgbClr val="ffffff"/>
                </a:solidFill>
                <a:latin typeface="Trebuchet MS"/>
              </a:rPr>
              <a:t>s Key Question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Hazard ratios from Cox regression analyses or odds ratios from logistic regression analyses for associations between tests and outcomes </a:t>
            </a:r>
            <a:endParaRPr b="0" lang="en-US" sz="20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ddress only the early phases in test development</a:t>
            </a:r>
            <a:endParaRPr b="0" lang="en-US" sz="18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Often do not discriminate between subjects who eventually do or do not experience the outcome of interest</a:t>
            </a:r>
            <a:endParaRPr b="0" lang="en-US" sz="18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atistically significant associations (odds/hazard ratios, relative risks) merely indicate that more definitive evaluation of a new predictor is warranted.</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ue to these concerns, the questions that a systematic review can answer by summarizing a test</a:t>
            </a:r>
            <a:r>
              <a:rPr b="0" lang="ja-JP" sz="2000" spc="-1" strike="noStrike">
                <a:solidFill>
                  <a:srgbClr val="ffffff"/>
                </a:solidFill>
                <a:latin typeface="Trebuchet MS"/>
              </a:rPr>
              <a:t>’</a:t>
            </a:r>
            <a:r>
              <a:rPr b="0" lang="en-US" sz="2000" spc="-1" strike="noStrike">
                <a:solidFill>
                  <a:srgbClr val="ffffff"/>
                </a:solidFill>
                <a:latin typeface="Trebuchet MS"/>
              </a:rPr>
              <a:t>s association with an outcome are limited.</a:t>
            </a:r>
            <a:endParaRPr b="0" lang="en-US" sz="2000" spc="-1" strike="noStrike">
              <a:solidFill>
                <a:srgbClr val="ffffff"/>
              </a:solidFill>
              <a:latin typeface="Trebuchet MS"/>
            </a:endParaRPr>
          </a:p>
        </p:txBody>
      </p:sp>
      <p:sp>
        <p:nvSpPr>
          <p:cNvPr id="1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1 of 12)</a:t>
            </a:r>
            <a:endParaRPr b="1" lang="en-US" sz="2800" spc="-1" strike="noStrike">
              <a:solidFill>
                <a:srgbClr val="ffffff"/>
              </a:solidFill>
              <a:latin typeface="Trebuchet MS"/>
            </a:endParaRPr>
          </a:p>
        </p:txBody>
      </p:sp>
      <p:sp>
        <p:nvSpPr>
          <p:cNvPr id="144" name="TextBox 1"/>
          <p:cNvSpPr/>
          <p:nvPr/>
        </p:nvSpPr>
        <p:spPr>
          <a:xfrm>
            <a:off x="228600" y="6019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344240"/>
            <a:ext cx="8229600" cy="452268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scrimination statistics</a:t>
            </a:r>
            <a:endParaRPr b="0" lang="en-US" sz="2200" spc="-1" strike="noStrike">
              <a:solidFill>
                <a:srgbClr val="ffffff"/>
              </a:solidFill>
              <a:latin typeface="Trebuchet MS"/>
            </a:endParaRPr>
          </a:p>
          <a:p>
            <a:pPr lvl="1" marL="4017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dices of discrimination</a:t>
            </a:r>
            <a:endParaRPr b="0" lang="en-US" sz="20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stimates of sensitivity, specificity, and area under the receiver operating characteristic curve are calculated at one particular time.</a:t>
            </a:r>
            <a:endParaRPr b="0" lang="en-US" sz="18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y can be calculated retrospectively and compared when:</a:t>
            </a:r>
            <a:endParaRPr b="0" lang="en-US" sz="1800" spc="-1" strike="noStrike">
              <a:solidFill>
                <a:srgbClr val="ffffff"/>
              </a:solidFill>
              <a:latin typeface="Trebuchet MS"/>
            </a:endParaRPr>
          </a:p>
          <a:p>
            <a:pPr lvl="3" marL="149688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 new prognostic indicator is added to a predictive model</a:t>
            </a:r>
            <a:endParaRPr b="0" lang="en-US" sz="1800" spc="-1" strike="noStrike">
              <a:solidFill>
                <a:srgbClr val="ffffff"/>
              </a:solidFill>
              <a:latin typeface="Trebuchet MS"/>
            </a:endParaRPr>
          </a:p>
          <a:p>
            <a:pPr lvl="3" marL="149688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 prognostic test is compared to predictions made by other methods</a:t>
            </a:r>
            <a:endParaRPr b="0" lang="en-US" sz="1800" spc="-1" strike="noStrike">
              <a:solidFill>
                <a:srgbClr val="ffffff"/>
              </a:solidFill>
              <a:latin typeface="Trebuchet MS"/>
            </a:endParaRPr>
          </a:p>
          <a:p>
            <a:pPr lvl="1" marL="4017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trospective indices of discrimination do not:</a:t>
            </a:r>
            <a:endParaRPr b="0" lang="en-US" sz="20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ummarize predicted outcome probabilities</a:t>
            </a:r>
            <a:endParaRPr b="0" lang="en-US" sz="18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irectly address questions about the predictions on the basis of a new prognostic test or its impact on patient outcomes</a:t>
            </a:r>
            <a:endParaRPr b="0" lang="en-US" sz="1800" spc="-1" strike="noStrike">
              <a:solidFill>
                <a:srgbClr val="ffffff"/>
              </a:solidFill>
              <a:latin typeface="Trebuchet MS"/>
            </a:endParaRPr>
          </a:p>
        </p:txBody>
      </p:sp>
      <p:sp>
        <p:nvSpPr>
          <p:cNvPr id="1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2 of 12)</a:t>
            </a:r>
            <a:endParaRPr b="1" lang="en-US" sz="2800" spc="-1" strike="noStrike">
              <a:solidFill>
                <a:srgbClr val="ffffff"/>
              </a:solidFill>
              <a:latin typeface="Trebuchet MS"/>
            </a:endParaRPr>
          </a:p>
        </p:txBody>
      </p:sp>
      <p:sp>
        <p:nvSpPr>
          <p:cNvPr id="147" name="TextBox 1"/>
          <p:cNvSpPr/>
          <p:nvPr/>
        </p:nvSpPr>
        <p:spPr>
          <a:xfrm>
            <a:off x="228600" y="594360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298520"/>
            <a:ext cx="8229600" cy="4340160"/>
          </a:xfrm>
          <a:prstGeom prst="rect">
            <a:avLst/>
          </a:prstGeom>
          <a:noFill/>
          <a:ln w="0">
            <a:noFill/>
          </a:ln>
        </p:spPr>
        <p:txBody>
          <a:bodyPr lIns="0" rIns="0" tIns="0" bIns="0" anchor="t">
            <a:normAutofit/>
          </a:bodyPr>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classification tables are better suited for assessments of the clinical impact of prognostic tests.</a:t>
            </a:r>
            <a:endParaRPr b="0" lang="en-US" sz="24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y are not as common or reported as often as discrimination statistics.</a:t>
            </a:r>
            <a:endParaRPr b="0" lang="en-US" sz="20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using discrimination statistics, recognize that they change over time as more patients develop the outcome being predicted.</a:t>
            </a:r>
            <a:endParaRPr b="0" lang="en-US" sz="24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ime-dependent measures of discrimination statistics have been developed (e.g., Harrell</a:t>
            </a:r>
            <a:r>
              <a:rPr b="0" lang="ja-JP" sz="2000" spc="-1" strike="noStrike">
                <a:solidFill>
                  <a:srgbClr val="ffffff"/>
                </a:solidFill>
                <a:latin typeface="Trebuchet MS"/>
              </a:rPr>
              <a:t>’</a:t>
            </a:r>
            <a:r>
              <a:rPr b="0" lang="en-US" sz="2000" spc="-1" strike="noStrike">
                <a:solidFill>
                  <a:srgbClr val="ffffff"/>
                </a:solidFill>
                <a:latin typeface="Trebuchet MS"/>
              </a:rPr>
              <a:t>s C-statistic); however, examples of reviews using these measures were not found</a:t>
            </a:r>
            <a:endParaRPr b="0" lang="en-US" sz="2000" spc="-1" strike="noStrike">
              <a:solidFill>
                <a:srgbClr val="ffffff"/>
              </a:solidFill>
              <a:latin typeface="Trebuchet MS"/>
            </a:endParaRPr>
          </a:p>
        </p:txBody>
      </p:sp>
      <p:sp>
        <p:nvSpPr>
          <p:cNvPr id="1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3 of 12)</a:t>
            </a:r>
            <a:endParaRPr b="1" lang="en-US" sz="2800" spc="-1" strike="noStrike">
              <a:solidFill>
                <a:srgbClr val="ffffff"/>
              </a:solidFill>
              <a:latin typeface="Trebuchet MS"/>
            </a:endParaRPr>
          </a:p>
        </p:txBody>
      </p:sp>
      <p:sp>
        <p:nvSpPr>
          <p:cNvPr id="150" name="TextBox 1"/>
          <p:cNvSpPr/>
          <p:nvPr/>
        </p:nvSpPr>
        <p:spPr>
          <a:xfrm>
            <a:off x="228600" y="5943600"/>
            <a:ext cx="8610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298160"/>
            <a:ext cx="8229600" cy="456876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classification tables</a:t>
            </a:r>
            <a:endParaRPr b="0" lang="en-US" sz="26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r example:</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atients are placed into prognostic groups based on their Framingham cardiovascular risk scores.</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classification tables are then used to determine how adding a prognostic test reclassifies the patients into prognostic groups.</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deally, the classification of outcome probabilities into prognostic groups should be based on outcome probabilities that will lead to different courses of action.</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f not, then reclassifications might not have clinical utility; that is, they may not make a difference in patient care.</a:t>
            </a:r>
            <a:endParaRPr b="0" lang="en-US" sz="2000" spc="-1" strike="noStrike">
              <a:solidFill>
                <a:srgbClr val="ffffff"/>
              </a:solidFill>
              <a:latin typeface="Trebuchet MS"/>
            </a:endParaRPr>
          </a:p>
        </p:txBody>
      </p:sp>
      <p:sp>
        <p:nvSpPr>
          <p:cNvPr id="15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4 of 12)</a:t>
            </a:r>
            <a:endParaRPr b="1" lang="en-US" sz="2800" spc="-1" strike="noStrike">
              <a:solidFill>
                <a:srgbClr val="ffffff"/>
              </a:solidFill>
              <a:latin typeface="Trebuchet MS"/>
            </a:endParaRPr>
          </a:p>
        </p:txBody>
      </p:sp>
      <p:sp>
        <p:nvSpPr>
          <p:cNvPr id="153" name="TextBox 1"/>
          <p:cNvSpPr/>
          <p:nvPr/>
        </p:nvSpPr>
        <p:spPr>
          <a:xfrm>
            <a:off x="228600" y="6019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600200" y="1298520"/>
            <a:ext cx="7391520" cy="301680"/>
          </a:xfrm>
          <a:prstGeom prst="rect">
            <a:avLst/>
          </a:prstGeom>
          <a:noFill/>
          <a:ln w="0">
            <a:noFill/>
          </a:ln>
        </p:spPr>
        <p:txBody>
          <a:bodyPr lIns="0" rIns="0" tIns="0" bIns="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Sample Reclassification Table Based on Predicted Outcome Probabilities</a:t>
            </a:r>
            <a:endParaRPr b="0" lang="en-US" sz="1600" spc="-1" strike="noStrike">
              <a:solidFill>
                <a:srgbClr val="ffffff"/>
              </a:solidFill>
              <a:latin typeface="Trebuchet MS"/>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p:txBody>
      </p:sp>
      <p:sp>
        <p:nvSpPr>
          <p:cNvPr id="1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5 of 12)</a:t>
            </a:r>
            <a:endParaRPr b="1" lang="en-US" sz="2800" spc="-1" strike="noStrike">
              <a:solidFill>
                <a:srgbClr val="ffffff"/>
              </a:solidFill>
              <a:latin typeface="Trebuchet MS"/>
            </a:endParaRPr>
          </a:p>
        </p:txBody>
      </p:sp>
      <p:sp>
        <p:nvSpPr>
          <p:cNvPr id="156" name="Content Placeholder 1"/>
          <p:cNvSpPr/>
          <p:nvPr/>
        </p:nvSpPr>
        <p:spPr>
          <a:xfrm>
            <a:off x="304920" y="1905120"/>
            <a:ext cx="1295280" cy="3730680"/>
          </a:xfrm>
          <a:prstGeom prst="rect">
            <a:avLst/>
          </a:prstGeom>
          <a:noFill/>
          <a:ln w="0">
            <a:noFill/>
          </a:ln>
        </p:spPr>
        <p:style>
          <a:lnRef idx="0"/>
          <a:fillRef idx="0"/>
          <a:effectRef idx="0"/>
          <a:fontRef idx="minor"/>
        </p:style>
        <p:txBody>
          <a:bodyPr lIns="0" rIns="0" tIns="0" bIns="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dding the new test reclassified 10% of the 1000 people originally in the lower risk group and 25% of the 400 people in the higher risk group</a:t>
            </a:r>
            <a:endParaRPr b="0" lang="en-US" sz="1800" spc="-1" strike="noStrike">
              <a:solidFill>
                <a:srgbClr val="000000"/>
              </a:solidFill>
              <a:latin typeface="Palatino Linotype"/>
            </a:endParaRPr>
          </a:p>
        </p:txBody>
      </p:sp>
      <p:graphicFrame>
        <p:nvGraphicFramePr>
          <p:cNvPr id="157" name=""/>
          <p:cNvGraphicFramePr/>
          <p:nvPr/>
        </p:nvGraphicFramePr>
        <p:xfrm>
          <a:off x="1828800" y="1616040"/>
          <a:ext cx="6953400" cy="4253040"/>
        </p:xfrm>
        <a:graphic>
          <a:graphicData uri="http://schemas.openxmlformats.org/drawingml/2006/table">
            <a:tbl>
              <a:tblPr/>
              <a:tblGrid>
                <a:gridCol w="3254400"/>
                <a:gridCol w="1332000"/>
                <a:gridCol w="1182600"/>
                <a:gridCol w="1184400"/>
              </a:tblGrid>
              <a:tr h="594360">
                <a:tc rowSpan="2">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Grouped mortality probabilities estimated by the first prognostic test </a:t>
                      </a:r>
                      <a:endParaRPr b="0" lang="en-US" sz="13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gridSpan="3">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Grouped mortality probabilities estimated by the first prognostic test + a new prognostic test</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792360">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0 to 0.10</a:t>
                      </a:r>
                      <a:endParaRPr b="0" lang="en-US" sz="13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gt; 0.10 </a:t>
                      </a:r>
                      <a:endParaRPr b="0" lang="en-US" sz="13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Total</a:t>
                      </a:r>
                      <a:endParaRPr b="0" lang="en-US" sz="13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119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0 to 0.10 </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atients in prognostic group</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Mortality predictions using 1</a:t>
                      </a:r>
                      <a:r>
                        <a:rPr b="1" lang="en-US" sz="1300" spc="-1" strike="noStrike" baseline="30000">
                          <a:solidFill>
                            <a:srgbClr val="000000"/>
                          </a:solidFill>
                          <a:latin typeface="Palatino Linotype"/>
                        </a:rPr>
                        <a:t>st</a:t>
                      </a:r>
                      <a:r>
                        <a:rPr b="1" lang="en-US" sz="1300" spc="-1" strike="noStrike">
                          <a:solidFill>
                            <a:srgbClr val="000000"/>
                          </a:solidFill>
                          <a:latin typeface="Palatino Linotype"/>
                        </a:rPr>
                        <a:t> test </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Mortality prediction using both tests </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Observed mortality</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 </a:t>
                      </a:r>
                      <a:endParaRPr b="0" lang="en-US" sz="13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900</a:t>
                      </a:r>
                      <a:endParaRPr b="0" lang="en-US" sz="13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4.0%</a:t>
                      </a:r>
                      <a:endParaRPr b="0" lang="en-US" sz="13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3.8%</a:t>
                      </a:r>
                      <a:endParaRPr b="0" lang="en-US" sz="13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3.9%</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 </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100 (10%)</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8.0%</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11.0%</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12.0%</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 </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1000</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4.4%</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4.7%</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19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gt; 0.10 </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atients in prognostic group</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Mortality predictions using 1</a:t>
                      </a:r>
                      <a:r>
                        <a:rPr b="1" lang="en-US" sz="1300" spc="-1" strike="noStrike" baseline="30000">
                          <a:solidFill>
                            <a:srgbClr val="000000"/>
                          </a:solidFill>
                          <a:latin typeface="Palatino Linotype"/>
                        </a:rPr>
                        <a:t>st</a:t>
                      </a:r>
                      <a:r>
                        <a:rPr b="1" lang="en-US" sz="1300" spc="-1" strike="noStrike">
                          <a:solidFill>
                            <a:srgbClr val="000000"/>
                          </a:solidFill>
                          <a:latin typeface="Palatino Linotype"/>
                        </a:rPr>
                        <a:t> test </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Mortality prediction using both tests </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Observed mortality</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 </a:t>
                      </a:r>
                      <a:endParaRPr b="0" lang="en-US" sz="13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100 (25%)</a:t>
                      </a:r>
                      <a:endParaRPr b="0" lang="en-US" sz="13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15.0%</a:t>
                      </a:r>
                      <a:endParaRPr b="0" lang="en-US" sz="13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9.0%</a:t>
                      </a:r>
                      <a:endParaRPr b="0" lang="en-US" sz="13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10.0%</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 </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300</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17.0%</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19.0%</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19.0%</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 </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400</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16.5%</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16.8%</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945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Total</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atients in prognostic group</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Mortality prediction using both tests </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Observed mortality</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 </a:t>
                      </a:r>
                      <a:endParaRPr b="0" lang="en-US" sz="13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1000</a:t>
                      </a:r>
                      <a:endParaRPr b="0" lang="en-US" sz="13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4.3%</a:t>
                      </a:r>
                      <a:endParaRPr b="0" lang="en-US" sz="13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4.5%</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 </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400</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17.0%</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17.2%</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 </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1400</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8.2%</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bl>
          </a:graphicData>
        </a:graphic>
      </p:graphicFrame>
      <p:sp>
        <p:nvSpPr>
          <p:cNvPr id="158" name="TextBox 1"/>
          <p:cNvSpPr/>
          <p:nvPr/>
        </p:nvSpPr>
        <p:spPr>
          <a:xfrm>
            <a:off x="1828800" y="5943600"/>
            <a:ext cx="7010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294920"/>
            <a:ext cx="8229600" cy="5132520"/>
          </a:xfrm>
          <a:prstGeom prst="rect">
            <a:avLst/>
          </a:prstGeom>
          <a:noFill/>
          <a:ln w="0">
            <a:noFill/>
          </a:ln>
        </p:spPr>
        <p:txBody>
          <a:bodyPr lIns="0" rIns="0" tIns="0" bIns="0" anchor="t">
            <a:normAutofit/>
          </a:bodyPr>
          <a:p>
            <a:pPr marL="290520" indent="-2905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classification tables provide information about:</a:t>
            </a:r>
            <a:endParaRPr b="0" lang="en-US" sz="22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bserved outcome probabilities in each prognostic group</a:t>
            </a:r>
            <a:endParaRPr b="0" lang="en-US" sz="20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dicted probabilities</a:t>
            </a:r>
            <a:endParaRPr b="0" lang="en-US" sz="2000" spc="-1" strike="noStrike">
              <a:solidFill>
                <a:srgbClr val="ffffff"/>
              </a:solidFill>
              <a:latin typeface="Trebuchet MS"/>
            </a:endParaRPr>
          </a:p>
          <a:p>
            <a:pPr marL="290520" indent="-2905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rawbacks</a:t>
            </a:r>
            <a:endParaRPr b="0" lang="en-US" sz="22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formation is often limited to a single follow-up time.</a:t>
            </a:r>
            <a:endParaRPr b="0" lang="en-US" sz="20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precision of estimates may not be reported.</a:t>
            </a:r>
            <a:endParaRPr b="0" lang="en-US" sz="2000" spc="-1" strike="noStrike">
              <a:solidFill>
                <a:srgbClr val="ffffff"/>
              </a:solidFill>
              <a:latin typeface="Trebuchet MS"/>
            </a:endParaRPr>
          </a:p>
          <a:p>
            <a:pPr marL="290520" indent="-2905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fferences between estimated probabilities and observed outcomes for each prognostic group may be analyzed by using the chi-square goodness-of-fit test.</a:t>
            </a:r>
            <a:endParaRPr b="0" lang="en-US" sz="22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results will not help determine if differences in predicted and observed probabilities are better when a new prognostic test is added.</a:t>
            </a:r>
            <a:endParaRPr b="0" lang="en-US" sz="2000" spc="-1" strike="noStrike">
              <a:solidFill>
                <a:srgbClr val="ffffff"/>
              </a:solidFill>
              <a:latin typeface="Trebuchet MS"/>
            </a:endParaRPr>
          </a:p>
        </p:txBody>
      </p:sp>
      <p:sp>
        <p:nvSpPr>
          <p:cNvPr id="16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6 of 12)</a:t>
            </a:r>
            <a:endParaRPr b="1" lang="en-US" sz="2800" spc="-1" strike="noStrike">
              <a:solidFill>
                <a:srgbClr val="ffffff"/>
              </a:solidFill>
              <a:latin typeface="Trebuchet MS"/>
            </a:endParaRPr>
          </a:p>
        </p:txBody>
      </p:sp>
      <p:sp>
        <p:nvSpPr>
          <p:cNvPr id="161" name="TextBox 1"/>
          <p:cNvSpPr/>
          <p:nvPr/>
        </p:nvSpPr>
        <p:spPr>
          <a:xfrm>
            <a:off x="228600" y="594360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net reclassification improvement statistic is a summary statistic of separate reclassification table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ne table is for those who did experience the outcome event within a particular time period.</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other table is for those who did not experience the outcome event.</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 a group experiencing the outcome of interest (e.g., those who died), net improvement = the proportion of patients reclassified into a higher probability group minus the proportion reclassified into a lower probability group.</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a 2 x 2 table, this is an estimated change in test sensitivity.</a:t>
            </a:r>
            <a:endParaRPr b="0" lang="en-US" sz="2000" spc="-1" strike="noStrike">
              <a:solidFill>
                <a:srgbClr val="ffffff"/>
              </a:solidFill>
              <a:latin typeface="Trebuchet MS"/>
            </a:endParaRPr>
          </a:p>
        </p:txBody>
      </p:sp>
      <p:sp>
        <p:nvSpPr>
          <p:cNvPr id="1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7 of 12)</a:t>
            </a:r>
            <a:endParaRPr b="1" lang="en-US" sz="2800" spc="-1" strike="noStrike">
              <a:solidFill>
                <a:srgbClr val="ffffff"/>
              </a:solidFill>
              <a:latin typeface="Trebuchet MS"/>
            </a:endParaRPr>
          </a:p>
        </p:txBody>
      </p:sp>
      <p:sp>
        <p:nvSpPr>
          <p:cNvPr id="164" name="TextBox 1"/>
          <p:cNvSpPr/>
          <p:nvPr/>
        </p:nvSpPr>
        <p:spPr>
          <a:xfrm>
            <a:off x="228600" y="5867280"/>
            <a:ext cx="8458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298160"/>
            <a:ext cx="8229600" cy="4187880"/>
          </a:xfrm>
          <a:prstGeom prst="rect">
            <a:avLst/>
          </a:prstGeom>
          <a:noFill/>
          <a:ln w="0">
            <a:noFill/>
          </a:ln>
        </p:spPr>
        <p:txBody>
          <a:bodyPr lIns="0" rIns="0" tIns="0" bIns="0" anchor="t">
            <a:normAutofit/>
          </a:bodyPr>
          <a:p>
            <a:pPr marL="341280" indent="-3412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r those who do not experience an outcome (e.g., those who survived), the inverse is used: net improvement = the proportion reclassified into a lower-risk group minus the proportion reclassified into the higher-risk group.</a:t>
            </a:r>
            <a:endParaRPr b="0" lang="en-US" sz="2200" spc="-1" strike="noStrike">
              <a:solidFill>
                <a:srgbClr val="ffffff"/>
              </a:solidFill>
              <a:latin typeface="Trebuchet MS"/>
            </a:endParaRPr>
          </a:p>
          <a:p>
            <a:pPr lvl="1" marL="744480" indent="-342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a 2x2 table, this is the estimated change in test specificity.</a:t>
            </a:r>
            <a:endParaRPr b="0" lang="en-US" sz="2000" spc="-1" strike="noStrike">
              <a:solidFill>
                <a:srgbClr val="ffffff"/>
              </a:solidFill>
              <a:latin typeface="Trebuchet MS"/>
            </a:endParaRPr>
          </a:p>
          <a:p>
            <a:pPr marL="341280" indent="-3412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net reclassification improvement (NRI) statistic is the sum of net improvement in classification in patients who did or did not experience the outcome.</a:t>
            </a:r>
            <a:endParaRPr b="0" lang="en-US" sz="2200" spc="-1" strike="noStrike">
              <a:solidFill>
                <a:srgbClr val="ffffff"/>
              </a:solidFill>
              <a:latin typeface="Trebuchet MS"/>
            </a:endParaRPr>
          </a:p>
          <a:p>
            <a:pPr marL="341280" indent="-3412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integrated discrimination index (IDI) uses mean changes in individual predicted probabilities instead of net improvement in the calculations above.</a:t>
            </a:r>
            <a:endParaRPr b="0" lang="en-US" sz="2200" spc="-1" strike="noStrike">
              <a:solidFill>
                <a:srgbClr val="ffffff"/>
              </a:solidFill>
              <a:latin typeface="Trebuchet MS"/>
            </a:endParaRPr>
          </a:p>
        </p:txBody>
      </p:sp>
      <p:sp>
        <p:nvSpPr>
          <p:cNvPr id="1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8 of 12)</a:t>
            </a:r>
            <a:endParaRPr b="1" lang="en-US" sz="2800" spc="-1" strike="noStrike">
              <a:solidFill>
                <a:srgbClr val="ffffff"/>
              </a:solidFill>
              <a:latin typeface="Trebuchet MS"/>
            </a:endParaRPr>
          </a:p>
        </p:txBody>
      </p:sp>
      <p:sp>
        <p:nvSpPr>
          <p:cNvPr id="167" name="TextBox 1"/>
          <p:cNvSpPr/>
          <p:nvPr/>
        </p:nvSpPr>
        <p:spPr>
          <a:xfrm>
            <a:off x="0" y="586728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57200" y="1267920"/>
            <a:ext cx="8229600" cy="4599000"/>
          </a:xfrm>
          <a:prstGeom prst="rect">
            <a:avLst/>
          </a:prstGeom>
          <a:noFill/>
          <a:ln w="0">
            <a:noFill/>
          </a:ln>
        </p:spPr>
        <p:txBody>
          <a:bodyPr lIns="0" rIns="0" tIns="0" bIns="0" anchor="t">
            <a:normAutofit fontScale="99000"/>
          </a:bodyPr>
          <a:p>
            <a:pPr lvl="1" marL="287280" indent="-28728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e </a:t>
            </a:r>
            <a:r>
              <a:rPr b="0" lang="ja-JP" sz="2100" spc="-1" strike="noStrike">
                <a:solidFill>
                  <a:srgbClr val="ffffff"/>
                </a:solidFill>
                <a:latin typeface="Trebuchet MS"/>
              </a:rPr>
              <a:t>“</a:t>
            </a:r>
            <a:r>
              <a:rPr b="0" lang="en-US" sz="2100" spc="-1" strike="noStrike">
                <a:solidFill>
                  <a:srgbClr val="ffffff"/>
                </a:solidFill>
                <a:latin typeface="Trebuchet MS"/>
              </a:rPr>
              <a:t>continuous formulation</a:t>
            </a:r>
            <a:r>
              <a:rPr b="0" lang="ja-JP" sz="2100" spc="-1" strike="noStrike">
                <a:solidFill>
                  <a:srgbClr val="ffffff"/>
                </a:solidFill>
                <a:latin typeface="Trebuchet MS"/>
              </a:rPr>
              <a:t>”</a:t>
            </a:r>
            <a:r>
              <a:rPr b="0" lang="en-US" sz="2100" spc="-1" strike="noStrike">
                <a:solidFill>
                  <a:srgbClr val="ffffff"/>
                </a:solidFill>
                <a:latin typeface="Trebuchet MS"/>
              </a:rPr>
              <a:t> version of the net reclassification improvement (NRI) statistic calculates the:</a:t>
            </a:r>
            <a:endParaRPr b="0" lang="en-US" sz="2100" spc="-1" strike="noStrike">
              <a:solidFill>
                <a:srgbClr val="ffffff"/>
              </a:solidFill>
              <a:latin typeface="Trebuchet MS"/>
            </a:endParaRPr>
          </a:p>
          <a:p>
            <a:pPr lvl="1" marL="287280" indent="-28728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Probability of predicted event among those who have an </a:t>
            </a:r>
            <a:r>
              <a:rPr b="0" lang="en-US" sz="1900" spc="-1" strike="noStrike" u="sng">
                <a:solidFill>
                  <a:srgbClr val="ffffff"/>
                </a:solidFill>
                <a:uFillTx/>
                <a:latin typeface="Trebuchet MS"/>
              </a:rPr>
              <a:t>increase</a:t>
            </a:r>
            <a:r>
              <a:rPr b="0" lang="en-US" sz="1900" spc="-1" strike="noStrike">
                <a:solidFill>
                  <a:srgbClr val="ffffff"/>
                </a:solidFill>
                <a:latin typeface="Trebuchet MS"/>
              </a:rPr>
              <a:t> in predicted probability after new test</a:t>
            </a:r>
            <a:endParaRPr b="0" lang="en-US" sz="1900" spc="-1" strike="noStrike">
              <a:solidFill>
                <a:srgbClr val="ffffff"/>
              </a:solidFill>
              <a:latin typeface="Trebuchet MS"/>
            </a:endParaRPr>
          </a:p>
          <a:p>
            <a:pPr lvl="1" marL="287280" indent="-28728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Probability of predicted event among those who have a </a:t>
            </a:r>
            <a:r>
              <a:rPr b="0" lang="en-US" sz="1900" spc="-1" strike="noStrike" u="sng">
                <a:solidFill>
                  <a:srgbClr val="ffffff"/>
                </a:solidFill>
                <a:uFillTx/>
                <a:latin typeface="Trebuchet MS"/>
              </a:rPr>
              <a:t>decrease</a:t>
            </a:r>
            <a:r>
              <a:rPr b="0" lang="en-US" sz="1900" spc="-1" strike="noStrike">
                <a:solidFill>
                  <a:srgbClr val="ffffff"/>
                </a:solidFill>
                <a:latin typeface="Trebuchet MS"/>
              </a:rPr>
              <a:t> in predicted probability after new test</a:t>
            </a:r>
            <a:endParaRPr b="0" lang="en-US" sz="1900" spc="-1" strike="noStrike">
              <a:solidFill>
                <a:srgbClr val="ffffff"/>
              </a:solidFill>
              <a:latin typeface="Trebuchet MS"/>
            </a:endParaRPr>
          </a:p>
          <a:p>
            <a:pPr lvl="1" marL="287280" indent="-28728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Event probability in the overall sample</a:t>
            </a:r>
            <a:endParaRPr b="0" lang="en-US" sz="1900" spc="-1" strike="noStrike">
              <a:solidFill>
                <a:srgbClr val="ffffff"/>
              </a:solidFill>
              <a:latin typeface="Trebuchet MS"/>
            </a:endParaRPr>
          </a:p>
          <a:p>
            <a:pPr marL="287280" indent="-27972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With this version of the NRI statistic:</a:t>
            </a:r>
            <a:endParaRPr b="0" lang="en-US" sz="2100" spc="-1" strike="noStrike">
              <a:solidFill>
                <a:srgbClr val="ffffff"/>
              </a:solidFill>
              <a:latin typeface="Trebuchet MS"/>
            </a:endParaRPr>
          </a:p>
          <a:p>
            <a:pPr lvl="1" marL="287280" indent="-28728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NRI statistic can be estimated by time-to-event analysis, but the three probabilities still represent only a single point of followup.</a:t>
            </a:r>
            <a:endParaRPr b="0" lang="en-US" sz="1900" spc="-1" strike="noStrike">
              <a:solidFill>
                <a:srgbClr val="ffffff"/>
              </a:solidFill>
              <a:latin typeface="Trebuchet MS"/>
            </a:endParaRPr>
          </a:p>
          <a:p>
            <a:pPr lvl="1" marL="287280" indent="-28728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NRI statistic does not require clinically meaningful prognostic categories, since not all increases/decreases in probability prompt a change in patient management. </a:t>
            </a:r>
            <a:endParaRPr b="0" lang="en-US" sz="1900" spc="-1" strike="noStrike">
              <a:solidFill>
                <a:srgbClr val="ffffff"/>
              </a:solidFill>
              <a:latin typeface="Trebuchet MS"/>
            </a:endParaRPr>
          </a:p>
          <a:p>
            <a:pPr lvl="1" marL="287280" indent="-28728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NRI statistic focuses instead on subjects with a higher or lower predicted outcome probability when a new test is used.</a:t>
            </a:r>
            <a:endParaRPr b="0" lang="en-US" sz="1900" spc="-1" strike="noStrike">
              <a:solidFill>
                <a:srgbClr val="ffffff"/>
              </a:solidFill>
              <a:latin typeface="Trebuchet MS"/>
            </a:endParaRPr>
          </a:p>
        </p:txBody>
      </p:sp>
      <p:sp>
        <p:nvSpPr>
          <p:cNvPr id="16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9 of 12)</a:t>
            </a:r>
            <a:endParaRPr b="1" lang="en-US" sz="2800" spc="-1" strike="noStrike">
              <a:solidFill>
                <a:srgbClr val="ffffff"/>
              </a:solidFill>
              <a:latin typeface="Trebuchet MS"/>
            </a:endParaRPr>
          </a:p>
        </p:txBody>
      </p:sp>
      <p:sp>
        <p:nvSpPr>
          <p:cNvPr id="170" name="TextBox 1"/>
          <p:cNvSpPr/>
          <p:nvPr/>
        </p:nvSpPr>
        <p:spPr>
          <a:xfrm>
            <a:off x="304920" y="5943600"/>
            <a:ext cx="8839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pooling net reclassification improvement (NRI) or integrated discrimination index (IDI) estimates from different studies, the following should not differ substantially:</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haracteristics of prognostic group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finition of outcome event</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verall probability of event</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llowup time</a:t>
            </a:r>
            <a:endParaRPr b="0" lang="en-US" sz="2200" spc="-1" strike="noStrike">
              <a:solidFill>
                <a:srgbClr val="ffffff"/>
              </a:solidFill>
              <a:latin typeface="Trebuchet MS"/>
            </a:endParaRPr>
          </a:p>
        </p:txBody>
      </p:sp>
      <p:sp>
        <p:nvSpPr>
          <p:cNvPr id="17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10 of 12)</a:t>
            </a:r>
            <a:endParaRPr b="1" lang="en-US" sz="2800" spc="-1" strike="noStrike">
              <a:solidFill>
                <a:srgbClr val="ffffff"/>
              </a:solidFill>
              <a:latin typeface="Trebuchet MS"/>
            </a:endParaRPr>
          </a:p>
        </p:txBody>
      </p:sp>
      <p:sp>
        <p:nvSpPr>
          <p:cNvPr id="173" name="TextBox 1"/>
          <p:cNvSpPr/>
          <p:nvPr/>
        </p:nvSpPr>
        <p:spPr>
          <a:xfrm>
            <a:off x="0" y="594360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298520"/>
            <a:ext cx="8229600" cy="395928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velop the review topic and framework.</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arch for studie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lect studies and assess quality.</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tract statistics to evaluate test performance .</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duct meta-analyses of estimates of outcome probabilities.</a:t>
            </a:r>
            <a:endParaRPr b="0" lang="en-US" sz="2400" spc="-1" strike="noStrike">
              <a:solidFill>
                <a:srgbClr val="ffffff"/>
              </a:solidFill>
              <a:latin typeface="Trebuchet MS"/>
            </a:endParaRPr>
          </a:p>
        </p:txBody>
      </p:sp>
      <p:sp>
        <p:nvSpPr>
          <p:cNvPr id="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s Involved in Conducting a Systematic Review of a Prognostic Tests </a:t>
            </a:r>
            <a:endParaRPr b="1" lang="en-US" sz="2800" spc="-1" strike="noStrike">
              <a:solidFill>
                <a:srgbClr val="ffffff"/>
              </a:solidFill>
              <a:latin typeface="Trebuchet MS"/>
            </a:endParaRPr>
          </a:p>
        </p:txBody>
      </p:sp>
      <p:sp>
        <p:nvSpPr>
          <p:cNvPr id="92" name="TextBox 1"/>
          <p:cNvSpPr/>
          <p:nvPr/>
        </p:nvSpPr>
        <p:spPr>
          <a:xfrm>
            <a:off x="0" y="579132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dictive values</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reatment decisions based on outcome probabilities are often dichotomous.</a:t>
            </a:r>
            <a:endParaRPr b="0" lang="en-US" sz="18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or example, </a:t>
            </a:r>
            <a:r>
              <a:rPr b="0" lang="ja-JP" sz="1800" spc="-1" strike="noStrike">
                <a:solidFill>
                  <a:srgbClr val="ffffff"/>
                </a:solidFill>
                <a:latin typeface="Trebuchet MS"/>
              </a:rPr>
              <a:t>“</a:t>
            </a:r>
            <a:r>
              <a:rPr b="0" lang="en-US" sz="1800" spc="-1" strike="noStrike">
                <a:solidFill>
                  <a:srgbClr val="ffffff"/>
                </a:solidFill>
                <a:latin typeface="Trebuchet MS"/>
              </a:rPr>
              <a:t>treat those at high risk</a:t>
            </a:r>
            <a:r>
              <a:rPr b="0" lang="ja-JP" sz="1800" spc="-1" strike="noStrike">
                <a:solidFill>
                  <a:srgbClr val="ffffff"/>
                </a:solidFill>
                <a:latin typeface="Trebuchet MS"/>
              </a:rPr>
              <a:t>”</a:t>
            </a:r>
            <a:r>
              <a:rPr b="0" lang="en-US" sz="1800" spc="-1" strike="noStrike">
                <a:solidFill>
                  <a:srgbClr val="ffffff"/>
                </a:solidFill>
                <a:latin typeface="Trebuchet MS"/>
              </a:rPr>
              <a:t> and </a:t>
            </a:r>
            <a:r>
              <a:rPr b="0" lang="ja-JP" sz="1800" spc="-1" strike="noStrike">
                <a:solidFill>
                  <a:srgbClr val="ffffff"/>
                </a:solidFill>
                <a:latin typeface="Trebuchet MS"/>
              </a:rPr>
              <a:t>“</a:t>
            </a:r>
            <a:r>
              <a:rPr b="0" lang="en-US" sz="1800" spc="-1" strike="noStrike">
                <a:solidFill>
                  <a:srgbClr val="ffffff"/>
                </a:solidFill>
                <a:latin typeface="Trebuchet MS"/>
              </a:rPr>
              <a:t>do not treat those at low risk</a:t>
            </a:r>
            <a:r>
              <a:rPr b="0" lang="ja-JP" sz="1800" spc="-1" strike="noStrike">
                <a:solidFill>
                  <a:srgbClr val="ffffff"/>
                </a:solidFill>
                <a:latin typeface="Trebuchet MS"/>
              </a:rPr>
              <a:t>”</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f patients would be treated because a test indicates they are at </a:t>
            </a:r>
            <a:r>
              <a:rPr b="0" lang="ja-JP" sz="1800" spc="-1" strike="noStrike">
                <a:solidFill>
                  <a:srgbClr val="ffffff"/>
                </a:solidFill>
                <a:latin typeface="Trebuchet MS"/>
              </a:rPr>
              <a:t>“</a:t>
            </a:r>
            <a:r>
              <a:rPr b="0" lang="en-US" sz="1800" spc="-1" strike="noStrike">
                <a:solidFill>
                  <a:srgbClr val="ffffff"/>
                </a:solidFill>
                <a:latin typeface="Trebuchet MS"/>
              </a:rPr>
              <a:t>high risk,</a:t>
            </a:r>
            <a:r>
              <a:rPr b="0" lang="ja-JP" sz="1800" spc="-1" strike="noStrike">
                <a:solidFill>
                  <a:srgbClr val="ffffff"/>
                </a:solidFill>
                <a:latin typeface="Trebuchet MS"/>
              </a:rPr>
              <a:t>”</a:t>
            </a:r>
            <a:r>
              <a:rPr b="0" lang="en-US" sz="1800" spc="-1" strike="noStrike">
                <a:solidFill>
                  <a:srgbClr val="ffffff"/>
                </a:solidFill>
                <a:latin typeface="Trebuchet MS"/>
              </a:rPr>
              <a:t> then the observed time-dependent percentages of patients developing the outcome (without treatment) are positive predictive values.</a:t>
            </a:r>
            <a:endParaRPr b="0" lang="en-US" sz="18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at is, the proportion of those who have a </a:t>
            </a:r>
            <a:r>
              <a:rPr b="0" lang="ja-JP" sz="1800" spc="-1" strike="noStrike">
                <a:solidFill>
                  <a:srgbClr val="ffffff"/>
                </a:solidFill>
                <a:latin typeface="Trebuchet MS"/>
              </a:rPr>
              <a:t>“</a:t>
            </a:r>
            <a:r>
              <a:rPr b="0" lang="en-US" sz="1800" spc="-1" strike="noStrike">
                <a:solidFill>
                  <a:srgbClr val="ffffff"/>
                </a:solidFill>
                <a:latin typeface="Trebuchet MS"/>
              </a:rPr>
              <a:t>positive</a:t>
            </a:r>
            <a:r>
              <a:rPr b="0" lang="ja-JP" sz="1800" spc="-1" strike="noStrike">
                <a:solidFill>
                  <a:srgbClr val="ffffff"/>
                </a:solidFill>
                <a:latin typeface="Trebuchet MS"/>
              </a:rPr>
              <a:t>”</a:t>
            </a:r>
            <a:r>
              <a:rPr b="0" lang="en-US" sz="1800" spc="-1" strike="noStrike">
                <a:solidFill>
                  <a:srgbClr val="ffffff"/>
                </a:solidFill>
                <a:latin typeface="Trebuchet MS"/>
              </a:rPr>
              <a:t> prognostic test result who end up having the event.</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f patients would not be treated because they are at </a:t>
            </a:r>
            <a:r>
              <a:rPr b="0" lang="ja-JP" sz="1800" spc="-1" strike="noStrike">
                <a:solidFill>
                  <a:srgbClr val="ffffff"/>
                </a:solidFill>
                <a:latin typeface="Trebuchet MS"/>
              </a:rPr>
              <a:t>“</a:t>
            </a:r>
            <a:r>
              <a:rPr b="0" lang="en-US" sz="1800" spc="-1" strike="noStrike">
                <a:solidFill>
                  <a:srgbClr val="ffffff"/>
                </a:solidFill>
                <a:latin typeface="Trebuchet MS"/>
              </a:rPr>
              <a:t>low risk,</a:t>
            </a:r>
            <a:r>
              <a:rPr b="0" lang="ja-JP" sz="1800" spc="-1" strike="noStrike">
                <a:solidFill>
                  <a:srgbClr val="ffffff"/>
                </a:solidFill>
                <a:latin typeface="Trebuchet MS"/>
              </a:rPr>
              <a:t>”</a:t>
            </a:r>
            <a:r>
              <a:rPr b="0" lang="en-US" sz="1800" spc="-1" strike="noStrike">
                <a:solidFill>
                  <a:srgbClr val="ffffff"/>
                </a:solidFill>
                <a:latin typeface="Trebuchet MS"/>
              </a:rPr>
              <a:t> then:     1 </a:t>
            </a:r>
            <a:r>
              <a:rPr b="0" lang="en-US" sz="1800" spc="-1" strike="noStrike">
                <a:solidFill>
                  <a:srgbClr val="ffffff"/>
                </a:solidFill>
                <a:latin typeface="Arial"/>
                <a:ea typeface="Arial"/>
              </a:rPr>
              <a:t>–</a:t>
            </a:r>
            <a:r>
              <a:rPr b="0" lang="en-US" sz="1800" spc="-1" strike="noStrike">
                <a:solidFill>
                  <a:srgbClr val="ffffff"/>
                </a:solidFill>
                <a:latin typeface="Trebuchet MS"/>
              </a:rPr>
              <a:t> (observed outcome probabilities) = negative predictive values.</a:t>
            </a:r>
            <a:endParaRPr b="0" lang="en-US" sz="18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at is, the proportion of those who have a </a:t>
            </a:r>
            <a:r>
              <a:rPr b="0" lang="ja-JP" sz="1800" spc="-1" strike="noStrike">
                <a:solidFill>
                  <a:srgbClr val="ffffff"/>
                </a:solidFill>
                <a:latin typeface="Trebuchet MS"/>
              </a:rPr>
              <a:t>“</a:t>
            </a:r>
            <a:r>
              <a:rPr b="0" lang="en-US" sz="1800" spc="-1" strike="noStrike">
                <a:solidFill>
                  <a:srgbClr val="ffffff"/>
                </a:solidFill>
                <a:latin typeface="Trebuchet MS"/>
              </a:rPr>
              <a:t>negative</a:t>
            </a:r>
            <a:r>
              <a:rPr b="0" lang="ja-JP" sz="1800" spc="-1" strike="noStrike">
                <a:solidFill>
                  <a:srgbClr val="ffffff"/>
                </a:solidFill>
                <a:latin typeface="Trebuchet MS"/>
              </a:rPr>
              <a:t>”</a:t>
            </a:r>
            <a:r>
              <a:rPr b="0" lang="en-US" sz="1800" spc="-1" strike="noStrike">
                <a:solidFill>
                  <a:srgbClr val="ffffff"/>
                </a:solidFill>
                <a:latin typeface="Trebuchet MS"/>
              </a:rPr>
              <a:t> prognostic test result who do not end up having the event.</a:t>
            </a:r>
            <a:endParaRPr b="0" lang="en-US" sz="1800" spc="-1" strike="noStrike">
              <a:solidFill>
                <a:srgbClr val="ffffff"/>
              </a:solidFill>
              <a:latin typeface="Trebuchet MS"/>
            </a:endParaRPr>
          </a:p>
        </p:txBody>
      </p:sp>
      <p:sp>
        <p:nvSpPr>
          <p:cNvPr id="17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11 of 12)</a:t>
            </a:r>
            <a:endParaRPr b="1" lang="en-US" sz="2800" spc="-1" strike="noStrike">
              <a:solidFill>
                <a:srgbClr val="ffffff"/>
              </a:solidFill>
              <a:latin typeface="Trebuchet MS"/>
            </a:endParaRPr>
          </a:p>
        </p:txBody>
      </p:sp>
      <p:sp>
        <p:nvSpPr>
          <p:cNvPr id="176" name="TextBox 1"/>
          <p:cNvSpPr/>
          <p:nvPr/>
        </p:nvSpPr>
        <p:spPr>
          <a:xfrm>
            <a:off x="228600" y="601992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298520"/>
            <a:ext cx="8229600" cy="4827600"/>
          </a:xfrm>
          <a:prstGeom prst="rect">
            <a:avLst/>
          </a:prstGeom>
          <a:noFill/>
          <a:ln w="0">
            <a:noFill/>
          </a:ln>
        </p:spPr>
        <p:txBody>
          <a:bodyPr lIns="0" rIns="0" tIns="0" bIns="0" anchor="t">
            <a:normAutofit/>
          </a:bodyPr>
          <a:p>
            <a:pPr marL="290520" indent="-2905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edictive values (continued)</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r a single point of followup, positive and negative predictive values can be compared via methods used for diagnostic tests.</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atios of positive and negative predictive values of two prognostic tests are often summarized along with confidence interval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regression model of Leisenring et al. (2000) may be used to determine how patient characteristics relate to relative predictive value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ime-to-event curves comparing predictive values of two prognostic tests are available if necessary.</a:t>
            </a:r>
            <a:endParaRPr b="0" lang="en-US" sz="2000" spc="-1" strike="noStrike">
              <a:solidFill>
                <a:srgbClr val="ffffff"/>
              </a:solidFill>
              <a:latin typeface="Trebuchet MS"/>
            </a:endParaRPr>
          </a:p>
        </p:txBody>
      </p:sp>
      <p:sp>
        <p:nvSpPr>
          <p:cNvPr id="17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12 of 12)</a:t>
            </a:r>
            <a:endParaRPr b="1" lang="en-US" sz="2800" spc="-1" strike="noStrike">
              <a:solidFill>
                <a:srgbClr val="ffffff"/>
              </a:solidFill>
              <a:latin typeface="Trebuchet MS"/>
            </a:endParaRPr>
          </a:p>
        </p:txBody>
      </p:sp>
      <p:sp>
        <p:nvSpPr>
          <p:cNvPr id="179" name="TextBox 1"/>
          <p:cNvSpPr/>
          <p:nvPr/>
        </p:nvSpPr>
        <p:spPr>
          <a:xfrm>
            <a:off x="304920" y="5791320"/>
            <a:ext cx="8839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eisenring W, Alonzo T, Pepe MS. Biometrics 2000 Jun;56(2):345-51. PMID: 10877288.</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219320"/>
            <a:ext cx="8229600" cy="4827600"/>
          </a:xfrm>
          <a:prstGeom prst="rect">
            <a:avLst/>
          </a:prstGeom>
          <a:noFill/>
          <a:ln w="0">
            <a:noFill/>
          </a:ln>
        </p:spPr>
        <p:txBody>
          <a:bodyPr lIns="0" rIns="0" tIns="0" bIns="0" anchor="t">
            <a:normAutofit fontScale="99000"/>
          </a:bodyPr>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andomized controlled trials (RCTs) designed to demonstrate net improvement in patient outcomes and cost-effectiveness are the most definitive level of evidence.</a:t>
            </a:r>
            <a:endParaRPr b="0" lang="en-US" sz="20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ny prognostic test studies do not provide this level.</a:t>
            </a:r>
            <a:endParaRPr b="0" lang="en-US" sz="20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ystematic reviews can provide estimates of outcome probabilities for decision models instead.</a:t>
            </a:r>
            <a:endParaRPr b="0" lang="en-US" sz="2000" spc="-1" strike="noStrike">
              <a:solidFill>
                <a:srgbClr val="ffffff"/>
              </a:solidFill>
              <a:latin typeface="Trebuchet MS"/>
            </a:endParaRPr>
          </a:p>
          <a:p>
            <a:pPr lvl="2" marL="1085760" indent="-2887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stimates from either RCTs or observational studies can be used, provided that prognostic groups are well characterized and similar.</a:t>
            </a:r>
            <a:endParaRPr b="0" lang="en-US" sz="1800" spc="-1" strike="noStrike">
              <a:solidFill>
                <a:srgbClr val="ffffff"/>
              </a:solidFill>
              <a:latin typeface="Trebuchet MS"/>
            </a:endParaRPr>
          </a:p>
          <a:p>
            <a:pPr lvl="2" marL="1085760" indent="-2887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Meta-analysis can provide more precise estimates .</a:t>
            </a:r>
            <a:endParaRPr b="0" lang="en-US" sz="1800" spc="-1" strike="noStrike">
              <a:solidFill>
                <a:srgbClr val="ffffff"/>
              </a:solidFill>
              <a:latin typeface="Trebuchet MS"/>
            </a:endParaRPr>
          </a:p>
          <a:p>
            <a:pPr lvl="2" marL="1085760" indent="-2887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dditionally, meta-analysis of estimates of outcome probabilities in a prognostic group extracted from several studies can provide insight into:</a:t>
            </a:r>
            <a:endParaRPr b="0" lang="en-US" sz="1800" spc="-1" strike="noStrike">
              <a:solidFill>
                <a:srgbClr val="ffffff"/>
              </a:solidFill>
              <a:latin typeface="Trebuchet MS"/>
            </a:endParaRPr>
          </a:p>
          <a:p>
            <a:pPr lvl="3" marL="1483560" indent="-2797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tability of the estimates</a:t>
            </a:r>
            <a:endParaRPr b="0" lang="en-US" sz="1800" spc="-1" strike="noStrike">
              <a:solidFill>
                <a:srgbClr val="ffffff"/>
              </a:solidFill>
              <a:latin typeface="Trebuchet MS"/>
            </a:endParaRPr>
          </a:p>
          <a:p>
            <a:pPr lvl="3" marL="1483560" indent="-2797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ether variation is related to prognostic group characteristics</a:t>
            </a:r>
            <a:endParaRPr b="0" lang="en-US" sz="1800" spc="-1" strike="noStrike">
              <a:solidFill>
                <a:srgbClr val="ffffff"/>
              </a:solidFill>
              <a:latin typeface="Trebuchet MS"/>
            </a:endParaRPr>
          </a:p>
        </p:txBody>
      </p:sp>
      <p:sp>
        <p:nvSpPr>
          <p:cNvPr id="18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5: Meta-analysis of Estimates of Outcome Probabilities (1 of 2)</a:t>
            </a:r>
            <a:endParaRPr b="1" lang="en-US" sz="2800" spc="-1" strike="noStrike">
              <a:solidFill>
                <a:srgbClr val="ffffff"/>
              </a:solidFill>
              <a:latin typeface="Trebuchet MS"/>
            </a:endParaRPr>
          </a:p>
        </p:txBody>
      </p:sp>
      <p:sp>
        <p:nvSpPr>
          <p:cNvPr id="182" name="TextBox 1"/>
          <p:cNvSpPr/>
          <p:nvPr/>
        </p:nvSpPr>
        <p:spPr>
          <a:xfrm>
            <a:off x="228600" y="6019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298160"/>
            <a:ext cx="8229600" cy="38070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ethods have been developed to combine estimates of outcome probabilities from different studie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ar</a:t>
            </a:r>
            <a:r>
              <a:rPr b="0" lang="ja-JP" sz="2200" spc="-1" strike="noStrike">
                <a:solidFill>
                  <a:srgbClr val="ffffff"/>
                </a:solidFill>
                <a:latin typeface="Trebuchet MS"/>
              </a:rPr>
              <a:t>’</a:t>
            </a:r>
            <a:r>
              <a:rPr b="0" lang="en-US" sz="2200" spc="-1" strike="noStrike">
                <a:solidFill>
                  <a:srgbClr val="ffffff"/>
                </a:solidFill>
                <a:latin typeface="Trebuchet MS"/>
              </a:rPr>
              <a:t>s method (1994)</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ses a fixed-effects regression model</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rend</a:t>
            </a:r>
            <a:r>
              <a:rPr b="0" lang="ja-JP" sz="2200" spc="-1" strike="noStrike">
                <a:solidFill>
                  <a:srgbClr val="ffffff"/>
                </a:solidFill>
                <a:latin typeface="Trebuchet MS"/>
              </a:rPr>
              <a:t>’</a:t>
            </a:r>
            <a:r>
              <a:rPr b="0" lang="en-US" sz="2200" spc="-1" strike="noStrike">
                <a:solidFill>
                  <a:srgbClr val="ffffff"/>
                </a:solidFill>
                <a:latin typeface="Trebuchet MS"/>
              </a:rPr>
              <a:t>s method (2008)</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s similar to a DerSimonian-Laird random-effects model</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s used when there is only one common followup time for all studies/prognostic groups</a:t>
            </a:r>
            <a:endParaRPr b="0" lang="en-US" sz="2000" spc="-1" strike="noStrike">
              <a:solidFill>
                <a:srgbClr val="ffffff"/>
              </a:solidFill>
              <a:latin typeface="Trebuchet MS"/>
            </a:endParaRPr>
          </a:p>
        </p:txBody>
      </p:sp>
      <p:sp>
        <p:nvSpPr>
          <p:cNvPr id="18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5: Meta-Analysis of Estimates of Outcome Probabilities (2 of 2)</a:t>
            </a:r>
            <a:endParaRPr b="1" lang="en-US" sz="2800" spc="-1" strike="noStrike">
              <a:solidFill>
                <a:srgbClr val="ffffff"/>
              </a:solidFill>
              <a:latin typeface="Trebuchet MS"/>
            </a:endParaRPr>
          </a:p>
        </p:txBody>
      </p:sp>
      <p:sp>
        <p:nvSpPr>
          <p:cNvPr id="185" name="TextBox 1"/>
          <p:cNvSpPr/>
          <p:nvPr/>
        </p:nvSpPr>
        <p:spPr>
          <a:xfrm>
            <a:off x="0" y="5486400"/>
            <a:ext cx="91440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rends LR, Hunink MG, Stijnen T. Stat Med 2008 Sep 30;27(22):4381-96. PMID: 18465839.</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ar KB. Biometrics 1994 Dec;50(4):989-1002. PMID: 7787011.</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rSimonian R, Laird N. Control Clin Trials 1986 Sep;7(3):177-88. PMID: 3802833.</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6840" y="1298520"/>
            <a:ext cx="8381880" cy="4827600"/>
          </a:xfrm>
          <a:prstGeom prst="rect">
            <a:avLst/>
          </a:prstGeom>
          <a:noFill/>
          <a:ln w="0">
            <a:noFill/>
          </a:ln>
        </p:spPr>
        <p:txBody>
          <a:bodyPr lIns="0" rIns="0" tIns="0" bIns="0" anchor="t">
            <a:normAutofit/>
          </a:bodyPr>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ethods used to conduct systematic reviews of prognostic tests are not well established.</a:t>
            </a:r>
            <a:endParaRPr b="0" lang="en-US" sz="2200" spc="-1" strike="noStrike">
              <a:solidFill>
                <a:srgbClr val="ffffff"/>
              </a:solidFill>
              <a:latin typeface="Trebuchet MS"/>
            </a:endParaRPr>
          </a:p>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intended use of the prognostic test should be specified; predicted probabilities need to be classified into clinically meaningful groups that are described in detail (including outcome probabilities).</a:t>
            </a:r>
            <a:endParaRPr b="0" lang="en-US" sz="2200" spc="-1" strike="noStrike">
              <a:solidFill>
                <a:srgbClr val="ffffff"/>
              </a:solidFill>
              <a:latin typeface="Trebuchet MS"/>
            </a:endParaRPr>
          </a:p>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any published reports focus on associations between prognostic indicators and patient outcomes (the first stage of development of prognostic tests); such studies have limited clinical value for a review.</a:t>
            </a:r>
            <a:endParaRPr b="0" lang="en-US" sz="2200" spc="-1" strike="noStrike">
              <a:solidFill>
                <a:srgbClr val="ffffff"/>
              </a:solidFill>
              <a:latin typeface="Trebuchet MS"/>
            </a:endParaRPr>
          </a:p>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riteria for evaluating the quality of studies of prognostic tests have not been firmly established.</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viewers can adapt criteria developed for diagnostic tests.</a:t>
            </a:r>
            <a:endParaRPr b="0" lang="en-US" sz="2200" spc="-1" strike="noStrike">
              <a:solidFill>
                <a:srgbClr val="ffffff"/>
              </a:solidFill>
              <a:latin typeface="Trebuchet MS"/>
            </a:endParaRPr>
          </a:p>
        </p:txBody>
      </p:sp>
      <p:sp>
        <p:nvSpPr>
          <p:cNvPr id="1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ey Messages (1 of 2)</a:t>
            </a:r>
            <a:endParaRPr b="1" lang="en-US" sz="2800" spc="-1" strike="noStrike">
              <a:solidFill>
                <a:srgbClr val="ffffff"/>
              </a:solidFill>
              <a:latin typeface="Trebuchet MS"/>
            </a:endParaRPr>
          </a:p>
        </p:txBody>
      </p:sp>
      <p:sp>
        <p:nvSpPr>
          <p:cNvPr id="188" name="TextBox 1"/>
          <p:cNvSpPr/>
          <p:nvPr/>
        </p:nvSpPr>
        <p:spPr>
          <a:xfrm>
            <a:off x="0" y="6019920"/>
            <a:ext cx="8763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iven differences between diagnostic tests (current state of disease) and prognostic tests (future state of disease), common evaluation statistics used with diagnostic tests are not as informative for prognostic tests.</a:t>
            </a:r>
            <a:endParaRPr b="0" lang="en-US" sz="20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se include point estimates of sensitivity/specificity and area under the receiver operating characteristic (ROC) curves.</a:t>
            </a:r>
            <a:endParaRPr b="0" lang="en-US" sz="18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most pertinent summary statistics for prognostic tests are:</a:t>
            </a:r>
            <a:endParaRPr b="0" lang="en-US" sz="1800" spc="-1" strike="noStrike">
              <a:solidFill>
                <a:srgbClr val="ffffff"/>
              </a:solidFill>
              <a:latin typeface="Trebuchet MS"/>
            </a:endParaRPr>
          </a:p>
          <a:p>
            <a:pPr lvl="2" marL="1096920" indent="-29196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time-dependent observed outcome probabilities</a:t>
            </a:r>
            <a:endParaRPr b="0" lang="en-US" sz="1800" spc="-1" strike="noStrike">
              <a:solidFill>
                <a:srgbClr val="ffffff"/>
              </a:solidFill>
              <a:latin typeface="Trebuchet MS"/>
            </a:endParaRPr>
          </a:p>
          <a:p>
            <a:pPr lvl="2" marL="1096920" indent="-29196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closeness of the prognostic group</a:t>
            </a:r>
            <a:r>
              <a:rPr b="0" lang="ja-JP" sz="1800" spc="-1" strike="noStrike">
                <a:solidFill>
                  <a:srgbClr val="ffffff"/>
                </a:solidFill>
                <a:latin typeface="Trebuchet MS"/>
              </a:rPr>
              <a:t>’</a:t>
            </a:r>
            <a:r>
              <a:rPr b="0" lang="en-US" sz="1800" spc="-1" strike="noStrike">
                <a:solidFill>
                  <a:srgbClr val="ffffff"/>
                </a:solidFill>
                <a:latin typeface="Trebuchet MS"/>
              </a:rPr>
              <a:t>s predicted probabilities to observed outcomes</a:t>
            </a:r>
            <a:endParaRPr b="0" lang="en-US" sz="1800" spc="-1" strike="noStrike">
              <a:solidFill>
                <a:srgbClr val="ffffff"/>
              </a:solidFill>
              <a:latin typeface="Trebuchet MS"/>
            </a:endParaRPr>
          </a:p>
          <a:p>
            <a:pPr lvl="2" marL="1096920" indent="-29196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ow the use of a new test reclassifies patients into different groups and improves predictive accuracy and overall outcomes</a:t>
            </a:r>
            <a:endParaRPr b="0" lang="en-US" sz="1800" spc="-1" strike="noStrike">
              <a:solidFill>
                <a:srgbClr val="ffffff"/>
              </a:solidFill>
              <a:latin typeface="Trebuchet MS"/>
            </a:endParaRPr>
          </a:p>
          <a:p>
            <a:pPr marL="29196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ethods for comparing and summarizing predictive performance of prognostic tests need further development and widespread use.</a:t>
            </a:r>
            <a:endParaRPr b="0" lang="en-US" sz="2000" spc="-1" strike="noStrike">
              <a:solidFill>
                <a:srgbClr val="ffffff"/>
              </a:solidFill>
              <a:latin typeface="Trebuchet MS"/>
            </a:endParaRPr>
          </a:p>
        </p:txBody>
      </p:sp>
      <p:sp>
        <p:nvSpPr>
          <p:cNvPr id="19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ey Messages (2 of 2)</a:t>
            </a:r>
            <a:endParaRPr b="1" lang="en-US" sz="2800" spc="-1" strike="noStrike">
              <a:solidFill>
                <a:srgbClr val="ffffff"/>
              </a:solidFill>
              <a:latin typeface="Trebuchet MS"/>
            </a:endParaRPr>
          </a:p>
        </p:txBody>
      </p:sp>
      <p:sp>
        <p:nvSpPr>
          <p:cNvPr id="191" name="TextBox 1"/>
          <p:cNvSpPr/>
          <p:nvPr/>
        </p:nvSpPr>
        <p:spPr>
          <a:xfrm>
            <a:off x="0" y="5943600"/>
            <a:ext cx="8534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at is the relationship between predictive and prognostic tests?</a:t>
            </a:r>
            <a:r>
              <a:rPr b="0" lang="en-US" sz="2400" spc="-1" strike="noStrike">
                <a:solidFill>
                  <a:srgbClr val="ffffff"/>
                </a:solidFill>
                <a:latin typeface="Trebuchet MS"/>
              </a:rPr>
              <a:t>	</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terms are essentially synonymou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edictive tests are a category of prognostic test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gnostic tests are a category of predictive tests. </a:t>
            </a:r>
            <a:endParaRPr b="0" lang="en-US" sz="2400" spc="-1" strike="noStrike">
              <a:solidFill>
                <a:srgbClr val="ffffff"/>
              </a:solidFill>
              <a:latin typeface="Trebuchet MS"/>
            </a:endParaRPr>
          </a:p>
        </p:txBody>
      </p:sp>
      <p:sp>
        <p:nvSpPr>
          <p:cNvPr id="19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b. Predictive tests, which are a category of prognostic tests, can be used to predict beneficial or adverse responses to treatment.</a:t>
            </a:r>
            <a:endParaRPr b="0" lang="en-US" sz="2400" spc="-1" strike="noStrike">
              <a:solidFill>
                <a:srgbClr val="ffffff"/>
              </a:solidFill>
              <a:latin typeface="Trebuchet MS"/>
            </a:endParaRPr>
          </a:p>
        </p:txBody>
      </p:sp>
      <p:sp>
        <p:nvSpPr>
          <p:cNvPr id="19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ich</a:t>
            </a:r>
            <a:r>
              <a:rPr b="0" lang="en-US" sz="1400" spc="-1" strike="noStrike">
                <a:solidFill>
                  <a:srgbClr val="ffffff"/>
                </a:solidFill>
                <a:latin typeface="Trebuchet MS"/>
              </a:rPr>
              <a:t> </a:t>
            </a:r>
            <a:r>
              <a:rPr b="0" lang="en-US" sz="2400" spc="-1" strike="noStrike">
                <a:solidFill>
                  <a:srgbClr val="ffffff"/>
                </a:solidFill>
                <a:latin typeface="Trebuchet MS"/>
              </a:rPr>
              <a:t>of the following four categories of prognostic tests is NOT most readily addressed by large cohort studies and secondary analyses of clinical trials?</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nical outcom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nical utility</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spective clinical validation</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of of concept</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one of the above</a:t>
            </a:r>
            <a:endParaRPr b="0" lang="en-US" sz="2400" spc="-1" strike="noStrike">
              <a:solidFill>
                <a:srgbClr val="ffffff"/>
              </a:solidFill>
              <a:latin typeface="Trebuchet MS"/>
            </a:endParaRPr>
          </a:p>
        </p:txBody>
      </p:sp>
      <p:sp>
        <p:nvSpPr>
          <p:cNvPr id="19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a. Questions that pertain to clinical outcomes or cost-effectiveness are generally better answered by randomized controlled trials. The other three categories listed may often be addressed by less costly cohort studies or secondary analyses of clinical trials.</a:t>
            </a:r>
            <a:endParaRPr b="0" lang="en-US" sz="2400" spc="-1" strike="noStrike">
              <a:solidFill>
                <a:srgbClr val="ffffff"/>
              </a:solidFill>
              <a:latin typeface="Trebuchet MS"/>
            </a:endParaRPr>
          </a:p>
        </p:txBody>
      </p:sp>
      <p:sp>
        <p:nvSpPr>
          <p:cNvPr id="19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298160"/>
            <a:ext cx="8229600" cy="4187880"/>
          </a:xfrm>
          <a:prstGeom prst="rect">
            <a:avLst/>
          </a:prstGeom>
          <a:noFill/>
          <a:ln w="0">
            <a:noFill/>
          </a:ln>
        </p:spPr>
        <p:txBody>
          <a:bodyPr lIns="0" rIns="0" tIns="0" bIns="0" anchor="t">
            <a:normAutofit fontScale="97000"/>
          </a:bodyPr>
          <a:p>
            <a:pPr marL="28296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review topic, analytic framework, and Key Questions can be fundamentally different for diagnostic and prognostic tests</a:t>
            </a:r>
            <a:endParaRPr b="0" lang="en-US" sz="2400" spc="-1" strike="noStrike">
              <a:solidFill>
                <a:srgbClr val="ffffff"/>
              </a:solidFill>
              <a:latin typeface="Trebuchet MS"/>
            </a:endParaRPr>
          </a:p>
          <a:p>
            <a:pPr lvl="1" marL="672840" indent="-282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agnostic tests determine whether a patient has a disease at the time of the test.</a:t>
            </a:r>
            <a:endParaRPr b="0" lang="en-US" sz="2200" spc="-1" strike="noStrike">
              <a:solidFill>
                <a:srgbClr val="ffffff"/>
              </a:solidFill>
              <a:latin typeface="Trebuchet MS"/>
            </a:endParaRPr>
          </a:p>
          <a:p>
            <a:pPr lvl="2" marL="1062360" indent="-283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gold standard” (i.e., the best available) reference test is often used to determine true disease presence or absence.</a:t>
            </a:r>
            <a:endParaRPr b="0" lang="en-US" sz="2000" spc="-1" strike="noStrike">
              <a:solidFill>
                <a:srgbClr val="ffffff"/>
              </a:solidFill>
              <a:latin typeface="Trebuchet MS"/>
            </a:endParaRPr>
          </a:p>
          <a:p>
            <a:pPr lvl="1" marL="672840" indent="-282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ognostic tests predict a patient</a:t>
            </a:r>
            <a:r>
              <a:rPr b="0" lang="ja-JP" sz="2200" spc="-1" strike="noStrike">
                <a:solidFill>
                  <a:srgbClr val="ffffff"/>
                </a:solidFill>
                <a:latin typeface="Trebuchet MS"/>
              </a:rPr>
              <a:t>’</a:t>
            </a:r>
            <a:r>
              <a:rPr b="0" lang="en-US" sz="2200" spc="-1" strike="noStrike">
                <a:solidFill>
                  <a:srgbClr val="ffffff"/>
                </a:solidFill>
                <a:latin typeface="Trebuchet MS"/>
              </a:rPr>
              <a:t>s likelihood of developing a disease or experiencing a future medical event.</a:t>
            </a:r>
            <a:endParaRPr b="0" lang="en-US" sz="2200" spc="-1" strike="noStrike">
              <a:solidFill>
                <a:srgbClr val="ffffff"/>
              </a:solidFill>
              <a:latin typeface="Trebuchet MS"/>
            </a:endParaRPr>
          </a:p>
          <a:p>
            <a:pPr lvl="2" marL="1062360" indent="-283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t>
            </a:r>
            <a:r>
              <a:rPr b="0" lang="ja-JP" sz="2000" spc="-1" strike="noStrike">
                <a:solidFill>
                  <a:srgbClr val="ffffff"/>
                </a:solidFill>
                <a:latin typeface="Trebuchet MS"/>
              </a:rPr>
              <a:t>“</a:t>
            </a:r>
            <a:r>
              <a:rPr b="0" lang="en-US" sz="2000" spc="-1" strike="noStrike">
                <a:solidFill>
                  <a:srgbClr val="ffffff"/>
                </a:solidFill>
                <a:latin typeface="Trebuchet MS"/>
              </a:rPr>
              <a:t>reference test</a:t>
            </a:r>
            <a:r>
              <a:rPr b="0" lang="ja-JP" sz="2000" spc="-1" strike="noStrike">
                <a:solidFill>
                  <a:srgbClr val="ffffff"/>
                </a:solidFill>
                <a:latin typeface="Trebuchet MS"/>
              </a:rPr>
              <a:t>”</a:t>
            </a:r>
            <a:r>
              <a:rPr b="0" lang="en-US" sz="2000" spc="-1" strike="noStrike">
                <a:solidFill>
                  <a:srgbClr val="ffffff"/>
                </a:solidFill>
                <a:latin typeface="Trebuchet MS"/>
              </a:rPr>
              <a:t> is the proportion of study subjects who actually develop the condition predicted by the test.</a:t>
            </a:r>
            <a:endParaRPr b="0" lang="en-US" sz="2000" spc="-1" strike="noStrike">
              <a:solidFill>
                <a:srgbClr val="ffffff"/>
              </a:solidFill>
              <a:latin typeface="Trebuchet MS"/>
            </a:endParaRPr>
          </a:p>
        </p:txBody>
      </p:sp>
      <p:sp>
        <p:nvSpPr>
          <p:cNvPr id="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1: Developing the Review Topic and Analytic Framework (1 of 4)</a:t>
            </a:r>
            <a:endParaRPr b="1" lang="en-US" sz="2800" spc="-1" strike="noStrike">
              <a:solidFill>
                <a:srgbClr val="ffffff"/>
              </a:solidFill>
              <a:latin typeface="Trebuchet MS"/>
            </a:endParaRPr>
          </a:p>
        </p:txBody>
      </p:sp>
      <p:sp>
        <p:nvSpPr>
          <p:cNvPr id="95" name="TextBox 1"/>
          <p:cNvSpPr/>
          <p:nvPr/>
        </p:nvSpPr>
        <p:spPr>
          <a:xfrm>
            <a:off x="0" y="594360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re are relatively few reports where the test variable did not add significantly to a multivariable regression model.</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2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of Question 3:</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true. The relative paucity of published findings in which a test variable did not add significantly to a multivariable regression model suggests that there may be potential bias by failing to publish lack of association or predictive value.</a:t>
            </a:r>
            <a:endParaRPr b="0" lang="en-US" sz="2400" spc="-1" strike="noStrike">
              <a:solidFill>
                <a:srgbClr val="ffffff"/>
              </a:solidFill>
              <a:latin typeface="Trebuchet MS"/>
            </a:endParaRPr>
          </a:p>
        </p:txBody>
      </p:sp>
      <p:sp>
        <p:nvSpPr>
          <p:cNvPr id="20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gnostic</a:t>
            </a:r>
            <a:r>
              <a:rPr b="0" lang="en-US" sz="1400" spc="-1" strike="noStrike">
                <a:solidFill>
                  <a:srgbClr val="ffffff"/>
                </a:solidFill>
                <a:latin typeface="Trebuchet MS"/>
              </a:rPr>
              <a:t> </a:t>
            </a:r>
            <a:r>
              <a:rPr b="0" lang="en-US" sz="2400" spc="-1" strike="noStrike">
                <a:solidFill>
                  <a:srgbClr val="ffffff"/>
                </a:solidFill>
                <a:latin typeface="Trebuchet MS"/>
              </a:rPr>
              <a:t>indicators vary substantially in which of the following:</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udy design</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ubject inclusion criteria</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ethods of measuring key variabl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djustment for covariat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esentation of result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ll of the above</a:t>
            </a:r>
            <a:endParaRPr b="0" lang="en-US" sz="2400" spc="-1" strike="noStrike">
              <a:solidFill>
                <a:srgbClr val="ffffff"/>
              </a:solidFill>
              <a:latin typeface="Trebuchet MS"/>
            </a:endParaRPr>
          </a:p>
        </p:txBody>
      </p:sp>
      <p:sp>
        <p:nvSpPr>
          <p:cNvPr id="20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of Question 4:</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f. Wide variability in one or more of these factors presents a challenge to selecting studies and assessing quality. Reviewer access to patient-level data would allow uniform analyses to overcome these difficulties. When lacking the ability to access patient-level data, suggestions for judging the quality of individual studies of prognostic tests can be followed.</a:t>
            </a:r>
            <a:endParaRPr b="0" lang="en-US" sz="2400" spc="-1" strike="noStrike">
              <a:solidFill>
                <a:srgbClr val="ffffff"/>
              </a:solidFill>
              <a:latin typeface="Trebuchet MS"/>
            </a:endParaRPr>
          </a:p>
        </p:txBody>
      </p:sp>
      <p:sp>
        <p:nvSpPr>
          <p:cNvPr id="2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amples of indices of discrimination do not include:</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95-percent confidence interval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stimates of sensitivity and specificity</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rea under the receiver operating characteristic (ROC) curv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ll of the above</a:t>
            </a:r>
            <a:endParaRPr b="0" lang="en-US" sz="2400" spc="-1" strike="noStrike">
              <a:solidFill>
                <a:srgbClr val="ffffff"/>
              </a:solidFill>
              <a:latin typeface="Trebuchet MS"/>
            </a:endParaRPr>
          </a:p>
        </p:txBody>
      </p:sp>
      <p:sp>
        <p:nvSpPr>
          <p:cNvPr id="20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5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of Question 5:</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a. 95-percent confidence intervals provide a measure of the precision of a given statistic, but are not, in themselves, a discrimination statistic.</a:t>
            </a:r>
            <a:endParaRPr b="0" lang="en-US" sz="2400" spc="-1" strike="noStrike">
              <a:solidFill>
                <a:srgbClr val="ffffff"/>
              </a:solidFill>
              <a:latin typeface="Trebuchet MS"/>
            </a:endParaRPr>
          </a:p>
        </p:txBody>
      </p:sp>
      <p:sp>
        <p:nvSpPr>
          <p:cNvPr id="2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5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Rachael Posey, Lorraine Sease, Remy Coeytaux, Gillian Sanders, and Alex Vaz, members of the Duke University Evidence-based Practice Center.</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Rector TS, Taylor BC, Wilt TJ. Systematic review of prognostic tests. In: Chang SM and Matchar DB, eds. Methods guide for medical test reviews. Rockville, MD: Agency for Healthcare Research and Quality; June 2012. p. 12.1-13. AHRQ Publication No. 12-EHC017. Available at www.effectivehealthcare.ahrq.gov/medtestsguide.cfm.</a:t>
            </a:r>
            <a:endParaRPr b="0" lang="en-US" sz="2400" spc="-1" strike="noStrike">
              <a:solidFill>
                <a:srgbClr val="ffffff"/>
              </a:solidFill>
              <a:latin typeface="Trebuchet MS"/>
            </a:endParaRPr>
          </a:p>
        </p:txBody>
      </p:sp>
      <p:sp>
        <p:nvSpPr>
          <p:cNvPr id="2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uthors</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298520"/>
            <a:ext cx="8229600" cy="4827600"/>
          </a:xfrm>
          <a:prstGeom prst="rect">
            <a:avLst/>
          </a:prstGeom>
          <a:noFill/>
          <a:ln w="0">
            <a:noFill/>
          </a:ln>
        </p:spPr>
        <p:txBody>
          <a:bodyPr lIns="0" rIns="0" tIns="0" bIns="0" anchor="t">
            <a:normAutofit fontScale="97000"/>
          </a:bodyPr>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rends LR, Hunink MG, Stijnen T. Meta-analysis of summary survival curve data. Stat Med 2008 Sep 30;27(22):4381-96. PMID: 18465839.</a:t>
            </a:r>
            <a:endParaRPr b="0" lang="en-US" sz="2000" spc="-1" strike="noStrike">
              <a:solidFill>
                <a:srgbClr val="ffffff"/>
              </a:solidFill>
              <a:latin typeface="Trebuchet MS"/>
            </a:endParaRPr>
          </a:p>
          <a:p>
            <a:pPr marL="282960" indent="-282960">
              <a:lnSpc>
                <a:spcPct val="8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tman DG. Systematic reviews of evaluations of prognostic variables. BMJ 2001 Jul 28;323(7306):224-8. PMID: 11473921.</a:t>
            </a:r>
            <a:endParaRPr b="0" lang="en-US" sz="2000" spc="-1" strike="noStrike">
              <a:solidFill>
                <a:srgbClr val="ffffff"/>
              </a:solidFill>
              <a:latin typeface="Trebuchet MS"/>
            </a:endParaRPr>
          </a:p>
          <a:p>
            <a:pPr marL="282960" indent="-282960">
              <a:lnSpc>
                <a:spcPct val="8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tman DG, Riley RD. Primer: an evidence-based approach to prognostic markers. Nat Clin Pract Oncol 2005 Sep;2(9):466-72. PMID: 16265015.</a:t>
            </a:r>
            <a:endParaRPr b="0" lang="en-US" sz="2000" spc="-1" strike="noStrike">
              <a:solidFill>
                <a:srgbClr val="ffffff"/>
              </a:solidFill>
              <a:latin typeface="Trebuchet MS"/>
            </a:endParaRPr>
          </a:p>
          <a:p>
            <a:pPr marL="282960" indent="-282960">
              <a:lnSpc>
                <a:spcPct val="8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ok NR. Use and misuse of the receiver operating characteristic curve in risk prediction. Circulation 2007 Feb 20;115(7):928-35. PMID: 17309939.</a:t>
            </a:r>
            <a:endParaRPr b="0" lang="en-US" sz="2000" spc="-1" strike="noStrike">
              <a:solidFill>
                <a:srgbClr val="ffffff"/>
              </a:solidFill>
              <a:latin typeface="Trebuchet MS"/>
            </a:endParaRPr>
          </a:p>
          <a:p>
            <a:pPr marL="282960" indent="-282960">
              <a:lnSpc>
                <a:spcPct val="8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ok NR. Statistical evaluation of prognostic versus diagnostic models: beyond the ROC curve. Clin Chem 2008 Jan;54(1):17-23. PMID:18024533.</a:t>
            </a:r>
            <a:endParaRPr b="0" lang="en-US" sz="2000" spc="-1" strike="noStrike">
              <a:solidFill>
                <a:srgbClr val="ffffff"/>
              </a:solidFill>
              <a:latin typeface="Trebuchet MS"/>
            </a:endParaRPr>
          </a:p>
          <a:p>
            <a:pPr marL="282960" indent="-282960">
              <a:lnSpc>
                <a:spcPct val="8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ok NR, Ridker PM. Advances in measuring the effect of individual predictors of cardiovascular risk: the role of reclassification measures. Ann Intern Med 2009 Jun 2;150(11):795-802. PMID: 19487714.</a:t>
            </a:r>
            <a:endParaRPr b="0" lang="en-US" sz="2000" spc="-1" strike="noStrike">
              <a:solidFill>
                <a:srgbClr val="ffffff"/>
              </a:solidFill>
              <a:latin typeface="Trebuchet MS"/>
            </a:endParaRPr>
          </a:p>
        </p:txBody>
      </p:sp>
      <p:sp>
        <p:nvSpPr>
          <p:cNvPr id="2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 of 10)</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298520"/>
            <a:ext cx="8229600" cy="4827600"/>
          </a:xfrm>
          <a:prstGeom prst="rect">
            <a:avLst/>
          </a:prstGeom>
          <a:noFill/>
          <a:ln w="0">
            <a:noFill/>
          </a:ln>
        </p:spPr>
        <p:txBody>
          <a:bodyPr lIns="0" rIns="0" tIns="0" bIns="0" anchor="t">
            <a:normAutofit fontScale="97000"/>
          </a:bodyPr>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ar KB. Iterative generalized least squares for meta-analysis of survival data at multiple times. Biometrics 1994 Dec;50(4):989-1002. PMID: 7787011.</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rSimonian R, Laird N. Meta-analysis in clinical trials. Control Clin Trials 1986 Sep;7(3):177-88. PMID: 3802833.</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arle CC, Pham B, Wells GA. An assessment of methods to combine published survival curves. Med Decis Making 2000 Jan-Mar;20(1):104-11. PMID: 10638543.</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eng Z, Prentice R, Srivastava S. Research issues and strategies for genomic and proteomic biomarker discovery and validation: a statistical perspective. Pharmacogenomics 2004 Sep;5(6):709-19. PMID: 15335291.</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ibrinogen Studies Collaboration. Measures to assess the prognostic ability of the stratified Cox proportional hazards model. Stat Med 2009 Feb 1;28(3):389-411. PMID: 18833567.</a:t>
            </a:r>
            <a:endParaRPr b="0" lang="en-US" sz="2000" spc="-1" strike="noStrike">
              <a:solidFill>
                <a:srgbClr val="ffffff"/>
              </a:solidFill>
              <a:latin typeface="Trebuchet MS"/>
            </a:endParaRPr>
          </a:p>
        </p:txBody>
      </p:sp>
      <p:sp>
        <p:nvSpPr>
          <p:cNvPr id="21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2 of 10)</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1298520"/>
            <a:ext cx="8229600" cy="4827600"/>
          </a:xfrm>
          <a:prstGeom prst="rect">
            <a:avLst/>
          </a:prstGeom>
          <a:noFill/>
          <a:ln w="0">
            <a:noFill/>
          </a:ln>
        </p:spPr>
        <p:txBody>
          <a:bodyPr lIns="0" rIns="0" tIns="0" bIns="0" anchor="t">
            <a:normAutofit fontScale="96000"/>
          </a:bodyPr>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wkes FG, Murray GD, Butcher I, et al. Ankle brachial index combined with Framingham Risk Score to predict cardiovascular events and mortality: a meta-analysis. JAMA 2008 Jul 9;300(2):197-208. PMID: 18612117.</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roenveld HF, Januzzi JL, Damman K, et al. Anemia and mortality in heart failure patients a systematic review and meta-analysis. J Am Coll Cardiol 2008 Sep 2;52(10):818-27. PMID: 18755344.</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rundy SM, Cleeman JI, Merz CN, et al; National Heart, Lung, and Blood Institute; American College of Cardiology Foundation; American Heart Association. Implications of recent clinical trials for the National Cholesterol Education Program Adult Treatment Panel III guidelines. Circulation 2004 Jul 13;110(2):227-39. PMID: 15249516.</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ll PA, Going JJ. Predicting the future: a critical appraisal of cancer prognosis studies. Histopathology 1999 Dec;35(6):489-94. PMID: 10583572.</a:t>
            </a:r>
            <a:endParaRPr b="0" lang="en-US" sz="2000" spc="-1" strike="noStrike">
              <a:solidFill>
                <a:srgbClr val="ffffff"/>
              </a:solidFill>
              <a:latin typeface="Trebuchet MS"/>
            </a:endParaRPr>
          </a:p>
        </p:txBody>
      </p:sp>
      <p:sp>
        <p:nvSpPr>
          <p:cNvPr id="2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3 of 10)</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1298520"/>
            <a:ext cx="8229600" cy="4035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often useful to group test results by implications for decisionmaking when structuring review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ample 1: </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ructuring based on prognostic test categories (low/intermediate/high risk) when different treatments for each category are evaluated</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2: </a:t>
            </a:r>
            <a:endParaRPr b="0" lang="en-US" sz="2000" spc="-1" strike="noStrike">
              <a:solidFill>
                <a:srgbClr val="ffffff"/>
              </a:solidFill>
              <a:latin typeface="Trebuchet MS"/>
            </a:endParaRPr>
          </a:p>
          <a:p>
            <a:pPr lvl="3" marL="109692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ructuring based on precision and accuracy of outcome probabilities of categories when a decision model is used as a framework</a:t>
            </a:r>
            <a:endParaRPr b="0" lang="en-US" sz="2000" spc="-1" strike="noStrike">
              <a:solidFill>
                <a:srgbClr val="ffffff"/>
              </a:solidFill>
              <a:latin typeface="Trebuchet MS"/>
            </a:endParaRPr>
          </a:p>
        </p:txBody>
      </p:sp>
      <p:sp>
        <p:nvSpPr>
          <p:cNvPr id="9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1: Developing the Review Topic and Analytical Framework (2 of 4)</a:t>
            </a:r>
            <a:endParaRPr b="1" lang="en-US" sz="2800" spc="-1" strike="noStrike">
              <a:solidFill>
                <a:srgbClr val="ffffff"/>
              </a:solidFill>
              <a:latin typeface="Trebuchet MS"/>
            </a:endParaRPr>
          </a:p>
        </p:txBody>
      </p:sp>
      <p:sp>
        <p:nvSpPr>
          <p:cNvPr id="98" name="TextBox 1"/>
          <p:cNvSpPr/>
          <p:nvPr/>
        </p:nvSpPr>
        <p:spPr>
          <a:xfrm>
            <a:off x="685800" y="586728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latky MA, Greenland P, Arnett DK, et al. Criteria for evaluation of novel markers of cardiovascular risk: a scientific statement from the American Heart Association. Circulation 2009 May 5;119(17):2408-16. PMID: 19364974.</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yden JA, Cote P, Bombardier C. Evaluation of the quality of prognosis studies in systematic reviews. Ann Intern Med 2006 Mar 21;144(6):427-37. PMID: 16549855.</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gelsson E, Schaefer EJ, Contois JH, et al. Clinical utility of different lipid measures for prediction of coronary heart disease in men and women. JAMA 2007 Aug 15;298(7):776-85. PMID: 17699011.</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gui BJ, Rogers MA. Searching for clinical prediction rules in MEDLINE. J Am Med Inform Assoc 2001 Jul-Aug;8(4):391-7. PMID: 11418546.</a:t>
            </a:r>
            <a:endParaRPr b="0" lang="en-US" sz="2000" spc="-1" strike="noStrike">
              <a:solidFill>
                <a:srgbClr val="ffffff"/>
              </a:solidFill>
              <a:latin typeface="Trebuchet MS"/>
            </a:endParaRPr>
          </a:p>
        </p:txBody>
      </p:sp>
      <p:sp>
        <p:nvSpPr>
          <p:cNvPr id="22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4 of 10)</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298520"/>
            <a:ext cx="8229600" cy="4827600"/>
          </a:xfrm>
          <a:prstGeom prst="rect">
            <a:avLst/>
          </a:prstGeom>
          <a:noFill/>
          <a:ln w="0">
            <a:noFill/>
          </a:ln>
        </p:spPr>
        <p:txBody>
          <a:bodyPr lIns="0" rIns="0" tIns="0" bIns="0" anchor="t">
            <a:normAutofit fontScale="97000"/>
          </a:bodyPr>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Janes H, Pepe MS. Adjusting for covariates in studies of diagnostic, screening, or prognostic markers: an old concept in a new setting. Am J Epidemiol 2008 Jul 1;168(1):89-97. PMID: 18477651.</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Janes H, Pepe MS, Gu W. Assessing the value of risk predictions by using risk stratification tables. Ann Intern Med 2008 Nov 18;149(10):751-60. PMID: 19017593.</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Kyzas PA, Denaxa-Kyza D, Ioannidis JP. Almost all articles on cancer prognostic markers report statistically significant results. Eur J Cancer 2007 Nov;43(17):2559-79. PMID: 17981458.</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Kyzas PA, Loizou KT, Ioannidis JP. Selective reporting biases in cancer prognostic factor studies. J Natl Cancer Inst 2005 Jul 20;97(14):1043-55. PMID: 16030302.</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eisenring W, Alonzo T, Pepe MS. Comparisons of predictive values of binary medical diagnostic tests for paired designs. Biometrics 2000 Jun;56(2):345-51. PMID: 10877288.</a:t>
            </a:r>
            <a:endParaRPr b="0" lang="en-US" sz="2000" spc="-1" strike="noStrike">
              <a:solidFill>
                <a:srgbClr val="ffffff"/>
              </a:solidFill>
              <a:latin typeface="Trebuchet MS"/>
            </a:endParaRPr>
          </a:p>
        </p:txBody>
      </p:sp>
      <p:sp>
        <p:nvSpPr>
          <p:cNvPr id="2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5 of 10)</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1298520"/>
            <a:ext cx="8229600" cy="4827600"/>
          </a:xfrm>
          <a:prstGeom prst="rect">
            <a:avLst/>
          </a:prstGeom>
          <a:noFill/>
          <a:ln w="0">
            <a:noFill/>
          </a:ln>
        </p:spPr>
        <p:txBody>
          <a:bodyPr lIns="0" rIns="0" tIns="0" bIns="0" anchor="t">
            <a:normAutofit fontScale="99000"/>
          </a:bodyPr>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ckillop WJ, Quirt CF. Measuring the accuracy of prognostic judgments in oncology. J Clin Epidemiol 1997 Jan;50(1):21-9. PMID: 9048687.</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cShane LM, Altman DG, Sauerbrei W, et al; Statistics Subcommittee of the NCI-EORTC Working Group on Cancer Diagnostics. Reporting recommendations for tumor marker prognostic studies (REMARK). J Natl Cancer Inst 2005 Aug 17;97(16):1180-4. PMID: 16106022.</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eigs JB, Shrader P, Sullivan LM, et al. Genotype score in addition to common risk factors for prediction of type 2 diabetes. N Engl J Med 2008 Nov 20;359(21):2208-19. PMID: 19020323.</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ncina MJ, D'Agostino RB. Overall C as a measure of discrimination in survival analysis: model specific population value and confidence interval estimation. Stat Med 2004 Jul 15;23(13):2109-23. PMID: 15211606.</a:t>
            </a:r>
            <a:endParaRPr b="0" lang="en-US" sz="2000" spc="-1" strike="noStrike">
              <a:solidFill>
                <a:srgbClr val="ffffff"/>
              </a:solidFill>
              <a:latin typeface="Trebuchet MS"/>
            </a:endParaRPr>
          </a:p>
        </p:txBody>
      </p:sp>
      <p:sp>
        <p:nvSpPr>
          <p:cNvPr id="2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6 of 10)</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1298520"/>
            <a:ext cx="8229600" cy="4827600"/>
          </a:xfrm>
          <a:prstGeom prst="rect">
            <a:avLst/>
          </a:prstGeom>
          <a:noFill/>
          <a:ln w="0">
            <a:noFill/>
          </a:ln>
        </p:spPr>
        <p:txBody>
          <a:bodyPr lIns="0" rIns="0" tIns="0" bIns="0" anchor="t">
            <a:normAutofit fontScale="96000"/>
          </a:bodyPr>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ncina MJ, D</a:t>
            </a:r>
            <a:r>
              <a:rPr b="0" lang="ja-JP" sz="2000" spc="-1" strike="noStrike">
                <a:solidFill>
                  <a:srgbClr val="ffffff"/>
                </a:solidFill>
                <a:latin typeface="Trebuchet MS"/>
              </a:rPr>
              <a:t>’</a:t>
            </a:r>
            <a:r>
              <a:rPr b="0" lang="en-US" sz="2000" spc="-1" strike="noStrike">
                <a:solidFill>
                  <a:srgbClr val="ffffff"/>
                </a:solidFill>
                <a:latin typeface="Trebuchet MS"/>
              </a:rPr>
              <a:t>Agostino RB Sr, D</a:t>
            </a:r>
            <a:r>
              <a:rPr b="0" lang="ja-JP" sz="2000" spc="-1" strike="noStrike">
                <a:solidFill>
                  <a:srgbClr val="ffffff"/>
                </a:solidFill>
                <a:latin typeface="Trebuchet MS"/>
              </a:rPr>
              <a:t>’</a:t>
            </a:r>
            <a:r>
              <a:rPr b="0" lang="en-US" sz="2000" spc="-1" strike="noStrike">
                <a:solidFill>
                  <a:srgbClr val="ffffff"/>
                </a:solidFill>
                <a:latin typeface="Trebuchet MS"/>
              </a:rPr>
              <a:t>Agostino RB Jr, et al. Evaluating the added predictive ability of a new marker: from area under the ROC curve to reclassification and beyond. Stat Med 2008 Jan 30;27(2):157-72, discussion 207-12. PMID: 17569110.</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pe MS. Section 9.2: Incorporating the time dimension. In: The statistical evaluation of medical tests for classification and prediction. New York, NY: Oxford University Press USA; 2004. p. 259-67.</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pe MS, Feng Z, Janes H, et al. Pivotal evaluation of the accuracy of a biomarker used for classification or prediction: standards for study design. J Natl Cancer Inst 2008 Oct 15;100(20):1432-8. PMID: 18840817.</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pe MS, Janes HE. Gauging the performance of SNPs, biomarkers, and clinical factors for predicting risk of breast cancer. J Natl Cancer Inst 2008 Jul 16;100(14):978-9. PMID: 18612128.</a:t>
            </a:r>
            <a:endParaRPr b="0" lang="en-US" sz="2000" spc="-1" strike="noStrike">
              <a:solidFill>
                <a:srgbClr val="ffffff"/>
              </a:solidFill>
              <a:latin typeface="Trebuchet MS"/>
            </a:endParaRPr>
          </a:p>
        </p:txBody>
      </p:sp>
      <p:sp>
        <p:nvSpPr>
          <p:cNvPr id="22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7 of 10)</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1298520"/>
            <a:ext cx="8229600" cy="4827600"/>
          </a:xfrm>
          <a:prstGeom prst="rect">
            <a:avLst/>
          </a:prstGeom>
          <a:noFill/>
          <a:ln w="0">
            <a:noFill/>
          </a:ln>
        </p:spPr>
        <p:txBody>
          <a:bodyPr lIns="0" rIns="0" tIns="0" bIns="0" anchor="t">
            <a:normAutofit fontScale="98000"/>
          </a:bodyPr>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pe MS, Janes H, Longton G, et al. Limitations of the odds ratio in gauging the performance of a diagnostic, prognostic, or screening marker. Am J Epidemiol 2004 May 1;159(9):882-90. PMID: 15105181.</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pe MS, Zheng Y, Jin Y, et al. Evaluating the ROC performance of markers for future events. Lifetime Data Anal 2008 Mar;14(1):86-113. PMID: 18064569.</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oses RM, Cebul RD, Collins M, et al. The importance of disease prevalence in transporting clinical prediction rules. The case of streptococcal pharyngitis. Ann Intern Med 1986 Oct;105(4):586-91. PMID: 3530079.</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ctor TS, Taylor BC, Wilt TJ. Systematic review of prognostic tests. In: Chang SM and Matchar DB, eds. Methods guide for medical test reviews. Rockville, MD: Agency for Healthcare Research and Quality; June 2012. p. 12.1-13. AHRQ Publication No. 12-EHC017. Available at www.effectivehealthcare.ahrq.gov/medtestsguide.cfm.</a:t>
            </a:r>
            <a:endParaRPr b="0" lang="en-US" sz="2000" spc="-1" strike="noStrike">
              <a:solidFill>
                <a:srgbClr val="ffffff"/>
              </a:solidFill>
              <a:latin typeface="Trebuchet MS"/>
            </a:endParaRPr>
          </a:p>
        </p:txBody>
      </p:sp>
      <p:sp>
        <p:nvSpPr>
          <p:cNvPr id="22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8 of 10)</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idker PM, Buring JE, Rifai N, et al. Development and validation of improved algorithms for the assessment of global cardiovascular risk in women: the Reynolds Risk Score. JAMA 2007 Feb 14;297(6):611-9. PMID: 17299196.</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idker PM, Paynter NP, Rifai N, et al. C-reactive protein and parental history improve global cardiovascular risk prediction: the Reynolds Risk Score for men. Circulation 2008 Nov 25;118(22):2243-51, 4p following 2251. PMID: 18997194.</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iesterer O, Milas L, Ang KK. Use of molecular biomarkers for predicting the response to radiotherapy with or without chemotherapy. J Clin Oncol 2007 Sep 10;25(26):4075-83. PMID: 17827456.</a:t>
            </a:r>
            <a:endParaRPr b="0" lang="en-US" sz="2000" spc="-1" strike="noStrike">
              <a:solidFill>
                <a:srgbClr val="ffffff"/>
              </a:solidFill>
              <a:latin typeface="Trebuchet MS"/>
            </a:endParaRPr>
          </a:p>
        </p:txBody>
      </p:sp>
      <p:sp>
        <p:nvSpPr>
          <p:cNvPr id="2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9 of 10)</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iley RD, Abrams KR, Sutton AJ, et al. Reporting of prognostic markers: current problems and development of guidelines for evidence-based practice in the future. Br J Cancer 2003 Apr 22;88(8):1191-8. PMID: 12698183.</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nuff T, Adhikari NK, Cook DJ, et al. Mortality predictions in the intensive care unit: comparing physicians with scoring systems. Crit Care Med 2006 Mar;34(3):878-85. PMID: 16505667.</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peight PM, Palmer S, Moles DR, et al. The cost-effectiveness of screening for oral cancer in primary care. Health Technol Assess 2006 Apr;10(14):1-144, iii-iv. PMID: 16707071.</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are JH. The limitations of risk factors as prognostic tools. N Engl J Med 2006 Dec 21;355(25):2615-7. PMID: 17182986.</a:t>
            </a:r>
            <a:endParaRPr b="0" lang="en-US" sz="2000" spc="-1" strike="noStrike">
              <a:solidFill>
                <a:srgbClr val="ffffff"/>
              </a:solidFill>
              <a:latin typeface="Trebuchet MS"/>
            </a:endParaRPr>
          </a:p>
        </p:txBody>
      </p:sp>
      <p:sp>
        <p:nvSpPr>
          <p:cNvPr id="23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0 of 10)</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222200"/>
            <a:ext cx="8229600" cy="454320"/>
          </a:xfrm>
          <a:prstGeom prst="rect">
            <a:avLst/>
          </a:prstGeom>
          <a:noFill/>
          <a:ln w="0">
            <a:noFill/>
          </a:ln>
        </p:spPr>
        <p:txBody>
          <a:bodyPr lIns="0" rIns="0" tIns="0" bIns="0" anchor="t">
            <a:normAutofit fontScale="91000"/>
          </a:bodyPr>
          <a:p>
            <a:pPr marL="265680" indent="-26568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onsiderations for the review summarized in the general PICOTS framework:</a:t>
            </a:r>
            <a:endParaRPr b="0" lang="en-US" sz="1800" spc="-1" strike="noStrike">
              <a:solidFill>
                <a:srgbClr val="ffffff"/>
              </a:solidFill>
              <a:latin typeface="Trebuchet MS"/>
            </a:endParaRPr>
          </a:p>
        </p:txBody>
      </p:sp>
      <p:sp>
        <p:nvSpPr>
          <p:cNvPr id="1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1: Developing the Review Topic and Framework (3 of 4)</a:t>
            </a:r>
            <a:endParaRPr b="1" lang="en-US" sz="2800" spc="-1" strike="noStrike">
              <a:solidFill>
                <a:srgbClr val="ffffff"/>
              </a:solidFill>
              <a:latin typeface="Trebuchet MS"/>
            </a:endParaRPr>
          </a:p>
        </p:txBody>
      </p:sp>
      <p:graphicFrame>
        <p:nvGraphicFramePr>
          <p:cNvPr id="101" name=""/>
          <p:cNvGraphicFramePr/>
          <p:nvPr/>
        </p:nvGraphicFramePr>
        <p:xfrm>
          <a:off x="609480" y="1706400"/>
          <a:ext cx="7848720" cy="4008600"/>
        </p:xfrm>
        <a:graphic>
          <a:graphicData uri="http://schemas.openxmlformats.org/drawingml/2006/table">
            <a:tbl>
              <a:tblPr/>
              <a:tblGrid>
                <a:gridCol w="1379520"/>
                <a:gridCol w="6469200"/>
              </a:tblGrid>
              <a:tr h="42660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Palatino Linotype"/>
                        </a:rPr>
                        <a:t>Population</a:t>
                      </a:r>
                      <a:r>
                        <a:rPr b="1" lang="en-US" sz="1400" spc="-1" strike="noStrike">
                          <a:solidFill>
                            <a:srgbClr val="6984b5"/>
                          </a:solidFill>
                          <a:latin typeface="Palatino Linotype"/>
                        </a:rPr>
                        <a:t> </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Clinical spectrum and other characteristics of the prognostic groups including the observed probabilities of the outcome being predicted</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5284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Palatino Linotype"/>
                        </a:rPr>
                        <a:t>Intervention</a:t>
                      </a:r>
                      <a:r>
                        <a:rPr b="1" lang="en-US" sz="1400" spc="-1" strike="noStrike">
                          <a:solidFill>
                            <a:srgbClr val="6984b5"/>
                          </a:solidFill>
                          <a:latin typeface="Palatino Linotype"/>
                        </a:rPr>
                        <a:t> </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The prognostic test or assessment including all components; exactly what the test measures and how it is done; how clinical specimens are obtained, processed, and stored for testing; exactly what is being predicted and how the test results are to be interpreted and used by test operators</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2134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Palatino Linotype"/>
                        </a:rPr>
                        <a:t>Comparator </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Standard prognostic tests or assessments for predicting the same outcome.</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106596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Palatino Linotype"/>
                        </a:rPr>
                        <a:t>Outcomes </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Time-dependent probabilities (time-to-event curves) of what is being predicted, changes or differences in predicted outcome probabilities or reclassification of patients into different prognostic groups, changes in patient care, the net effect of using the prognostic test on patient outcomes, and cost-effectiveness.</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106596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Palatino Linotype"/>
                        </a:rPr>
                        <a:t>Timing</a:t>
                      </a:r>
                      <a:r>
                        <a:rPr b="1" lang="en-US" sz="1400" spc="-1" strike="noStrike">
                          <a:solidFill>
                            <a:srgbClr val="6984b5"/>
                          </a:solidFill>
                          <a:latin typeface="Palatino Linotype"/>
                        </a:rPr>
                        <a:t> </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The stage in the natural history of outcome development the prognostic test to be used; the followup time covered by the prognostic test cover; the percentage of patients who experience the outcome usually increases with time, thereby changing the performance characteristics of prognostic tests.</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42660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Palatino Linotype"/>
                        </a:rPr>
                        <a:t>Setting </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Who will use the prognostic test; how the test will be used; what the applicable testing scenario is.</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bl>
          </a:graphicData>
        </a:graphic>
      </p:graphicFrame>
      <p:sp>
        <p:nvSpPr>
          <p:cNvPr id="102" name="TextBox 1"/>
          <p:cNvSpPr/>
          <p:nvPr/>
        </p:nvSpPr>
        <p:spPr>
          <a:xfrm>
            <a:off x="0" y="5867280"/>
            <a:ext cx="8610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 some contexts, it is informative to: </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tegorize subjects as those who did/did not experience the predicted outcome during a specified time interval.</a:t>
            </a:r>
            <a:endParaRPr b="0" lang="en-US" sz="20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onsider what followup times are informative to patients, clinicians, or policymakers.</a:t>
            </a:r>
            <a:endParaRPr b="0" lang="en-US" sz="18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ook back to categorize results of the test. </a:t>
            </a:r>
            <a:endParaRPr b="0" lang="en-US" sz="20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is step permits assessment of accuracy by calculating sensitivity, specificity, and predictive values.</a:t>
            </a:r>
            <a:endParaRPr b="0" lang="en-US" sz="18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ognostic tests can be specifically used to predict response to a treatment.</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y predict beneficial/adverse responses to treatment.</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y are also referred to as </a:t>
            </a:r>
            <a:r>
              <a:rPr b="0" i="1" lang="en-US" sz="2000" spc="-1" strike="noStrike">
                <a:solidFill>
                  <a:srgbClr val="ffffff"/>
                </a:solidFill>
                <a:latin typeface="Trebuchet MS"/>
              </a:rPr>
              <a:t>predictive tests</a:t>
            </a:r>
            <a:endParaRPr b="0" lang="en-US" sz="2000" spc="-1" strike="noStrike">
              <a:solidFill>
                <a:srgbClr val="ffffff"/>
              </a:solidFill>
              <a:latin typeface="Trebuchet MS"/>
            </a:endParaRPr>
          </a:p>
        </p:txBody>
      </p:sp>
      <p:sp>
        <p:nvSpPr>
          <p:cNvPr id="1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1: Developing the Review Topic and Framework (4 of 4)</a:t>
            </a:r>
            <a:endParaRPr b="1" lang="en-US" sz="2800" spc="-1" strike="noStrike">
              <a:solidFill>
                <a:srgbClr val="ffffff"/>
              </a:solidFill>
              <a:latin typeface="Trebuchet MS"/>
            </a:endParaRPr>
          </a:p>
        </p:txBody>
      </p:sp>
      <p:sp>
        <p:nvSpPr>
          <p:cNvPr id="105" name="TextBox 1"/>
          <p:cNvSpPr/>
          <p:nvPr/>
        </p:nvSpPr>
        <p:spPr>
          <a:xfrm>
            <a:off x="304920" y="5943600"/>
            <a:ext cx="838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374480"/>
            <a:ext cx="8229600" cy="4492440"/>
          </a:xfrm>
          <a:prstGeom prst="rect">
            <a:avLst/>
          </a:prstGeom>
          <a:noFill/>
          <a:ln w="0">
            <a:noFill/>
          </a:ln>
        </p:spPr>
        <p:txBody>
          <a:bodyPr lIns="0" rIns="0" tIns="0" bIns="0"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udies can relate to one or more categories:</a:t>
            </a:r>
            <a:endParaRPr b="0" lang="en-US" sz="2000" spc="-1" strike="noStrike">
              <a:solidFill>
                <a:srgbClr val="ffffff"/>
              </a:solidFill>
              <a:latin typeface="Trebuchet MS"/>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rebuchet MS"/>
            </a:endParaRPr>
          </a:p>
          <a:p>
            <a:pPr>
              <a:lnSpc>
                <a:spcPct val="8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rebuchet MS"/>
              </a:rPr>
              <a:t>Proof of concept</a:t>
            </a:r>
            <a:r>
              <a:rPr b="0" lang="en-US" sz="1800" spc="-1" strike="noStrike">
                <a:solidFill>
                  <a:srgbClr val="ffffff"/>
                </a:solidFill>
                <a:latin typeface="Trebuchet MS"/>
              </a:rPr>
              <a:t>: Is the test result associated with a clinically important outcome?</a:t>
            </a:r>
            <a:endParaRPr b="0" lang="en-US" sz="1800" spc="-1" strike="noStrike">
              <a:solidFill>
                <a:srgbClr val="ffffff"/>
              </a:solidFill>
              <a:latin typeface="Trebuchet MS"/>
            </a:endParaRPr>
          </a:p>
          <a:p>
            <a:pPr>
              <a:lnSpc>
                <a:spcPct val="8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rebuchet MS"/>
              </a:rPr>
              <a:t>Prospective clinical validation</a:t>
            </a:r>
            <a:r>
              <a:rPr b="0" lang="en-US" sz="1800" spc="-1" strike="noStrike">
                <a:solidFill>
                  <a:srgbClr val="ffffff"/>
                </a:solidFill>
                <a:latin typeface="Trebuchet MS"/>
              </a:rPr>
              <a:t>: How accurately does the test predict outcomes in different patient cohorts, clinical practices, and prognostic groups?</a:t>
            </a:r>
            <a:endParaRPr b="0" lang="en-US" sz="1800" spc="-1" strike="noStrike">
              <a:solidFill>
                <a:srgbClr val="ffffff"/>
              </a:solidFill>
              <a:latin typeface="Trebuchet MS"/>
            </a:endParaRPr>
          </a:p>
          <a:p>
            <a:pPr>
              <a:lnSpc>
                <a:spcPct val="8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rebuchet MS"/>
              </a:rPr>
              <a:t>Incremental predictive value</a:t>
            </a:r>
            <a:r>
              <a:rPr b="0" lang="en-US" sz="1800" spc="-1" strike="noStrike">
                <a:solidFill>
                  <a:srgbClr val="ffffff"/>
                </a:solidFill>
                <a:latin typeface="Trebuchet MS"/>
              </a:rPr>
              <a:t>: How much does the new test change predictive probabilities and increase the discrimination of patients who did/did not experience the outcome of interest within a specific time period?</a:t>
            </a:r>
            <a:endParaRPr b="0" lang="en-US" sz="1800" spc="-1" strike="noStrike">
              <a:solidFill>
                <a:srgbClr val="ffffff"/>
              </a:solidFill>
              <a:latin typeface="Trebuchet MS"/>
            </a:endParaRPr>
          </a:p>
          <a:p>
            <a:pPr>
              <a:lnSpc>
                <a:spcPct val="8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rebuchet MS"/>
              </a:rPr>
              <a:t>Clinical utility</a:t>
            </a:r>
            <a:r>
              <a:rPr b="0" lang="en-US" sz="1800" spc="-1" strike="noStrike">
                <a:solidFill>
                  <a:srgbClr val="ffffff"/>
                </a:solidFill>
                <a:latin typeface="Trebuchet MS"/>
              </a:rPr>
              <a:t>: Does the new assessment change predicted probabilities enough to reclassify many patients into different prognostic groups that would be managed differently?</a:t>
            </a:r>
            <a:endParaRPr b="0" lang="en-US" sz="1800" spc="-1" strike="noStrike">
              <a:solidFill>
                <a:srgbClr val="ffffff"/>
              </a:solidFill>
              <a:latin typeface="Trebuchet MS"/>
            </a:endParaRPr>
          </a:p>
          <a:p>
            <a:pPr>
              <a:lnSpc>
                <a:spcPct val="8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rebuchet MS"/>
              </a:rPr>
              <a:t>Clinical outcomes</a:t>
            </a:r>
            <a:r>
              <a:rPr b="0" lang="en-US" sz="1800" spc="-1" strike="noStrike">
                <a:solidFill>
                  <a:srgbClr val="ffffff"/>
                </a:solidFill>
                <a:latin typeface="Trebuchet MS"/>
              </a:rPr>
              <a:t>: Would use of the prognostic test improve patient outcomes?</a:t>
            </a:r>
            <a:endParaRPr b="0" lang="en-US" sz="1800" spc="-1" strike="noStrike">
              <a:solidFill>
                <a:srgbClr val="ffffff"/>
              </a:solidFill>
              <a:latin typeface="Trebuchet MS"/>
            </a:endParaRPr>
          </a:p>
          <a:p>
            <a:pPr>
              <a:lnSpc>
                <a:spcPct val="8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rebuchet MS"/>
              </a:rPr>
              <a:t>Cost-effectiveness</a:t>
            </a:r>
            <a:r>
              <a:rPr b="0" lang="en-US" sz="1800" spc="-1" strike="noStrike">
                <a:solidFill>
                  <a:srgbClr val="ffffff"/>
                </a:solidFill>
                <a:latin typeface="Trebuchet MS"/>
              </a:rPr>
              <a:t>: Do the improvements in patient outcomes justify the additional costs of testing and subsequent medical care?</a:t>
            </a:r>
            <a:endParaRPr b="0" lang="en-US" sz="1800" spc="-1" strike="noStrike">
              <a:solidFill>
                <a:srgbClr val="ffffff"/>
              </a:solidFill>
              <a:latin typeface="Trebuchet MS"/>
            </a:endParaRPr>
          </a:p>
        </p:txBody>
      </p:sp>
      <p:sp>
        <p:nvSpPr>
          <p:cNvPr id="1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2: Searching for Studies (1 of 5)</a:t>
            </a:r>
            <a:endParaRPr b="1" lang="en-US" sz="2800" spc="-1" strike="noStrike">
              <a:solidFill>
                <a:srgbClr val="ffffff"/>
              </a:solidFill>
              <a:latin typeface="Trebuchet MS"/>
            </a:endParaRPr>
          </a:p>
        </p:txBody>
      </p:sp>
      <p:sp>
        <p:nvSpPr>
          <p:cNvPr id="108" name="TextBox 1"/>
          <p:cNvSpPr/>
          <p:nvPr/>
        </p:nvSpPr>
        <p:spPr>
          <a:xfrm>
            <a:off x="304920" y="5943600"/>
            <a:ext cx="830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34460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first four categories are most readily addressed by large cohort studies and secondary analyses of clinical trial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r the last two categories, randomized control trials (RCTs) are preferred. </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CTs are rare because of barriers including costs and the time involved.</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 the event that no RCTs are found, use a decision model to focus on providing best estimates of outcome probabilities.</a:t>
            </a:r>
            <a:endParaRPr b="0" lang="en-US" sz="2200" spc="-1" strike="noStrike">
              <a:solidFill>
                <a:srgbClr val="ffffff"/>
              </a:solidFill>
              <a:latin typeface="Trebuchet MS"/>
            </a:endParaRPr>
          </a:p>
        </p:txBody>
      </p:sp>
      <p:sp>
        <p:nvSpPr>
          <p:cNvPr id="1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2: Searching for Studies (2 of 5)</a:t>
            </a:r>
            <a:endParaRPr b="1" lang="en-US" sz="2800" spc="-1" strike="noStrike">
              <a:solidFill>
                <a:srgbClr val="ffffff"/>
              </a:solidFill>
              <a:latin typeface="Trebuchet MS"/>
            </a:endParaRPr>
          </a:p>
        </p:txBody>
      </p:sp>
      <p:sp>
        <p:nvSpPr>
          <p:cNvPr id="111" name="TextBox 1"/>
          <p:cNvSpPr/>
          <p:nvPr/>
        </p:nvSpPr>
        <p:spPr>
          <a:xfrm>
            <a:off x="228600" y="5943600"/>
            <a:ext cx="8610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1T17:00:54Z</dcterms:created>
  <dc:creator>Alex P Vaz</dc:creator>
  <dc:description/>
  <dc:language>en-US</dc:language>
  <cp:lastModifiedBy>Tony Adams</cp:lastModifiedBy>
  <dcterms:modified xsi:type="dcterms:W3CDTF">2013-05-30T12:19:01Z</dcterms:modified>
  <cp:revision>304</cp:revision>
  <dc:subject/>
  <dc:title>Prognostic Tests</dc:title>
</cp:coreProperties>
</file>