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360"/>
            <a:ext cx="3038400" cy="4618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360"/>
            <a:ext cx="3038400" cy="4618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ftr" idx="2"/>
          </p:nvPr>
        </p:nvSpPr>
        <p:spPr>
          <a:xfrm>
            <a:off x="0" y="8772120"/>
            <a:ext cx="3038400" cy="4618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3" name="PlaceHolder 5"/>
          <p:cNvSpPr>
            <a:spLocks noGrp="1"/>
          </p:cNvSpPr>
          <p:nvPr>
            <p:ph type="sldNum" idx="3"/>
          </p:nvPr>
        </p:nvSpPr>
        <p:spPr>
          <a:xfrm>
            <a:off x="3970440" y="8772120"/>
            <a:ext cx="3038400" cy="46188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9A97C-1156-48AB-B4DA-CE046C301A1C}"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84" name="PlaceHolder 6"/>
          <p:cNvSpPr>
            <a:spLocks noGrp="1"/>
          </p:cNvSpPr>
          <p:nvPr>
            <p:ph type="body"/>
          </p:nvPr>
        </p:nvSpPr>
        <p:spPr>
          <a:xfrm>
            <a:off x="700920" y="4387680"/>
            <a:ext cx="5607000" cy="4156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2280"/>
            <a:ext cx="4619520" cy="3463920"/>
          </a:xfrm>
          <a:prstGeom prst="rect">
            <a:avLst/>
          </a:prstGeom>
          <a:ln w="0">
            <a:noFill/>
          </a:ln>
        </p:spPr>
      </p:sp>
      <p:sp>
        <p:nvSpPr>
          <p:cNvPr id="19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5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assess risk of bias as a domain of quality in medical tes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2280"/>
            <a:ext cx="4619520" cy="3463920"/>
          </a:xfrm>
          <a:prstGeom prst="rect">
            <a:avLst/>
          </a:prstGeom>
          <a:ln w="0">
            <a:noFill/>
          </a:ln>
        </p:spPr>
      </p:sp>
      <p:sp>
        <p:nvSpPr>
          <p:cNvPr id="21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for Biases Affecting Medical Test Studie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of study design and conduct that may increase the risk of bias vary according to the type of study. Trials of tests with clinical outcomes and intervention studies should have fairly similar quality-rating criteria. However, medical test performance studies are typically cohort studies (observational studies) rather than the randomized controlled trials more commonly found in intervention studies. There are several potential biases specific to cohort studies, including complete ascertainment of true disease status, adequacy of reference standard, and spectrum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hallenges Specific to Assessing Individual Study Limitations as a Domain of Qual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veral common challenges can occur when assessing the risk of bias in studies of medical test performance. The first challenge is identifying the appropriate criteria to use. Given the number of instruments available to assess the many different aspects of study quality, determining which of the existing instruments or which combination of criteria from these instruments is best suited to the task at hand can be difficult. A second challenge is how to apply the chosen criteria in a way that is appropriate for the goals of the review. For example, criteria developed to evaluate laboratory studies may not be appropriate for studies of medical history. The challenge in this instance is ensuring that the review remain true to the spirit of the criterion while being clear enough for others to reproduce. A common third challenge is dealing with inadequate reporting. While inadequate reporting does not in itself lead to systematic bias, it does limit a reviewer</a:t>
            </a:r>
            <a:r>
              <a:rPr b="0" lang="ja-JP" sz="1000" spc="-1" strike="noStrike">
                <a:solidFill>
                  <a:srgbClr val="000000"/>
                </a:solidFill>
                <a:latin typeface="Calibri"/>
              </a:rPr>
              <a:t>’</a:t>
            </a:r>
            <a:r>
              <a:rPr b="0" lang="en-US" sz="1000" spc="-1" strike="noStrike">
                <a:solidFill>
                  <a:srgbClr val="000000"/>
                </a:solidFill>
                <a:latin typeface="Calibri"/>
              </a:rPr>
              <a:t>s ability to adequately assess risk of bias. Due to this limitation, studies with less meticulous reporting may not be given as much attention as well-reported studies. If an inadequately reported study appears to make a potentially important contribution to the review, questions regarding the study may need to be addressed by the study</a:t>
            </a:r>
            <a:r>
              <a:rPr b="0" lang="ja-JP" sz="1000" spc="-1" strike="noStrike">
                <a:solidFill>
                  <a:srgbClr val="000000"/>
                </a:solidFill>
                <a:latin typeface="Calibri"/>
              </a:rPr>
              <a:t>’</a:t>
            </a:r>
            <a:r>
              <a:rPr b="0" lang="en-US" sz="1000" spc="-1" strike="noStrike">
                <a:solidFill>
                  <a:srgbClr val="000000"/>
                </a:solidFill>
                <a:latin typeface="Calibri"/>
              </a:rPr>
              <a:t>s author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757617</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5560" y="692280"/>
            <a:ext cx="4619520" cy="3463920"/>
          </a:xfrm>
          <a:prstGeom prst="rect">
            <a:avLst/>
          </a:prstGeom>
          <a:ln w="0">
            <a:noFill/>
          </a:ln>
        </p:spPr>
      </p:sp>
      <p:sp>
        <p:nvSpPr>
          <p:cNvPr id="22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 Specific to Assessing Risk of Bias in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nciples to follow when addressing the challenges of assessing the risk of bias in studies of medical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1: Use validated criteria to address relevant sources of bi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2: Standardize the application of study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3: Decide when inadequate reporting constitutes a fatal f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2280"/>
            <a:ext cx="4619520" cy="3463920"/>
          </a:xfrm>
          <a:prstGeom prst="rect">
            <a:avLst/>
          </a:prstGeom>
          <a:ln w="0">
            <a:noFill/>
          </a:ln>
        </p:spPr>
      </p:sp>
      <p:sp>
        <p:nvSpPr>
          <p:cNvPr id="22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1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order to select criteria for assessing risk of bias, it is best to use criteria that have been validated by a previous systematic review. In one such review, West et al. (2002) evaluated 18 bias-assessment tools, all of which were intended to be used in conjunction with other tools that evaluate the design-specific attributes of the study. Of the 18 tools, 3 scales met all 6 criteria considered important by the reviewers. These tools were the Cochrane working group checklist, the tools used by Lijmer et al. in their 1999 study, and the National Health and Medical Research Council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chrane Methods Working Group on Systematic Review of Screening and Diagnostic Tests. Recommended methods. London: The Cochrane Collaboration; 199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04932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ational Health and Medical Research Council. How to review the evidence: systematic identification and review of the scientific literature. Canberra, Australia: National Health and Medical Research Council; 2000. Available at </a:t>
            </a:r>
            <a:r>
              <a:rPr b="0" lang="en-US" sz="900" spc="-1" strike="noStrike">
                <a:solidFill>
                  <a:srgbClr val="000000"/>
                </a:solidFill>
                <a:latin typeface="Calibri"/>
              </a:rPr>
              <a:t>www.nhmrc.gov.au/_files_nhmrc/publications/attachments/cp65.pdf.</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est S, King V, Carey TS, et al. Systems to rate the strength of scientific evidence. Evid Rep Technol Assess (Summ) 2002 Mar;(47):1-11. PMID: 1197973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979732</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1: Use Validated Criteria To Address Relevant Sources of Bias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order to select criteria for assessing risk of bias, it is best to use criteria that have been validated by a previous systematic review. In another such systematic review, Whiting et al. (2005) evaluated 91 bias-assessment tools. Most of these tools did not explicitly state a rationale for the inclusion/exclusion of items, had not been subjected to a test-retest reliability evaluation, and/or did not provide a definition of the quality components considered in the tool. These variations between tools reflect the inconsistency in understanding quality assessment in the field of evidence-based medicine. Whiting et al. did not recommend a particular tool or checklist. Instead, they used their review to develop their own checklist</a:t>
            </a:r>
            <a:r>
              <a:rPr b="0" lang="en-US" sz="1100" spc="-1" strike="noStrike">
                <a:solidFill>
                  <a:srgbClr val="000000"/>
                </a:solidFill>
                <a:latin typeface="Calibri"/>
                <a:ea typeface="Arial"/>
              </a:rPr>
              <a:t>—</a:t>
            </a:r>
            <a:r>
              <a:rPr b="0" lang="en-US" sz="1100" spc="-1" strike="noStrike">
                <a:solidFill>
                  <a:srgbClr val="000000"/>
                </a:solidFill>
                <a:latin typeface="Calibri"/>
              </a:rPr>
              <a:t>Quality Assessment of Diagnostic Accuracy Studies (QUAD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5649665</a:t>
            </a:r>
            <a:endParaRPr b="0" lang="en-US" sz="11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5560" y="692280"/>
            <a:ext cx="4619520" cy="3463920"/>
          </a:xfrm>
          <a:prstGeom prst="rect">
            <a:avLst/>
          </a:prstGeom>
          <a:ln w="0">
            <a:noFill/>
          </a:ln>
        </p:spPr>
      </p:sp>
      <p:sp>
        <p:nvSpPr>
          <p:cNvPr id="22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3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uthors of the Quality Assessment of Diagnostic Accuracy Studies (QUADAS) checklist attempted to incorporate sources of bias and error that had some empirical basis and validity. The QUADAS checklist contains elements beyond those concerned with systematic bias and includes questions related to reporting. An updated version of this scale, called QUADAS-2, identifies four key domains, each of which are rated in terms of risk of bias. These four domains are patient selection, index test or tests, reference standard, and flow and tim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re for Reviews and Dissemination. Systematic reviews: CRD's guidance for undertaking reviews in health care. York, England: University of York; 2008. Available at www.york.ac.uk/inst/crd/pdf/Systematic_Reviews.pdf. Accessed September 19, 201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eflang MM, Deeks JJ, Gatsonis C, et al; Cochrane Diagnostic Test Accuracy Working Group. Systematic reviews of diagnostic test accuracy. Ann Intern Med 2008 Dec 16;149(12):889-97. PMID: 19075208.</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Mol BW, Heisterkamp S, et al. Empirical evidence of design-related bias in studies of diagnostic tests. JAMA 1999 Sep 15;282(11):1061-6. PMID: 1049320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QUADAS-2 Questions for Assessing Risk of Bias in Diagnostic Accuracy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figure shows the revised Quality Assessment of Diagnostic Accuracy Studies checklist (QUADAS-2) questions for assessing risk of bias in diagnostic accuracy studies grouped under the four domains of patient selection, index test(s), reference standard, and flow and timing. Each domain has a series of questions related to that domain, followed by a summary question (e.g., Could the selection of patients have introduced bias?). For each of the initial questions, the investigator would answer “yes,” “no,” or “unclear.” The answer to the summary question would then be based on the answers to the previous questions, and the investigator would rate the risk of bias for the domain as “low,” “high,” or “unclear.”</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jmer JG, Mol BW, Heisterkamp S, et al. Empirical evidence of design-related bias in studies of diagnostic tests. JAMA 1999 Sep 15;282(11):1061-6. PMID: 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049320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F, Rutjes AWS, Westwood ME, et al. QUADAS-2: a revised tool for the quality assessment of diagnostic accuracy studies. Ann Intern Med 2011 Oct 18;155(8):529-36. PMID: 2200704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22007046</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2280"/>
            <a:ext cx="4619520" cy="3463920"/>
          </a:xfrm>
          <a:prstGeom prst="rect">
            <a:avLst/>
          </a:prstGeom>
          <a:ln w="0">
            <a:noFill/>
          </a:ln>
        </p:spPr>
      </p:sp>
      <p:sp>
        <p:nvSpPr>
          <p:cNvPr id="231" name="PlaceHolder 2"/>
          <p:cNvSpPr>
            <a:spLocks noGrp="1"/>
          </p:cNvSpPr>
          <p:nvPr>
            <p:ph type="body"/>
          </p:nvPr>
        </p:nvSpPr>
        <p:spPr>
          <a:xfrm>
            <a:off x="701280" y="4387320"/>
            <a:ext cx="5607000" cy="4156200"/>
          </a:xfrm>
          <a:prstGeom prst="rect">
            <a:avLst/>
          </a:prstGeom>
          <a:noFill/>
          <a:ln w="9360">
            <a:solidFill>
              <a:srgbClr val="ffffff"/>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Validated Criteria To Address Relevant Sources of Bias (4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gency for Healthcare Research and Quality</a:t>
            </a:r>
            <a:r>
              <a:rPr b="0" lang="ja-JP" sz="900" spc="-1" strike="noStrike">
                <a:solidFill>
                  <a:srgbClr val="000000"/>
                </a:solidFill>
                <a:latin typeface="Calibri"/>
              </a:rPr>
              <a:t>’</a:t>
            </a:r>
            <a:r>
              <a:rPr b="0" lang="en-US" sz="900" spc="-1" strike="noStrike">
                <a:solidFill>
                  <a:srgbClr val="000000"/>
                </a:solidFill>
                <a:latin typeface="Calibri"/>
              </a:rPr>
              <a:t>s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ers use criteria that have been validated by an instrument, such as QUADAS-2 (the revised Quality Assessment of Diagnostic Accuracy Studies checklist), to assess the risk of systematic error. Other items that assess applicability or random error will be discussed in future modul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disregarding irrelevant items, systematic reviewers may need to add additional criteria from other standardized checklists such as the Standards for Reporting of Diagnostic Accuracy (STARD) checklist or the Strengthening the Reporting of Genetic Association Studies (STREGA) checklist, which is an extension of the Strengthening the Reporting of Observational Studies in Epidemiology (STROBE) checkli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51304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Higgins JP, Ioannidis JP, et al. STrengthening the REporting of Genetic Association studies (STREGA)</a:t>
            </a:r>
            <a:r>
              <a:rPr b="0" lang="en-US" sz="900" spc="-1" strike="noStrike">
                <a:solidFill>
                  <a:srgbClr val="000000"/>
                </a:solidFill>
                <a:latin typeface="Calibri"/>
                <a:ea typeface="Arial"/>
              </a:rPr>
              <a:t>—</a:t>
            </a:r>
            <a:r>
              <a:rPr b="0" lang="en-US" sz="900" spc="-1" strike="noStrike">
                <a:solidFill>
                  <a:srgbClr val="000000"/>
                </a:solidFill>
                <a:latin typeface="Calibri"/>
              </a:rPr>
              <a:t>an extension of the STROBE statement. Eur J Clin Invest 2009 Apr;39(4):247-66. PMID: 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29780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on Elm E, Altman DG, Egger M, et al. The Strengthening the Reporting of Observational Studies in Epidemiology (STROBE) statement: guidelines for reporting observational studies. Lancet 2007 Oct 20;370(9596):1453-7. PMID: 180647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064739</a:t>
            </a:r>
            <a:endParaRPr b="0" lang="en-US" sz="9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5560" y="692280"/>
            <a:ext cx="4619520" cy="3463920"/>
          </a:xfrm>
          <a:prstGeom prst="rect">
            <a:avLst/>
          </a:prstGeom>
          <a:ln w="0">
            <a:noFill/>
          </a:ln>
        </p:spPr>
      </p:sp>
      <p:sp>
        <p:nvSpPr>
          <p:cNvPr id="23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2: Standardize the Application of Criteria</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for addressing the challenges of assessing the risk of bias in studies of medical test performance is to standardize the application of criteria. Standardizing the application of criteria maintains objectivity in an otherwise subjective process. As there is a lack of empirical evidence to inform decisions about this process, the </a:t>
            </a:r>
            <a:r>
              <a:rPr b="0" i="1" lang="en-US" sz="900" spc="-1" strike="noStrike">
                <a:solidFill>
                  <a:srgbClr val="000000"/>
                </a:solidFill>
                <a:latin typeface="Calibri"/>
              </a:rPr>
              <a:t>Methods Guide for Medical Test Reviews </a:t>
            </a:r>
            <a:r>
              <a:rPr b="0" lang="en-US" sz="900" spc="-1" strike="noStrike">
                <a:solidFill>
                  <a:srgbClr val="000000"/>
                </a:solidFill>
                <a:latin typeface="Calibri"/>
              </a:rPr>
              <a:t>recommends that review teams establish clear definitions for each criterion. In addition, it may be useful to pilot test the criteria definitions with at least two reviewers so that unreliable items can be revised and the reliability of the ultimate criteria can be measured. The guide also suggests that reviewers summarize study limitations across multiple items from a single study into one of three simple categories, using the terms </a:t>
            </a:r>
            <a:r>
              <a:rPr b="0" lang="ja-JP" sz="900" spc="-1" strike="noStrike">
                <a:solidFill>
                  <a:srgbClr val="000000"/>
                </a:solidFill>
                <a:latin typeface="Calibri"/>
              </a:rPr>
              <a:t>“</a:t>
            </a:r>
            <a:r>
              <a:rPr b="0" lang="en-US" sz="900" spc="-1" strike="noStrike">
                <a:solidFill>
                  <a:srgbClr val="000000"/>
                </a:solidFill>
                <a:latin typeface="Calibri"/>
              </a:rPr>
              <a:t>good,” “fair,” and “poor” for this purpose (may have different scores for different outcomes). The definition of each term should be decided in advance of the final review and clearly reported in the review. For this type of review, it is useful to have two independent reviewers categorize each study and then resolve disagreements by discussion.</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Available at www.cochrane-handbook.org. Accessed September 19, 2011.</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2280"/>
            <a:ext cx="4619520" cy="3463920"/>
          </a:xfrm>
          <a:prstGeom prst="rect">
            <a:avLst/>
          </a:prstGeom>
          <a:ln w="0">
            <a:noFill/>
          </a:ln>
        </p:spPr>
      </p:sp>
      <p:sp>
        <p:nvSpPr>
          <p:cNvPr id="23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tegorizing Individual Studies Into General Qual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how the application of the three general quality categories may be interpreted in the context of diagnostic accuracy studies. Application of these categories varies somewhat according to study type (i.e., randomized controlled trials or medical test performance studies). Generally, a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study is one that has no major features that risk biased results. A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study is susceptible to some bias, but its flaws are not sufficient to invalidate its results. A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study has significant flaws that imply biases of various types that may invalidate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a:t>
            </a:r>
            <a:r>
              <a:rPr b="0" lang="en-US" sz="1200" spc="-1" strike="noStrike">
                <a:solidFill>
                  <a:srgbClr val="000000"/>
                </a:solidFill>
                <a:latin typeface="Calibri"/>
              </a:rPr>
              <a:t>This module focuses on assessing risk of bias as a domain of quality as it applies to medical tests, specifically diagnostic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2280"/>
            <a:ext cx="4619520" cy="3463920"/>
          </a:xfrm>
          <a:prstGeom prst="rect">
            <a:avLst/>
          </a:prstGeom>
          <a:ln w="0">
            <a:noFill/>
          </a:ln>
        </p:spPr>
      </p:sp>
      <p:sp>
        <p:nvSpPr>
          <p:cNvPr id="23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Decide When Inadequate Reporting Constitutes a Fatal Flaw</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hird principle for addressing the challenges of assessing the risk of bias in studies of medical test performance is to decide when inadequate reporting constitutes a fatal flaw. Reviewers should carefully consider how to handle inadequate reporting because, while inadequate reporting does not introduce systematic bias itself, it does limit the reviewer</a:t>
            </a:r>
            <a:r>
              <a:rPr b="0" lang="ja-JP" sz="1100" spc="-1" strike="noStrike">
                <a:solidFill>
                  <a:srgbClr val="000000"/>
                </a:solidFill>
                <a:latin typeface="Calibri"/>
              </a:rPr>
              <a:t>’</a:t>
            </a:r>
            <a:r>
              <a:rPr b="0" lang="en-US" sz="1100" spc="-1" strike="noStrike">
                <a:solidFill>
                  <a:srgbClr val="000000"/>
                </a:solidFill>
                <a:latin typeface="Calibri"/>
              </a:rPr>
              <a:t>s ability to assess the risk of bias. Some reviewers may assume the worst, while others may give a study the benefit of the doub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 study makes a potentially important contribution to the review, reporting issues may be resolved by contacting the study authors. When it is not possible to obtain these details, it is standard practice to document that a study did not adequately report particular criter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ewers must determine in advance whether failure to report certain criteria constitutes a </a:t>
            </a:r>
            <a:r>
              <a:rPr b="0" lang="ja-JP" sz="1100" spc="-1" strike="noStrike">
                <a:solidFill>
                  <a:srgbClr val="000000"/>
                </a:solidFill>
                <a:latin typeface="Calibri"/>
              </a:rPr>
              <a:t>“</a:t>
            </a:r>
            <a:r>
              <a:rPr b="0" lang="en-US" sz="1100" spc="-1" strike="noStrike">
                <a:solidFill>
                  <a:srgbClr val="000000"/>
                </a:solidFill>
                <a:latin typeface="Calibri"/>
              </a:rPr>
              <a:t>fatal flaw,</a:t>
            </a:r>
            <a:r>
              <a:rPr b="0" lang="ja-JP" sz="1100" spc="-1" strike="noStrike">
                <a:solidFill>
                  <a:srgbClr val="000000"/>
                </a:solidFill>
                <a:latin typeface="Calibri"/>
              </a:rPr>
              <a:t>”</a:t>
            </a:r>
            <a:r>
              <a:rPr b="0" lang="en-US" sz="1100" spc="-1" strike="noStrike">
                <a:solidFill>
                  <a:srgbClr val="000000"/>
                </a:solidFill>
                <a:latin typeface="Calibri"/>
              </a:rPr>
              <a:t> that is, one that makes the results either uninterpretable or invalid. For example, if a review that is meant to apply to older individuals finds a study in which age was not reported, the study should either be excluded from the review or included and marked as </a:t>
            </a:r>
            <a:r>
              <a:rPr b="0" lang="ja-JP" sz="1100" spc="-1" strike="noStrike">
                <a:solidFill>
                  <a:srgbClr val="000000"/>
                </a:solidFill>
                <a:latin typeface="Calibri"/>
              </a:rPr>
              <a:t>“</a:t>
            </a:r>
            <a:r>
              <a:rPr b="0" lang="en-US" sz="1100" spc="-1" strike="noStrike">
                <a:solidFill>
                  <a:srgbClr val="000000"/>
                </a:solidFill>
                <a:latin typeface="Calibri"/>
              </a:rPr>
              <a:t>poor</a:t>
            </a:r>
            <a:r>
              <a:rPr b="0" lang="ja-JP" sz="1100" spc="-1" strike="noStrike">
                <a:solidFill>
                  <a:srgbClr val="000000"/>
                </a:solidFill>
                <a:latin typeface="Calibri"/>
              </a:rPr>
              <a:t>”</a:t>
            </a:r>
            <a:r>
              <a:rPr b="0" lang="en-US" sz="1100" spc="-1" strike="noStrike">
                <a:solidFill>
                  <a:srgbClr val="000000"/>
                </a:solidFill>
                <a:latin typeface="Calibri"/>
              </a:rPr>
              <a:t> with regard to risk of bia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2280"/>
            <a:ext cx="4619520" cy="3463920"/>
          </a:xfrm>
          <a:prstGeom prst="rect">
            <a:avLst/>
          </a:prstGeom>
          <a:ln w="0">
            <a:noFill/>
          </a:ln>
        </p:spPr>
      </p:sp>
      <p:sp>
        <p:nvSpPr>
          <p:cNvPr id="23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Accuracy of Patient Self-reports of Family History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slide gives an example of assessing the risk of bias in studies included in a systematic review that evaluated the accuracy of reporting family history and the factors that were likely to affect accuracy. The index test used for this review was the self-reports of patients of their family history. The reference standard test could include verification of relatives</a:t>
            </a:r>
            <a:r>
              <a:rPr b="0" lang="ja-JP" sz="900" spc="-1" strike="noStrike">
                <a:solidFill>
                  <a:srgbClr val="000000"/>
                </a:solidFill>
                <a:latin typeface="Calibri"/>
              </a:rPr>
              <a:t>’</a:t>
            </a:r>
            <a:r>
              <a:rPr b="0" lang="en-US" sz="900" spc="-1" strike="noStrike">
                <a:solidFill>
                  <a:srgbClr val="000000"/>
                </a:solidFill>
                <a:latin typeface="Calibri"/>
              </a:rPr>
              <a:t> status from either medical records or disease or death registries. For this review, criteria from the </a:t>
            </a:r>
            <a:r>
              <a:rPr b="0" lang="en-US" sz="900" spc="-1" strike="noStrike">
                <a:solidFill>
                  <a:srgbClr val="000000"/>
                </a:solidFill>
                <a:latin typeface="Calibri"/>
              </a:rPr>
              <a:t>Quality Assessment of Diagnostic Accuracy Studies (QUADAS) </a:t>
            </a:r>
            <a:r>
              <a:rPr b="0" lang="en-US" sz="900" spc="-1" strike="noStrike">
                <a:solidFill>
                  <a:srgbClr val="000000"/>
                </a:solidFill>
                <a:latin typeface="Calibri"/>
              </a:rPr>
              <a:t>instrument were used to evaluate the quality of eligible studies. Reviewers excluded 4 of 14 items identified by the QUADAS instrument, providing their justifications for each exclusion in an appendix. Additionally, the reviewers provided contextual examples of how each item was used. Partial verification bias criteria were defined in the context of the index and reference tests chosen for the review. The reviewers gave explicit decision rules for rating each criterion as “yes,” “no,” or “unclear.”</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884616</a:t>
            </a:r>
            <a:endParaRPr b="0" lang="en-US" sz="9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2280"/>
            <a:ext cx="4619520" cy="3463920"/>
          </a:xfrm>
          <a:prstGeom prst="rect">
            <a:avLst/>
          </a:prstGeom>
          <a:ln w="0">
            <a:noFill/>
          </a:ln>
        </p:spPr>
      </p:sp>
      <p:sp>
        <p:nvSpPr>
          <p:cNvPr id="24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llustrative Example: How Partial Verification Bias Was Interpreted</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table shows the way in which partial verification bias was interpreted for the systematic review on self-reports of family history. For the question, </a:t>
            </a:r>
            <a:r>
              <a:rPr b="0" lang="ja-JP" sz="800" spc="-1" strike="noStrike">
                <a:solidFill>
                  <a:srgbClr val="000000"/>
                </a:solidFill>
                <a:latin typeface="Calibri"/>
              </a:rPr>
              <a:t>“</a:t>
            </a:r>
            <a:r>
              <a:rPr b="0" lang="en-US" sz="800" spc="-1" strike="noStrike">
                <a:solidFill>
                  <a:srgbClr val="000000"/>
                </a:solidFill>
                <a:latin typeface="Calibri"/>
              </a:rPr>
              <a:t>Did the whole sample or a random selection of the sample receive verification using a reference standard or diagnosis?</a:t>
            </a:r>
            <a:r>
              <a:rPr b="0" lang="ja-JP" sz="800" spc="-1" strike="noStrike">
                <a:solidFill>
                  <a:srgbClr val="000000"/>
                </a:solidFill>
                <a:latin typeface="Calibri"/>
              </a:rPr>
              <a:t>”</a:t>
            </a:r>
            <a:r>
              <a:rPr b="0" lang="en-US" sz="800" spc="-1" strike="noStrike">
                <a:solidFill>
                  <a:srgbClr val="000000"/>
                </a:solidFill>
                <a:latin typeface="Calibri"/>
              </a:rPr>
              <a:t> (relating to partial verification bias), the reviewers provided clear definitions of partial verification bias, its application to family history, and the sample population for their review. For the answer to be “yes,” the entire sample would have to be reported by each study subject, and some form of verification would be attempted for all identified relatives. For the answer to be “no,” the entire sample would not receive verification via the reference standard. For an answer to be “unclear,” the study would have presented insufficient information to determine whether partial verification was present.</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ssuyt PM, Reitsma JB, Bruns DE, et al. Towards complete and accurate reporting of studies of diagnostic accuracy: the STARD Initiative. Ann Intern Med 2003 Jan 7;138(1):40-4. PMID: 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513043</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Higgins JP, Ioannidis JP, et al. STrengthening the REporting of Genetic Association studies (STREGA)</a:t>
            </a:r>
            <a:r>
              <a:rPr b="0" lang="en-US" sz="800" spc="-1" strike="noStrike">
                <a:solidFill>
                  <a:srgbClr val="000000"/>
                </a:solidFill>
                <a:latin typeface="Calibri"/>
                <a:ea typeface="Arial"/>
              </a:rPr>
              <a:t>—</a:t>
            </a:r>
            <a:r>
              <a:rPr b="0" lang="en-US" sz="800" spc="-1" strike="noStrike">
                <a:solidFill>
                  <a:srgbClr val="000000"/>
                </a:solidFill>
                <a:latin typeface="Calibri"/>
              </a:rPr>
              <a:t>an extension of the STROBE statement. Eur J Clin Invest 2009 Apr;39(4):247-66. PMID: 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297801</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2280"/>
            <a:ext cx="4619520" cy="3463920"/>
          </a:xfrm>
          <a:prstGeom prst="rect">
            <a:avLst/>
          </a:prstGeom>
          <a:ln w="0">
            <a:noFill/>
          </a:ln>
        </p:spPr>
      </p:sp>
      <p:sp>
        <p:nvSpPr>
          <p:cNvPr id="24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Accuracy of Patient Self-reports of Family History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is illustrative example, reviewers could choose to present tables containing the results of their Quality Assessment of Diagnostic Accuracy Studies (QUADAS) ratings as the percentage of studies that scored yes, no, or unclear for each criterion. The use of composite scores is not recommended by the QUADAS develope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Available at www.ncbi.nlm.nih.gov/books/NBK32554/pdf/TOC.pdf.</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606960</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assessing methodological quality is necessary for any systematic review. Judging the overall quality of a study involves examining the size of a study, the direction and degree of findings, the relevance of the study, the study</a:t>
            </a:r>
            <a:r>
              <a:rPr b="0" lang="ja-JP" sz="1200" spc="-1" strike="noStrike">
                <a:solidFill>
                  <a:srgbClr val="000000"/>
                </a:solidFill>
                <a:latin typeface="Calibri"/>
              </a:rPr>
              <a:t>’</a:t>
            </a:r>
            <a:r>
              <a:rPr b="0" lang="en-US" sz="1200" spc="-1" strike="noStrike">
                <a:solidFill>
                  <a:srgbClr val="000000"/>
                </a:solidFill>
                <a:latin typeface="Calibri"/>
              </a:rPr>
              <a:t>s risk of bias in the form of systematic error and random error, and other study limitations such as inadequate reporting. In this module, we have focused on the evaluation of systematic bias as a distinctly important component of quality in studies of medical test perform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2280"/>
            <a:ext cx="4619520" cy="3463920"/>
          </a:xfrm>
          <a:prstGeom prst="rect">
            <a:avLst/>
          </a:prstGeom>
          <a:ln w="0">
            <a:noFill/>
          </a:ln>
        </p:spPr>
      </p:sp>
      <p:sp>
        <p:nvSpPr>
          <p:cNvPr id="24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points from this module </a:t>
            </a:r>
            <a:r>
              <a:rPr b="0" i="1" lang="en-US" sz="1200" spc="-1" strike="noStrike">
                <a:solidFill>
                  <a:srgbClr val="000000"/>
                </a:solidFill>
                <a:latin typeface="Calibri"/>
              </a:rPr>
              <a:t>Assessing Risk of Bias as a Domain of Quality in Medical Test Studies</a:t>
            </a:r>
            <a:r>
              <a:rPr b="0" lang="en-US" sz="1200" spc="-1" strike="noStrike">
                <a:solidFill>
                  <a:srgbClr val="000000"/>
                </a:solidFill>
                <a:latin typeface="Calibri"/>
              </a:rPr>
              <a:t> are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en assessing study limitations, reviewers should select validated criteria that examine the risk of systematic er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Reviewers should categorize individual studies as </a:t>
            </a:r>
            <a:r>
              <a:rPr b="0" lang="ja-JP" sz="1200" spc="-1" strike="noStrike">
                <a:solidFill>
                  <a:srgbClr val="000000"/>
                </a:solidFill>
                <a:latin typeface="Calibri"/>
              </a:rPr>
              <a:t>“</a:t>
            </a:r>
            <a:r>
              <a:rPr b="0" lang="en-US" sz="1200" spc="-1" strike="noStrike">
                <a:solidFill>
                  <a:srgbClr val="000000"/>
                </a:solidFill>
                <a:latin typeface="Calibri"/>
              </a:rPr>
              <a:t>good,</a:t>
            </a:r>
            <a:r>
              <a:rPr b="0" lang="ja-JP" sz="1200" spc="-1" strike="noStrike">
                <a:solidFill>
                  <a:srgbClr val="000000"/>
                </a:solidFill>
                <a:latin typeface="Calibri"/>
              </a:rPr>
              <a:t>”</a:t>
            </a:r>
            <a:r>
              <a:rPr b="0" lang="en-US" sz="1200" spc="-1" strike="noStrike">
                <a:solidFill>
                  <a:srgbClr val="000000"/>
                </a:solidFill>
                <a:latin typeface="Calibri"/>
              </a:rPr>
              <a:t> </a:t>
            </a:r>
            <a:r>
              <a:rPr b="0" lang="ja-JP" sz="1200" spc="-1" strike="noStrike">
                <a:solidFill>
                  <a:srgbClr val="000000"/>
                </a:solidFill>
                <a:latin typeface="Calibri"/>
              </a:rPr>
              <a:t>“</a:t>
            </a:r>
            <a:r>
              <a:rPr b="0" lang="en-US" sz="1200" spc="-1" strike="noStrike">
                <a:solidFill>
                  <a:srgbClr val="000000"/>
                </a:solidFill>
                <a:latin typeface="Calibri"/>
              </a:rPr>
              <a:t>fair,</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poor</a:t>
            </a:r>
            <a:r>
              <a:rPr b="0" lang="ja-JP" sz="1200" spc="-1" strike="noStrike">
                <a:solidFill>
                  <a:srgbClr val="000000"/>
                </a:solidFill>
                <a:latin typeface="Calibri"/>
              </a:rPr>
              <a:t>”</a:t>
            </a:r>
            <a:r>
              <a:rPr b="0" lang="en-US" sz="1200" spc="-1" strike="noStrike">
                <a:solidFill>
                  <a:srgbClr val="000000"/>
                </a:solidFill>
                <a:latin typeface="Calibri"/>
              </a:rPr>
              <a:t> with respect to risk of bias, with independent categorizations being made by at least two revie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ethods for determining an overall categorization for study limitations should be established at the outset of the review and clearly docum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2280"/>
            <a:ext cx="4619520" cy="3463920"/>
          </a:xfrm>
          <a:prstGeom prst="rect">
            <a:avLst/>
          </a:prstGeom>
          <a:ln w="0">
            <a:noFill/>
          </a:ln>
        </p:spPr>
      </p:sp>
      <p:sp>
        <p:nvSpPr>
          <p:cNvPr id="24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2280"/>
            <a:ext cx="4619520" cy="3463920"/>
          </a:xfrm>
          <a:prstGeom prst="rect">
            <a:avLst/>
          </a:prstGeom>
          <a:ln w="0">
            <a:noFill/>
          </a:ln>
        </p:spPr>
      </p:sp>
      <p:sp>
        <p:nvSpPr>
          <p:cNvPr id="25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2280"/>
            <a:ext cx="4619520" cy="3463920"/>
          </a:xfrm>
          <a:prstGeom prst="rect">
            <a:avLst/>
          </a:prstGeom>
          <a:ln w="0">
            <a:noFill/>
          </a:ln>
        </p:spPr>
      </p:sp>
      <p:sp>
        <p:nvSpPr>
          <p:cNvPr id="25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5560" y="692280"/>
            <a:ext cx="4619520" cy="3463920"/>
          </a:xfrm>
          <a:prstGeom prst="rect">
            <a:avLst/>
          </a:prstGeom>
          <a:ln w="0">
            <a:noFill/>
          </a:ln>
        </p:spPr>
      </p:sp>
      <p:sp>
        <p:nvSpPr>
          <p:cNvPr id="20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continuing medical education activity on how to assess risk of bias as a domain of quality in medical test studies, successful learners will be able to identify study limitations that may affect the internal validity of a study</a:t>
            </a:r>
            <a:r>
              <a:rPr b="0" lang="ja-JP" sz="1200" spc="-1" strike="noStrike">
                <a:solidFill>
                  <a:srgbClr val="000000"/>
                </a:solidFill>
                <a:latin typeface="Calibri"/>
              </a:rPr>
              <a:t>’</a:t>
            </a:r>
            <a:r>
              <a:rPr b="0" lang="en-US" sz="1200" spc="-1" strike="noStrike">
                <a:solidFill>
                  <a:srgbClr val="000000"/>
                </a:solidFill>
                <a:latin typeface="Calibri"/>
              </a:rPr>
              <a:t>s results, identify validated criteria that can be used to assess specific biases in medical tests, explain the importance of standardizing criteria used in assessing study limitations, and recognize that methods for assessing study limitations should be established in advance and documented clea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2280"/>
            <a:ext cx="4619520" cy="3463920"/>
          </a:xfrm>
          <a:prstGeom prst="rect">
            <a:avLst/>
          </a:prstGeom>
          <a:ln w="0">
            <a:noFill/>
          </a:ln>
        </p:spPr>
      </p:sp>
      <p:sp>
        <p:nvSpPr>
          <p:cNvPr id="25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2280"/>
            <a:ext cx="4619520" cy="3463920"/>
          </a:xfrm>
          <a:prstGeom prst="rect">
            <a:avLst/>
          </a:prstGeom>
          <a:ln w="0">
            <a:noFill/>
          </a:ln>
        </p:spPr>
      </p:sp>
      <p:sp>
        <p:nvSpPr>
          <p:cNvPr id="26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2280"/>
            <a:ext cx="4619520" cy="3463920"/>
          </a:xfrm>
          <a:prstGeom prst="rect">
            <a:avLst/>
          </a:prstGeom>
          <a:ln w="0">
            <a:noFill/>
          </a:ln>
        </p:spPr>
      </p:sp>
      <p:sp>
        <p:nvSpPr>
          <p:cNvPr id="26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95560" y="692280"/>
            <a:ext cx="4619520" cy="3463920"/>
          </a:xfrm>
          <a:prstGeom prst="rect">
            <a:avLst/>
          </a:prstGeom>
          <a:ln w="0">
            <a:noFill/>
          </a:ln>
        </p:spPr>
      </p:sp>
      <p:sp>
        <p:nvSpPr>
          <p:cNvPr id="26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95560" y="692280"/>
            <a:ext cx="4619520" cy="3463920"/>
          </a:xfrm>
          <a:prstGeom prst="rect">
            <a:avLst/>
          </a:prstGeom>
          <a:ln w="0">
            <a:noFill/>
          </a:ln>
        </p:spPr>
      </p:sp>
      <p:sp>
        <p:nvSpPr>
          <p:cNvPr id="27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95560" y="692280"/>
            <a:ext cx="4619520" cy="3463920"/>
          </a:xfrm>
          <a:prstGeom prst="rect">
            <a:avLst/>
          </a:prstGeom>
          <a:ln w="0">
            <a:noFill/>
          </a:ln>
        </p:spPr>
      </p:sp>
      <p:sp>
        <p:nvSpPr>
          <p:cNvPr id="27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95560" y="692280"/>
            <a:ext cx="4619520" cy="3463920"/>
          </a:xfrm>
          <a:prstGeom prst="rect">
            <a:avLst/>
          </a:prstGeom>
          <a:ln w="0">
            <a:noFill/>
          </a:ln>
        </p:spPr>
      </p:sp>
      <p:sp>
        <p:nvSpPr>
          <p:cNvPr id="27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2280"/>
            <a:ext cx="4619520" cy="3463920"/>
          </a:xfrm>
          <a:prstGeom prst="rect">
            <a:avLst/>
          </a:prstGeom>
          <a:ln w="0">
            <a:noFill/>
          </a:ln>
        </p:spPr>
      </p:sp>
      <p:sp>
        <p:nvSpPr>
          <p:cNvPr id="20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1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key considerations in a systematic review is quality assessment, which is often framed as the evaluation of study features that may influence the relative importance placed on a study. Quality assessment is a broad term that is used to encompass a wide array of factors, including systematic error, random error, adequacy of reporting, aspects of data analysis, applicability, specifying ethics approval, and detailing sample size estimates. As a result of the many factors influencing quality assessment, systematic reviewers have not yet achieved a consensus on the optimal criteria for assessing study qu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idering quality as </a:t>
            </a:r>
            <a:r>
              <a:rPr b="0" lang="ja-JP" sz="1200" spc="-1" strike="noStrike">
                <a:solidFill>
                  <a:srgbClr val="000000"/>
                </a:solidFill>
                <a:latin typeface="Calibri"/>
              </a:rPr>
              <a:t>“</a:t>
            </a:r>
            <a:r>
              <a:rPr b="0" lang="en-US" sz="1200" spc="-1" strike="noStrike">
                <a:solidFill>
                  <a:srgbClr val="000000"/>
                </a:solidFill>
                <a:latin typeface="Calibri"/>
              </a:rPr>
              <a:t>value for judgment making,</a:t>
            </a:r>
            <a:r>
              <a:rPr b="0" lang="ja-JP" sz="1200" spc="-1" strike="noStrike">
                <a:solidFill>
                  <a:srgbClr val="000000"/>
                </a:solidFill>
                <a:latin typeface="Calibri"/>
              </a:rPr>
              <a:t>”</a:t>
            </a:r>
            <a:r>
              <a:rPr b="0" lang="en-US" sz="1200" spc="-1" strike="noStrike">
                <a:solidFill>
                  <a:srgbClr val="000000"/>
                </a:solidFill>
                <a:latin typeface="Calibri"/>
              </a:rPr>
              <a:t> two overarching questions arise: (1) are the results for the population and test in the study accurate and precise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internal validity</a:t>
            </a:r>
            <a:r>
              <a:rPr b="0" lang="ja-JP" sz="1200" spc="-1" strike="noStrike">
                <a:solidFill>
                  <a:srgbClr val="000000"/>
                </a:solidFill>
                <a:latin typeface="Calibri"/>
              </a:rPr>
              <a:t>”</a:t>
            </a:r>
            <a:r>
              <a:rPr b="0" lang="en-US" sz="1200" spc="-1" strike="noStrike">
                <a:solidFill>
                  <a:srgbClr val="000000"/>
                </a:solidFill>
                <a:latin typeface="Calibri"/>
              </a:rPr>
              <a:t>)?, and (2) is the study applicable to the patients targeted by the review (also referred to as the study</a:t>
            </a:r>
            <a:r>
              <a:rPr b="0" lang="ja-JP" sz="1200" spc="-1" strike="noStrike">
                <a:solidFill>
                  <a:srgbClr val="000000"/>
                </a:solidFill>
                <a:latin typeface="Calibri"/>
              </a:rPr>
              <a:t>’</a:t>
            </a:r>
            <a:r>
              <a:rPr b="0" lang="en-US" sz="1200" spc="-1" strike="noStrike">
                <a:solidFill>
                  <a:srgbClr val="000000"/>
                </a:solidFill>
                <a:latin typeface="Calibri"/>
              </a:rPr>
              <a:t>s </a:t>
            </a:r>
            <a:r>
              <a:rPr b="0" lang="ja-JP" sz="1200" spc="-1" strike="noStrike">
                <a:solidFill>
                  <a:srgbClr val="000000"/>
                </a:solidFill>
                <a:latin typeface="Calibri"/>
              </a:rPr>
              <a:t>“</a:t>
            </a:r>
            <a:r>
              <a:rPr b="0" lang="en-US" sz="1200" spc="-1" strike="noStrike">
                <a:solidFill>
                  <a:srgbClr val="000000"/>
                </a:solidFill>
                <a:latin typeface="Calibri"/>
              </a:rPr>
              <a:t>external validity”)? Question one relates to both the study</a:t>
            </a:r>
            <a:r>
              <a:rPr b="0" lang="ja-JP" sz="1200" spc="-1" strike="noStrike">
                <a:solidFill>
                  <a:srgbClr val="000000"/>
                </a:solidFill>
                <a:latin typeface="Calibri"/>
              </a:rPr>
              <a:t>’</a:t>
            </a:r>
            <a:r>
              <a:rPr b="0" lang="en-US" sz="1200" spc="-1" strike="noStrike">
                <a:solidFill>
                  <a:srgbClr val="000000"/>
                </a:solidFill>
                <a:latin typeface="Calibri"/>
              </a:rPr>
              <a:t>s systematic error and its random error. Systematic error is a lack of accuracy (also referred to as bias), whereas random error is a lack of precision. Question two deals with the study</a:t>
            </a:r>
            <a:r>
              <a:rPr b="0" lang="ja-JP" sz="1200" spc="-1" strike="noStrike">
                <a:solidFill>
                  <a:srgbClr val="000000"/>
                </a:solidFill>
                <a:latin typeface="Calibri"/>
              </a:rPr>
              <a:t>’</a:t>
            </a:r>
            <a:r>
              <a:rPr b="0" lang="en-US" sz="1200" spc="-1" strike="noStrike">
                <a:solidFill>
                  <a:srgbClr val="000000"/>
                </a:solidFill>
                <a:latin typeface="Calibri"/>
              </a:rPr>
              <a:t>s relevance to both the population of interest within the study, as well as the population of interest for the systematic review, established in the review</a:t>
            </a:r>
            <a:r>
              <a:rPr b="0" lang="ja-JP" sz="1200" spc="-1" strike="noStrike">
                <a:solidFill>
                  <a:srgbClr val="000000"/>
                </a:solidFill>
                <a:latin typeface="Calibri"/>
              </a:rPr>
              <a:t>’</a:t>
            </a:r>
            <a:r>
              <a:rPr b="0" lang="en-US" sz="1200" spc="-1" strike="noStrike">
                <a:solidFill>
                  <a:srgbClr val="000000"/>
                </a:solidFill>
                <a:latin typeface="Calibri"/>
              </a:rPr>
              <a:t>s Key Questions. Relevance to the population of interest within the study is an issue of potential for bias, whereas relevance to the population of interest for the systematic review is an issue of the study</a:t>
            </a:r>
            <a:r>
              <a:rPr b="0" lang="ja-JP" sz="1200" spc="-1" strike="noStrike">
                <a:solidFill>
                  <a:srgbClr val="000000"/>
                </a:solidFill>
                <a:latin typeface="Calibri"/>
              </a:rPr>
              <a:t>’</a:t>
            </a:r>
            <a:r>
              <a:rPr b="0" lang="en-US" sz="1200" spc="-1" strike="noStrike">
                <a:solidFill>
                  <a:srgbClr val="000000"/>
                </a:solidFill>
                <a:latin typeface="Calibri"/>
              </a:rPr>
              <a:t>s applicability to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5560" y="692280"/>
            <a:ext cx="4619520" cy="3463920"/>
          </a:xfrm>
          <a:prstGeom prst="rect">
            <a:avLst/>
          </a:prstGeom>
          <a:ln w="0">
            <a:noFill/>
          </a:ln>
        </p:spPr>
      </p:sp>
      <p:sp>
        <p:nvSpPr>
          <p:cNvPr id="209"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highlights the key issues related to the overarching question, Are the results for the population and test in the study accurate and precise? In particular, it focuses on systematic errors that result from study design, conduct, and reporting</a:t>
            </a:r>
            <a:r>
              <a:rPr b="0" lang="en-US" sz="1200" spc="-1" strike="noStrike">
                <a:solidFill>
                  <a:srgbClr val="000000"/>
                </a:solidFill>
                <a:latin typeface="Calibri"/>
                <a:ea typeface="Arial"/>
              </a:rPr>
              <a:t>—</a:t>
            </a:r>
            <a:r>
              <a:rPr b="0" lang="en-US" sz="1200" spc="-1" strike="noStrike">
                <a:solidFill>
                  <a:srgbClr val="000000"/>
                </a:solidFill>
                <a:latin typeface="Calibri"/>
              </a:rPr>
              <a:t>any of which can lead to overestimation or underestimation of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ule 6 deals with the overarching question, Is the study applicable to the patients targeted by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2280"/>
            <a:ext cx="4619520" cy="3463920"/>
          </a:xfrm>
          <a:prstGeom prst="rect">
            <a:avLst/>
          </a:prstGeom>
          <a:ln w="0">
            <a:noFill/>
          </a:ln>
        </p:spPr>
      </p:sp>
      <p:sp>
        <p:nvSpPr>
          <p:cNvPr id="211"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vidence for Biases Affecting Medical Test Studies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fore considering risk of systematic bias, it helps to consider the range of study limitations that have been shown to be present in medical test studies. This range of study limitations was evaluated in a series of studies by Whiting et al., which indicated that bias does occur in THE medical test literature. However, the findings of the series of studies did not permit conclusions about the direction or relative magnitude of effects for specific biases. Common sources of bias in diagnostic accuracy studies included spectrum bias, partial verification bias, clinical review bias, and observer or instrument varia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Dinnes J, et al. A systematic review finds that diagnostic reviews fail to incorporate quality despite available tools. J Clin Epidemiol 2005 Jan;58(1):1-12. PMID: 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6496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The development of QUADAS: a tool for the quality assessment of studies of diagnostic accuracy included in systematic reviews. BMC Med Res Methodol 2003 Nov 10;3:25. PMID: 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606960</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475761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son BJ, Qureshi N, Santaguida P, et al. Systematic review: family history in risk assessment for common diseases. Ann Intern Med 2009 Dec 15;151(12):878-85. PMID: 1988461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884616</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mmonly Reported Sources of Systematic Error in Studies of Medical Test Performance (1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table shows the commonly reported sources of systematic error in studies of medical test performance, as reported by Whiting et al. (2004). Sources of systematic bias can relate to a study</a:t>
            </a:r>
            <a:r>
              <a:rPr b="0" lang="ja-JP" sz="1100" spc="-1" strike="noStrike">
                <a:solidFill>
                  <a:srgbClr val="000000"/>
                </a:solidFill>
                <a:latin typeface="Calibri"/>
              </a:rPr>
              <a:t>’</a:t>
            </a:r>
            <a:r>
              <a:rPr b="0" lang="en-US" sz="1100" spc="-1" strike="noStrike">
                <a:solidFill>
                  <a:srgbClr val="000000"/>
                </a:solidFill>
                <a:latin typeface="Calibri"/>
              </a:rPr>
              <a:t>s population, test protocol, reference standard and verification procedure, and interpretation and analysis. Sources of systemic bias related to a study</a:t>
            </a:r>
            <a:r>
              <a:rPr b="0" lang="ja-JP" sz="1100" spc="-1" strike="noStrike">
                <a:solidFill>
                  <a:srgbClr val="000000"/>
                </a:solidFill>
                <a:latin typeface="Calibri"/>
              </a:rPr>
              <a:t>’</a:t>
            </a:r>
            <a:r>
              <a:rPr b="0" lang="en-US" sz="1100" spc="-1" strike="noStrike">
                <a:solidFill>
                  <a:srgbClr val="000000"/>
                </a:solidFill>
                <a:latin typeface="Calibri"/>
              </a:rPr>
              <a:t>s population include spectrum effect, context bias, and selection bias. Sources of systematic bias related to the study</a:t>
            </a:r>
            <a:r>
              <a:rPr b="0" lang="ja-JP" sz="1100" spc="-1" strike="noStrike">
                <a:solidFill>
                  <a:srgbClr val="000000"/>
                </a:solidFill>
                <a:latin typeface="Calibri"/>
              </a:rPr>
              <a:t>’</a:t>
            </a:r>
            <a:r>
              <a:rPr b="0" lang="en-US" sz="1100" spc="-1" strike="noStrike">
                <a:solidFill>
                  <a:srgbClr val="000000"/>
                </a:solidFill>
                <a:latin typeface="Calibri"/>
              </a:rPr>
              <a:t>s test protocol include variation in test execution, variation in test technology, treatment paradox, and disease progression bias. Sources of systematic bias related to a study</a:t>
            </a:r>
            <a:r>
              <a:rPr b="0" lang="ja-JP" sz="1100" spc="-1" strike="noStrike">
                <a:solidFill>
                  <a:srgbClr val="000000"/>
                </a:solidFill>
                <a:latin typeface="Calibri"/>
              </a:rPr>
              <a:t>’</a:t>
            </a:r>
            <a:r>
              <a:rPr b="0" lang="en-US" sz="1100" spc="-1" strike="noStrike">
                <a:solidFill>
                  <a:srgbClr val="000000"/>
                </a:solidFill>
                <a:latin typeface="Calibri"/>
              </a:rPr>
              <a:t>s reference standard and verification procedure include use of an inappropriate reference standard, differential verification bias, and partial verification bia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475761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5560" y="692280"/>
            <a:ext cx="4619520" cy="3463920"/>
          </a:xfrm>
          <a:prstGeom prst="rect">
            <a:avLst/>
          </a:prstGeom>
          <a:ln w="0">
            <a:noFill/>
          </a:ln>
        </p:spPr>
      </p:sp>
      <p:sp>
        <p:nvSpPr>
          <p:cNvPr id="215" name="PlaceHolder 2"/>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monly Reported Sources of Systematic Error in Studies of Medical Test Performanc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interpretation include review bias, clinical review bias, incorporation bias, and observer variability. Sources of systematic bias related to a study</a:t>
            </a:r>
            <a:r>
              <a:rPr b="0" lang="ja-JP" sz="1200" spc="-1" strike="noStrike">
                <a:solidFill>
                  <a:srgbClr val="000000"/>
                </a:solidFill>
                <a:latin typeface="Calibri"/>
              </a:rPr>
              <a:t>’</a:t>
            </a:r>
            <a:r>
              <a:rPr b="0" lang="en-US" sz="1200" spc="-1" strike="noStrike">
                <a:solidFill>
                  <a:srgbClr val="000000"/>
                </a:solidFill>
                <a:latin typeface="Calibri"/>
              </a:rPr>
              <a:t>s analysis include the handling of indeterminate results and the arbitrary choice of a threshol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47576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ntaguida PL, Riley CM, Matchar DB. Assessing risk of bias as a domain of quality in medical test studies. In: Chang SM and Matchar DB, eds. Methods guide for medical test reviews. Rockville, MD: Agency for Healthcare Research and Quality; June 2012. p. 5.1-10</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Risk of Bias as a Domain of Quality in Medical Test Studie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lements of study design/conduct that may increase risk of bias vary by study typ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riteria for rating quality of trials of tests with clinical outcomes should not be very different from intervention studi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main difference is that medical test performance studies are typically cohort studies (not randomized controlled tria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tential biases specific to this study type must be considere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ascertainment of true disease statu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dequacy of reference standar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effect</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2 of 2)</a:t>
            </a:r>
            <a:endParaRPr b="1" lang="en-US" sz="2800" spc="-1" strike="noStrike">
              <a:solidFill>
                <a:srgbClr val="ffffff"/>
              </a:solidFill>
              <a:latin typeface="Trebuchet MS"/>
            </a:endParaRPr>
          </a:p>
        </p:txBody>
      </p:sp>
      <p:sp>
        <p:nvSpPr>
          <p:cNvPr id="123" name="TextBox 1"/>
          <p:cNvSpPr/>
          <p:nvPr/>
        </p:nvSpPr>
        <p:spPr>
          <a:xfrm>
            <a:off x="762120" y="5570640"/>
            <a:ext cx="7696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Identify appropriate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number of instruments are available to assess many different aspects of study qualit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ciding which to use can be difficult.</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apply criteria:</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riteria developed for laboratory studies may not be appropriate for studies of medical histor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ever, the review should remain true to the essence of chosen study criteria while being clear enough for others to reproduce.</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o deal with inadequate report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does not itself lead to systematic bias, but limits assessment of risk of bia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a study with inadequate reporting appears to make an important contribution, questions may need to be addressed to the authors of the study.</a:t>
            </a:r>
            <a:endParaRPr b="0" lang="en-US" sz="18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Individual Study Limitations as a Domain of Quality</a:t>
            </a:r>
            <a:endParaRPr b="1" lang="en-US" sz="2800" spc="-1" strike="noStrike">
              <a:solidFill>
                <a:srgbClr val="ffffff"/>
              </a:solidFill>
              <a:latin typeface="Trebuchet MS"/>
            </a:endParaRPr>
          </a:p>
        </p:txBody>
      </p:sp>
      <p:sp>
        <p:nvSpPr>
          <p:cNvPr id="126" name="TextBox 1"/>
          <p:cNvSpPr/>
          <p:nvPr/>
        </p:nvSpPr>
        <p:spPr>
          <a:xfrm>
            <a:off x="380880" y="5943600"/>
            <a:ext cx="838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validated criteria to address relevant sources of bia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andardize the application of criteria.</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cide when inadequate reporting constitutes a fatal flaw.</a:t>
            </a:r>
            <a:endParaRPr b="0" lang="en-US" sz="28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s for Addressing the Challenges Specific to Assessing Risk of Bias in Studies of Medical Tests</a:t>
            </a:r>
            <a:endParaRPr b="1" lang="en-US" sz="2600" spc="-1" strike="noStrike">
              <a:solidFill>
                <a:srgbClr val="ffffff"/>
              </a:solidFill>
              <a:latin typeface="Trebuchet MS"/>
            </a:endParaRPr>
          </a:p>
        </p:txBody>
      </p:sp>
      <p:sp>
        <p:nvSpPr>
          <p:cNvPr id="129" name="TextBox 1"/>
          <p:cNvSpPr/>
          <p:nvPr/>
        </p:nvSpPr>
        <p:spPr>
          <a:xfrm>
            <a:off x="380880" y="594360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41648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multiple bias-assessment instruments that are available were evaluated in the context of diagnostic accuracy in two systematic reviews.</a:t>
            </a:r>
            <a:endParaRPr b="0" lang="en-US" sz="22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systematic review, conducted by West et al. (2002), evaluated 18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uthors noted that all the tools were intended for use in conjunction with other design-specific tool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ree scales met all six criteria the authors considered importan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chrane Methods Working Group checklist</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ols used by Lijmer et al. (1999)</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Health and Medical Research Council (Australia) checklist</a:t>
            </a:r>
            <a:endParaRPr b="0" lang="en-US" sz="20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1 of 4)</a:t>
            </a:r>
            <a:endParaRPr b="1" lang="en-US" sz="2800" spc="-1" strike="noStrike">
              <a:solidFill>
                <a:srgbClr val="ffffff"/>
              </a:solidFill>
              <a:latin typeface="Trebuchet MS"/>
            </a:endParaRPr>
          </a:p>
        </p:txBody>
      </p:sp>
      <p:sp>
        <p:nvSpPr>
          <p:cNvPr id="132" name="TextBox 1"/>
          <p:cNvSpPr/>
          <p:nvPr/>
        </p:nvSpPr>
        <p:spPr>
          <a:xfrm>
            <a:off x="228600" y="5791320"/>
            <a:ext cx="861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est S, King V, Carey TS, et al. Evid Rep Technol Assess (Summ) 2002 Mar;(47):1-11. PMID: 1197973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192320"/>
            <a:ext cx="8305920" cy="3913200"/>
          </a:xfrm>
          <a:prstGeom prst="rect">
            <a:avLst/>
          </a:prstGeom>
          <a:noFill/>
          <a:ln w="0">
            <a:noFill/>
          </a:ln>
        </p:spPr>
        <p:txBody>
          <a:bodyPr lIns="0" rIns="0" tIns="0" bIns="0" anchor="t">
            <a:norm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multiple bias-assessment instruments that are available were evaluated in the context of diagnostic accuracy in two systematic reviews.</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second systematic review, conducted by Whiting et al. (2005), evaluated 91 tools. The majority of these tools:</a:t>
            </a:r>
            <a:endParaRPr b="0" lang="en-US" sz="16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explicitly state a rationale for the inclusion/exclusion of items.</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d not been subjected to a test-retest reliability evaluation.</a:t>
            </a:r>
            <a:endParaRPr b="0" lang="en-US" sz="1800" spc="-1" strike="noStrike">
              <a:solidFill>
                <a:srgbClr val="ffffff"/>
              </a:solidFill>
              <a:latin typeface="Trebuchet MS"/>
            </a:endParaRPr>
          </a:p>
          <a:p>
            <a:pPr lvl="1" marL="692280" indent="-2826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d not provide a definition of quality components considered in the tool.</a:t>
            </a:r>
            <a:endParaRPr b="0" lang="en-US" sz="18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variations reflect inconsistency in understanding quality assessment in the field of evidence-based medicine.</a:t>
            </a:r>
            <a:endParaRPr b="0" lang="en-US" sz="1600" spc="-1" strike="noStrike">
              <a:solidFill>
                <a:srgbClr val="ffffff"/>
              </a:solidFill>
              <a:latin typeface="Trebuchet MS"/>
            </a:endParaRPr>
          </a:p>
          <a:p>
            <a:pPr>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authors did not recommend a particular tool and instead developed their own </a:t>
            </a:r>
            <a:r>
              <a:rPr b="0" lang="en-US" sz="1600" spc="-1" strike="noStrike">
                <a:solidFill>
                  <a:srgbClr val="ffffff"/>
                </a:solidFill>
                <a:latin typeface="Arial"/>
                <a:ea typeface="Arial"/>
              </a:rPr>
              <a:t>—</a:t>
            </a:r>
            <a:r>
              <a:rPr b="0" lang="en-US" sz="1600" spc="-1" strike="noStrike">
                <a:solidFill>
                  <a:srgbClr val="ffffff"/>
                </a:solidFill>
                <a:latin typeface="Trebuchet MS"/>
              </a:rPr>
              <a:t>Quality Assessment of Diagnostic Accuracy Studies (QUADAS).</a:t>
            </a:r>
            <a:endParaRPr b="0" lang="en-US" sz="16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2 of 4)</a:t>
            </a:r>
            <a:endParaRPr b="1" lang="en-US" sz="2800" spc="-1" strike="noStrike">
              <a:solidFill>
                <a:srgbClr val="ffffff"/>
              </a:solidFill>
              <a:latin typeface="Trebuchet MS"/>
            </a:endParaRPr>
          </a:p>
        </p:txBody>
      </p:sp>
      <p:sp>
        <p:nvSpPr>
          <p:cNvPr id="135" name="TextBox 1"/>
          <p:cNvSpPr/>
          <p:nvPr/>
        </p:nvSpPr>
        <p:spPr>
          <a:xfrm>
            <a:off x="304920" y="5715000"/>
            <a:ext cx="8458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Dinnes J, et al. J Clin Epidemiol 2005 Jan;58(1):1-12. PMID: 15649665.</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9320"/>
            <a:ext cx="8229600" cy="396216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hecklist</a:t>
            </a:r>
            <a:endParaRPr b="0" lang="en-US" sz="20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s authors attempted to incorporate sources of bias and error with empirical basis and validity.</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elements beyond those of systematic bias, such as questions related to reporting.</a:t>
            </a:r>
            <a:endParaRPr b="0" lang="en-US" sz="18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 updated version (QUADAS-2) identifies four key domains rated in terms of risk of bia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tient selectio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low and timing</a:t>
            </a:r>
            <a:endParaRPr b="0" lang="en-US" sz="18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3 of 4)</a:t>
            </a:r>
            <a:endParaRPr b="1" lang="en-US" sz="2800" spc="-1" strike="noStrike">
              <a:solidFill>
                <a:srgbClr val="ffffff"/>
              </a:solidFill>
              <a:latin typeface="Trebuchet MS"/>
            </a:endParaRPr>
          </a:p>
        </p:txBody>
      </p:sp>
      <p:sp>
        <p:nvSpPr>
          <p:cNvPr id="138" name="TextBox 1"/>
          <p:cNvSpPr/>
          <p:nvPr/>
        </p:nvSpPr>
        <p:spPr>
          <a:xfrm>
            <a:off x="304920" y="5638680"/>
            <a:ext cx="861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BMC Med Res Methodol 2003 Nov 10;3:25. PMID: 1460696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304920" y="1295280"/>
          <a:ext cx="8610480" cy="3810240"/>
        </p:xfrm>
        <a:graphic>
          <a:graphicData uri="http://schemas.openxmlformats.org/drawingml/2006/table">
            <a:tbl>
              <a:tblPr/>
              <a:tblGrid>
                <a:gridCol w="8610480"/>
              </a:tblGrid>
              <a:tr h="200160">
                <a:tc>
                  <a:txBody>
                    <a:bodyPr lIns="68760" rIns="68760" tIns="0" bIns="0" anchor="t">
                      <a:noAutofit/>
                    </a:bodyPr>
                    <a:p>
                      <a:pPr marL="228600"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1: Patient Selection</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onsecutive or random sample of patients enroll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a case-control design avoid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the study avoid inappropriate exclusion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selection of patients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2: Index Test(s) (complete for each index test us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index test results interpreted without knowledge of the reference standard? (Yes/No/Unclear) </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f a threshold was used, was it prespecifie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conduct or interpretation of the index test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3: Reference Standar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s the reference standard likely to correctly classify the target condition?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the reference standard results interpreted without knowledge of the results of the index test?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reference standard, its conduct, or its interpretation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000000"/>
                      </a:solidFill>
                    </a:lnB>
                    <a:solidFill>
                      <a:srgbClr val="f9fafc"/>
                    </a:solidFill>
                  </a:tcPr>
                </a:tc>
              </a:tr>
              <a:tr h="20016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 4: Flow and Tim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as there an appropriate interval between index test(s) and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000000"/>
                      </a:solidFill>
                    </a:lnT>
                    <a:lnB w="5760">
                      <a:solidFill>
                        <a:srgbClr val="ffffff"/>
                      </a:solidFill>
                    </a:lnB>
                    <a:solidFill>
                      <a:srgbClr val="f9fafc"/>
                    </a:solidFill>
                  </a:tcPr>
                </a:tc>
              </a:tr>
              <a:tr h="199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a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d all patients receive the same reference standard?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2016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ere all patients included in the analysis? (Yes/No/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20016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ould the patient flow have introduced bias? (Risk: Low/High/Unclear)</a:t>
                      </a:r>
                      <a:endParaRPr b="0" lang="en-US" sz="12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ADAS-2 Questions for Assessing Risk of Bias in Diagnostic Accuracy Studies*</a:t>
            </a:r>
            <a:endParaRPr b="1" lang="en-US" sz="2800" spc="-1" strike="noStrike">
              <a:solidFill>
                <a:srgbClr val="ffffff"/>
              </a:solidFill>
              <a:latin typeface="Trebuchet MS"/>
            </a:endParaRPr>
          </a:p>
        </p:txBody>
      </p:sp>
      <p:sp>
        <p:nvSpPr>
          <p:cNvPr id="141" name="TextBox 4"/>
          <p:cNvSpPr/>
          <p:nvPr/>
        </p:nvSpPr>
        <p:spPr>
          <a:xfrm>
            <a:off x="228600" y="5181480"/>
            <a:ext cx="8839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Questions related to the assessment of applicability will be addressed in Module 6: Assessing</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   </a:t>
            </a:r>
            <a:r>
              <a:rPr b="0" lang="en-US" sz="1400" spc="-1" strike="noStrike">
                <a:solidFill>
                  <a:srgbClr val="ffffff"/>
                </a:solidFill>
                <a:latin typeface="Palatino Linotype"/>
              </a:rPr>
              <a:t>Applicability of Medical Test Studies in Systematic Reviews.</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Palatino Linotype"/>
              </a:rPr>
              <a:t>QUADAS-2 = revised Quality Assessment of Diagnostic Accuracy Studies checklist</a:t>
            </a:r>
            <a:endParaRPr b="0" lang="en-US" sz="1400" spc="-1" strike="noStrike">
              <a:solidFill>
                <a:srgbClr val="000000"/>
              </a:solidFill>
              <a:latin typeface="Palatino Linotype"/>
            </a:endParaRPr>
          </a:p>
        </p:txBody>
      </p:sp>
      <p:sp>
        <p:nvSpPr>
          <p:cNvPr id="142" name="TextBox 1"/>
          <p:cNvSpPr/>
          <p:nvPr/>
        </p:nvSpPr>
        <p:spPr>
          <a:xfrm>
            <a:off x="228600" y="60958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F, Rutjes AWS, Westwood ME, et al. Ann Intern Med 2011 Oct 18;155(8):529-36. PMID: 22007046.</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268280"/>
            <a:ext cx="8229600" cy="44467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of criteria that have been validated by an instrument, like QUADAS-2, is recommended to assess the risk of systematic error.</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items that assess applicability or random error are considered at a different stage of the review (see Modules 6 and 8).</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ystematic reviewers may need to add criteria from other standardized checklists. For exampl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ndards for Reporting of Diagnostic Accuracy (STAR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engthening the Reporting of Genetic Association Studies (STREGA), which is an extension of Strengthening the Reporting of Observational Studies in Epidemiology (STROBE)</a:t>
            </a:r>
            <a:endParaRPr b="0" lang="en-US" sz="2000" spc="-1" strike="noStrike">
              <a:solidFill>
                <a:srgbClr val="ffffff"/>
              </a:solidFill>
              <a:latin typeface="Trebuchet MS"/>
            </a:endParaRPr>
          </a:p>
        </p:txBody>
      </p:sp>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Validated Criteria To Address Relevant Sources of Bias (4 of 4)</a:t>
            </a:r>
            <a:endParaRPr b="1" lang="en-US" sz="2800" spc="-1" strike="noStrike">
              <a:solidFill>
                <a:srgbClr val="ffffff"/>
              </a:solidFill>
              <a:latin typeface="Trebuchet MS"/>
            </a:endParaRPr>
          </a:p>
        </p:txBody>
      </p:sp>
      <p:sp>
        <p:nvSpPr>
          <p:cNvPr id="145" name="TextBox 1"/>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1344240"/>
            <a:ext cx="8229600" cy="4141800"/>
          </a:xfrm>
          <a:prstGeom prst="rect">
            <a:avLst/>
          </a:prstGeom>
          <a:noFill/>
          <a:ln w="0">
            <a:noFill/>
          </a:ln>
        </p:spPr>
        <p:txBody>
          <a:bodyPr lIns="0" rIns="0" tIns="0" bIns="0" anchor="t">
            <a:normAutofit fontScale="98000"/>
          </a:bodyPr>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andardizing the application of criteria maintains objectivity in an otherwise subjective proces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recommended for review teams to establish clear definitions for each criterion due to lack of empirical evidence to inform decisions.</a:t>
            </a:r>
            <a:endParaRPr b="0" lang="en-US" sz="19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can be useful to pilot test the definitions with two or more reviewer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nreliable items can be revis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iability of the ultimate criteria can be measured.</a:t>
            </a:r>
            <a:endParaRPr b="0" lang="en-US" sz="1800" spc="-1" strike="noStrike">
              <a:solidFill>
                <a:srgbClr val="ffffff"/>
              </a:solidFill>
              <a:latin typeface="Trebuchet MS"/>
            </a:endParaRPr>
          </a:p>
          <a:p>
            <a:pPr marL="285840" indent="-28584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ummarize the limitations across multiple items from a single study into one of three simple categories.</a:t>
            </a:r>
            <a:endParaRPr b="0" lang="en-US" sz="19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terms </a:t>
            </a:r>
            <a:r>
              <a:rPr b="0" lang="ja-JP" sz="1800" spc="-1" strike="noStrike">
                <a:solidFill>
                  <a:srgbClr val="ffffff"/>
                </a:solidFill>
                <a:latin typeface="Trebuchet MS"/>
              </a:rPr>
              <a:t>“</a:t>
            </a:r>
            <a:r>
              <a:rPr b="0" lang="en-US" sz="1800" spc="-1" strike="noStrike">
                <a:solidFill>
                  <a:srgbClr val="ffffff"/>
                </a:solidFill>
                <a:latin typeface="Trebuchet MS"/>
              </a:rPr>
              <a:t>good,” “fair,” or “poor.”</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itions should be decided in advance and clearly reported.</a:t>
            </a:r>
            <a:endParaRPr b="0" lang="en-US" sz="1800" spc="-1" strike="noStrike">
              <a:solidFill>
                <a:srgbClr val="ffffff"/>
              </a:solidFill>
              <a:latin typeface="Trebuchet MS"/>
            </a:endParaRPr>
          </a:p>
          <a:p>
            <a:pPr lvl="1" marL="679680" indent="-28584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seful to have two independent reviewers categorize the studies and then resolve disagreements by discussion.</a:t>
            </a:r>
            <a:endParaRPr b="0" lang="en-US" sz="1800" spc="-1" strike="noStrike">
              <a:solidFill>
                <a:srgbClr val="ffffff"/>
              </a:solidFill>
              <a:latin typeface="Trebuchet MS"/>
            </a:endParaRPr>
          </a:p>
        </p:txBody>
      </p:sp>
      <p:sp>
        <p:nvSpPr>
          <p:cNvPr id="1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a:t>
            </a:r>
            <a:br>
              <a:rPr sz="2800"/>
            </a:br>
            <a:r>
              <a:rPr b="1" lang="en-US" sz="2800" spc="-1" strike="noStrike">
                <a:solidFill>
                  <a:srgbClr val="ffffff"/>
                </a:solidFill>
                <a:latin typeface="Trebuchet MS"/>
              </a:rPr>
              <a:t>Standardize the Application of Criteria</a:t>
            </a:r>
            <a:endParaRPr b="1" lang="en-US" sz="2800" spc="-1" strike="noStrike">
              <a:solidFill>
                <a:srgbClr val="ffffff"/>
              </a:solidFill>
              <a:latin typeface="Trebuchet MS"/>
            </a:endParaRPr>
          </a:p>
        </p:txBody>
      </p:sp>
      <p:sp>
        <p:nvSpPr>
          <p:cNvPr id="148" name="TextBox 1"/>
          <p:cNvSpPr/>
          <p:nvPr/>
        </p:nvSpPr>
        <p:spPr>
          <a:xfrm>
            <a:off x="228600" y="5638680"/>
            <a:ext cx="8686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228600" y="1260360"/>
          <a:ext cx="8686800" cy="4481640"/>
        </p:xfrm>
        <a:graphic>
          <a:graphicData uri="http://schemas.openxmlformats.org/drawingml/2006/table">
            <a:tbl>
              <a:tblPr/>
              <a:tblGrid>
                <a:gridCol w="1752480"/>
                <a:gridCol w="3124440"/>
                <a:gridCol w="3809880"/>
              </a:tblGrid>
              <a:tr h="42660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ategory</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Randomized Controlled Trial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pplication to</a:t>
                      </a:r>
                      <a:endParaRPr b="0" lang="en-US" sz="14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edical Test Performance Studies</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312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Good: </a:t>
                      </a:r>
                      <a:r>
                        <a:rPr b="0" lang="en-US" sz="1200" spc="-1" strike="noStrike">
                          <a:solidFill>
                            <a:srgbClr val="000000"/>
                          </a:solidFill>
                          <a:latin typeface="Palatino Linotype"/>
                        </a:rPr>
                        <a:t>No major features that risk biased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avoids problems such as failure to apply true randomization, selection of a population unrepresentative of the target patients, low dropout rates, or analysis by intention to treat. Key study features are described clearly, including the population, setting, interventions, comparison groups, outcome measurements, and reasons for dropou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andomized controlled trials (RCTs) are considered a high-quality study design, but studies that include consecutive patients representative of the intended sample for whom diagnostic uncertainty exists may also meet this standard. A </a:t>
                      </a:r>
                      <a:r>
                        <a:rPr b="0" lang="ja-JP" sz="1200" spc="-1" strike="noStrike">
                          <a:solidFill>
                            <a:srgbClr val="000000"/>
                          </a:solidFill>
                          <a:latin typeface="Palatino Linotype"/>
                        </a:rPr>
                        <a:t>“</a:t>
                      </a:r>
                      <a:r>
                        <a:rPr b="0" lang="en-US" sz="1200" spc="-1" strike="noStrike">
                          <a:solidFill>
                            <a:srgbClr val="000000"/>
                          </a:solidFill>
                          <a:latin typeface="Palatino Linotype"/>
                        </a:rPr>
                        <a:t>good</a:t>
                      </a:r>
                      <a:r>
                        <a:rPr b="0" lang="ja-JP" sz="1200" spc="-1" strike="noStrike">
                          <a:solidFill>
                            <a:srgbClr val="000000"/>
                          </a:solidFill>
                          <a:latin typeface="Palatino Linotype"/>
                        </a:rPr>
                        <a:t>”</a:t>
                      </a:r>
                      <a:r>
                        <a:rPr b="0" lang="en-US" sz="1200" spc="-1" strike="noStrike">
                          <a:solidFill>
                            <a:srgbClr val="000000"/>
                          </a:solidFill>
                          <a:latin typeface="Palatino Linotype"/>
                        </a:rPr>
                        <a:t> study avoids the multiple biases to which medical test studies are subject (e.g.., use of an inadequate reference standard, verification bias), and key study features are clearly described, including the comparison groups, outcomes measurements, and characteristics of patients who failed to be have their actual state (diagnosis or prognosis) verifie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09548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Fair: </a:t>
                      </a:r>
                      <a:r>
                        <a:rPr b="0" lang="en-US" sz="1200" spc="-1" strike="noStrike">
                          <a:solidFill>
                            <a:srgbClr val="000000"/>
                          </a:solidFill>
                          <a:latin typeface="Palatino Linotype"/>
                        </a:rPr>
                        <a:t>Susceptible to some bias, but flaws are not sufficient to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does not meet all the criteria required for a rating of good quality, but no flaw is likely to cause major bias. The study may be missing information, making it difficult to assess limitations and potential problem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pplication of this category to medical test performance studies is similar to its application to RCTs. </a:t>
                      </a:r>
                      <a:endParaRPr b="0" lang="en-US" sz="1200" spc="-1" strike="noStrike">
                        <a:solidFill>
                          <a:srgbClr val="000000"/>
                        </a:solidFill>
                        <a:latin typeface="Palatino Linotype"/>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 </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912960">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oor: </a:t>
                      </a:r>
                      <a:r>
                        <a:rPr b="0" lang="en-US" sz="1200" spc="-1" strike="noStrike">
                          <a:solidFill>
                            <a:srgbClr val="000000"/>
                          </a:solidFill>
                          <a:latin typeface="Palatino Linotype"/>
                        </a:rPr>
                        <a:t>Significant flaws imply biases of various types that may invalidate the results</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large amounts of missing information, discrepancies in reporting, or serious errors in design, analysis, and/or reporting.</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The study has significant biases determined a priori to be major or </a:t>
                      </a:r>
                      <a:r>
                        <a:rPr b="0" lang="ja-JP" sz="1200" spc="-1" strike="noStrike">
                          <a:solidFill>
                            <a:srgbClr val="000000"/>
                          </a:solidFill>
                          <a:latin typeface="Palatino Linotype"/>
                        </a:rPr>
                        <a:t>“</a:t>
                      </a:r>
                      <a:r>
                        <a:rPr b="0" lang="en-US" sz="1200" spc="-1" strike="noStrike">
                          <a:solidFill>
                            <a:srgbClr val="000000"/>
                          </a:solidFill>
                          <a:latin typeface="Palatino Linotype"/>
                        </a:rPr>
                        <a:t>fatal</a:t>
                      </a:r>
                      <a:r>
                        <a:rPr b="0" lang="ja-JP" sz="1200" spc="-1" strike="noStrike">
                          <a:solidFill>
                            <a:srgbClr val="000000"/>
                          </a:solidFill>
                          <a:latin typeface="Palatino Linotype"/>
                        </a:rPr>
                        <a:t>”</a:t>
                      </a:r>
                      <a:r>
                        <a:rPr b="0" lang="en-US" sz="1200" spc="-1" strike="noStrike">
                          <a:solidFill>
                            <a:srgbClr val="000000"/>
                          </a:solidFill>
                          <a:latin typeface="Palatino Linotype"/>
                        </a:rPr>
                        <a:t> (i.e., likely to make the results either uninterpretable or invalid).</a:t>
                      </a:r>
                      <a:endParaRPr b="0" lang="en-US" sz="12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ategorizing Individual Studies Into General Quality Classes</a:t>
            </a:r>
            <a:endParaRPr b="1" lang="en-US" sz="2800" spc="-1" strike="noStrike">
              <a:solidFill>
                <a:srgbClr val="ffffff"/>
              </a:solidFill>
              <a:latin typeface="Trebuchet MS"/>
            </a:endParaRPr>
          </a:p>
        </p:txBody>
      </p:sp>
      <p:sp>
        <p:nvSpPr>
          <p:cNvPr id="151" name="TextBox 1"/>
          <p:cNvSpPr/>
          <p:nvPr/>
        </p:nvSpPr>
        <p:spPr>
          <a:xfrm>
            <a:off x="152280" y="586728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dapted from Agency for Health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5"/>
          <p:cNvGrpSpPr/>
          <p:nvPr/>
        </p:nvGrpSpPr>
        <p:grpSpPr>
          <a:xfrm>
            <a:off x="304920" y="1198440"/>
            <a:ext cx="8421480" cy="4668840"/>
            <a:chOff x="304920" y="1198440"/>
            <a:chExt cx="8421480" cy="4668840"/>
          </a:xfrm>
        </p:grpSpPr>
        <p:sp>
          <p:nvSpPr>
            <p:cNvPr id="89" name="Freeform 12"/>
            <p:cNvSpPr/>
            <p:nvPr/>
          </p:nvSpPr>
          <p:spPr>
            <a:xfrm>
              <a:off x="304920" y="2579400"/>
              <a:ext cx="2273040" cy="149364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13"/>
            <p:cNvSpPr/>
            <p:nvPr/>
          </p:nvSpPr>
          <p:spPr>
            <a:xfrm>
              <a:off x="1346040" y="2701800"/>
              <a:ext cx="256680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23"/>
            <p:cNvSpPr/>
            <p:nvPr/>
          </p:nvSpPr>
          <p:spPr>
            <a:xfrm>
              <a:off x="762120" y="430200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24"/>
            <p:cNvSpPr/>
            <p:nvPr/>
          </p:nvSpPr>
          <p:spPr>
            <a:xfrm>
              <a:off x="3157560" y="25794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25"/>
            <p:cNvSpPr/>
            <p:nvPr/>
          </p:nvSpPr>
          <p:spPr>
            <a:xfrm>
              <a:off x="3978360" y="11984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26"/>
            <p:cNvSpPr/>
            <p:nvPr/>
          </p:nvSpPr>
          <p:spPr>
            <a:xfrm>
              <a:off x="3352680" y="163476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27"/>
            <p:cNvSpPr/>
            <p:nvPr/>
          </p:nvSpPr>
          <p:spPr>
            <a:xfrm>
              <a:off x="6008760" y="1198440"/>
              <a:ext cx="2489040" cy="363708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a:t>
              </a:r>
              <a:r>
                <a:rPr b="0" lang="en-US" sz="1500" spc="-1" strike="noStrike">
                  <a:solidFill>
                    <a:srgbClr val="000000"/>
                  </a:solidFill>
                  <a:latin typeface="Arial"/>
                  <a:ea typeface="Arial"/>
                </a:rPr>
                <a:t>—</a:t>
              </a:r>
              <a:r>
                <a:rPr b="0" lang="en-US" sz="1500" spc="-1" strike="noStrike">
                  <a:solidFill>
                    <a:srgbClr val="000000"/>
                  </a:solidFill>
                  <a:latin typeface="Times New Roman"/>
                  <a:ea typeface="Times New Roman"/>
                </a:rPr>
                <a:t>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28"/>
            <p:cNvSpPr/>
            <p:nvPr/>
          </p:nvSpPr>
          <p:spPr>
            <a:xfrm>
              <a:off x="6705720" y="5064120"/>
              <a:ext cx="202068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29"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assessing risk of bias as a domain of quality, as it applies to medical tests."/>
            <p:cNvPicPr/>
            <p:nvPr/>
          </p:nvPicPr>
          <p:blipFill>
            <a:blip r:embed="rId1"/>
            <a:stretch/>
          </p:blipFill>
          <p:spPr>
            <a:xfrm>
              <a:off x="5785200" y="1688400"/>
              <a:ext cx="2383560" cy="1170360"/>
            </a:xfrm>
            <a:prstGeom prst="rect">
              <a:avLst/>
            </a:prstGeom>
            <a:ln w="0">
              <a:noFill/>
            </a:ln>
          </p:spPr>
        </p:pic>
        <p:sp>
          <p:nvSpPr>
            <p:cNvPr id="98" name="Shape 30"/>
            <p:cNvSpPr/>
            <p:nvPr/>
          </p:nvSpPr>
          <p:spPr>
            <a:xfrm rot="5043000">
              <a:off x="5989680" y="403020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228600" y="5938920"/>
            <a:ext cx="769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160"/>
            <a:ext cx="8229600" cy="456876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adequate reporting does not introduce systematic bias itself, but it limits the ability to assess the risk of bias.</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me reviewers may assume the worst, while others give the benefit of the doubt.</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 study makes a potentially important contribution to the review, contacting the study authors may resolve issues of reporting.</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n it is not possible to obtain details, standard practice is to document inadequate reporting of particular criteria.</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ers must determine in advance whether failure to report certain criteria constitutes a </a:t>
            </a:r>
            <a:r>
              <a:rPr b="0" lang="ja-JP" sz="2000" spc="-1" strike="noStrike">
                <a:solidFill>
                  <a:srgbClr val="ffffff"/>
                </a:solidFill>
                <a:latin typeface="Trebuchet MS"/>
              </a:rPr>
              <a:t>“</a:t>
            </a:r>
            <a:r>
              <a:rPr b="0" lang="en-US" sz="2000" spc="-1" strike="noStrike">
                <a:solidFill>
                  <a:srgbClr val="ffffff"/>
                </a:solidFill>
                <a:latin typeface="Trebuchet MS"/>
              </a:rPr>
              <a:t>fatal flaw</a:t>
            </a:r>
            <a:r>
              <a:rPr b="0" lang="ja-JP" sz="2000" spc="-1" strike="noStrike">
                <a:solidFill>
                  <a:srgbClr val="ffffff"/>
                </a:solidFill>
                <a:latin typeface="Trebuchet MS"/>
              </a:rPr>
              <a:t>”</a:t>
            </a:r>
            <a:r>
              <a:rPr b="0" lang="en-US" sz="2000" spc="-1" strike="noStrike">
                <a:solidFill>
                  <a:srgbClr val="ffffff"/>
                </a:solidFill>
                <a:latin typeface="Trebuchet MS"/>
              </a:rPr>
              <a:t> (i.e., makes results uninterpretable/invalid).</a:t>
            </a:r>
            <a:endParaRPr b="0" lang="en-US" sz="2000" spc="-1" strike="noStrike">
              <a:solidFill>
                <a:srgbClr val="ffffff"/>
              </a:solidFill>
              <a:latin typeface="Trebuchet MS"/>
            </a:endParaRPr>
          </a:p>
          <a:p>
            <a:pPr lvl="1" marL="686520" indent="-28872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A review meant to apply to older individuals finds a study in which age was not reported; in this scenario, the study either is excluded or is included and marked as poor in quality with regard to risk of bias.</a:t>
            </a:r>
            <a:endParaRPr b="0" lang="en-US" sz="18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Decide When Inadequate Reporting Constitutes a Fatal Flaw</a:t>
            </a:r>
            <a:endParaRPr b="1" lang="en-US" sz="2800" spc="-1" strike="noStrike">
              <a:solidFill>
                <a:srgbClr val="ffffff"/>
              </a:solidFill>
              <a:latin typeface="Trebuchet MS"/>
            </a:endParaRPr>
          </a:p>
        </p:txBody>
      </p:sp>
      <p:sp>
        <p:nvSpPr>
          <p:cNvPr id="154"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67920"/>
            <a:ext cx="8229600" cy="4218120"/>
          </a:xfrm>
          <a:prstGeom prst="rect">
            <a:avLst/>
          </a:prstGeom>
          <a:noFill/>
          <a:ln w="0">
            <a:noFill/>
          </a:ln>
        </p:spPr>
        <p:txBody>
          <a:bodyPr lIns="0" rIns="0" tIns="0" bIns="0" anchor="t">
            <a:normAutofit fontScale="95000"/>
          </a:bodyPr>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son et al. (2009) undertook a systematic review to evaluate the accuracy of patient self-reports of family history and relevant factors likely to affect accuracy.</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dex test: Patient self-reports of family history</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ference standard: Verification of relatives</a:t>
            </a:r>
            <a:r>
              <a:rPr b="0" lang="ja-JP" sz="1800" spc="-1" strike="noStrike">
                <a:solidFill>
                  <a:srgbClr val="ffffff"/>
                </a:solidFill>
                <a:latin typeface="Trebuchet MS"/>
              </a:rPr>
              <a:t>’</a:t>
            </a:r>
            <a:r>
              <a:rPr b="0" lang="en-US" sz="1800" spc="-1" strike="noStrike">
                <a:solidFill>
                  <a:srgbClr val="ffffff"/>
                </a:solidFill>
                <a:latin typeface="Trebuchet MS"/>
              </a:rPr>
              <a:t> status from medical records or a disease/death registry</a:t>
            </a:r>
            <a:endParaRPr b="0" lang="en-US" sz="1800" spc="-1" strike="noStrike">
              <a:solidFill>
                <a:srgbClr val="ffffff"/>
              </a:solidFill>
              <a:latin typeface="Trebuchet MS"/>
            </a:endParaRPr>
          </a:p>
          <a:p>
            <a:pPr marL="277200" indent="-27720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of Diagnostic Accuracy Studies (QUADAS) criteria were used to evaluate the quality of eligible studies. The reviewers:</a:t>
            </a:r>
            <a:endParaRPr b="0" lang="en-US" sz="20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cluded 4 of 14 criteria and justified those exclusions in an appendix.</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vided contextual examples each item used.</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fined partial verification bias criteria in the context of the index and reference tests described above.</a:t>
            </a:r>
            <a:endParaRPr b="0" lang="en-US" sz="1800" spc="-1" strike="noStrike">
              <a:solidFill>
                <a:srgbClr val="ffffff"/>
              </a:solidFill>
              <a:latin typeface="Trebuchet MS"/>
            </a:endParaRPr>
          </a:p>
          <a:p>
            <a:pPr lvl="1" marL="658800" indent="-27720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early described decision rules for rating each criterion as </a:t>
            </a:r>
            <a:r>
              <a:rPr b="0" lang="ja-JP" sz="1800" spc="-1" strike="noStrike">
                <a:solidFill>
                  <a:srgbClr val="ffffff"/>
                </a:solidFill>
                <a:latin typeface="Trebuchet MS"/>
              </a:rPr>
              <a:t>“</a:t>
            </a:r>
            <a:r>
              <a:rPr b="0" lang="en-US" sz="1800" spc="-1" strike="noStrike">
                <a:solidFill>
                  <a:srgbClr val="ffffff"/>
                </a:solidFill>
                <a:latin typeface="Trebuchet MS"/>
              </a:rPr>
              <a:t>yes,” “no,” or “unclear.”</a:t>
            </a:r>
            <a:endParaRPr b="0" lang="en-US" sz="1800" spc="-1" strike="noStrike">
              <a:solidFill>
                <a:srgbClr val="ffffff"/>
              </a:solidFill>
              <a:latin typeface="Trebuchet MS"/>
            </a:endParaRPr>
          </a:p>
        </p:txBody>
      </p:sp>
      <p:sp>
        <p:nvSpPr>
          <p:cNvPr id="156" name="PlaceHolder 1"/>
          <p:cNvSpPr>
            <a:spLocks noGrp="1"/>
          </p:cNvSpPr>
          <p:nvPr>
            <p:ph type="title"/>
          </p:nvPr>
        </p:nvSpPr>
        <p:spPr>
          <a:xfrm>
            <a:off x="45684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1 of 2)</a:t>
            </a:r>
            <a:endParaRPr b="1" lang="en-US" sz="2800" spc="-1" strike="noStrike">
              <a:solidFill>
                <a:srgbClr val="ffffff"/>
              </a:solidFill>
              <a:latin typeface="Trebuchet MS"/>
            </a:endParaRPr>
          </a:p>
        </p:txBody>
      </p:sp>
      <p:sp>
        <p:nvSpPr>
          <p:cNvPr id="157" name="TextBox 1"/>
          <p:cNvSpPr/>
          <p:nvPr/>
        </p:nvSpPr>
        <p:spPr>
          <a:xfrm>
            <a:off x="228600" y="5538960"/>
            <a:ext cx="86868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8" name=""/>
          <p:cNvGraphicFramePr/>
          <p:nvPr/>
        </p:nvGraphicFramePr>
        <p:xfrm>
          <a:off x="152280" y="1219320"/>
          <a:ext cx="8763120" cy="4667040"/>
        </p:xfrm>
        <a:graphic>
          <a:graphicData uri="http://schemas.openxmlformats.org/drawingml/2006/table">
            <a:tbl>
              <a:tblPr/>
              <a:tblGrid>
                <a:gridCol w="1828800"/>
                <a:gridCol w="6934320"/>
              </a:tblGrid>
              <a:tr h="334800">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Modified QUADAS Item (Topic/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b">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terpretation</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433224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5. Did the whole sample or a random selection of the sample receive verification using a reference standard of diagnosis?</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 </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is item concerns partial verification bias, which is a form of selection bias that occurs when not all of the study participants receive the reference standard (in our context, confirmation of the TRUE disease status of the relative). Sometimes the reason only part of the sample receives the reference standard is that knowledge of the index test results influence the decision to perform the reference standard. Note that in the context of family history, the reference standard can only be applied to family members or relatives. The self-report by the probands or informants is the </a:t>
                      </a:r>
                      <a:r>
                        <a:rPr b="0" lang="ja-JP" sz="1100" spc="-1" strike="noStrike">
                          <a:solidFill>
                            <a:srgbClr val="000000"/>
                          </a:solidFill>
                          <a:latin typeface="Palatino Linotype"/>
                        </a:rPr>
                        <a:t>“</a:t>
                      </a:r>
                      <a:r>
                        <a:rPr b="0" lang="en-US" sz="1100" spc="-1" strike="noStrike">
                          <a:solidFill>
                            <a:srgbClr val="000000"/>
                          </a:solidFill>
                          <a:latin typeface="Palatino Linotype"/>
                        </a:rPr>
                        <a:t>index test.</a:t>
                      </a:r>
                      <a:r>
                        <a:rPr b="0" lang="ja-JP" sz="1100" spc="-1" strike="noStrike">
                          <a:solidFill>
                            <a:srgbClr val="000000"/>
                          </a:solidFill>
                          <a:latin typeface="Palatino Linotype"/>
                        </a:rPr>
                        <a:t>”</a:t>
                      </a:r>
                      <a:endParaRPr b="0" lang="en-US" sz="11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e consider the whole sample to be ALL relatives for which the proband or informant provided information (including a </a:t>
                      </a:r>
                      <a:r>
                        <a:rPr b="0" lang="ja-JP" sz="1100" spc="-1" strike="noStrike">
                          <a:solidFill>
                            <a:srgbClr val="000000"/>
                          </a:solidFill>
                          <a:latin typeface="Palatino Linotype"/>
                        </a:rPr>
                        <a:t>“</a:t>
                      </a:r>
                      <a:r>
                        <a:rPr b="0" lang="en-US" sz="1100" spc="-1" strike="noStrike">
                          <a:solidFill>
                            <a:srgbClr val="000000"/>
                          </a:solidFill>
                          <a:latin typeface="Palatino Linotype"/>
                        </a:rPr>
                        <a:t>don</a:t>
                      </a:r>
                      <a:r>
                        <a:rPr b="0" lang="ja-JP" sz="1100" spc="-1" strike="noStrike">
                          <a:solidFill>
                            <a:srgbClr val="000000"/>
                          </a:solidFill>
                          <a:latin typeface="Palatino Linotype"/>
                        </a:rPr>
                        <a:t>’</a:t>
                      </a:r>
                      <a:r>
                        <a:rPr b="0" lang="en-US" sz="1100" spc="-1" strike="noStrike">
                          <a:solidFill>
                            <a:srgbClr val="000000"/>
                          </a:solidFill>
                          <a:latin typeface="Palatino Linotype"/>
                        </a:rPr>
                        <a:t>t know</a:t>
                      </a:r>
                      <a:r>
                        <a:rPr b="0" lang="ja-JP" sz="1100" spc="-1" strike="noStrike">
                          <a:solidFill>
                            <a:srgbClr val="000000"/>
                          </a:solidFill>
                          <a:latin typeface="Palatino Linotype"/>
                        </a:rPr>
                        <a:t>”</a:t>
                      </a:r>
                      <a:r>
                        <a:rPr b="0" lang="en-US" sz="1100" spc="-1" strike="noStrike">
                          <a:solidFill>
                            <a:srgbClr val="000000"/>
                          </a:solidFill>
                          <a:latin typeface="Palatino Linotype"/>
                        </a:rPr>
                        <a:t> status). </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YES</a:t>
                      </a:r>
                      <a:r>
                        <a:rPr b="0" lang="en-US" sz="1100" spc="-1" strike="noStrike">
                          <a:solidFill>
                            <a:srgbClr val="000000"/>
                          </a:solidFill>
                          <a:latin typeface="Palatino Linotype"/>
                        </a:rPr>
                        <a:t>: All relatives that the proband identifies/ reports upon represent the whole sample of relatives. As such, some form of verification is attempted for all identified relatives.</a:t>
                      </a:r>
                      <a:endParaRPr b="0" lang="en-US" sz="1100" spc="-1" strike="noStrike">
                        <a:solidFill>
                          <a:srgbClr val="000000"/>
                        </a:solidFill>
                        <a:latin typeface="Palatino Linotype"/>
                      </a:endParaRPr>
                    </a:p>
                    <a:p>
                      <a:pPr>
                        <a:spcBef>
                          <a:spcPts val="201"/>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NO</a:t>
                      </a:r>
                      <a:r>
                        <a:rPr b="0" lang="en-US" sz="1100" spc="-1" strike="noStrike">
                          <a:solidFill>
                            <a:srgbClr val="000000"/>
                          </a:solidFill>
                          <a:latin typeface="Palatino Linotype"/>
                        </a:rPr>
                        <a:t>: Not all relatives receive verification via the reference standard. As such, we consider partial verification bias to be present in the following situations: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Knowledge of the index test will determine which relatives are reported to have the disease status. Often UNAFFECTED relatives do not have their disease status verified by any method (assuming the proband/informant report is the true disease status); in this case, the disease status is verified in the AFFECTED relatives only. In this situation, the outcomes of sensitivity and specificity cannot be computed. </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for which the proband/ informant indicates </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don</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t know status</a:t>
                      </a:r>
                      <a:r>
                        <a:rPr b="0" lang="ja-JP" sz="1100" spc="-1" strike="noStrike">
                          <a:solidFill>
                            <a:srgbClr val="000000"/>
                          </a:solidFill>
                          <a:latin typeface="Palatino Linotype"/>
                          <a:ea typeface="MS PGothic"/>
                        </a:rPr>
                        <a:t>”</a:t>
                      </a:r>
                      <a:r>
                        <a:rPr b="0" lang="en-US" sz="1100" spc="-1" strike="noStrike">
                          <a:solidFill>
                            <a:srgbClr val="000000"/>
                          </a:solidFill>
                          <a:latin typeface="Palatino Linotype"/>
                          <a:ea typeface="MS PGothic"/>
                        </a:rPr>
                        <a:t> are excluded and do not have their disease status verifie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DECEASED are excluded from having any verification undertaken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Relatives who are UNABLE TO PARTICIPATE in interviews or further clinical testing are excluded from having any verification method (no reference standard testing).</a:t>
                      </a:r>
                      <a:endParaRPr b="0" lang="en-US" sz="1100" spc="-1" strike="noStrike">
                        <a:solidFill>
                          <a:srgbClr val="000000"/>
                        </a:solidFill>
                        <a:latin typeface="Palatino Linotype"/>
                      </a:endParaRPr>
                    </a:p>
                    <a:p>
                      <a:pPr lvl="1" marL="365040" indent="-228600">
                        <a:lnSpc>
                          <a:spcPct val="100000"/>
                        </a:lnSpc>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ea typeface="MS PGothic"/>
                        </a:rPr>
                        <a:t>UNCLEAR: Insufficient information to determine whether partial verification was present.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a:t>
            </a:r>
            <a:br>
              <a:rPr sz="2800"/>
            </a:br>
            <a:r>
              <a:rPr b="1" lang="en-US" sz="2800" spc="-1" strike="noStrike">
                <a:solidFill>
                  <a:srgbClr val="ffffff"/>
                </a:solidFill>
                <a:latin typeface="Trebuchet MS"/>
              </a:rPr>
              <a:t>How Partial Verification Bias Was Interpreted</a:t>
            </a:r>
            <a:endParaRPr b="1" lang="en-US" sz="2800" spc="-1" strike="noStrike">
              <a:solidFill>
                <a:srgbClr val="ffffff"/>
              </a:solidFill>
              <a:latin typeface="Trebuchet MS"/>
            </a:endParaRPr>
          </a:p>
        </p:txBody>
      </p:sp>
      <p:sp>
        <p:nvSpPr>
          <p:cNvPr id="160" name="TextBox 1"/>
          <p:cNvSpPr/>
          <p:nvPr/>
        </p:nvSpPr>
        <p:spPr>
          <a:xfrm>
            <a:off x="76320" y="601992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304488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can choose to present results of Quality Assessment of Diagnostic Accuracy Studies (QUADAS) criteria ratings in tables as the percentage of studies that scored </a:t>
            </a:r>
            <a:r>
              <a:rPr b="0" lang="ja-JP" sz="2400" spc="-1" strike="noStrike">
                <a:solidFill>
                  <a:srgbClr val="ffffff"/>
                </a:solidFill>
                <a:latin typeface="Trebuchet MS"/>
              </a:rPr>
              <a:t>“</a:t>
            </a:r>
            <a:r>
              <a:rPr b="0" lang="en-US" sz="2400" spc="-1" strike="noStrike">
                <a:solidFill>
                  <a:srgbClr val="ffffff"/>
                </a:solidFill>
                <a:latin typeface="Trebuchet MS"/>
              </a:rPr>
              <a:t>yes,” “no,” or “unclear”</a:t>
            </a:r>
            <a:r>
              <a:rPr b="0" lang="ja-JP" sz="2400" spc="-1" strike="noStrike">
                <a:solidFill>
                  <a:srgbClr val="ffffff"/>
                </a:solidFill>
                <a:latin typeface="Trebuchet MS"/>
              </a:rPr>
              <a:t> </a:t>
            </a:r>
            <a:r>
              <a:rPr b="0" lang="en-US" sz="2400" spc="-1" strike="noStrike">
                <a:solidFill>
                  <a:srgbClr val="ffffff"/>
                </a:solidFill>
                <a:latin typeface="Trebuchet MS"/>
              </a:rPr>
              <a:t>on any given individual item.</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QUADAS developers do not recommend using composite scores.</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Accuracy of Patient</a:t>
            </a:r>
            <a:br>
              <a:rPr sz="2800"/>
            </a:br>
            <a:r>
              <a:rPr b="1" lang="en-US" sz="2800" spc="-1" strike="noStrike">
                <a:solidFill>
                  <a:srgbClr val="ffffff"/>
                </a:solidFill>
                <a:latin typeface="Trebuchet MS"/>
              </a:rPr>
              <a:t>Self-reports of Family History (2 of 2)</a:t>
            </a:r>
            <a:endParaRPr b="1" lang="en-US" sz="2800" spc="-1" strike="noStrike">
              <a:solidFill>
                <a:srgbClr val="ffffff"/>
              </a:solidFill>
              <a:latin typeface="Trebuchet MS"/>
            </a:endParaRPr>
          </a:p>
        </p:txBody>
      </p:sp>
      <p:sp>
        <p:nvSpPr>
          <p:cNvPr id="163" name="TextBox 1"/>
          <p:cNvSpPr/>
          <p:nvPr/>
        </p:nvSpPr>
        <p:spPr>
          <a:xfrm>
            <a:off x="380880" y="5257800"/>
            <a:ext cx="83059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Qureshi N, Wilson B, Santaguida P, et al. AHRQ Evidence Report/Technology Assessment No. 186. Available at www.ncbi.nlm.nih.gov/books/NBK32554/pdf/TOC.pdf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n JB, et al. BMC Med Res Methodol 2003 Nov 10;3:25. PMID: 1460696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methodological quality is necessar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Judging the overall quality of a study involves examining:</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siz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ion and degree of finding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relevanc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sk of bias</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tudy limitations (e.g., inadequate reporting)</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d on the evaluation of systematic bias as a distinctly important component of quality.</a:t>
            </a:r>
            <a:endParaRPr b="0" lang="en-US" sz="2200" spc="-1" strike="noStrike">
              <a:solidFill>
                <a:srgbClr val="ffffff"/>
              </a:solidFill>
              <a:latin typeface="Trebuchet MS"/>
            </a:endParaRPr>
          </a:p>
        </p:txBody>
      </p:sp>
      <p:sp>
        <p:nvSpPr>
          <p:cNvPr id="1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a:t>
            </a:r>
            <a:endParaRPr b="1" lang="en-US" sz="2800" spc="-1" strike="noStrike">
              <a:solidFill>
                <a:srgbClr val="ffffff"/>
              </a:solidFill>
              <a:latin typeface="Trebuchet MS"/>
            </a:endParaRPr>
          </a:p>
        </p:txBody>
      </p:sp>
      <p:sp>
        <p:nvSpPr>
          <p:cNvPr id="166" name="TextBox 1"/>
          <p:cNvSpPr/>
          <p:nvPr/>
        </p:nvSpPr>
        <p:spPr>
          <a:xfrm>
            <a:off x="38088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select validated criteria that examine the risk of systematic error when assessing study limit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categorize individual studies as </a:t>
            </a:r>
            <a:r>
              <a:rPr b="0" lang="ja-JP" sz="2400" spc="-1" strike="noStrike">
                <a:solidFill>
                  <a:srgbClr val="ffffff"/>
                </a:solidFill>
                <a:latin typeface="Trebuchet MS"/>
              </a:rPr>
              <a:t>“</a:t>
            </a:r>
            <a:r>
              <a:rPr b="0" lang="en-US" sz="2400" spc="-1" strike="noStrike">
                <a:solidFill>
                  <a:srgbClr val="ffffff"/>
                </a:solidFill>
                <a:latin typeface="Trebuchet MS"/>
              </a:rPr>
              <a:t>good,</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fair,</a:t>
            </a:r>
            <a:r>
              <a:rPr b="0" lang="ja-JP" sz="2400" spc="-1" strike="noStrike">
                <a:solidFill>
                  <a:srgbClr val="ffffff"/>
                </a:solidFill>
                <a:latin typeface="Trebuchet MS"/>
              </a:rPr>
              <a:t>”</a:t>
            </a:r>
            <a:r>
              <a:rPr b="0" lang="en-US" sz="2400" spc="-1" strike="noStrike">
                <a:solidFill>
                  <a:srgbClr val="ffffff"/>
                </a:solidFill>
                <a:latin typeface="Trebuchet MS"/>
              </a:rPr>
              <a:t> or </a:t>
            </a:r>
            <a:r>
              <a:rPr b="0" lang="ja-JP" sz="2400" spc="-1" strike="noStrike">
                <a:solidFill>
                  <a:srgbClr val="ffffff"/>
                </a:solidFill>
                <a:latin typeface="Trebuchet MS"/>
              </a:rPr>
              <a:t>“</a:t>
            </a:r>
            <a:r>
              <a:rPr b="0" lang="en-US" sz="2400" spc="-1" strike="noStrike">
                <a:solidFill>
                  <a:srgbClr val="ffffff"/>
                </a:solidFill>
                <a:latin typeface="Trebuchet MS"/>
              </a:rPr>
              <a:t>poor</a:t>
            </a:r>
            <a:r>
              <a:rPr b="0" lang="ja-JP" sz="2400" spc="-1" strike="noStrike">
                <a:solidFill>
                  <a:srgbClr val="ffffff"/>
                </a:solidFill>
                <a:latin typeface="Trebuchet MS"/>
              </a:rPr>
              <a:t>”</a:t>
            </a:r>
            <a:r>
              <a:rPr b="0" lang="en-US" sz="2400" spc="-1" strike="noStrike">
                <a:solidFill>
                  <a:srgbClr val="ffffff"/>
                </a:solidFill>
                <a:latin typeface="Trebuchet MS"/>
              </a:rPr>
              <a:t> with respect to risk of bia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dependent categorization by two reviewers is recommended.</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for determining an overall categorization for the study limitations should be established beforehand and clearly documented.</a:t>
            </a: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a:t>
            </a:r>
            <a:endParaRPr b="1" lang="en-US" sz="2800" spc="-1" strike="noStrike">
              <a:solidFill>
                <a:srgbClr val="ffffff"/>
              </a:solidFill>
              <a:latin typeface="Trebuchet MS"/>
            </a:endParaRPr>
          </a:p>
        </p:txBody>
      </p:sp>
      <p:sp>
        <p:nvSpPr>
          <p:cNvPr id="169" name="TextBox 1"/>
          <p:cNvSpPr/>
          <p:nvPr/>
        </p:nvSpPr>
        <p:spPr>
          <a:xfrm>
            <a:off x="304920" y="594360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rnal validity refers to:</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ility of the study to the patients relevant to the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uracy of the results for the population and test in the stud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levance of the study to the population represented in the Key Question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gree of random error.</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Good internal validity means that the results for the population and test in the study are accurate. </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erm </a:t>
            </a:r>
            <a:r>
              <a:rPr b="0" lang="ja-JP" sz="2400" spc="-1" strike="noStrike">
                <a:solidFill>
                  <a:srgbClr val="ffffff"/>
                </a:solidFill>
                <a:latin typeface="Trebuchet MS"/>
              </a:rPr>
              <a:t>“</a:t>
            </a:r>
            <a:r>
              <a:rPr b="0" lang="en-US" sz="2400" spc="-1" strike="noStrike">
                <a:solidFill>
                  <a:srgbClr val="ffffff"/>
                </a:solidFill>
                <a:latin typeface="Trebuchet MS"/>
              </a:rPr>
              <a:t>applicability</a:t>
            </a:r>
            <a:r>
              <a:rPr b="0" lang="ja-JP" sz="2400" spc="-1" strike="noStrike">
                <a:solidFill>
                  <a:srgbClr val="ffffff"/>
                </a:solidFill>
                <a:latin typeface="Trebuchet MS"/>
              </a:rPr>
              <a:t>”</a:t>
            </a:r>
            <a:r>
              <a:rPr b="0" lang="en-US" sz="2400" spc="-1" strike="noStrike">
                <a:solidFill>
                  <a:srgbClr val="ffffff"/>
                </a:solidFill>
                <a:latin typeface="Trebuchet MS"/>
              </a:rPr>
              <a:t> generally refers to the feasibility of performing a given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pplicability generally refers to the relevance of an intervention (including a medical test) to a population of interest. Applicability is an important component of </a:t>
            </a:r>
            <a:r>
              <a:rPr b="0" lang="ja-JP" sz="2400" spc="-1" strike="noStrike">
                <a:solidFill>
                  <a:srgbClr val="ffffff"/>
                </a:solidFill>
                <a:latin typeface="Trebuchet MS"/>
              </a:rPr>
              <a:t>“</a:t>
            </a:r>
            <a:r>
              <a:rPr b="0" lang="en-US" sz="2400" spc="-1" strike="noStrike">
                <a:solidFill>
                  <a:srgbClr val="ffffff"/>
                </a:solidFill>
                <a:latin typeface="Trebuchet MS"/>
              </a:rPr>
              <a:t>external validity.</a:t>
            </a:r>
            <a:r>
              <a:rPr b="0" lang="ja-JP" sz="2400" spc="-1" strike="noStrike">
                <a:solidFill>
                  <a:srgbClr val="ffffff"/>
                </a:solidFill>
                <a:latin typeface="Trebuchet MS"/>
              </a:rPr>
              <a: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344240"/>
            <a:ext cx="8229600" cy="45226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sources of bias that may affect the internal validity of resul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validated criteria/tools and select risk-of-bias items that can be used to assess specific biases in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ain why standardizing the application of criteria is importan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cognize that methods for assessing study limitations and risk of bias should be established in advance and documented clearl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TextBox 1"/>
          <p:cNvSpPr/>
          <p:nvPr/>
        </p:nvSpPr>
        <p:spPr>
          <a:xfrm>
            <a:off x="304920" y="593892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QUADAS-2?</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the risk of systematic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applicability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ool used to assess random error in diagnostic accuracy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s a and b</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QUADAS-2 is an updated version of the Quality Assessment of Diagnostic Accuracy Studies checklist to include these four key domains: patient selection, index test(s), reference standard, and flow and timing. It is a checklist of potential sources of bias and error used to assess the risk of systematic error. It can also be used to assess applicability.</a:t>
            </a:r>
            <a:endParaRPr b="0" lang="en-US" sz="24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adequate reporting introduces systematic bia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Inadequate reporting does not introduce systematic bias, but it does limit the reviewers</a:t>
            </a:r>
            <a:r>
              <a:rPr b="0" lang="ja-JP" sz="2400" spc="-1" strike="noStrike">
                <a:solidFill>
                  <a:srgbClr val="ffffff"/>
                </a:solidFill>
                <a:latin typeface="Trebuchet MS"/>
              </a:rPr>
              <a:t>’</a:t>
            </a:r>
            <a:r>
              <a:rPr b="0" lang="en-US" sz="2400" spc="-1" strike="noStrike">
                <a:solidFill>
                  <a:srgbClr val="ffffff"/>
                </a:solidFill>
                <a:latin typeface="Trebuchet MS"/>
              </a:rPr>
              <a:t> ability to assess the risk of bias.</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5, Assessing Risk of Bias as a Domain of Quality in Medical Test Studie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Reitsma JB, Bruns DE, et al. Towards complete and accurate reporting of studies of diagnostic accuracy: the STARD Initiative. Ann Intern Med 2003 Jan 7;138(1):40-4. PMID: 1251304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re for Reviews and Dissemination. Systematic reviews: CRD's guidance for undertaking reviews in health care. York, England: University of York; 2008. www.york.ac.uk/inst/crd/pdf/Systematic_Reviews.pdf.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chrane Methods Working Group on Systematic Review of Screening and Diagnostic Tests. Recommended methods. London: The Cochrane Collaboration; 199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iggins JPT, Altman DG, Sterne JAC; the Cochrane Statistical Methods Group and the Cochrane Bias Methods Group. Chapter 8: Assessing risk of bias in included studies. In: Higgins JPT and Green S, eds. Cochrane handbook for systematic reviews of interventions. Version 5.1.0. London: The Cochrane Collaboration; 2011. www.cochrane-handbook.org. Accessed September 19, 201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Deeks JJ, Gatsonis C, et al; Cochrane Diagnostic Test Accuracy Working Group. Systematic reviews of diagnostic test accuracy. Ann Intern Med. 2008 Dec 16;149(12):889-97. PMID: 1907520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jmer JG, Mol BW, Heisterkamp S, et al. Empirical evidence of design-related bias in studies of diagnostic tests. JAMA. 1999 Sep 15;282(11):1061-6. PMID: 104932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ittle J, Higgins JP, Ioannidis JP, et al. STrengthening the REporting of Genetic Association studies (STREGA)—an extension of the STROBE statement. Eur J Clin Invest. 2009 Apr;39(4):247-66. PMID: 1929780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ational Health and Medical Research Council. How to review the evidence: systematic identification and review of the scientific literature. Canberra, Australia: National Health and Medical Research Council; 2000 www.nhmrc.gov.au/_files_nhmrc/publications/attachments/cp65.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Qureshi N, Wilson B, Santaguida P, et al. Family History and Improving Health. Evidence Report/Technology Assessment No. 186 (Prepared by the McMaster University Evidence-based Practice Center under Contract No. HHSA 290-2007-10060-I). Rockville, MD: Agency for Healthcare Research and Quality; August 2009. AHRQ Publication No. 09-E016. www.ncbi.nlm.nih.govbooks/NBK32554/pdf/TOC.pdf.</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ntaguida PL, Riley CM, Matchar DB. Assessing risk of bias as a domain of quality in medical test studies. In: Chang SM and Matchar DB, eds. Methods guide for medical test reviews. Rockville, MD: Agency for Healthcare Research and Quality; June 2012. p. 5.1-5.10.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on Elm E, Altman DG, Egger M, et al. The Strengthening the Reporting of Observational Studies in Epidemiology (STROBE) statement: guidelines for reporting observational studies. Lancet. 2007 Oct 20;370(9596):1453-7. PMID: 1806473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est S, King V, Carey TS, et al. Systems to rate the strength of scientific evidence. Evid Rep Technol Assess. (Summ) 2002 Mar;(47):1-11. PMID: 1197973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Dinnes J, et al. A systematic review finds that diagnostic reviews fail to incorporate quality despite available tools. J Clin Epidemiol. 2005 Jan;58(1):1-12. PMID: 1564966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The development of QUADAS: a tool for the quality assessment of studies of diagnostic accuracy included in systematic reviews. BMC Med Res Methodol. 2003 Nov 10;3:25. PMID: 146069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son BJ, Qureshi N, Santaguida P, et al. Systematic review: family history in risk assessment for common diseases. Ann Intern Med. 2009 Dec 15;151(12):878-85. PMID: 19884616.</a:t>
            </a:r>
            <a:endParaRPr b="0" lang="en-US" sz="18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5)</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lity assessment is the evaluation of study features that may influence the relative importance placed on a study.</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valuation process includes an examination of the following factor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andom error</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equacy of reporting</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pects of data analysi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pplicabilit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pecifying ethics approva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tailing sample size estimate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consensus has yet been achieved on the optimal criteria for quality assessment in systematic review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1 of 3)</a:t>
            </a:r>
            <a:endParaRPr b="1" lang="en-US" sz="2800" spc="-1" strike="noStrike">
              <a:solidFill>
                <a:srgbClr val="ffffff"/>
              </a:solidFill>
              <a:latin typeface="Trebuchet MS"/>
            </a:endParaRPr>
          </a:p>
        </p:txBody>
      </p:sp>
      <p:sp>
        <p:nvSpPr>
          <p:cNvPr id="105" name="TextBox 1"/>
          <p:cNvSpPr/>
          <p:nvPr/>
        </p:nvSpPr>
        <p:spPr>
          <a:xfrm>
            <a:off x="304920" y="593892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3401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overarching questions for quality as </a:t>
            </a:r>
            <a:r>
              <a:rPr b="0" lang="ja-JP" sz="2400" spc="-1" strike="noStrike">
                <a:solidFill>
                  <a:srgbClr val="ffffff"/>
                </a:solidFill>
                <a:latin typeface="Trebuchet MS"/>
              </a:rPr>
              <a:t>“</a:t>
            </a:r>
            <a:r>
              <a:rPr b="0" lang="en-US" sz="2400" spc="-1" strike="noStrike">
                <a:solidFill>
                  <a:srgbClr val="ffffff"/>
                </a:solidFill>
                <a:latin typeface="Trebuchet MS"/>
              </a:rPr>
              <a:t>value for judgment making</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the results for the population and test in the study accurate and precis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ates to both systematic error (lack of accuracy/bias) and random error (lack of precision)</a:t>
            </a:r>
            <a:endParaRPr b="0" lang="en-US" sz="20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study applicable to the patients targeted by the review?</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levance to both the population of interest in the study itself (relates to potential for selection bias) and the population represented by the Key Questions (i.e., applicability)</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2 of 3)</a:t>
            </a:r>
            <a:endParaRPr b="1" lang="en-US" sz="2800" spc="-1" strike="noStrike">
              <a:solidFill>
                <a:srgbClr val="ffffff"/>
              </a:solidFill>
              <a:latin typeface="Trebuchet MS"/>
            </a:endParaRPr>
          </a:p>
        </p:txBody>
      </p:sp>
      <p:sp>
        <p:nvSpPr>
          <p:cNvPr id="108"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492800"/>
          </a:xfrm>
          <a:prstGeom prst="rect">
            <a:avLst/>
          </a:prstGeom>
          <a:noFill/>
          <a:ln w="0">
            <a:noFill/>
          </a:ln>
        </p:spPr>
        <p:txBody>
          <a:bodyPr lIns="0" rIns="0" tIns="0" bIns="0" anchor="t">
            <a:normAutofit/>
          </a:bodyPr>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highlights key issues in evaluating risk of bias related to the overarching question, Are the results for the population and test in the study accurate and precis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particular, it focuses on systematic errors resulting from:</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duct of stud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ing of study findings</a:t>
            </a:r>
            <a:endParaRPr b="0" lang="en-US" sz="20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ystematic errors can lead to overestimation or underestimation of test performance.</a:t>
            </a:r>
            <a:endParaRPr b="0" lang="en-US" sz="2200" spc="-1" strike="noStrike">
              <a:solidFill>
                <a:srgbClr val="ffffff"/>
              </a:solidFill>
              <a:latin typeface="Trebuchet MS"/>
            </a:endParaRPr>
          </a:p>
          <a:p>
            <a:pPr lvl="1"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ule 6 deals with the second overarching question, Is the study applicable to the patients targeted by the review?</a:t>
            </a:r>
            <a:endParaRPr b="0" lang="en-US" sz="22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 (3 of 3)</a:t>
            </a:r>
            <a:endParaRPr b="1" lang="en-US" sz="2800" spc="-1" strike="noStrike">
              <a:solidFill>
                <a:srgbClr val="ffffff"/>
              </a:solidFill>
              <a:latin typeface="Trebuchet MS"/>
            </a:endParaRPr>
          </a:p>
        </p:txBody>
      </p:sp>
      <p:sp>
        <p:nvSpPr>
          <p:cNvPr id="111" name="TextBox 1"/>
          <p:cNvSpPr/>
          <p:nvPr/>
        </p:nvSpPr>
        <p:spPr>
          <a:xfrm>
            <a:off x="304920" y="5938920"/>
            <a:ext cx="830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ting et al. (2004) conducted a review of bias in diagnostic test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sults did not permit conclusions about the direction or relative magnitude of effects for biases but showed that bias does occu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of bias are particularly common in diagnostic accuracy studies. These ar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trum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rtial verification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review bia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er or instrument variation</a:t>
            </a:r>
            <a:endParaRPr b="0" lang="en-US" sz="20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for Biases Affecting Medical Test Studies (1 of 2)</a:t>
            </a:r>
            <a:endParaRPr b="1" lang="en-US" sz="2800" spc="-1" strike="noStrike">
              <a:solidFill>
                <a:srgbClr val="ffffff"/>
              </a:solidFill>
              <a:latin typeface="Trebuchet MS"/>
            </a:endParaRPr>
          </a:p>
        </p:txBody>
      </p:sp>
      <p:sp>
        <p:nvSpPr>
          <p:cNvPr id="114" name="TextBox 1"/>
          <p:cNvSpPr/>
          <p:nvPr/>
        </p:nvSpPr>
        <p:spPr>
          <a:xfrm>
            <a:off x="380880" y="5791320"/>
            <a:ext cx="83822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ntaguida PL, Riley CM, Matchar DB. Assessing risk of bias as a domain of quality in medical test studie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
          <p:cNvGraphicFramePr/>
          <p:nvPr/>
        </p:nvGraphicFramePr>
        <p:xfrm>
          <a:off x="152280" y="1219320"/>
          <a:ext cx="8915400" cy="4647960"/>
        </p:xfrm>
        <a:graphic>
          <a:graphicData uri="http://schemas.openxmlformats.org/drawingml/2006/table">
            <a:tbl>
              <a:tblPr/>
              <a:tblGrid>
                <a:gridCol w="2330640"/>
                <a:gridCol w="6584760"/>
              </a:tblGrid>
              <a:tr h="18288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pectrum effec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ests may perform differently in various samples. Therefore, demographic features or disease severity may lead to variations in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ontext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revalence of the target condition varies according to setting and may affect estimates of test performance. Interpreters may consider test results to be positive more frequently in settings with higher disease prevalence, which may also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699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Selec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process determines the composition of the study sample. If the selection process does not aim to include a patient spectrum similar to the population in which the test will be used, the results of the study may not accurately portray the results for the identified target popul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Test protocol: materials and method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sufficient description of the execution of index and reference standards is important because variation in measures of diagnostic accuracy result from differences in test execu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5025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Variation in test technology </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When the characteristics of a medical test change over time as a result of technological improvement or the experience of the operator of the test, estimates of test performance may be affec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Treatment paradox</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reatment is started on the basis of the knowledge of the results of the index test, and the reference standard is applied after treatment has star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sease progress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ccurs when the index test is performed an unusually long time before the reference standard, so the disease is at a more advanced stage when the reference standard is perform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Reference standard and verification procedur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appropriat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Errors of imperfect reference standard bias the measurement of diagnostic accuracy of the index test.</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77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Differen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Part of the index test results is verified by a different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51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artial verific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Only a selected sample of patients who underwent the index test is verified by the reference standar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1 of 2)</a:t>
            </a:r>
            <a:endParaRPr b="1" lang="en-US" sz="2800" spc="-1" strike="noStrike">
              <a:solidFill>
                <a:srgbClr val="ffffff"/>
              </a:solidFill>
              <a:latin typeface="Trebuchet MS"/>
            </a:endParaRPr>
          </a:p>
        </p:txBody>
      </p:sp>
      <p:sp>
        <p:nvSpPr>
          <p:cNvPr id="117"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8" name=""/>
          <p:cNvGraphicFramePr/>
          <p:nvPr/>
        </p:nvGraphicFramePr>
        <p:xfrm>
          <a:off x="152280" y="1219320"/>
          <a:ext cx="8839440" cy="4511520"/>
        </p:xfrm>
        <a:graphic>
          <a:graphicData uri="http://schemas.openxmlformats.org/drawingml/2006/table">
            <a:tbl>
              <a:tblPr/>
              <a:tblGrid>
                <a:gridCol w="2133720"/>
                <a:gridCol w="6705720"/>
              </a:tblGrid>
              <a:tr h="304560">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ource of Systematic Bias</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scription</a:t>
                      </a:r>
                      <a:endParaRPr b="0" lang="en-US" sz="12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Interpretation</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77148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nterpretation of the index test or reference standard is influenced by knowledge of the results of the other test. Diagnostic review bias occurs when the results of the index test are known when the reference standard is interpreted. Test review bias occurs when results of the reference standard are known while the index test is interpreted.</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438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Clinical review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vailability of clinical data such as age, sex, and symptoms during interpretation of test results may affect estimates of test performanc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33012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Incorporation bia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sult of the index test is used to establish the final diagno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9144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Observer variabilit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reproducibility of test results is one determinant of the diagnostic accuracy of an index test. Because of variation in laboratory procedures or observers, a test may not consistently yield the same result when repeated. In two or more observations of the same diagnostic study, intraobserver variability occurs when the same person obtains different results, and interobserver variability occurs when two or more people disagre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219240">
                <a:tc gridSpan="2">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4d6799"/>
                          </a:solidFill>
                          <a:latin typeface="Palatino Linotype"/>
                        </a:rPr>
                        <a:t>Analysi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65700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Handling of indeterminate result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 medical test can produce an uninterpretable result with varying frequency depending on the test. These problems are often not reported in test efficacy studies; the interpretable results are simply removed from the analysis. This may lead to biased assessment of the test characteristics.</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657360">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rbitrary choice of threshold value</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49320" rIns="49320" tIns="0" bIns="0" anchor="ctr">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he selection of the threshold value for the index test that maximizes the sensitivity and specificity of the test may lead to overoptimistic measures of test performance. The performance of this cutoff in an independent set of patients may not be the same as in the original study.</a:t>
                      </a:r>
                      <a:endParaRPr b="0" lang="en-US" sz="1100" spc="-1" strike="noStrike">
                        <a:solidFill>
                          <a:srgbClr val="000000"/>
                        </a:solidFill>
                        <a:latin typeface="Palatino Linotype"/>
                      </a:endParaRPr>
                    </a:p>
                  </a:txBody>
                  <a:tcPr anchor="ctr" marL="49320" marR="49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mmonly Reported Sources of Systematic Error in Studies of Medical Test Performance (2 of 2) </a:t>
            </a:r>
            <a:endParaRPr b="1" lang="en-US" sz="2800" spc="-1" strike="noStrike">
              <a:solidFill>
                <a:srgbClr val="ffffff"/>
              </a:solidFill>
              <a:latin typeface="Trebuchet MS"/>
            </a:endParaRPr>
          </a:p>
        </p:txBody>
      </p:sp>
      <p:sp>
        <p:nvSpPr>
          <p:cNvPr id="120" name="TextBox 1"/>
          <p:cNvSpPr/>
          <p:nvPr/>
        </p:nvSpPr>
        <p:spPr>
          <a:xfrm>
            <a:off x="76320" y="6124680"/>
            <a:ext cx="7696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hiting P, Rutjes AW, Reitsma JB, et al. Ann Intern Med 2004 Feb 3;140(3):189-202. PMID: 1475761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31:33Z</dcterms:created>
  <dc:creator>Alex P Vaz</dc:creator>
  <dc:description/>
  <dc:language>en-US</dc:language>
  <cp:lastModifiedBy>Tony Adams</cp:lastModifiedBy>
  <cp:lastPrinted>2012-03-22T21:04:42Z</cp:lastPrinted>
  <dcterms:modified xsi:type="dcterms:W3CDTF">2013-05-30T12:17:34Z</dcterms:modified>
  <cp:revision>219</cp:revision>
  <dc:subject/>
  <dc:title>PowerPoint Presentation</dc:title>
</cp:coreProperties>
</file>