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60720" y="0"/>
            <a:ext cx="30290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76120" y="696960"/>
            <a:ext cx="4638600" cy="34797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16760"/>
            <a:ext cx="302904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60720" y="8816760"/>
            <a:ext cx="30290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3D5F-E0A2-4005-9199-0EC61A5FF9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6480" y="696960"/>
            <a:ext cx="4638600" cy="3479760"/>
          </a:xfrm>
          <a:prstGeom prst="rect">
            <a:avLst/>
          </a:prstGeom>
          <a:ln w="0">
            <a:noFill/>
          </a:ln>
        </p:spPr>
      </p:sp>
      <p:sp>
        <p:nvSpPr>
          <p:cNvPr id="25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ding the Strength of a Body of Evidence on Dia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7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grade the strength of a body of evidence on dia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76480" y="696960"/>
            <a:ext cx="4638600" cy="3479760"/>
          </a:xfrm>
          <a:prstGeom prst="rect">
            <a:avLst/>
          </a:prstGeom>
          <a:ln w="0">
            <a:noFill/>
          </a:ln>
        </p:spPr>
      </p:sp>
      <p:sp>
        <p:nvSpPr>
          <p:cNvPr id="27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Diagnostic Tests (2 of 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econd challenge faced by reviewers is applying the strength-of-evidence domains to studies of diagnostic tests. One example of this challenge is in applying the domain of precision. It is difficult to judge whether a particular confidence interval is precise enough when looking at estimates of test performance. This is due to the logarithmic nature of diagnostic performance measurements such as sensitivity, specificity, likelihood ratios, and diagnostic odds ratios. Even a relatively wide confidence interval, which would suggest imprecision, may not end up having a clinically meaningful impac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6480" y="696960"/>
            <a:ext cx="4638600" cy="3479760"/>
          </a:xfrm>
          <a:prstGeom prst="rect">
            <a:avLst/>
          </a:prstGeom>
          <a:ln w="0">
            <a:noFill/>
          </a:ln>
        </p:spPr>
      </p:sp>
      <p:sp>
        <p:nvSpPr>
          <p:cNvPr id="27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 2 Example: Impact of the Precision of Sensitivity on Negative Predictive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This table shows the impact of precision of sensitivity on the negative predictive value of a medical test. The test in question is a core-needle biopsy performed by five different methods. Reducing the sensitivity of these techniques from 98 to 88 percent to make them less precise leads to an estimated probability of having a false-negative result that increased by less than 5 percent for al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76480" y="696960"/>
            <a:ext cx="4638600" cy="3479760"/>
          </a:xfrm>
          <a:prstGeom prst="rect">
            <a:avLst/>
          </a:prstGeom>
          <a:ln w="0">
            <a:noFill/>
          </a:ln>
        </p:spPr>
      </p:sp>
      <p:sp>
        <p:nvSpPr>
          <p:cNvPr id="28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of Grading the Strength of a Body of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five principles to follow when grading the strength of a body of evidence for diagnostic tests. The first principle is knowing that the methods used for grading intervention studies can be adapted for diagnostic tests with clinical outcomes. The second principle to consider is two-fold: (1) consider which test measures are the most appropriate to use as intermediate outcomes for assessing the impact of a test on clinical outcomes, and (2) consider the precision of these measures in the clinical context presented by the Key Question. The third principle states that the principle domains of the Grading of Recommendations Assessment, Development and Evaluation (GRADE) approach can be adapted to assess the evidence on diagnostic test accuracy. The fourth adds that additional GRADE domains can be adapted to diagnostic tests. Lastly, the fifth principle is that multiple domains should be incorporated into an overall assessment in a transparent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76480" y="696960"/>
            <a:ext cx="4638600" cy="3479760"/>
          </a:xfrm>
          <a:prstGeom prst="rect">
            <a:avLst/>
          </a:prstGeom>
          <a:ln w="0">
            <a:noFill/>
          </a:ln>
        </p:spPr>
      </p:sp>
      <p:sp>
        <p:nvSpPr>
          <p:cNvPr id="28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Methods for Grading Intervention Studies Can Be Adapted for Diagnostic Tests With Clinical Outcomes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ossible to assess a body of evidence evaluating diagnostic test outcomes</a:t>
            </a:r>
            <a:r>
              <a:rPr b="0" lang="en-US" sz="1200" spc="-1" strike="noStrike">
                <a:solidFill>
                  <a:srgbClr val="000000"/>
                </a:solidFill>
                <a:latin typeface="Calibri"/>
                <a:ea typeface="Arial"/>
              </a:rPr>
              <a:t>—</a:t>
            </a:r>
            <a:r>
              <a:rPr b="0" lang="en-US" sz="1200" spc="-1" strike="noStrike">
                <a:solidFill>
                  <a:srgbClr val="000000"/>
                </a:solidFill>
                <a:latin typeface="Calibri"/>
              </a:rPr>
              <a:t>such as diagnostic thinking, therapeutic choice, and clinical outcomes</a:t>
            </a:r>
            <a:r>
              <a:rPr b="0" lang="en-US" sz="1200" spc="-1" strike="noStrike">
                <a:solidFill>
                  <a:srgbClr val="000000"/>
                </a:solidFill>
                <a:latin typeface="Calibri"/>
                <a:ea typeface="Arial"/>
              </a:rPr>
              <a:t>—</a:t>
            </a:r>
            <a:r>
              <a:rPr b="0" lang="en-US" sz="1200" spc="-1" strike="noStrike">
                <a:solidFill>
                  <a:srgbClr val="000000"/>
                </a:solidFill>
                <a:latin typeface="Calibri"/>
              </a:rPr>
              <a:t>in much the same way as evaluating outcomes of therapeutic interventions. Grading issues for this type of diagnostic test study are more straightforward than in studies measuring accuracy outcomes. Trial evidence can directly assess the effect of diagnostic tests on clinical outcomes, but this is rarely done. In the case where trial evidence is available, the application of grading criteria (such as those of the Grading of Recommendations Assessment, Development and Evaluation [GRADE] ) should not be very different from the methods used for intervention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76480" y="696960"/>
            <a:ext cx="4638600" cy="3479760"/>
          </a:xfrm>
          <a:prstGeom prst="rect">
            <a:avLst/>
          </a:prstGeom>
          <a:ln w="0">
            <a:noFill/>
          </a:ln>
        </p:spPr>
      </p:sp>
      <p:sp>
        <p:nvSpPr>
          <p:cNvPr id="284" name="PlaceHolder 2"/>
          <p:cNvSpPr>
            <a:spLocks noGrp="1"/>
          </p:cNvSpPr>
          <p:nvPr>
            <p:ph type="body"/>
          </p:nvPr>
        </p:nvSpPr>
        <p:spPr>
          <a:xfrm>
            <a:off x="676080" y="4411800"/>
            <a:ext cx="559404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Methods for Grading Intervention Studies Can Be Adapted for Diagnostic Tests With Clinical Outcomes (2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resolved issue is what to do when there is no direct evidence available that links the test to the outcome of interest. For grading intervention studies, the use of intermediate outcomes, such as accuracy outcomes, would be considered </a:t>
            </a:r>
            <a:r>
              <a:rPr b="0" lang="ja-JP" sz="900" spc="-1" strike="noStrike">
                <a:solidFill>
                  <a:srgbClr val="000000"/>
                </a:solidFill>
                <a:latin typeface="Calibri"/>
              </a:rPr>
              <a:t>“</a:t>
            </a:r>
            <a:r>
              <a:rPr b="0" lang="en-US" sz="900" spc="-1" strike="noStrike">
                <a:solidFill>
                  <a:srgbClr val="000000"/>
                </a:solidFill>
                <a:latin typeface="Calibri"/>
              </a:rPr>
              <a:t>indirect</a:t>
            </a:r>
            <a:r>
              <a:rPr b="0" lang="ja-JP" sz="900" spc="-1" strike="noStrike">
                <a:solidFill>
                  <a:srgbClr val="000000"/>
                </a:solidFill>
                <a:latin typeface="Calibri"/>
              </a:rPr>
              <a:t>”</a:t>
            </a:r>
            <a:r>
              <a:rPr b="0" lang="en-US" sz="900" spc="-1" strike="noStrike">
                <a:solidFill>
                  <a:srgbClr val="000000"/>
                </a:solidFill>
                <a:latin typeface="Calibri"/>
              </a:rPr>
              <a:t> evidence and could reduce the strength of the grade. The linkage of accuracy outcomes, such as true-positive and false-positive results, to clinical outcomes partly depends on factors such as the benefits and harms of available treatments. There is currently no consensus on an approach to use when only indirect evidence is available. In some cases, accuracy outcomes alone may be enough to conclude if there is (or is not) a benefit on clinical outcomes (see Module 2). Otherwise, Evidence-based Practice Center reviewers should discuss with decisionmakers and methodologists the benefits of including indirect evidence and the specific methods to us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Choosing the important outcomes for a systematic review of a medical test. In: Chang SM and Matchar DB, eds. Methods guide for medical test reviews. Rockville, MD: Agency for Healthcare Research and Quality; June 2012. p. 3.1-13.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54927</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76480" y="696960"/>
            <a:ext cx="4638600" cy="3479760"/>
          </a:xfrm>
          <a:prstGeom prst="rect">
            <a:avLst/>
          </a:prstGeom>
          <a:ln w="0">
            <a:noFill/>
          </a:ln>
        </p:spPr>
      </p:sp>
      <p:sp>
        <p:nvSpPr>
          <p:cNvPr id="28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2: Consider Appropriate Test Characteristic Measures and Their Precision (1 of 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next principle involves deciding which intermediate outcomes to use in assessing the impact of a test. Both the EPC and the GRADE methods emphasize outcomes that are important to the clinical care of patients. Analytic frameworks and decision models can help clarify the linkage between accuracy outcomes and clinical outcomes by showing the linkages visually (analytic frameworks and decision modeling are discussed in Modules 2 and 10, respectively). When accuracy outcomes are presented as true positives, true negatives, false positives, and false negatives, they can be translated into the other accuracy outcomes of sensitivity, specificity, positive predictive value and negative predictive value. Reviewers should choose accuracy outcomes that have the needed precision levels and are most directly related to clinical outco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bbrevi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PC = evidence-based practice center; GRADE = Grading of Recommendations Assessment, Development and Evalua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br>
              <a:rPr sz="800"/>
            </a:b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76480" y="696960"/>
            <a:ext cx="4638600" cy="3479760"/>
          </a:xfrm>
          <a:prstGeom prst="rect">
            <a:avLst/>
          </a:prstGeom>
          <a:ln w="0">
            <a:noFill/>
          </a:ln>
        </p:spPr>
      </p:sp>
      <p:sp>
        <p:nvSpPr>
          <p:cNvPr id="28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Consider Appropriate Test Characteristic Measures and Their Precision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inical use of the test affects what should be considered the most important accuracy measures. At times, it is clinically important to rule out a disease that has serious consequences versus ruling in a less severe disease. This is best accomplished using triage tests with high sensitivity and high negative predictive value. When the treatment of disease has high risks, such as the use of toxic chemotherapeutic agents to treat cancer, multiple tests may be used to improve the accuracy of diagnosis. In this case, it would be important to understand the benefits and harms of the add-on tests. A high specificity or positive predictive value would be important. If only one test was used in isolation for diagnostic purposes in this situation, then it should be both highly sensitive and highly spe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6480" y="696960"/>
            <a:ext cx="4638600" cy="3479760"/>
          </a:xfrm>
          <a:prstGeom prst="rect">
            <a:avLst/>
          </a:prstGeom>
          <a:ln w="0">
            <a:noFill/>
          </a:ln>
        </p:spPr>
      </p:sp>
      <p:sp>
        <p:nvSpPr>
          <p:cNvPr id="29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Consider Appropriate Test Characteristic Measures and Their Precision (3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ests are invasive, such as surgical biopsy to rule out cancer, they characteristically carry greater harms. Misdiagnoses as a result of these tests can lead to further harms. In this case, both the false-positive and false-negative measurements should be evaluated. The degree of harm from false-negative results can be assessed by considering the negative effects of testing plus the consequences of not diagnosing a serious disease. Harm from false-positive results includes the potential harms from further invasive testing or treatment plus the emotional effects of disease lab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6480" y="696960"/>
            <a:ext cx="4638600" cy="3479760"/>
          </a:xfrm>
          <a:prstGeom prst="rect">
            <a:avLst/>
          </a:prstGeom>
          <a:ln w="0">
            <a:noFill/>
          </a:ln>
        </p:spPr>
      </p:sp>
      <p:sp>
        <p:nvSpPr>
          <p:cNvPr id="29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2: Consider Appropriate Test Characteristic Measures and Their Precision (4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a simplified example of the evaluation of a test’s precision in its clinical context, using a test that has outcomes data resulting from true-positive, true-negative, false-positive, and false-negative results. A simple decision model can be used to identify a threshold for which testing versus not testing is a tossup. Using the model, a decisionmaker can see, based on different levels of sensitivity and specificity, when the net benefits are equivalent to net harms. If the confidence intervals for sensitivity and specificity fall completely on one side of the threshold, there is enough precision to be helpful in decisionmaking. This type of model can work well when tests are used alone, but it is not as helpful in real-world cases where tests are used as part of an algorithm for further testing. In summary, reviewers must decide the most important test characteristics (or accuracy outcomes) and their precision in the clinical context before assessing the body of evid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br>
              <a:rPr sz="1100"/>
            </a:b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uker SG, Kassirer JP. The threshold approach to clinical decision making. N Engl J Med 1980 May 15;302(20):1109-17. PMID: 736663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7366635</a:t>
            </a:r>
            <a:endParaRPr b="0" lang="en-US" sz="11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6480" y="696960"/>
            <a:ext cx="4638600" cy="3479760"/>
          </a:xfrm>
          <a:prstGeom prst="rect">
            <a:avLst/>
          </a:prstGeom>
          <a:ln w="0">
            <a:noFill/>
          </a:ln>
        </p:spPr>
      </p:sp>
      <p:sp>
        <p:nvSpPr>
          <p:cNvPr id="29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The Principle Domains of GRADE Can Be Adapted To Assess a Body of Evidence on Diagnostic Test Accuracy (1 of 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our principle domains described in the GRADE (Grading of Recommendations Assessment, Development, and Evaluation) approach that can be adapted to assess strength of evidence on diagnostic test accuracy. These domains include risk of bias, consistency, directness, and precision. Under the risk of bias domain, there are known sources of potential bias relevant to diagnostic test performance. The type and design of the study and how it is conducted can each contribute to systematic bias. Differences in the technical methods of diagnostic tests, particularly between laboratories, can also lead to varied results. Examples of these differences include the comparison of immunoassays run with different antibodies or the use of different standards that do not have identical values and uni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br>
              <a:rPr sz="1100"/>
            </a:b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6480" y="696960"/>
            <a:ext cx="4638600" cy="3479760"/>
          </a:xfrm>
          <a:prstGeom prst="rect">
            <a:avLst/>
          </a:prstGeom>
          <a:ln w="0">
            <a:noFill/>
          </a:ln>
        </p:spPr>
      </p:sp>
      <p:sp>
        <p:nvSpPr>
          <p:cNvPr id="26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a:t>
            </a:r>
            <a:r>
              <a:rPr b="0" lang="en-US" sz="1200" spc="-1" strike="noStrike">
                <a:solidFill>
                  <a:srgbClr val="000000"/>
                </a:solidFill>
                <a:latin typeface="Calibri"/>
              </a:rPr>
              <a:t>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and decision modeling. This module focuses on grading the strength of a body of evidence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6480" y="696960"/>
            <a:ext cx="4638600" cy="3479760"/>
          </a:xfrm>
          <a:prstGeom prst="rect">
            <a:avLst/>
          </a:prstGeom>
          <a:ln w="0">
            <a:noFill/>
          </a:ln>
        </p:spPr>
      </p:sp>
      <p:sp>
        <p:nvSpPr>
          <p:cNvPr id="29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3: The Principle Domains of GRADE Can Be Adapted To Assess a Body of Evidence on Diagnostic Test Accuracy (2 of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cy, another GRADE (Grading of Recommendations Assessment, Development, and Evaluation) domain, refers to homogeneity in the direction and magnitude of test results across studies. This domain can be applied to diagnostic studies, but the methods of measurement may be different from those used in intervention studies. For example, a forest plot is often used to visually assess consistency when evaluating intervention studies. To evaluate diagnostic test performance, a summary receiver operating characteristic (ROC) curve is commonly used. ROC curves display the sensitivity and specificity results from the various studies. Consistency can be shown by bubble plots of true-positive versus false-positive rates in ROC space. Unexplained heterogeneity reduces consistency and, hence, the strength of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38600" cy="3479760"/>
          </a:xfrm>
          <a:prstGeom prst="rect">
            <a:avLst/>
          </a:prstGeom>
          <a:ln w="0">
            <a:noFill/>
          </a:ln>
        </p:spPr>
      </p:sp>
      <p:sp>
        <p:nvSpPr>
          <p:cNvPr id="29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3 of 5)</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hird GRADE (Grading of Recommendations Assessment, Development, and Evaluation) domain that can be applied to diagnostic tests is directness. Evidence for a diagnostic test shows directness when there is a clear link between the test and the health outcome of concern. When evaluating diagnostic tests, directness would imply a head-to-head comparison of the test against a standard. When there are no studies that directly link the test to the clinical outcomes of concern, then diagnostic accuracy outcomes are used as indirect evidence. Consider the example of the d-dimer test used to diagnose venous thromboembolism (DVT). A study may compare the d-dimer test directly to the use of venous ultrasound to diagnose DVT. In practice, the d-dimer test is used as a triage test for venous ultrasound, so the clinical question of concern would not be answered by a head-to-head comparis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38600" cy="3479760"/>
          </a:xfrm>
          <a:prstGeom prst="rect">
            <a:avLst/>
          </a:prstGeom>
          <a:ln w="0">
            <a:noFill/>
          </a:ln>
        </p:spPr>
      </p:sp>
      <p:sp>
        <p:nvSpPr>
          <p:cNvPr id="30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4 of 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RADE (Grading of Recommendations Assessment, Development, and Evaluation) system for rating directness differs from the Evidence-based Practice Center (EPC) approach. The GRADE system takes into consideration how the test evaluated may differ from the test actually used in practice. The use of the test, such as for diagnosis versus prognosis, is a factor. It also considers how the population in studies of diagnostic tests may differ from the population of concern. The GRADE directness rating takes into account whether test accuracy measures are calculated in a population or for a use other than what is being evaluated in the review, also referred to as “applicability.” EPC reviewers do not include these factors in their assessment of directness, since the reports are used by a broad spectrum of stakeholders. When the applicability of evidence is reported separately from the strength-of-evidence grade, the stakeholders or decisionmakers can consider how the evidence relates to their particular test or population of interes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6480" y="696960"/>
            <a:ext cx="4638600" cy="3479760"/>
          </a:xfrm>
          <a:prstGeom prst="rect">
            <a:avLst/>
          </a:prstGeom>
          <a:ln w="0">
            <a:noFill/>
          </a:ln>
        </p:spPr>
      </p:sp>
      <p:sp>
        <p:nvSpPr>
          <p:cNvPr id="30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5 of 5)</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last GRADE (Grading of Recommendations Assessment, Development, and Evaluation) domain is precision. Precision is affected by the width of the confidence intervals and sample size. Calculating post-test probabilities for a range of values for sensitivity and specificity can help to determine how clinical outcomes will be impacted by imprecision. If imprecision, or a wide confidence interval, has negligible clinical impact, then the evidence should not be downgraded. If there is significant clinical outcome change from imprecision, this would lower the strength of the evidence. Refer back to slide 11 for an example of how different values for sensitivity and specificity affect posttest probabilities. More formal decision models may also be us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6480" y="696960"/>
            <a:ext cx="4638600" cy="3479760"/>
          </a:xfrm>
          <a:prstGeom prst="rect">
            <a:avLst/>
          </a:prstGeom>
          <a:ln w="0">
            <a:noFill/>
          </a:ln>
        </p:spPr>
      </p:sp>
      <p:sp>
        <p:nvSpPr>
          <p:cNvPr id="30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4: Additional GRADE Domains Can Be Adapted To Assess a Body of Evidence on Diagnostic Test Accurac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four other domains that can be adapted to assess a body of evidence on diagnostic test accuracy. These include publication bias, dose-response association, existence of unmeasured confounders, and strength of association. The possibility of publication bias should be discussed when negative or no-difference findings have not been published. Tests that have continuous outcomes or multiple cutoffs, such as testing of serum prostate-specific antigen, should have a dose-response association considered. Tests that predict outcomes may have plausible unmeasured confounders. Strength of association, also referred to as magnitude of effect, is an issue when two different diagnostic tests have different levels of accurac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596802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38600" cy="3479760"/>
          </a:xfrm>
          <a:prstGeom prst="rect">
            <a:avLst/>
          </a:prstGeom>
          <a:ln w="0">
            <a:noFill/>
          </a:ln>
        </p:spPr>
      </p:sp>
      <p:sp>
        <p:nvSpPr>
          <p:cNvPr id="30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RADE Domains and Descriptions (1 of 2)</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isk of bias </a:t>
            </a:r>
            <a:r>
              <a:rPr b="0" lang="en-US" sz="1000" spc="-1" strike="noStrike">
                <a:solidFill>
                  <a:srgbClr val="000000"/>
                </a:solidFill>
                <a:latin typeface="Calibri"/>
              </a:rPr>
              <a:t>is assessed mainly through reviewing the study design and the quality of the individual studies under review. An aggregate risk of bias should be determined and given a rating of low, medium, or high risk of bias. A body of evidence that includes individual studies that are well designed and executed and compares new tests to an adequate criterion standard should be rated as having “low risk of bias.”</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level of </a:t>
            </a:r>
            <a:r>
              <a:rPr b="0" i="1" lang="en-US" sz="1000" spc="-1" strike="noStrike">
                <a:solidFill>
                  <a:srgbClr val="000000"/>
                </a:solidFill>
                <a:latin typeface="Calibri"/>
              </a:rPr>
              <a:t>consistency</a:t>
            </a:r>
            <a:r>
              <a:rPr b="0" lang="en-US" sz="1000" spc="-1" strike="noStrike">
                <a:solidFill>
                  <a:srgbClr val="000000"/>
                </a:solidFill>
                <a:latin typeface="Calibri"/>
              </a:rPr>
              <a:t> should be decided by the range of study results and the variability. The evidence is consistent if the range of results is narrow and the variability is explained by differences in design, population, or test techniques. The evidence should be labeled as consistent, inconsistent, or unknown, and a single-study evidence base would have unknown consistency.</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38600" cy="3479760"/>
          </a:xfrm>
          <a:prstGeom prst="rect">
            <a:avLst/>
          </a:prstGeom>
          <a:ln w="0">
            <a:noFill/>
          </a:ln>
        </p:spPr>
      </p:sp>
      <p:sp>
        <p:nvSpPr>
          <p:cNvPr id="30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ADE Domains and Descriptions (2 of 2)</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Directness</a:t>
            </a:r>
            <a:r>
              <a:rPr b="0" lang="en-US" sz="800" spc="-1" strike="noStrike">
                <a:solidFill>
                  <a:srgbClr val="000000"/>
                </a:solidFill>
                <a:latin typeface="Calibri"/>
              </a:rPr>
              <a:t> is optimal when the evidence links the diagnostic test of interest directly to outcomes. A head-to-head comparison of a diagnostic test against a common criterion standard would have good directness. The outcome of interest will affect directness. When there are no studies linking the test to a clinical outcome, then diagnostic accuracy outcomes, such as sensitivity, are used. These intermediate outcomes are considered indirect evidence but should not lead to an automatic downgrade of the evidence. The body of evidence should be labeled as direct or indirect.</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Precision</a:t>
            </a:r>
            <a:r>
              <a:rPr b="0" lang="en-US" sz="800" spc="-1" strike="noStrike">
                <a:solidFill>
                  <a:srgbClr val="000000"/>
                </a:solidFill>
                <a:latin typeface="Calibri"/>
              </a:rPr>
              <a:t> is evaluated by looking at the degree of certainty in test results with respect to each outcome. This may be reported as confidence intervals around the summary measure(s) of test performance. Studies should be labeled as precise when a clinically useful decision can be made based on the results. When the confidence intervals are too wide to be useful, the evidence is imprecis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5577</a:t>
            </a:r>
            <a:endParaRPr b="0" lang="en-US" sz="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38600" cy="3479760"/>
          </a:xfrm>
          <a:prstGeom prst="rect">
            <a:avLst/>
          </a:prstGeom>
          <a:ln w="0">
            <a:noFill/>
          </a:ln>
        </p:spPr>
      </p:sp>
      <p:sp>
        <p:nvSpPr>
          <p:cNvPr id="31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dditional GRADE Domains and Descriptions (2 of 2)</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Publication bias </a:t>
            </a:r>
            <a:r>
              <a:rPr b="0" lang="en-US" sz="900" spc="-1" strike="noStrike">
                <a:solidFill>
                  <a:srgbClr val="000000"/>
                </a:solidFill>
                <a:latin typeface="Calibri"/>
              </a:rPr>
              <a:t>occurs due to the tendency to publish more positive studies or studies that show a significant finding. Reviewers should consider this type of bias when there are only small studies available that evaluated new tests or a lack of insignificant findings. However, there are no robust methods for detecting publication bias. If there is suspicion or evidence of publication bias, reviewers should comment on it since it may influence consistency, precision, and magnitude of effec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t>
            </a:r>
            <a:r>
              <a:rPr b="0" i="1" lang="en-US" sz="900" spc="-1" strike="noStrike">
                <a:solidFill>
                  <a:srgbClr val="000000"/>
                </a:solidFill>
                <a:latin typeface="Calibri"/>
              </a:rPr>
              <a:t>dose-response association</a:t>
            </a:r>
            <a:r>
              <a:rPr b="0" lang="en-US" sz="900" spc="-1" strike="noStrike">
                <a:solidFill>
                  <a:srgbClr val="000000"/>
                </a:solidFill>
                <a:latin typeface="Calibri"/>
              </a:rPr>
              <a:t> refers to a larger effect associated with a greater level of an exposure. This is relevant when test results are reported on a continuous or ordinal scale. For example, serum levels of prostate-specific antigen (PSA) are reported as a number that will theoretically be higher when cancer is present and will get higher with time. This dose-response association can help support the use of serum PSA in detecting prostate canc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38600" cy="3479760"/>
          </a:xfrm>
          <a:prstGeom prst="rect">
            <a:avLst/>
          </a:prstGeom>
          <a:ln w="0">
            <a:noFill/>
          </a:ln>
        </p:spPr>
      </p:sp>
      <p:sp>
        <p:nvSpPr>
          <p:cNvPr id="31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GRADE Domains and Descriptions (2 of 2)</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are times when </a:t>
            </a:r>
            <a:r>
              <a:rPr b="0" i="1" lang="en-US" sz="800" spc="-1" strike="noStrike">
                <a:solidFill>
                  <a:srgbClr val="000000"/>
                </a:solidFill>
                <a:latin typeface="Calibri"/>
              </a:rPr>
              <a:t>plausible unmeasured confounding factors </a:t>
            </a:r>
            <a:r>
              <a:rPr b="0" lang="en-US" sz="800" spc="-1" strike="noStrike">
                <a:solidFill>
                  <a:srgbClr val="000000"/>
                </a:solidFill>
                <a:latin typeface="Calibri"/>
              </a:rPr>
              <a:t>may exist that cause the observed effect to be smaller that it would otherwise be. For example, spectrum bias may lead to an assessment of low diagnostic accuracy when the diagnostic accuracy is actually very high. In this case, the evidence should be upgraded.</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a:t>
            </a:r>
            <a:r>
              <a:rPr b="0" i="1" lang="en-US" sz="800" spc="-1" strike="noStrike">
                <a:solidFill>
                  <a:srgbClr val="000000"/>
                </a:solidFill>
                <a:latin typeface="Calibri"/>
              </a:rPr>
              <a:t> strength of association </a:t>
            </a:r>
            <a:r>
              <a:rPr b="0" lang="en-US" sz="800" spc="-1" strike="noStrike">
                <a:solidFill>
                  <a:srgbClr val="000000"/>
                </a:solidFill>
                <a:latin typeface="Calibri"/>
              </a:rPr>
              <a:t>is also known as the magnitude of effect. A high strength of association means that the observed effect is not likely to have occurred solely due to bias from confounding factors. This may be relevant when comparing two medical tests that have different degrees of accuracy. One test may appear more accurate because it is compared to an imperfect reference standard. This situation would require reanalysis of the data using the new information about the reference standard.</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5577</a:t>
            </a:r>
            <a:endParaRPr b="0" lang="en-US" sz="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38600" cy="3479760"/>
          </a:xfrm>
          <a:prstGeom prst="rect">
            <a:avLst/>
          </a:prstGeom>
          <a:ln w="0">
            <a:noFill/>
          </a:ln>
        </p:spPr>
      </p:sp>
      <p:sp>
        <p:nvSpPr>
          <p:cNvPr id="31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Multiple Domains Should Be Incorporated Into an Overall Assessment in a Transparent Way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assessment of a body of evidence should incorporate multiple domains in a transparent process. The global assessment should result in an overall summary grade of high, moderate, low, or insufficient evidence. Ideally, the key question link in the analytical chain or in outcomes relevant to patients and decisionmakers are identified beforehand. The overall grade should be assigned for this link, and reviewers should consider how to incorporate multiple domains into these overall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6480" y="696960"/>
            <a:ext cx="4638600" cy="3479760"/>
          </a:xfrm>
          <a:prstGeom prst="rect">
            <a:avLst/>
          </a:prstGeom>
          <a:ln w="0">
            <a:noFill/>
          </a:ln>
        </p:spPr>
      </p:sp>
      <p:sp>
        <p:nvSpPr>
          <p:cNvPr id="26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associated with this module focus on understanding the value of grading the bodies of evidence that influence decisionmaking, becoming familiar with the domains involved in the grading process, and understanding the challenges specific to grading the strength of a body of evidence on medical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38600" cy="3479760"/>
          </a:xfrm>
          <a:prstGeom prst="rect">
            <a:avLst/>
          </a:prstGeom>
          <a:ln w="0">
            <a:noFill/>
          </a:ln>
        </p:spPr>
      </p:sp>
      <p:sp>
        <p:nvSpPr>
          <p:cNvPr id="31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5: Multiple Domains Should Be Incorporated Into an Overall Assessment in a Transparent Way (2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pproach to grading the evidence can be qualitative or quantitative. The GRADE (Grading of Recommendations Assessment, Development, and Evaluation) approach uses an ordinal system ranking evidence as high, moderate, low, or very low in the eight domains. The EPC (Evidence-based Practice Center) approach allows more flexibility in grading. Whatever approach you decide to use, make sure to describe the rational for giving weight to certain domains when assigning summary grad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595577</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38600" cy="3479760"/>
          </a:xfrm>
          <a:prstGeom prst="rect">
            <a:avLst/>
          </a:prstGeom>
          <a:ln w="0">
            <a:noFill/>
          </a:ln>
        </p:spPr>
      </p:sp>
      <p:sp>
        <p:nvSpPr>
          <p:cNvPr id="31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pproach to Evidence Grading</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flow chart shows what steps reviewers should take in grading a body of evidence on diagnostic test accuracy. It is adapted from the GRADE </a:t>
            </a:r>
            <a:r>
              <a:rPr b="0" lang="en-US" sz="1100" spc="-1" strike="noStrike">
                <a:solidFill>
                  <a:srgbClr val="000000"/>
                </a:solidFill>
                <a:latin typeface="Calibri"/>
              </a:rPr>
              <a:t>(Grading of Recommendations Assessment, Development, and Evaluation) </a:t>
            </a:r>
            <a:r>
              <a:rPr b="0" lang="en-US" sz="1100" spc="-1" strike="noStrike">
                <a:solidFill>
                  <a:srgbClr val="000000"/>
                </a:solidFill>
                <a:latin typeface="Calibri"/>
              </a:rPr>
              <a:t>approach and the EPC (Evidence-based Practice Center) approach as described in the </a:t>
            </a:r>
            <a:r>
              <a:rPr b="0" i="1" lang="en-US" sz="1100" spc="-1" strike="noStrike">
                <a:solidFill>
                  <a:srgbClr val="000000"/>
                </a:solidFill>
                <a:latin typeface="Calibri"/>
              </a:rPr>
              <a:t>Methods Guide for Effectiveness and Comparative Effectiveness Reviews</a:t>
            </a:r>
            <a:r>
              <a:rPr b="0" lang="en-US" sz="1100" spc="-1" strike="noStrike">
                <a:solidFill>
                  <a:srgbClr val="000000"/>
                </a:solidFill>
                <a:latin typeface="Calibri"/>
              </a:rPr>
              <a: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59557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6480" y="696960"/>
            <a:ext cx="4638600" cy="3479760"/>
          </a:xfrm>
          <a:prstGeom prst="rect">
            <a:avLst/>
          </a:prstGeom>
          <a:ln w="0">
            <a:noFill/>
          </a:ln>
        </p:spPr>
      </p:sp>
      <p:sp>
        <p:nvSpPr>
          <p:cNvPr id="32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1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n evidence grading considers which accuracy outcomes for the diagnostic test of concern are linked to clinical outcomes. For example, when a positive diagnostic test is followed by an invasive procedure, then the number of false positives may be most important. Positive predictive values, negative predictive values, and likelihood ratios may all be important and need to be graded to help decisionmakers. These are particularly important when a diagnostic test is used as part of a management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6480" y="696960"/>
            <a:ext cx="4638600" cy="3479760"/>
          </a:xfrm>
          <a:prstGeom prst="rect">
            <a:avLst/>
          </a:prstGeom>
          <a:ln w="0">
            <a:noFill/>
          </a:ln>
        </p:spPr>
      </p:sp>
      <p:sp>
        <p:nvSpPr>
          <p:cNvPr id="32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vidence Grading Examples: Considering Accuracy Outcomes (2 of 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table illustrates evidence grading based on positive predictive value (PPV) and negative predictive value (NPV), as well as sensitivity and specificity. The diagnostic test of concern identifies norovirus infection in a health care setting. The table allows a decisionmaker who is especially concerned about negative predictive value to see the evidence grading based on NPV. Presenting the information in different ways can help in linking the accuracy outcomes (NPV, PPV, etc.) to clinical pract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cCannell T, Umscheid CA, Agarwal RK, et al; Healthcare Infection Control Practices Advisory Committee (HICPAC). Guideline for the prevention and control of norovirus gastroenteritis outbreaks in healthcare settings. Infect Control Hosp Epidemiol 2011 Oct;32(10):939-69. PMID: 2193124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2193124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urcios RM, Widdowson MA, Sulka AC, et al. Reevaluation of epidemiological criteria for identifying outbreaks of acute gastroenteritis due to norovirus: United States, 1998</a:t>
            </a:r>
            <a:r>
              <a:rPr b="0" lang="en-US" sz="1100" spc="-1" strike="noStrike">
                <a:solidFill>
                  <a:srgbClr val="000000"/>
                </a:solidFill>
                <a:latin typeface="Calibri"/>
                <a:ea typeface="Arial"/>
              </a:rPr>
              <a:t>–</a:t>
            </a:r>
            <a:r>
              <a:rPr b="0" lang="en-US" sz="1100" spc="-1" strike="noStrike">
                <a:solidFill>
                  <a:srgbClr val="000000"/>
                </a:solidFill>
                <a:latin typeface="Calibri"/>
              </a:rPr>
              <a:t>2000. Clin Infect Dis 2006 Apr 1;42(7):964-9. PMID: 1651176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6511760</a:t>
            </a:r>
            <a:endParaRPr b="0" lang="en-US" sz="11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6480" y="696960"/>
            <a:ext cx="4638600" cy="3479760"/>
          </a:xfrm>
          <a:prstGeom prst="rect">
            <a:avLst/>
          </a:prstGeom>
          <a:ln w="0">
            <a:noFill/>
          </a:ln>
        </p:spPr>
      </p:sp>
      <p:sp>
        <p:nvSpPr>
          <p:cNvPr id="32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vidence Grading Examples: Considering Accuracy Outcomes (3 of 6)</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ituations when test accuracy does not relate to clinical outcomes. This can happen when the test of interest is part of a treatment versus watchful waiting algorithm. The example described here is the use of noninvasive imaging in addition to a standard workup to help triage women after a breast lesion is detected on screening mammography or a physical examination. The studies were intended to provide additional information to help decide which is the appropriate care pathway. Even if the accuracy of the exact diagnosis is low, clinical management may be the same if the post-test probability does not cross a certain decision threshol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38600" cy="3479760"/>
          </a:xfrm>
          <a:prstGeom prst="rect">
            <a:avLst/>
          </a:prstGeom>
          <a:ln w="0">
            <a:noFill/>
          </a:ln>
        </p:spPr>
      </p:sp>
      <p:sp>
        <p:nvSpPr>
          <p:cNvPr id="32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4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important accuracy outcomes have been identified, the next step in grading the body of the evidence is for two reviewers to independently score the major outcomes and comparisons for each Key Question. All outcomes of concern should be scored in each of the principle domains of directness, precision, consistency, and risk of bias. The additional domains that may be considered include publication bias, dose-response association, strength of association, and impact of unmeasured confou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6480" y="696960"/>
            <a:ext cx="4638600" cy="3479760"/>
          </a:xfrm>
          <a:prstGeom prst="rect">
            <a:avLst/>
          </a:prstGeom>
          <a:ln w="0">
            <a:noFill/>
          </a:ln>
        </p:spPr>
      </p:sp>
      <p:sp>
        <p:nvSpPr>
          <p:cNvPr id="32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5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uracy outcomes chosen as critical will affect how the domains of directness, precision, and consistency are graded. This concept is demonstrated in a comparison of multisplice coronary computed tomography scans to coronary angiography conducted by the GRADE Working Group. The accuracy outcomes of true-positive, true-negative, and false-positive tests were considered to have direct evidence, since there was little uncertainty surrounding the clinical implications. This led to a strength-of-evidence grade of moderate. The clinical implications of a false negative test were not known, thus presenting indirect evidence and resulting in a low strength-of-evidence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unemann HJ, Oxman AD, Brozek J, et al; GRADE Working Group. Grading quality of evidence and strength of recommendations for diagnostic tests and strategies. BMJ 2008 May 17;336(7653):1106-10. PMID: 184830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84830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6480" y="696960"/>
            <a:ext cx="4638600" cy="3479760"/>
          </a:xfrm>
          <a:prstGeom prst="rect">
            <a:avLst/>
          </a:prstGeom>
          <a:ln w="0">
            <a:noFill/>
          </a:ln>
        </p:spPr>
      </p:sp>
      <p:sp>
        <p:nvSpPr>
          <p:cNvPr id="33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6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omain should be assessed using a qualitative or a quantitative approach. Either method is considered reasonable. Then the two independent reviewers must resolve differences in the domain assessments and outcome grades. When differences are present, discussion or third-party adjudication is needed to achieve a consensus. Regardless of how this is done, the resolution method should be clearly documented so that the entire process is transparent. In assigning an overall grade, it is important to consider the impact of the various outcomes on the strength of evidence and to remember which accuracy outcomes are considered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6480" y="696960"/>
            <a:ext cx="4638600" cy="3479760"/>
          </a:xfrm>
          <a:prstGeom prst="rect">
            <a:avLst/>
          </a:prstGeom>
          <a:ln w="0">
            <a:noFill/>
          </a:ln>
        </p:spPr>
      </p:sp>
      <p:sp>
        <p:nvSpPr>
          <p:cNvPr id="33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 greatest challenge in assessing the strength of a body of evidence on diagnostic tests is assessing the links connecting test performance to clinical outcomes. This module focuses mainly on diagnostic test performance. There is no single system that has been shown to be superior to others for grading strength of evidence. As such, a consistent and transparent system for grading the strength of evidence using the domains described and giving explicit rationales for grading choices based on these domains will make reviews most useful to decisionm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6480" y="696960"/>
            <a:ext cx="4638600" cy="3479760"/>
          </a:xfrm>
          <a:prstGeom prst="rect">
            <a:avLst/>
          </a:prstGeom>
          <a:ln w="0">
            <a:noFill/>
          </a:ln>
        </p:spPr>
      </p:sp>
      <p:sp>
        <p:nvSpPr>
          <p:cNvPr id="33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DE (Grading of Recommendations Assessment, Development, and Evaluation) system can be used to evaluate diagnostic tests. The effectiveness or harms of diagnostic tests should be considered as clinical outcomes if data are available. If an intermediate accuracy outcome is used, there should be a description of how the test is related to clinical outcomes. The reviewer should make it clear what questions can be answered in the analytic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6480" y="696960"/>
            <a:ext cx="4638600" cy="3479760"/>
          </a:xfrm>
          <a:prstGeom prst="rect">
            <a:avLst/>
          </a:prstGeom>
          <a:ln w="0">
            <a:noFill/>
          </a:ln>
        </p:spPr>
      </p:sp>
      <p:sp>
        <p:nvSpPr>
          <p:cNvPr id="26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covers four main areas: background on grading the strength of evidence, challenges that are specific to diagnostic tests, the four principles of grading the strength of a body of evidence as it relates to diagnostic tests, and illustrative examples of these principles in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6480" y="696960"/>
            <a:ext cx="4638600" cy="3479760"/>
          </a:xfrm>
          <a:prstGeom prst="rect">
            <a:avLst/>
          </a:prstGeom>
          <a:ln w="0">
            <a:noFill/>
          </a:ln>
        </p:spPr>
      </p:sp>
      <p:sp>
        <p:nvSpPr>
          <p:cNvPr id="33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other review of the domains to consider when grading the strength of the evidence. These include the four main domains of risk of bias, directness, consistency, and precision, along with the potential additional domains of publication bias, dose-response association, strength of association, and plausible unmeasured confou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6480" y="696960"/>
            <a:ext cx="4638600" cy="3479760"/>
          </a:xfrm>
          <a:prstGeom prst="rect">
            <a:avLst/>
          </a:prstGeom>
          <a:ln w="0">
            <a:noFill/>
          </a:ln>
        </p:spPr>
      </p:sp>
      <p:sp>
        <p:nvSpPr>
          <p:cNvPr id="33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clinical context of the test when selecting accuracy outcomes and determining the level of precision needed. The accuracy outcomes include sensitivity, specificity, positive predictive value, negative predictive value, true-positive/negative, and false-positive/negative outcomes. Finally, whichever approach is used to develop a single grade, the rationale should be clearly 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6480" y="696960"/>
            <a:ext cx="4638600" cy="3479760"/>
          </a:xfrm>
          <a:prstGeom prst="rect">
            <a:avLst/>
          </a:prstGeom>
          <a:ln w="0">
            <a:noFill/>
          </a:ln>
        </p:spPr>
      </p:sp>
      <p:sp>
        <p:nvSpPr>
          <p:cNvPr id="34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6480" y="696960"/>
            <a:ext cx="4638600" cy="3479760"/>
          </a:xfrm>
          <a:prstGeom prst="rect">
            <a:avLst/>
          </a:prstGeom>
          <a:ln w="0">
            <a:noFill/>
          </a:ln>
        </p:spPr>
      </p:sp>
      <p:sp>
        <p:nvSpPr>
          <p:cNvPr id="34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38600" cy="3479760"/>
          </a:xfrm>
          <a:prstGeom prst="rect">
            <a:avLst/>
          </a:prstGeom>
          <a:ln w="0">
            <a:noFill/>
          </a:ln>
        </p:spPr>
      </p:sp>
      <p:sp>
        <p:nvSpPr>
          <p:cNvPr id="34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6480" y="696960"/>
            <a:ext cx="4638600" cy="3479760"/>
          </a:xfrm>
          <a:prstGeom prst="rect">
            <a:avLst/>
          </a:prstGeom>
          <a:ln w="0">
            <a:noFill/>
          </a:ln>
        </p:spPr>
      </p:sp>
      <p:sp>
        <p:nvSpPr>
          <p:cNvPr id="34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s 2 (2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6480" y="696960"/>
            <a:ext cx="4638600" cy="3479760"/>
          </a:xfrm>
          <a:prstGeom prst="rect">
            <a:avLst/>
          </a:prstGeom>
          <a:ln w="0">
            <a:noFill/>
          </a:ln>
        </p:spPr>
      </p:sp>
      <p:sp>
        <p:nvSpPr>
          <p:cNvPr id="34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6480" y="696960"/>
            <a:ext cx="4638600" cy="3479760"/>
          </a:xfrm>
          <a:prstGeom prst="rect">
            <a:avLst/>
          </a:prstGeom>
          <a:ln w="0">
            <a:noFill/>
          </a:ln>
        </p:spPr>
      </p:sp>
      <p:sp>
        <p:nvSpPr>
          <p:cNvPr id="35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6480" y="696960"/>
            <a:ext cx="4638600" cy="3479760"/>
          </a:xfrm>
          <a:prstGeom prst="rect">
            <a:avLst/>
          </a:prstGeom>
          <a:ln w="0">
            <a:noFill/>
          </a:ln>
        </p:spPr>
      </p:sp>
      <p:sp>
        <p:nvSpPr>
          <p:cNvPr id="35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6480" y="696960"/>
            <a:ext cx="4638600" cy="3479760"/>
          </a:xfrm>
          <a:prstGeom prst="rect">
            <a:avLst/>
          </a:prstGeom>
          <a:ln w="0">
            <a:noFill/>
          </a:ln>
        </p:spPr>
      </p:sp>
      <p:sp>
        <p:nvSpPr>
          <p:cNvPr id="35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6480" y="696960"/>
            <a:ext cx="4638600" cy="3479760"/>
          </a:xfrm>
          <a:prstGeom prst="rect">
            <a:avLst/>
          </a:prstGeom>
          <a:ln w="0">
            <a:noFill/>
          </a:ln>
        </p:spPr>
      </p:sp>
      <p:sp>
        <p:nvSpPr>
          <p:cNvPr id="26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ding the Strength of Evidence (1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rading can be valuable for decisionmakers, such as clinicians, who want to use the results of a systematic review to promote improved patient outcomes. In this case, </a:t>
            </a:r>
            <a:r>
              <a:rPr b="0" lang="ja-JP" sz="900" spc="-1" strike="noStrike">
                <a:solidFill>
                  <a:srgbClr val="000000"/>
                </a:solidFill>
                <a:latin typeface="Calibri"/>
              </a:rPr>
              <a:t>“</a:t>
            </a:r>
            <a:r>
              <a:rPr b="0" lang="en-US" sz="900" spc="-1" strike="noStrike">
                <a:solidFill>
                  <a:srgbClr val="000000"/>
                </a:solidFill>
                <a:latin typeface="Calibri"/>
              </a:rPr>
              <a:t>grading</a:t>
            </a:r>
            <a:r>
              <a:rPr b="0" lang="ja-JP" sz="900" spc="-1" strike="noStrike">
                <a:solidFill>
                  <a:srgbClr val="000000"/>
                </a:solidFill>
                <a:latin typeface="Calibri"/>
              </a:rPr>
              <a:t>”</a:t>
            </a:r>
            <a:r>
              <a:rPr b="0" lang="en-US" sz="900" spc="-1" strike="noStrike">
                <a:solidFill>
                  <a:srgbClr val="000000"/>
                </a:solidFill>
                <a:latin typeface="Calibri"/>
              </a:rPr>
              <a:t> refers to assessment of the entire body of evidence that is being used to support a statement or conclusion, not the quality of an individual study itself. These grades let decisionmakers know whether they are using bodies of evidence of high, moderate, or only low strength on which to base their decisions that, in turn, lets them make more defensible recommendations about using a given intervention or test than if they did not have a grade to support their decision. </a:t>
            </a:r>
            <a:r>
              <a:rPr b="0" lang="en-US" sz="900" spc="-1" strike="noStrike">
                <a:solidFill>
                  <a:srgbClr val="000000"/>
                </a:solidFill>
                <a:latin typeface="Calibri"/>
              </a:rPr>
              <a:t>This module focuses on diagnostic tests (i.e., tests used in the diagnostic and management strategy of a patient</a:t>
            </a:r>
            <a:r>
              <a:rPr b="0" lang="ja-JP" sz="900" spc="-1" strike="noStrike">
                <a:solidFill>
                  <a:srgbClr val="000000"/>
                </a:solidFill>
                <a:latin typeface="Calibri"/>
              </a:rPr>
              <a:t>’</a:t>
            </a:r>
            <a:r>
              <a:rPr b="0" lang="en-US" sz="900" spc="-1" strike="noStrike">
                <a:solidFill>
                  <a:srgbClr val="000000"/>
                </a:solidFill>
                <a:latin typeface="Calibri"/>
              </a:rPr>
              <a:t>s symptoms), as opposed to prognostic tests (i.e., tests which predict responsiveness to treatment). Prognostic tests are discussed in a subsequent modu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t>
            </a:r>
            <a:r>
              <a:rPr b="0" lang="en-US" sz="900" spc="-1" strike="noStrike">
                <a:solidFill>
                  <a:srgbClr val="000000"/>
                </a:solidFill>
                <a:latin typeface="Calibri"/>
                <a:ea typeface="Arial"/>
              </a:rPr>
              <a:t>—A</a:t>
            </a:r>
            <a:r>
              <a:rPr b="0" lang="en-US" sz="900" spc="-1" strike="noStrike">
                <a:solidFill>
                  <a:srgbClr val="000000"/>
                </a:solidFill>
                <a:latin typeface="Calibri"/>
              </a:rPr>
              <a:t>gency for Healthcare Research and Quality and the Effective Health-Care Program. J Clin Epidemiol 2010 May;63(5):513-23. PMID: 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6480" y="696960"/>
            <a:ext cx="4638600" cy="3479760"/>
          </a:xfrm>
          <a:prstGeom prst="rect">
            <a:avLst/>
          </a:prstGeom>
          <a:ln w="0">
            <a:noFill/>
          </a:ln>
        </p:spPr>
      </p:sp>
      <p:sp>
        <p:nvSpPr>
          <p:cNvPr id="35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6480" y="696960"/>
            <a:ext cx="4638600" cy="3479760"/>
          </a:xfrm>
          <a:prstGeom prst="rect">
            <a:avLst/>
          </a:prstGeom>
          <a:ln w="0">
            <a:noFill/>
          </a:ln>
        </p:spPr>
      </p:sp>
      <p:sp>
        <p:nvSpPr>
          <p:cNvPr id="35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9)</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6480" y="696960"/>
            <a:ext cx="4638600" cy="3479760"/>
          </a:xfrm>
          <a:prstGeom prst="rect">
            <a:avLst/>
          </a:prstGeom>
          <a:ln w="0">
            <a:noFill/>
          </a:ln>
        </p:spPr>
      </p:sp>
      <p:sp>
        <p:nvSpPr>
          <p:cNvPr id="36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9)</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6480" y="696960"/>
            <a:ext cx="4638600" cy="3479760"/>
          </a:xfrm>
          <a:prstGeom prst="rect">
            <a:avLst/>
          </a:prstGeom>
          <a:ln w="0">
            <a:noFill/>
          </a:ln>
        </p:spPr>
      </p:sp>
      <p:sp>
        <p:nvSpPr>
          <p:cNvPr id="36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9)</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6480" y="696960"/>
            <a:ext cx="4638600" cy="3479760"/>
          </a:xfrm>
          <a:prstGeom prst="rect">
            <a:avLst/>
          </a:prstGeom>
          <a:ln w="0">
            <a:noFill/>
          </a:ln>
        </p:spPr>
      </p:sp>
      <p:sp>
        <p:nvSpPr>
          <p:cNvPr id="36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9)</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6480" y="696960"/>
            <a:ext cx="4638600" cy="3479760"/>
          </a:xfrm>
          <a:prstGeom prst="rect">
            <a:avLst/>
          </a:prstGeom>
          <a:ln w="0">
            <a:noFill/>
          </a:ln>
        </p:spPr>
      </p:sp>
      <p:sp>
        <p:nvSpPr>
          <p:cNvPr id="36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9)</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6480" y="696960"/>
            <a:ext cx="4638600" cy="3479760"/>
          </a:xfrm>
          <a:prstGeom prst="rect">
            <a:avLst/>
          </a:prstGeom>
          <a:ln w="0">
            <a:noFill/>
          </a:ln>
        </p:spPr>
      </p:sp>
      <p:sp>
        <p:nvSpPr>
          <p:cNvPr id="36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9)</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6480" y="696960"/>
            <a:ext cx="4638600" cy="3479760"/>
          </a:xfrm>
          <a:prstGeom prst="rect">
            <a:avLst/>
          </a:prstGeom>
          <a:ln w="0">
            <a:noFill/>
          </a:ln>
        </p:spPr>
      </p:sp>
      <p:sp>
        <p:nvSpPr>
          <p:cNvPr id="37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9)</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6480" y="696960"/>
            <a:ext cx="4638600" cy="3479760"/>
          </a:xfrm>
          <a:prstGeom prst="rect">
            <a:avLst/>
          </a:prstGeom>
          <a:ln w="0">
            <a:noFill/>
          </a:ln>
        </p:spPr>
      </p:sp>
      <p:sp>
        <p:nvSpPr>
          <p:cNvPr id="37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9)</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6480" y="696960"/>
            <a:ext cx="4638600" cy="3479760"/>
          </a:xfrm>
          <a:prstGeom prst="rect">
            <a:avLst/>
          </a:prstGeom>
          <a:ln w="0">
            <a:noFill/>
          </a:ln>
        </p:spPr>
      </p:sp>
      <p:sp>
        <p:nvSpPr>
          <p:cNvPr id="37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9)</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6480" y="696960"/>
            <a:ext cx="4638600" cy="3479760"/>
          </a:xfrm>
          <a:prstGeom prst="rect">
            <a:avLst/>
          </a:prstGeom>
          <a:ln w="0">
            <a:noFill/>
          </a:ln>
        </p:spPr>
      </p:sp>
      <p:sp>
        <p:nvSpPr>
          <p:cNvPr id="26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Grading the Strength of Evidence (2 of 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wo approaches are used in grading the strength of a body of evidence: the Grading of Recommendations Assessment, Development, and Evaluation (GRADE) Working Group approach or the Evidence-based Practice Center (or EPC) approach. The EPC approach is based on GRADE but with minor adaptations. This module discusses the EPC approach while pointing out where it differs from GRAD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ichever approach is used, it is important to distinguish between assessing the quality of an individual study and the strength of an entire body of evidence on diagnostic tests. </a:t>
            </a:r>
            <a:r>
              <a:rPr b="0" lang="en-US" sz="600" spc="-1" strike="noStrike">
                <a:solidFill>
                  <a:srgbClr val="000000"/>
                </a:solidFill>
                <a:latin typeface="Calibri"/>
              </a:rPr>
              <a:t>Assessing the </a:t>
            </a:r>
            <a:r>
              <a:rPr b="0" lang="ja-JP" sz="600" spc="-1" strike="noStrike">
                <a:solidFill>
                  <a:srgbClr val="000000"/>
                </a:solidFill>
                <a:latin typeface="Calibri"/>
              </a:rPr>
              <a:t>“</a:t>
            </a:r>
            <a:r>
              <a:rPr b="0" lang="en-US" sz="600" spc="-1" strike="noStrike">
                <a:solidFill>
                  <a:srgbClr val="000000"/>
                </a:solidFill>
                <a:latin typeface="Calibri"/>
              </a:rPr>
              <a:t>strength</a:t>
            </a:r>
            <a:r>
              <a:rPr b="0" lang="ja-JP" sz="600" spc="-1" strike="noStrike">
                <a:solidFill>
                  <a:srgbClr val="000000"/>
                </a:solidFill>
                <a:latin typeface="Calibri"/>
              </a:rPr>
              <a:t>”</a:t>
            </a:r>
            <a:r>
              <a:rPr b="0" lang="en-US" sz="600" spc="-1" strike="noStrike">
                <a:solidFill>
                  <a:srgbClr val="000000"/>
                </a:solidFill>
                <a:latin typeface="Calibri"/>
              </a:rPr>
              <a:t> of the entire body of evidence includes assessing the quality of individual studies along with other domains. In contrast to the GRADE approach, the EPC approach uses the phrase </a:t>
            </a:r>
            <a:r>
              <a:rPr b="0" lang="ja-JP" sz="600" spc="-1" strike="noStrike">
                <a:solidFill>
                  <a:srgbClr val="000000"/>
                </a:solidFill>
                <a:latin typeface="Calibri"/>
              </a:rPr>
              <a:t>“</a:t>
            </a:r>
            <a:r>
              <a:rPr b="0" lang="en-US" sz="600" spc="-1" strike="noStrike">
                <a:solidFill>
                  <a:srgbClr val="000000"/>
                </a:solidFill>
                <a:latin typeface="Calibri"/>
              </a:rPr>
              <a:t>strength of evidence</a:t>
            </a:r>
            <a:r>
              <a:rPr b="0" lang="ja-JP" sz="600" spc="-1" strike="noStrike">
                <a:solidFill>
                  <a:srgbClr val="000000"/>
                </a:solidFill>
                <a:latin typeface="Calibri"/>
              </a:rPr>
              <a:t>”</a:t>
            </a:r>
            <a:r>
              <a:rPr b="0" lang="en-US" sz="600" spc="-1" strike="noStrike">
                <a:solidFill>
                  <a:srgbClr val="000000"/>
                </a:solidFill>
                <a:latin typeface="Calibri"/>
              </a:rPr>
              <a:t> rather than </a:t>
            </a:r>
            <a:r>
              <a:rPr b="0" lang="ja-JP" sz="600" spc="-1" strike="noStrike">
                <a:solidFill>
                  <a:srgbClr val="000000"/>
                </a:solidFill>
                <a:latin typeface="Calibri"/>
              </a:rPr>
              <a:t>“</a:t>
            </a:r>
            <a:r>
              <a:rPr b="0" lang="en-US" sz="600" spc="-1" strike="noStrike">
                <a:solidFill>
                  <a:srgbClr val="000000"/>
                </a:solidFill>
                <a:latin typeface="Calibri"/>
              </a:rPr>
              <a:t>quality of evidence</a:t>
            </a:r>
            <a:r>
              <a:rPr b="0" lang="ja-JP" sz="600" spc="-1" strike="noStrike">
                <a:solidFill>
                  <a:srgbClr val="000000"/>
                </a:solidFill>
                <a:latin typeface="Calibri"/>
              </a:rPr>
              <a:t>”</a:t>
            </a:r>
            <a:r>
              <a:rPr b="0" lang="en-US" sz="600" spc="-1" strike="noStrike">
                <a:solidFill>
                  <a:srgbClr val="000000"/>
                </a:solidFill>
                <a:latin typeface="Calibri"/>
              </a:rPr>
              <a:t> because quality is often associated with the quality of an individual study and does not take into account other domain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lshem H, Helfand M, Schunemann HJ, et al. GRADE guidelines: 3. Rating the quality of evidence. J Clin Epidemiol 2011 Apr;64(4):401-6. PMID: 212087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12087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uyatt GH, Oxman AD, Vist GE, et al; GRADE Working Group. GRADE: an emerging consensus on rating quality of evidence and strength of recommendations. BMJ 2008 Apr 26;336(7650):924-6. PMID: 184369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4369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ohr KN, Carey TS. Assessing "best evidence": issues in grading the quality of studies for systematic reviews. Jt Comm J Qual Improv 1999 Sep;25(9):470-9. PMID: 1048181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48181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wens DK, Lohr KN, Atkins D, et al. AHRQ series paper 5: grading the strength of a body of evidence when comparing medical interventions</a:t>
            </a:r>
            <a:r>
              <a:rPr b="0" lang="en-US" sz="600" spc="-1" strike="noStrike">
                <a:solidFill>
                  <a:srgbClr val="000000"/>
                </a:solidFill>
                <a:latin typeface="Calibri"/>
                <a:ea typeface="Arial"/>
              </a:rPr>
              <a:t>—A</a:t>
            </a:r>
            <a:r>
              <a:rPr b="0" lang="en-US" sz="600" spc="-1" strike="noStrike">
                <a:solidFill>
                  <a:srgbClr val="000000"/>
                </a:solidFill>
                <a:latin typeface="Calibri"/>
              </a:rPr>
              <a:t>gency for Healthcare Research and Quality and the Effective Health-Care Program. J Clin Epidemiol 2010 May;63(5):513-23. PMID: 1959557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59557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chunemann HJ, Oxman AD, Brozek J, et al; GRADE Working Group. Grading quality of evidence and strength of recommendations for diagnostic tests and strategies. BMJ 2008 May 17;336(7653):1106-10. PMID: 18483053.</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483053</a:t>
            </a:r>
            <a:endParaRPr b="0" lang="en-US" sz="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6480" y="696960"/>
            <a:ext cx="4638600" cy="3479760"/>
          </a:xfrm>
          <a:prstGeom prst="rect">
            <a:avLst/>
          </a:prstGeom>
          <a:ln w="0">
            <a:noFill/>
          </a:ln>
        </p:spPr>
      </p:sp>
      <p:sp>
        <p:nvSpPr>
          <p:cNvPr id="27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rading the Strength of Evidence (3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four principle domains that systematic reviewers should consider when assessing the strength of a body of evidence. These domains are risk of bias, consistency, directness, and precision. Several other domains can be considered if needed; these are publication bias, dose-response association, existence of plausible unmeasured confounders, and strength of association (also called magnitude of effect). Within these domains is another area </a:t>
            </a:r>
            <a:r>
              <a:rPr b="0" lang="en-US" sz="1000" spc="-1" strike="noStrike">
                <a:solidFill>
                  <a:srgbClr val="000000"/>
                </a:solidFill>
                <a:latin typeface="Calibri"/>
              </a:rPr>
              <a:t>where the Grading of Recommendations Assessment, Development, and Evaluation (GRADE) and the Evidence-based Practice Center (</a:t>
            </a:r>
            <a:r>
              <a:rPr b="0" lang="en-US" sz="1000" spc="-1" strike="noStrike">
                <a:solidFill>
                  <a:srgbClr val="000000"/>
                </a:solidFill>
                <a:latin typeface="Calibri"/>
              </a:rPr>
              <a:t>EPC) approaches differ. The GRADE approach considers applicability to be a part of the directness domain, while the EPC approach sees it as a separate compon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shem H, Helfand M, Schunemann HJ, et al. GRADE guidelines: 3. Rating the quality of evidence. J Clin Epidemiol 2011 Apr;64(4):401-6. PMID: 212087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2087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uyatt GH, Oxman AD, Vist GE, et al; GRADE Working Group. GRADE: an emerging consensus on rating quality of evidence and strength of recommendations. BMJ 2008 Apr 26;336(7650):924-6. PMID: 18436948.</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436948</a:t>
            </a: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6480" y="696960"/>
            <a:ext cx="4638600" cy="3479760"/>
          </a:xfrm>
          <a:prstGeom prst="rect">
            <a:avLst/>
          </a:prstGeom>
          <a:ln w="0">
            <a:noFill/>
          </a:ln>
        </p:spPr>
      </p:sp>
      <p:sp>
        <p:nvSpPr>
          <p:cNvPr id="27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ding the Strength of Evidence (4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vidence-based Practice Center approach grades the strength of evidence for each outcome and comparison identified in the Key Questions of the review. At least one of these Key Questions usually relates to measures of test performance, such as its sensitivity and specificity. Other key question topics</a:t>
            </a:r>
            <a:r>
              <a:rPr b="0" lang="en-US" sz="900" spc="-1" strike="noStrike">
                <a:solidFill>
                  <a:srgbClr val="000000"/>
                </a:solidFill>
                <a:latin typeface="Calibri"/>
                <a:ea typeface="Arial"/>
              </a:rPr>
              <a:t>—</a:t>
            </a:r>
            <a:r>
              <a:rPr b="0" lang="en-US" sz="900" spc="-1" strike="noStrike">
                <a:solidFill>
                  <a:srgbClr val="000000"/>
                </a:solidFill>
                <a:latin typeface="Calibri"/>
              </a:rPr>
              <a:t>such as analytic validity, clinical validity, and clinical utility</a:t>
            </a:r>
            <a:r>
              <a:rPr b="0" lang="en-US" sz="900" spc="-1" strike="noStrike">
                <a:solidFill>
                  <a:srgbClr val="000000"/>
                </a:solidFill>
                <a:latin typeface="Calibri"/>
                <a:ea typeface="Arial"/>
              </a:rPr>
              <a:t>—</a:t>
            </a:r>
            <a:r>
              <a:rPr b="0" lang="en-US" sz="900" spc="-1" strike="noStrike">
                <a:solidFill>
                  <a:srgbClr val="000000"/>
                </a:solidFill>
                <a:latin typeface="Calibri"/>
              </a:rPr>
              <a:t>can also be evaluated using the methods outlined her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6480" y="696960"/>
            <a:ext cx="4638600" cy="3479760"/>
          </a:xfrm>
          <a:prstGeom prst="rect">
            <a:avLst/>
          </a:prstGeom>
          <a:ln w="0">
            <a:noFill/>
          </a:ln>
        </p:spPr>
      </p:sp>
      <p:sp>
        <p:nvSpPr>
          <p:cNvPr id="27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Challenges Specific to Diagnostic Tests (1 of 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ne common challenge faced by reviewers of diagnostic tests is that the tools used to assess the quality of a body of evidence for an intervention are not easily applied to a body of evidence for a diagnostic test. The problem is that for interventions, the body of evidence directly relates to the overarching Key Question, but for diagnostic tests it is only an indirect relationship. This makes establishing a logical chain with an analytic framework, and assessing each </a:t>
            </a:r>
            <a:r>
              <a:rPr b="0" lang="ja-JP" sz="600" spc="-1" strike="noStrike">
                <a:solidFill>
                  <a:srgbClr val="000000"/>
                </a:solidFill>
                <a:latin typeface="Calibri"/>
              </a:rPr>
              <a:t>“</a:t>
            </a:r>
            <a:r>
              <a:rPr b="0" lang="en-US" sz="600" spc="-1" strike="noStrike">
                <a:solidFill>
                  <a:srgbClr val="000000"/>
                </a:solidFill>
                <a:latin typeface="Calibri"/>
              </a:rPr>
              <a:t>link</a:t>
            </a:r>
            <a:r>
              <a:rPr b="0" lang="ja-JP" sz="600" spc="-1" strike="noStrike">
                <a:solidFill>
                  <a:srgbClr val="000000"/>
                </a:solidFill>
                <a:latin typeface="Calibri"/>
              </a:rPr>
              <a:t>”</a:t>
            </a:r>
            <a:r>
              <a:rPr b="0" lang="en-US" sz="600" spc="-1" strike="noStrike">
                <a:solidFill>
                  <a:srgbClr val="000000"/>
                </a:solidFill>
                <a:latin typeface="Calibri"/>
              </a:rPr>
              <a:t> in the chain for strength of evidence, important when dealing with diagnostic tests. To answer the overarching question of whether a test improves clinical outcomes depends on two things: the strength of the total body of evidence and the body of evidence of the weakest link in the chain. There is often no direct linkage between diagnostic accuracy and clinical outcomes. For example, accuracy outcomes such as sensitivity and specificity may not directly correlate to effective management and treatment of disease, particularly when the test results do not lead to an established treatment algorithm, as in the case of triage tests. When tests are used as triage and not for final diagnosis, the accuracy of risk classification is more important than the accuracy of diagnosi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rchionni L, Wilson RF, Marinopoulos SS, et al. Impact of Gene Expression Profiling Tests on Breast Cancer Outcomes. Evidence Report/Technology Assessment No. 160 (Prepared by the Johns Hopkins University Evidence-based Practice Center Under Contract No. 290-02-0018). Rockville, MD: Agency for Healthcare Research and Quality; January 2008. AHRQ Publication No. 08-E002. Available at www.ncbi.nlm.nih.gov/books/NBK384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oss SD, Allen IE, Harrison KJ, et al. Systematic Review of the Literature Regarding the Diagnosis of Sleep Apnea. Evidence Report/Technology Assessment No. 1 (Prepared by MetaWorks Inc. under Contract No. 290-97-0016). Rockville, MD: Agency for Health Care Policy and Research. February 1999. AHCPR Publication No. 99-E002. Available at www.ncbi.nlm.nih.gov/books/NBK3288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10.1-13.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gal JB, Brotman DJ, Emadi A, et al. Outcomes of Genetic Testing in Adults With a History of Venous Thromboembolism. Evidence Report/Technology Assessment No. 180 (Prepared by the Johns Hopkins University Evidence-based Practice Center under Contract No. HHSA 290-2007-10061-I). Rockville, MD: Agency for Healthcare Research and Quality; June 2009. AHRQ Publication No. 09-E011. Available at www.ncbi.nlm.nih.gov/books/NBK44591/pdf/TOC.pdf.</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rading the Strength of a Body of Evidence on Diagnostic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epared for: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gency for Healthcare Research and Quality (AHRQ)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ining Modules for Medical Test Reviews Methods Guide</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hallenge 2: A second challenge to reviewers is applying the strength-of-evidence domains to studies of diagnostic test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Example: It is difficult to judge the precision of a particular confidence interval in estimates of test performance.</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is difficulty is due to the logarithmic nature of diagnostic performance measurements such as:</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ensitivity</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pecificity</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Likelihood ratios</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agnostic odds ratio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latively wide confidence intervals (suggesting imprecision) may not translate into clinically meaningful impacts.</a:t>
            </a:r>
            <a:endParaRPr b="0" lang="en-US" sz="1900" spc="-1" strike="noStrike">
              <a:solidFill>
                <a:srgbClr val="ffffff"/>
              </a:solidFill>
              <a:latin typeface="Trebuchet MS"/>
            </a:endParaRPr>
          </a:p>
        </p:txBody>
      </p:sp>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Diagnostic Tests (2 of 2)</a:t>
            </a:r>
            <a:endParaRPr b="1" lang="en-US" sz="2800" spc="-1" strike="noStrike">
              <a:solidFill>
                <a:srgbClr val="ffffff"/>
              </a:solidFill>
              <a:latin typeface="Trebuchet MS"/>
            </a:endParaRPr>
          </a:p>
        </p:txBody>
      </p:sp>
      <p:sp>
        <p:nvSpPr>
          <p:cNvPr id="124" name="TextBox 1"/>
          <p:cNvSpPr/>
          <p:nvPr/>
        </p:nvSpPr>
        <p:spPr>
          <a:xfrm>
            <a:off x="76212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Challenge 2 Example: Impact of the Precision of Sensitivity on Negative Predictive Value</a:t>
            </a:r>
            <a:endParaRPr b="1" lang="en-US" sz="2500" spc="-1" strike="noStrike">
              <a:solidFill>
                <a:srgbClr val="ffffff"/>
              </a:solidFill>
              <a:latin typeface="Trebuchet MS"/>
            </a:endParaRPr>
          </a:p>
        </p:txBody>
      </p:sp>
      <p:sp>
        <p:nvSpPr>
          <p:cNvPr id="126" name="Content Placeholder 1"/>
          <p:cNvSpPr/>
          <p:nvPr/>
        </p:nvSpPr>
        <p:spPr>
          <a:xfrm>
            <a:off x="380880" y="1219320"/>
            <a:ext cx="8382240" cy="1752480"/>
          </a:xfrm>
          <a:prstGeom prst="rect">
            <a:avLst/>
          </a:prstGeom>
          <a:noFill/>
          <a:ln w="0">
            <a:noFill/>
          </a:ln>
        </p:spPr>
        <p:style>
          <a:lnRef idx="0"/>
          <a:fillRef idx="0"/>
          <a:effectRef idx="0"/>
          <a:fontRef idx="minor"/>
        </p:style>
        <p:txBody>
          <a:bodyPr lIns="0" rIns="0" tIns="0" bIns="0" anchor="t">
            <a:noAutofit/>
          </a:bodyPr>
          <a:p>
            <a:pPr marL="291960" indent="-291960">
              <a:lnSpc>
                <a:spcPct val="110000"/>
              </a:lnSpc>
              <a:spcBef>
                <a:spcPts val="6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is example shows wide confidence intervals that did not result in a clinically meaningful impact on the clinic outcome.</a:t>
            </a:r>
            <a:endParaRPr b="0" lang="en-US" sz="1600" spc="-1" strike="noStrike">
              <a:solidFill>
                <a:srgbClr val="000000"/>
              </a:solidFill>
              <a:latin typeface="Palatino Linotype"/>
            </a:endParaRPr>
          </a:p>
          <a:p>
            <a:pPr marL="291960" indent="-291960">
              <a:lnSpc>
                <a:spcPct val="110000"/>
              </a:lnSpc>
              <a:spcBef>
                <a:spcPts val="6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 10-percent reduction in the sensitivity of various biopsy techniques (98% </a:t>
            </a:r>
            <a:r>
              <a:rPr b="0" lang="en-US" sz="1600" spc="-1" strike="noStrike">
                <a:solidFill>
                  <a:srgbClr val="ffffff"/>
                </a:solidFill>
                <a:latin typeface="Symbol"/>
                <a:ea typeface="Symbol"/>
              </a:rPr>
              <a:t></a:t>
            </a:r>
            <a:r>
              <a:rPr b="0" lang="en-US" sz="1600" spc="-1" strike="noStrike">
                <a:solidFill>
                  <a:srgbClr val="ffffff"/>
                </a:solidFill>
                <a:latin typeface="Trebuchet MS"/>
              </a:rPr>
              <a:t> 88%) changes the estimated probability of having cancer after a negative test by &lt;5 percent.</a:t>
            </a:r>
            <a:endParaRPr b="0" lang="en-US" sz="1600" spc="-1" strike="noStrike">
              <a:solidFill>
                <a:srgbClr val="000000"/>
              </a:solidFill>
              <a:latin typeface="Palatino Linotype"/>
            </a:endParaRPr>
          </a:p>
        </p:txBody>
      </p:sp>
      <p:graphicFrame>
        <p:nvGraphicFramePr>
          <p:cNvPr id="127" name=""/>
          <p:cNvGraphicFramePr/>
          <p:nvPr/>
        </p:nvGraphicFramePr>
        <p:xfrm>
          <a:off x="457200" y="2438280"/>
          <a:ext cx="8305920" cy="3353040"/>
        </p:xfrm>
        <a:graphic>
          <a:graphicData uri="http://schemas.openxmlformats.org/drawingml/2006/table">
            <a:tbl>
              <a:tblPr/>
              <a:tblGrid>
                <a:gridCol w="1287360"/>
                <a:gridCol w="1755720"/>
                <a:gridCol w="1754280"/>
                <a:gridCol w="1755720"/>
                <a:gridCol w="1752840"/>
              </a:tblGrid>
              <a:tr h="167760">
                <a:tc rowSpan="2">
                  <a:txBody>
                    <a:bodyPr lIns="68760" rIns="68760" t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Type of Biopsy </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gridSpan="4">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ostbiopsy Probability of Having Cancer After a Negative Core-Needle Biopsy Result</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8373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Results of analysis</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1%</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97%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5%</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93%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10%</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88%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3351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Freehand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8%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9%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Ultrasound guidance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Stereotactic guidance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Ultrasound guidance vacuum-assisted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2%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2%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Stereotactic guidance vacuum-assisted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0.4%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0.8%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28" name="TextBox 1"/>
          <p:cNvSpPr/>
          <p:nvPr/>
        </p:nvSpPr>
        <p:spPr>
          <a:xfrm>
            <a:off x="380880" y="5867280"/>
            <a:ext cx="838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ruening W, Schoelles K, Treadwell J, et al. Comparative Effectiveness of Core-Needle and Open Surgical Biopsy for the Diagnosis of Breast Lesion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68280"/>
            <a:ext cx="8305920" cy="4827600"/>
          </a:xfrm>
          <a:prstGeom prst="rect">
            <a:avLst/>
          </a:prstGeom>
          <a:noFill/>
          <a:ln w="0">
            <a:noFill/>
          </a:ln>
        </p:spPr>
        <p:txBody>
          <a:bodyPr lIns="0" rIns="0" tIns="0" bIns="0" anchor="t">
            <a:normAutofit/>
          </a:bodyPr>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for grading intervention studies can be adapted for diagnostic tests with clinical outcomes. </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carefully what test characteristic measures are the most appropriate intermediate outcomes for assessing the impact of a test on clinical outcomes and their precision in the clinical context represented by the Key Question.</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rinciple domains of the Grading of Recommendations Assessment, Development, and Evaluation (GRADE) approach can be adapted to assess a body of evidence on diagnostic test accuracy.</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ditional GRADE domains can be adapted to assess a body of evidence on diagnostic test accuracy.</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ultiple domains should be incorporated into an overall assessment in a transparent way.</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of Grading the Strength of </a:t>
            </a:r>
            <a:br>
              <a:rPr sz="2800"/>
            </a:br>
            <a:r>
              <a:rPr b="1" lang="en-US" sz="2800" spc="-1" strike="noStrike">
                <a:solidFill>
                  <a:srgbClr val="ffffff"/>
                </a:solidFill>
                <a:latin typeface="Trebuchet MS"/>
              </a:rPr>
              <a:t>a Body of Evidence</a:t>
            </a:r>
            <a:endParaRPr b="1" lang="en-US" sz="2800" spc="-1" strike="noStrike">
              <a:solidFill>
                <a:srgbClr val="ffffff"/>
              </a:solidFill>
              <a:latin typeface="Trebuchet MS"/>
            </a:endParaRPr>
          </a:p>
        </p:txBody>
      </p:sp>
      <p:sp>
        <p:nvSpPr>
          <p:cNvPr id="13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an assess a body of evidence evaluating diagnostic test outcomes (e.g., diagnostic thinking, therapeutic choice, clinical outcomes) in a way similar to therapeutic intervention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rading issues for studies measuring these diagnostic test outcomes are more straightforward than for accuracy outcom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rial evidence can directly assess the effect of tests on clinical outcomes (rarely done).</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 this case, the application of grading criteria should not differ significantly from the methods used for intervention evidence.</a:t>
            </a:r>
            <a:endParaRPr b="0" lang="en-US" sz="2100" spc="-1" strike="noStrike">
              <a:solidFill>
                <a:srgbClr val="ffffff"/>
              </a:solidFill>
              <a:latin typeface="Trebuchet MS"/>
            </a:endParaRPr>
          </a:p>
        </p:txBody>
      </p:sp>
      <p:sp>
        <p:nvSpPr>
          <p:cNvPr id="133" name="PlaceHolder 1"/>
          <p:cNvSpPr>
            <a:spLocks noGrp="1"/>
          </p:cNvSpPr>
          <p:nvPr>
            <p:ph type="title"/>
          </p:nvPr>
        </p:nvSpPr>
        <p:spPr>
          <a:xfrm>
            <a:off x="45720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1: Methods for Grading Intervention Studies Can Be Adapted for Diagnostic Tests With Clinical Outcomes (1 of 2) </a:t>
            </a:r>
            <a:endParaRPr b="1" lang="en-US" sz="2300" spc="-1" strike="noStrike">
              <a:solidFill>
                <a:srgbClr val="ffffff"/>
              </a:solidFill>
              <a:latin typeface="Trebuchet MS"/>
            </a:endParaRPr>
          </a:p>
        </p:txBody>
      </p:sp>
      <p:sp>
        <p:nvSpPr>
          <p:cNvPr id="134"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219320"/>
            <a:ext cx="8229600" cy="4827600"/>
          </a:xfrm>
          <a:prstGeom prst="rect">
            <a:avLst/>
          </a:prstGeom>
          <a:noFill/>
          <a:ln w="0">
            <a:noFill/>
          </a:ln>
        </p:spPr>
        <p:txBody>
          <a:bodyPr lIns="0" rIns="0" tIns="0" bIns="0" anchor="t">
            <a:normAutofit/>
          </a:bodyPr>
          <a:p>
            <a:pPr marL="290520" indent="-29052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direct evidence linking the test to the outcome of interest is not available:</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intervention studies, intermediate outcomes (e.g., accuracy outcomes) are </a:t>
            </a:r>
            <a:r>
              <a:rPr b="0" lang="ja-JP" sz="2000" spc="-1" strike="noStrike">
                <a:solidFill>
                  <a:srgbClr val="ffffff"/>
                </a:solidFill>
                <a:latin typeface="Trebuchet MS"/>
              </a:rPr>
              <a:t>“</a:t>
            </a:r>
            <a:r>
              <a:rPr b="0" lang="en-US" sz="2000" spc="-1" strike="noStrike">
                <a:solidFill>
                  <a:srgbClr val="ffffff"/>
                </a:solidFill>
                <a:latin typeface="Trebuchet MS"/>
              </a:rPr>
              <a:t>indirect</a:t>
            </a:r>
            <a:r>
              <a:rPr b="0" lang="ja-JP" sz="2000" spc="-1" strike="noStrike">
                <a:solidFill>
                  <a:srgbClr val="ffffff"/>
                </a:solidFill>
                <a:latin typeface="Trebuchet MS"/>
              </a:rPr>
              <a:t>”</a:t>
            </a:r>
            <a:r>
              <a:rPr b="0" lang="en-US" sz="2000" spc="-1" strike="noStrike">
                <a:solidFill>
                  <a:srgbClr val="ffffff"/>
                </a:solidFill>
                <a:latin typeface="Trebuchet MS"/>
              </a:rPr>
              <a:t> evidence and reduce the strength of the grad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king accuracy outcomes (e.g., false/true-positive outcomes) to clinical outcomes partly depends on factors such as benefits and harms of treatmen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consensus exists on the approach to use with only indirect evidence.</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ccuracy outcomes may be enough to determine if there is a benefit on clinical outcome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therwise, discuss the benefits of including this evidence and the specific methods to be used</a:t>
            </a:r>
            <a:endParaRPr b="0" lang="en-US" sz="1800" spc="-1" strike="noStrike">
              <a:solidFill>
                <a:srgbClr val="ffffff"/>
              </a:solidFill>
              <a:latin typeface="Trebuchet MS"/>
            </a:endParaRPr>
          </a:p>
        </p:txBody>
      </p:sp>
      <p:sp>
        <p:nvSpPr>
          <p:cNvPr id="13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1: Methods for Grading Intervention Studies Can Be Adapted for Diagnostic Tests With Clinical Outcomes (2 of 2) </a:t>
            </a:r>
            <a:endParaRPr b="1" lang="en-US" sz="2300" spc="-1" strike="noStrike">
              <a:solidFill>
                <a:srgbClr val="ffffff"/>
              </a:solidFill>
              <a:latin typeface="Trebuchet MS"/>
            </a:endParaRPr>
          </a:p>
        </p:txBody>
      </p:sp>
      <p:sp>
        <p:nvSpPr>
          <p:cNvPr id="137" name="TextBox 1"/>
          <p:cNvSpPr/>
          <p:nvPr/>
        </p:nvSpPr>
        <p:spPr>
          <a:xfrm>
            <a:off x="380880" y="5486400"/>
            <a:ext cx="85345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how surrogates (e.g., accuracy outcomes) will lead to changes in clinical outcom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ing so is consistent with both the EPC and GRADE principles of emphasizing outcomes important to patien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an analytic framework and decision models helps clarify the linkage between accuracy and clinical outcome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ue-positive/negative and false-positive/negative outcomes are easily translated to other accuracy outcomes (e.g., sensitivity, specificity, positive/negative predictive value).</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hoose accuracy outcomes that:</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most directly related to clinical outcome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ave the necessary precision levels</a:t>
            </a:r>
            <a:endParaRPr b="0" lang="en-US" sz="16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1 of 4)</a:t>
            </a:r>
            <a:endParaRPr b="1" lang="en-US" sz="2600" spc="-1" strike="noStrike">
              <a:solidFill>
                <a:srgbClr val="ffffff"/>
              </a:solidFill>
              <a:latin typeface="Trebuchet MS"/>
            </a:endParaRPr>
          </a:p>
        </p:txBody>
      </p:sp>
      <p:sp>
        <p:nvSpPr>
          <p:cNvPr id="140" name="TextBox 1"/>
          <p:cNvSpPr/>
          <p:nvPr/>
        </p:nvSpPr>
        <p:spPr>
          <a:xfrm>
            <a:off x="457200" y="5257800"/>
            <a:ext cx="8305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Kulasingam S, Lawrence WF. Deciding whether to complement a systematic review of medical tests with</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decision modeling.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ccasionally, it is more important to rule out a disease with severe consequences than to diagnose what disease the patient ha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age tests with high sensitivity and high negative predictive value are useful.</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ltiple tests are often used to ensure accuracy when high risks exist with treatment of a diseas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s used alone need both high sensitivity and specificity (or high positive and high negative predictive valu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 test meets these criteria, the interest may be in benefits and harms of adding on a test.</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accuracy outcome of interest then is high specificity or high positive predictive value.</a:t>
            </a:r>
            <a:endParaRPr b="0" lang="en-US" sz="18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2 of 4)</a:t>
            </a:r>
            <a:endParaRPr b="1" lang="en-US" sz="2600" spc="-1" strike="noStrike">
              <a:solidFill>
                <a:srgbClr val="ffffff"/>
              </a:solidFill>
              <a:latin typeface="Trebuchet MS"/>
            </a:endParaRPr>
          </a:p>
        </p:txBody>
      </p:sp>
      <p:sp>
        <p:nvSpPr>
          <p:cNvPr id="143"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re invasive tests have greater harms, with further harms resulting from misdiagnosi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positive and false-negative measurements for a test become importa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degree of harms depends on:</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lse-negative results </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rity of disease (for missed diagnosis) </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sks of testing (if test is invasive and has harms itself)</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lse-positive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vasiveness of further testing/treatment</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gnitive/emotional effects of inaccurate disease labeling</a:t>
            </a:r>
            <a:endParaRPr b="0" lang="en-US" sz="2000" spc="-1" strike="noStrike">
              <a:solidFill>
                <a:srgbClr val="ffffff"/>
              </a:solidFill>
              <a:latin typeface="Trebuchet MS"/>
            </a:endParaRPr>
          </a:p>
        </p:txBody>
      </p:sp>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3 of 4)</a:t>
            </a:r>
            <a:endParaRPr b="1" lang="en-US" sz="2600" spc="-1" strike="noStrike">
              <a:solidFill>
                <a:srgbClr val="ffffff"/>
              </a:solidFill>
              <a:latin typeface="Trebuchet MS"/>
            </a:endParaRPr>
          </a:p>
        </p:txBody>
      </p:sp>
      <p:sp>
        <p:nvSpPr>
          <p:cNvPr id="146"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23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 simplified example of precision in context: A test with outcomes data resulting from true-positive, true-negative, false-positive, and false-negative test results</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a decision model, find the threshold of test sensitivity and specificity combinations where testing versus not testing is a tossup.</a:t>
            </a:r>
            <a:endParaRPr b="0" lang="en-US" sz="19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t benefits are equivalent to net harms at the threshold.</a:t>
            </a:r>
            <a:endParaRPr b="0" lang="en-US" sz="18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re is enough precision if the confidence intervals for sensitivity and specificity from the data in the body of evidence are completely on one side of the threshold.</a:t>
            </a:r>
            <a:endParaRPr b="0" lang="en-US" sz="19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example is oversimplified for many situations.</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ests are usually part of an algorithm.</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accuracy outcome of interest depends on how the test is used in an algorithm and its mechanism of action on outcomes.</a:t>
            </a:r>
            <a:endParaRPr b="0" lang="en-US" sz="19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4 of 4)</a:t>
            </a:r>
            <a:endParaRPr b="1" lang="en-US" sz="2600" spc="-1" strike="noStrike">
              <a:solidFill>
                <a:srgbClr val="ffffff"/>
              </a:solidFill>
              <a:latin typeface="Trebuchet MS"/>
            </a:endParaRPr>
          </a:p>
        </p:txBody>
      </p:sp>
      <p:sp>
        <p:nvSpPr>
          <p:cNvPr id="149" name="TextBox 1"/>
          <p:cNvSpPr/>
          <p:nvPr/>
        </p:nvSpPr>
        <p:spPr>
          <a:xfrm>
            <a:off x="838080" y="5715000"/>
            <a:ext cx="77724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Pauker SG, Kassirer JP. N Engl J Med 1980 May 15;302(10):1109-17. PMID: 7366635.</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risk of bias, consistency, directness, and precision domains of GRADE can be adapted to assess a body of evidence on diagnostic test performance.</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isk of bia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How study type/design/conduct may have contributed to systematic bias must be considered.</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fferent technical methods used in diagnostic (particularly laboratory) tests can lead to heterogeneous results. For example:</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different antibodies in immunoassay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standards with different values and units</a:t>
            </a:r>
            <a:endParaRPr b="0" lang="en-US" sz="1900" spc="-1" strike="noStrike">
              <a:solidFill>
                <a:srgbClr val="ffffff"/>
              </a:solidFill>
              <a:latin typeface="Trebuchet MS"/>
            </a:endParaRPr>
          </a:p>
        </p:txBody>
      </p:sp>
      <p:sp>
        <p:nvSpPr>
          <p:cNvPr id="151" name="PlaceHolder 1"/>
          <p:cNvSpPr>
            <a:spLocks noGrp="1"/>
          </p:cNvSpPr>
          <p:nvPr>
            <p:ph type="title"/>
          </p:nvPr>
        </p:nvSpPr>
        <p:spPr>
          <a:xfrm>
            <a:off x="304560" y="130320"/>
            <a:ext cx="89154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1 of 5)</a:t>
            </a:r>
            <a:endParaRPr b="1" lang="en-US" sz="2200" spc="-1" strike="noStrike">
              <a:solidFill>
                <a:srgbClr val="ffffff"/>
              </a:solidFill>
              <a:latin typeface="Trebuchet MS"/>
            </a:endParaRPr>
          </a:p>
        </p:txBody>
      </p:sp>
      <p:sp>
        <p:nvSpPr>
          <p:cNvPr id="152" name="TextBox 1"/>
          <p:cNvSpPr/>
          <p:nvPr/>
        </p:nvSpPr>
        <p:spPr>
          <a:xfrm>
            <a:off x="380880" y="5486400"/>
            <a:ext cx="85345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4"/>
          <p:cNvGrpSpPr/>
          <p:nvPr/>
        </p:nvGrpSpPr>
        <p:grpSpPr>
          <a:xfrm>
            <a:off x="304920" y="1219320"/>
            <a:ext cx="8421480" cy="4647960"/>
            <a:chOff x="304920" y="1219320"/>
            <a:chExt cx="8421480" cy="4647960"/>
          </a:xfrm>
        </p:grpSpPr>
        <p:sp>
          <p:nvSpPr>
            <p:cNvPr id="89" name="Freeform 5"/>
            <p:cNvSpPr/>
            <p:nvPr/>
          </p:nvSpPr>
          <p:spPr>
            <a:xfrm>
              <a:off x="304920" y="2593800"/>
              <a:ext cx="2273040" cy="148752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346040" y="2716200"/>
              <a:ext cx="2566800" cy="2958840"/>
            </a:xfrm>
            <a:custGeom>
              <a:avLst/>
              <a:gdLst/>
              <a:ahLst/>
              <a:rect l="l" t="t" r="r" b="b"/>
              <a:pathLst>
                <a:path w="2566988" h="2972238">
                  <a:moveTo>
                    <a:pt x="342873" y="2422520"/>
                  </a:moveTo>
                  <a:lnTo>
                    <a:pt x="391807" y="2373805"/>
                  </a:lnTo>
                  <a:cubicBezTo>
                    <a:pt x="682329" y="2775530"/>
                    <a:pt x="1143252" y="2946596"/>
                    <a:pt x="1577837" y="2813988"/>
                  </a:cubicBezTo>
                  <a:cubicBezTo>
                    <a:pt x="1970188" y="2694267"/>
                    <a:pt x="2281700" y="2344670"/>
                    <a:pt x="2401069" y="1890109"/>
                  </a:cubicBezTo>
                  <a:lnTo>
                    <a:pt x="2356817" y="1878819"/>
                  </a:lnTo>
                  <a:lnTo>
                    <a:pt x="2459419" y="1786132"/>
                  </a:lnTo>
                  <a:lnTo>
                    <a:pt x="2511578" y="1918303"/>
                  </a:lnTo>
                  <a:lnTo>
                    <a:pt x="2467327" y="1907013"/>
                  </a:lnTo>
                  <a:cubicBezTo>
                    <a:pt x="2341769" y="2385244"/>
                    <a:pt x="2012062" y="2753485"/>
                    <a:pt x="1596294" y="2879847"/>
                  </a:cubicBezTo>
                  <a:cubicBezTo>
                    <a:pt x="1137704" y="3019223"/>
                    <a:pt x="650984" y="2841637"/>
                    <a:pt x="342873" y="2422519"/>
                  </a:cubicBezTo>
                  <a:lnTo>
                    <a:pt x="342873" y="242252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762120" y="430848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157560" y="2593800"/>
              <a:ext cx="2271600" cy="18666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3978360" y="1219320"/>
              <a:ext cx="2065320" cy="2117520"/>
            </a:xfrm>
            <a:custGeom>
              <a:avLst/>
              <a:gdLst/>
              <a:ahLst/>
              <a:rect l="l" t="t" r="r" b="b"/>
              <a:pathLst>
                <a:path w="2065338" h="2127128">
                  <a:moveTo>
                    <a:pt x="233928" y="439414"/>
                  </a:moveTo>
                  <a:cubicBezTo>
                    <a:pt x="447523" y="148960"/>
                    <a:pt x="793775" y="-3997"/>
                    <a:pt x="1145119" y="36894"/>
                  </a:cubicBezTo>
                  <a:cubicBezTo>
                    <a:pt x="1493034" y="77386"/>
                    <a:pt x="1795234" y="302090"/>
                    <a:pt x="1942283" y="629633"/>
                  </a:cubicBezTo>
                  <a:lnTo>
                    <a:pt x="1970574" y="618672"/>
                  </a:lnTo>
                  <a:lnTo>
                    <a:pt x="1949647" y="708279"/>
                  </a:lnTo>
                  <a:lnTo>
                    <a:pt x="1871471" y="657069"/>
                  </a:lnTo>
                  <a:lnTo>
                    <a:pt x="1899761" y="646108"/>
                  </a:lnTo>
                  <a:cubicBezTo>
                    <a:pt x="1758679" y="333839"/>
                    <a:pt x="1470146" y="120041"/>
                    <a:pt x="1138408" y="81961"/>
                  </a:cubicBezTo>
                  <a:cubicBezTo>
                    <a:pt x="803303" y="43494"/>
                    <a:pt x="473323" y="189948"/>
                    <a:pt x="269823" y="467463"/>
                  </a:cubicBezTo>
                  <a:lnTo>
                    <a:pt x="233928" y="439414"/>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352680" y="165420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008760" y="1219320"/>
              <a:ext cx="2489040" cy="362088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705720" y="506736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T"/>
            <p:cNvPicPr/>
            <p:nvPr/>
          </p:nvPicPr>
          <p:blipFill>
            <a:blip r:embed="rId1"/>
            <a:stretch/>
          </p:blipFill>
          <p:spPr>
            <a:xfrm>
              <a:off x="5961960" y="2426040"/>
              <a:ext cx="2511360" cy="999720"/>
            </a:xfrm>
            <a:prstGeom prst="rect">
              <a:avLst/>
            </a:prstGeom>
            <a:ln w="0">
              <a:noFill/>
            </a:ln>
          </p:spPr>
        </p:pic>
        <p:sp>
          <p:nvSpPr>
            <p:cNvPr id="98" name="Shape 15"/>
            <p:cNvSpPr/>
            <p:nvPr/>
          </p:nvSpPr>
          <p:spPr>
            <a:xfrm rot="5043000">
              <a:off x="5992920" y="4035240"/>
              <a:ext cx="1617480" cy="1557360"/>
            </a:xfrm>
            <a:custGeom>
              <a:avLst/>
              <a:gdLst/>
              <a:ahLst/>
              <a:rect l="l" t="t" r="r" b="b"/>
              <a:pathLst>
                <a:path w="1624844" h="1557338">
                  <a:moveTo>
                    <a:pt x="677869" y="1518527"/>
                  </a:moveTo>
                  <a:lnTo>
                    <a:pt x="685298" y="1477675"/>
                  </a:lnTo>
                  <a:cubicBezTo>
                    <a:pt x="1036373" y="1535855"/>
                    <a:pt x="1381305" y="1347995"/>
                    <a:pt x="1507481" y="1029891"/>
                  </a:cubicBezTo>
                  <a:lnTo>
                    <a:pt x="1480809" y="1023086"/>
                  </a:lnTo>
                  <a:lnTo>
                    <a:pt x="1550553" y="966988"/>
                  </a:lnTo>
                  <a:lnTo>
                    <a:pt x="1574699" y="1047040"/>
                  </a:lnTo>
                  <a:lnTo>
                    <a:pt x="1548018" y="1040233"/>
                  </a:lnTo>
                  <a:cubicBezTo>
                    <a:pt x="1416296" y="1379494"/>
                    <a:pt x="1050458" y="1580584"/>
                    <a:pt x="677868" y="1518528"/>
                  </a:cubicBezTo>
                  <a:lnTo>
                    <a:pt x="677869" y="151852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0" y="601992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04920" y="1268280"/>
            <a:ext cx="8610480" cy="4827600"/>
          </a:xfrm>
          <a:prstGeom prst="rect">
            <a:avLst/>
          </a:prstGeom>
          <a:noFill/>
          <a:ln w="0">
            <a:noFill/>
          </a:ln>
        </p:spPr>
        <p:txBody>
          <a:bodyPr lIns="0" rIns="0" tIns="0" bIns="0" anchor="t">
            <a:normAutofit/>
          </a:bodyPr>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nsistency</a:t>
            </a:r>
            <a:r>
              <a:rPr b="0" lang="en-US" sz="2300" spc="-1" strike="noStrike">
                <a:solidFill>
                  <a:srgbClr val="ffffff"/>
                </a:solidFill>
                <a:latin typeface="Trebuchet MS"/>
              </a:rPr>
              <a:t> is homogeneity in the direction and magnitude of results across studies.</a:t>
            </a:r>
            <a:endParaRPr b="0" lang="en-US" sz="2300" spc="-1" strike="noStrike">
              <a:solidFill>
                <a:srgbClr val="ffffff"/>
              </a:solidFill>
              <a:latin typeface="Trebuchet MS"/>
            </a:endParaRPr>
          </a:p>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It can be applied to diagnostic test performance studies (the method of measurement may differ). For example: </a:t>
            </a:r>
            <a:endParaRPr b="0" lang="en-US" sz="23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tervention studies visually assess consistency with forest plot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agnostic test performance reviews use a summary receiver operating characteristic (ROC) curve.</a:t>
            </a:r>
            <a:endParaRPr b="0" lang="en-US" sz="21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OC curves show sensitivity and specificity results from studies.</a:t>
            </a:r>
            <a:endParaRPr b="0" lang="en-US" sz="19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consistency of diagnostic accuracy can be shown by bubble plots of true-positive versus false-positive rates in ROC space.</a:t>
            </a:r>
            <a:endParaRPr b="0" lang="en-US" sz="19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s in intervention studies, strength of evidence is reduced by unexplained heterogeneity (i.e., heterogeneity not explained by different study designs, methodological quality, diversity in subject characteristics, or study context).</a:t>
            </a:r>
            <a:endParaRPr b="0" lang="en-US" sz="1900" spc="-1" strike="noStrike">
              <a:solidFill>
                <a:srgbClr val="ffffff"/>
              </a:solidFill>
              <a:latin typeface="Trebuchet MS"/>
            </a:endParaRPr>
          </a:p>
        </p:txBody>
      </p:sp>
      <p:sp>
        <p:nvSpPr>
          <p:cNvPr id="154" name="PlaceHolder 1"/>
          <p:cNvSpPr>
            <a:spLocks noGrp="1"/>
          </p:cNvSpPr>
          <p:nvPr>
            <p:ph type="title"/>
          </p:nvPr>
        </p:nvSpPr>
        <p:spPr>
          <a:xfrm>
            <a:off x="304560" y="130320"/>
            <a:ext cx="88390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2 of 5)</a:t>
            </a:r>
            <a:endParaRPr b="1" lang="en-US" sz="2200" spc="-1" strike="noStrike">
              <a:solidFill>
                <a:srgbClr val="ffffff"/>
              </a:solidFill>
              <a:latin typeface="Trebuchet MS"/>
            </a:endParaRPr>
          </a:p>
        </p:txBody>
      </p:sp>
      <p:sp>
        <p:nvSpPr>
          <p:cNvPr id="155"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idence is direct is when it reflects a single, direct link between the medical tests and the ultimate health outcome under consideration.</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 studies link the test to clinical outcome, then diagnostic accuracy outcomes are considered indirect.</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grading evidence of intermediate outcomes like diagnostic accuracy, then do not </a:t>
            </a:r>
            <a:r>
              <a:rPr b="0" lang="ja-JP" sz="1800" spc="-1" strike="noStrike">
                <a:solidFill>
                  <a:srgbClr val="ffffff"/>
                </a:solidFill>
                <a:latin typeface="Trebuchet MS"/>
              </a:rPr>
              <a:t>“</a:t>
            </a:r>
            <a:r>
              <a:rPr b="0" lang="en-US" sz="1800" spc="-1" strike="noStrike">
                <a:solidFill>
                  <a:srgbClr val="ffffff"/>
                </a:solidFill>
                <a:latin typeface="Trebuchet MS"/>
              </a:rPr>
              <a:t>downgrade</a:t>
            </a:r>
            <a:r>
              <a:rPr b="0" lang="ja-JP" sz="1800" spc="-1" strike="noStrike">
                <a:solidFill>
                  <a:srgbClr val="ffffff"/>
                </a:solidFill>
                <a:latin typeface="Trebuchet MS"/>
              </a:rPr>
              <a:t>”</a:t>
            </a:r>
            <a:r>
              <a:rPr b="0" lang="en-US" sz="1800" spc="-1" strike="noStrike">
                <a:solidFill>
                  <a:srgbClr val="ffffff"/>
                </a:solidFill>
                <a:latin typeface="Trebuchet MS"/>
              </a:rPr>
              <a:t> for being indirect</a:t>
            </a:r>
            <a:endParaRPr b="0" lang="en-US" sz="18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ness does apply to how the use of the test compares to others. For example:</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mparison of d-dimer test and venous ultrasound as two opposing methods for diagnosis of venous thromboembolism</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mparison of interest may actually be use of d-dimer test </a:t>
            </a:r>
            <a:r>
              <a:rPr b="0" i="1" lang="en-US" sz="1800" spc="-1" strike="noStrike">
                <a:solidFill>
                  <a:srgbClr val="ffffff"/>
                </a:solidFill>
                <a:latin typeface="Trebuchet MS"/>
              </a:rPr>
              <a:t>as triage </a:t>
            </a:r>
            <a:r>
              <a:rPr b="0" lang="en-US" sz="1800" spc="-1" strike="noStrike">
                <a:solidFill>
                  <a:srgbClr val="ffffff"/>
                </a:solidFill>
                <a:latin typeface="Trebuchet MS"/>
              </a:rPr>
              <a:t>for venous ultrasound vs. ultrasound alone</a:t>
            </a:r>
            <a:endParaRPr b="0" lang="en-US" sz="1800" spc="-1" strike="noStrike">
              <a:solidFill>
                <a:srgbClr val="ffffff"/>
              </a:solidFill>
              <a:latin typeface="Trebuchet MS"/>
            </a:endParaRPr>
          </a:p>
        </p:txBody>
      </p:sp>
      <p:sp>
        <p:nvSpPr>
          <p:cNvPr id="157"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3 of 5)</a:t>
            </a:r>
            <a:endParaRPr b="1" lang="en-US" sz="2200" spc="-1" strike="noStrike">
              <a:solidFill>
                <a:srgbClr val="ffffff"/>
              </a:solidFill>
              <a:latin typeface="Trebuchet MS"/>
            </a:endParaRPr>
          </a:p>
        </p:txBody>
      </p:sp>
      <p:sp>
        <p:nvSpPr>
          <p:cNvPr id="158" name="TextBox 1"/>
          <p:cNvSpPr/>
          <p:nvPr/>
        </p:nvSpPr>
        <p:spPr>
          <a:xfrm>
            <a:off x="76212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192320"/>
            <a:ext cx="8229600" cy="4827600"/>
          </a:xfrm>
          <a:prstGeom prst="rect">
            <a:avLst/>
          </a:prstGeom>
          <a:noFill/>
          <a:ln w="0">
            <a:noFill/>
          </a:ln>
        </p:spPr>
        <p:txBody>
          <a:bodyPr lIns="0" rIns="0" tIns="0" bIns="0" anchor="t">
            <a:normAutofit/>
          </a:bodyPr>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hemas such as GRADE rate directness based on:</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ther the test evaluated is used in practice</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est accuracy is calculated in a population or for a use that is different than those evaluated in the review (applicability)</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Evidence-base Practice Center (EPC) approach does not include these factors when assessing directness for strength of evidence (SO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s prepared by EPC reviewers are intended for use by a broad spectrum of stakeholder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ing applicability of evidence separately from SOE allows a wide variety of decisionmakers to consider how the evidence relates to their particular test and population.</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4 of 5)</a:t>
            </a:r>
            <a:endParaRPr b="1" lang="en-US" sz="2200" spc="-1" strike="noStrike">
              <a:solidFill>
                <a:srgbClr val="ffffff"/>
              </a:solidFill>
              <a:latin typeface="Trebuchet MS"/>
            </a:endParaRPr>
          </a:p>
        </p:txBody>
      </p:sp>
      <p:sp>
        <p:nvSpPr>
          <p:cNvPr id="161" name="TextBox 1"/>
          <p:cNvSpPr/>
          <p:nvPr/>
        </p:nvSpPr>
        <p:spPr>
          <a:xfrm>
            <a:off x="457200" y="5537160"/>
            <a:ext cx="83059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0880" y="1268280"/>
            <a:ext cx="838224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ion is affected by the width of the confidence intervals for diagnostic accuracy measuremen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integrally related to sample siz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important to consider how clinically meaningful outcomes may be impacted by imprecision.</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may involve calculation of post-test probabilities over a range of values for sensitivity and specificity (see Slide 11).</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ore formal analysis with a decision model could be beneficia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strength-of-evidence grade for precision should not be downgraded if: </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impact of imprecision on outcomes is negligible. </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is enough precision that decisions based on the test are unaffected. </a:t>
            </a:r>
            <a:endParaRPr b="0" lang="en-US" sz="1600" spc="-1" strike="noStrike">
              <a:solidFill>
                <a:srgbClr val="ffffff"/>
              </a:solidFill>
              <a:latin typeface="Trebuchet MS"/>
            </a:endParaRPr>
          </a:p>
        </p:txBody>
      </p:sp>
      <p:sp>
        <p:nvSpPr>
          <p:cNvPr id="163"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5 of 5)</a:t>
            </a:r>
            <a:endParaRPr b="1" lang="en-US" sz="2200" spc="-1" strike="noStrike">
              <a:solidFill>
                <a:srgbClr val="ffffff"/>
              </a:solidFill>
              <a:latin typeface="Trebuchet MS"/>
            </a:endParaRPr>
          </a:p>
        </p:txBody>
      </p:sp>
      <p:sp>
        <p:nvSpPr>
          <p:cNvPr id="164" name="TextBox 1"/>
          <p:cNvSpPr/>
          <p:nvPr/>
        </p:nvSpPr>
        <p:spPr>
          <a:xfrm>
            <a:off x="457200" y="5410080"/>
            <a:ext cx="83818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Owens DK, Lohr KN, Atkins D, et al. J Clin Epidemiol 2002 May;63(5):513023. PMID: 19595577.</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ditional domains can be adapted</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ublication bia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when negative or no-difference findings appear to be unpublished/unavailable</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se-response association</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tests with continuous outcomes/multiple cutoffs (e.g., serum prostate-specific antigen), may support underlying mechanism of detection</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istence of plausible unmeasured confounder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y be relevant to testing strategies that predict outcome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a study biased to find low diagnostic accuracy actually finds very high diagnostic accurac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rength of association (i.e., magnitude of effect)</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when comparing accuracy of two different tests where one is more accurate</a:t>
            </a:r>
            <a:endParaRPr b="0" lang="en-US" sz="18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ciple 4: Additional GRADE Domains Can Be Adapted To Assess a Body of Evidence on Diagnostic Test Accuracy</a:t>
            </a:r>
            <a:endParaRPr b="1" lang="en-US" sz="2400" spc="-1" strike="noStrike">
              <a:solidFill>
                <a:srgbClr val="ffffff"/>
              </a:solidFill>
              <a:latin typeface="Trebuchet MS"/>
            </a:endParaRPr>
          </a:p>
        </p:txBody>
      </p:sp>
      <p:sp>
        <p:nvSpPr>
          <p:cNvPr id="167" name="TextBox 1"/>
          <p:cNvSpPr/>
          <p:nvPr/>
        </p:nvSpPr>
        <p:spPr>
          <a:xfrm>
            <a:off x="457200" y="593892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304920" y="1219320"/>
          <a:ext cx="8458200" cy="4647960"/>
        </p:xfrm>
        <a:graphic>
          <a:graphicData uri="http://schemas.openxmlformats.org/drawingml/2006/table">
            <a:tbl>
              <a:tblPr/>
              <a:tblGrid>
                <a:gridCol w="1066680"/>
                <a:gridCol w="3505320"/>
                <a:gridCol w="3886200"/>
              </a:tblGrid>
              <a:tr h="396360">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a:t>
                      </a: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iagnostic Test Performance </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310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Risk of Bias</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isk of bias is the degree to which the included studies for a given outcome or comparison have a high likelihood of adequate protection against bias (i.e., good internal validity), as assessed through main element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udy design (e.g., randomized controlled trials or observational studie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ggregate quality of the studies under consideration from the rating of quality (good/fair/poor) done for individual studies</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se one of three levels of aggregate risk of bias: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Low risk of bia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edium risk of bia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High risk of bias</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Well designed and executed studies of new tests compared to an adequate criterion standard are rated as having </a:t>
                      </a:r>
                      <a:r>
                        <a:rPr b="0" lang="ja-JP" sz="1300" spc="-1" strike="noStrike">
                          <a:solidFill>
                            <a:srgbClr val="000000"/>
                          </a:solidFill>
                          <a:latin typeface="Palatino Linotype"/>
                        </a:rPr>
                        <a:t>“</a:t>
                      </a:r>
                      <a:r>
                        <a:rPr b="0" lang="en-US" sz="1300" spc="-1" strike="noStrike">
                          <a:solidFill>
                            <a:srgbClr val="000000"/>
                          </a:solidFill>
                          <a:latin typeface="Palatino Linotype"/>
                        </a:rPr>
                        <a:t>low risk of bias.</a:t>
                      </a:r>
                      <a:r>
                        <a:rPr b="0" lang="ja-JP" sz="1300" spc="-1" strike="noStrike">
                          <a:solidFill>
                            <a:srgbClr val="000000"/>
                          </a:solidFill>
                          <a:latin typeface="Palatino Linotype"/>
                        </a:rPr>
                        <a:t>”</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9350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onsistency</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Consistency is the degree to which reported study results (e.g., sensitivity, specificity, likelihood ratios) from included studies are similar. This can be assessed through two main element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range of study results is narrow.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Variability in study results is explained by differences in study design, patient population or test variability.</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se one of three levels of consistency: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Palatino Linotype"/>
                        </a:rPr>
                        <a:t>Consistent (i.e., no inconsistency)</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onsistent</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nknown or not applicable (e.g., single study) </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ingle-study evidence bases should be considered as </a:t>
                      </a:r>
                      <a:r>
                        <a:rPr b="0" lang="ja-JP" sz="1300" spc="-1" strike="noStrike">
                          <a:solidFill>
                            <a:srgbClr val="000000"/>
                          </a:solidFill>
                          <a:latin typeface="Palatino Linotype"/>
                        </a:rPr>
                        <a:t>“</a:t>
                      </a:r>
                      <a:r>
                        <a:rPr b="0" lang="en-US" sz="1300" spc="-1" strike="noStrike">
                          <a:solidFill>
                            <a:srgbClr val="000000"/>
                          </a:solidFill>
                          <a:latin typeface="Palatino Linotype"/>
                        </a:rPr>
                        <a:t>consistency unknown (single study).</a:t>
                      </a:r>
                      <a:r>
                        <a:rPr b="0" lang="ja-JP" sz="1300" spc="-1" strike="noStrike">
                          <a:solidFill>
                            <a:srgbClr val="000000"/>
                          </a:solidFill>
                          <a:latin typeface="Palatino Linotype"/>
                        </a:rPr>
                        <a:t>”</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RADE Domains and Descriptions (1 of 2)</a:t>
            </a:r>
            <a:endParaRPr b="1" lang="en-US" sz="2400" spc="-1" strike="noStrike">
              <a:solidFill>
                <a:srgbClr val="ffffff"/>
              </a:solidFill>
              <a:latin typeface="Trebuchet MS"/>
            </a:endParaRPr>
          </a:p>
        </p:txBody>
      </p:sp>
      <p:sp>
        <p:nvSpPr>
          <p:cNvPr id="170" name="TextBox 1"/>
          <p:cNvSpPr/>
          <p:nvPr/>
        </p:nvSpPr>
        <p:spPr>
          <a:xfrm>
            <a:off x="304920" y="58672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RADE Domains and Descriptions (2 of 2)</a:t>
            </a:r>
            <a:endParaRPr b="1" lang="en-US" sz="2400" spc="-1" strike="noStrike">
              <a:solidFill>
                <a:srgbClr val="ffffff"/>
              </a:solidFill>
              <a:latin typeface="Trebuchet MS"/>
            </a:endParaRPr>
          </a:p>
        </p:txBody>
      </p:sp>
      <p:graphicFrame>
        <p:nvGraphicFramePr>
          <p:cNvPr id="172" name=""/>
          <p:cNvGraphicFramePr/>
          <p:nvPr/>
        </p:nvGraphicFramePr>
        <p:xfrm>
          <a:off x="152280" y="1143000"/>
          <a:ext cx="8839440" cy="4724280"/>
        </p:xfrm>
        <a:graphic>
          <a:graphicData uri="http://schemas.openxmlformats.org/drawingml/2006/table">
            <a:tbl>
              <a:tblPr/>
              <a:tblGrid>
                <a:gridCol w="990720"/>
                <a:gridCol w="3048120"/>
                <a:gridCol w="4800600"/>
              </a:tblGrid>
              <a:tr h="220320">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finition and Elements</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Application to Evaluation of Diagnostic Test Performance </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7846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irectness</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ness relates to whether the evidence links the interventions directly to outcomes. For a comparison of two diagnostic tests, directness implies head-to-head comparisons against a common criterion standard. </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ness may be contingent on the outcomes of interest.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680" rIns="22680" tIns="0" bIns="0" anchor="t">
                      <a:noAutofit/>
                    </a:bodyPr>
                    <a:p>
                      <a:pPr>
                        <a:spcBef>
                          <a:spcPts val="300"/>
                        </a:spcBef>
                        <a:spcAft>
                          <a:spcPts val="300"/>
                        </a:spcAft>
                        <a:tabLst>
                          <a:tab algn="l" pos="0"/>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core dichotomously as one of two levels of directness:</a:t>
                      </a:r>
                      <a:endParaRPr b="0" lang="en-US" sz="12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 </a:t>
                      </a:r>
                      <a:endParaRPr b="0" lang="en-US" sz="12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direct</a:t>
                      </a:r>
                      <a:endParaRPr b="0" lang="en-US" sz="1200" spc="-1" strike="noStrike">
                        <a:solidFill>
                          <a:srgbClr val="000000"/>
                        </a:solidFill>
                        <a:latin typeface="Palatino Linotype"/>
                      </a:endParaRPr>
                    </a:p>
                    <a:p>
                      <a:pPr>
                        <a:spcBef>
                          <a:spcPts val="300"/>
                        </a:spcBef>
                        <a:spcAft>
                          <a:spcPts val="300"/>
                        </a:spcAft>
                        <a:tabLst>
                          <a:tab algn="l" pos="0"/>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hen assessing the directness of the overarching question, if there are no studies linking the test to a clinical outcome, then evidence that only provides diagnostic accuracy outcomes would be considered indirect. If indirect, specify which of the two types of indirectness account for the rating (or both, if that is the case)</a:t>
                      </a:r>
                      <a:r>
                        <a:rPr b="0" lang="en-US" sz="1200" spc="-1" strike="noStrike">
                          <a:solidFill>
                            <a:srgbClr val="000000"/>
                          </a:solidFill>
                          <a:latin typeface="Arial"/>
                          <a:ea typeface="Arial"/>
                        </a:rPr>
                        <a:t>—</a:t>
                      </a:r>
                      <a:r>
                        <a:rPr b="0" lang="en-US" sz="1200" spc="-1" strike="noStrike">
                          <a:solidFill>
                            <a:srgbClr val="000000"/>
                          </a:solidFill>
                          <a:latin typeface="Palatino Linotype"/>
                        </a:rPr>
                        <a:t> namely, use of intermediate/surrogate outcomes rather than health outcomes and use of indirect comparisons. If the decision is made to grade the strength of evidence of an intermediate outcome such as diagnostic accuracy, then the reviewer does not need to automatically </a:t>
                      </a:r>
                      <a:r>
                        <a:rPr b="0" lang="ja-JP" sz="1200" spc="-1" strike="noStrike">
                          <a:solidFill>
                            <a:srgbClr val="000000"/>
                          </a:solidFill>
                          <a:latin typeface="Palatino Linotype"/>
                        </a:rPr>
                        <a:t>“</a:t>
                      </a:r>
                      <a:r>
                        <a:rPr b="0" lang="en-US" sz="1200" spc="-1" strike="noStrike">
                          <a:solidFill>
                            <a:srgbClr val="000000"/>
                          </a:solidFill>
                          <a:latin typeface="Palatino Linotype"/>
                        </a:rPr>
                        <a:t>downgrade</a:t>
                      </a:r>
                      <a:r>
                        <a:rPr b="0" lang="ja-JP" sz="1200" spc="-1" strike="noStrike">
                          <a:solidFill>
                            <a:srgbClr val="000000"/>
                          </a:solidFill>
                          <a:latin typeface="Palatino Linotype"/>
                        </a:rPr>
                        <a:t>”</a:t>
                      </a:r>
                      <a:r>
                        <a:rPr b="0" lang="en-US" sz="1200" spc="-1" strike="noStrike">
                          <a:solidFill>
                            <a:srgbClr val="000000"/>
                          </a:solidFill>
                          <a:latin typeface="Palatino Linotype"/>
                        </a:rPr>
                        <a:t> that outcome for being indirect.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71936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recision</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cision is the degree of certainty surrounding an effect estimate with respect to a given outcome (i.e., for each outcome separately). </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f a meta-analysis was performed, this will be the confidence interval around the summary measure(s) of test performance (e.g., sensitivity, true positive).</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core dichotomously as one of two levels of precision:</a:t>
                      </a:r>
                      <a:endParaRPr b="0" lang="en-US" sz="1200" spc="-1" strike="noStrike">
                        <a:solidFill>
                          <a:srgbClr val="000000"/>
                        </a:solidFill>
                        <a:latin typeface="Palatino Linotype"/>
                      </a:endParaRPr>
                    </a:p>
                    <a:p>
                      <a:pPr indent="6480">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cise</a:t>
                      </a:r>
                      <a:endParaRPr b="0" lang="en-US" sz="1200" spc="-1" strike="noStrike">
                        <a:solidFill>
                          <a:srgbClr val="000000"/>
                        </a:solidFill>
                        <a:latin typeface="Palatino Linotype"/>
                      </a:endParaRPr>
                    </a:p>
                    <a:p>
                      <a:pPr indent="6480">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mprecise</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 precise estimate is an estimate that would allow a clinically useful conclusion. An imprecise estimate is one for which the confidence interval is wide enough to include clinically distinct conclusions.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3" name="TextBox 1"/>
          <p:cNvSpPr/>
          <p:nvPr/>
        </p:nvSpPr>
        <p:spPr>
          <a:xfrm>
            <a:off x="304920" y="58672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dditional GRADE Domains and Descriptions (1 of 2)</a:t>
            </a:r>
            <a:endParaRPr b="1" lang="en-US" sz="2400" spc="-1" strike="noStrike">
              <a:solidFill>
                <a:srgbClr val="ffffff"/>
              </a:solidFill>
              <a:latin typeface="Trebuchet MS"/>
            </a:endParaRPr>
          </a:p>
        </p:txBody>
      </p:sp>
      <p:graphicFrame>
        <p:nvGraphicFramePr>
          <p:cNvPr id="175" name=""/>
          <p:cNvGraphicFramePr/>
          <p:nvPr/>
        </p:nvGraphicFramePr>
        <p:xfrm>
          <a:off x="457200" y="1295280"/>
          <a:ext cx="8229600" cy="4038840"/>
        </p:xfrm>
        <a:graphic>
          <a:graphicData uri="http://schemas.openxmlformats.org/drawingml/2006/table">
            <a:tbl>
              <a:tblPr/>
              <a:tblGrid>
                <a:gridCol w="930240"/>
                <a:gridCol w="2768760"/>
                <a:gridCol w="4530600"/>
              </a:tblGrid>
              <a:tr h="396360">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 Diagnostic Test Performance </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6360">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ublication bias*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ublication bias indicates that studies may have been published selectively, with the result that the estimate of test performance based on published studies does not reflect the true effect. Methods to detect publication bias for medical test studies are not robust. Evidence from small studies of new tests or asymmetry in funnel plots should raise suspicion for publication bias.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ublication bias can influence ratings of consistency, precision, or magnitude of effect (and, to a lesser degree, risk of bias and directness). Reviewers should comment on publication bias when circumstances suggest that relevant empirical findings, particularly negative or no-difference findings, have not been published or are unavailable.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188360">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se-response association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is association, either across or within studies, typically refers to a pattern of a larger effect associated with a greater level of an exposure (e.g., dose, duration, adherence).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 dose-response association may support an underlying mechanism of detection and has potential relevance to some tests results that are measured on a continuous or ordinal scale (e.g., serum levels of prostate-specific antigen; ventilation/perfusion scanning).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98360">
                <a:tc gridSpan="3">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 The GRADE approach is moving toward considering publication bias a GRADE principle domain.</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bl>
          </a:graphicData>
        </a:graphic>
      </p:graphicFrame>
      <p:sp>
        <p:nvSpPr>
          <p:cNvPr id="176" name="TextBox 1"/>
          <p:cNvSpPr/>
          <p:nvPr/>
        </p:nvSpPr>
        <p:spPr>
          <a:xfrm>
            <a:off x="304920" y="54864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dditional GRADE Domains and Descriptions (2 of 2)</a:t>
            </a:r>
            <a:endParaRPr b="1" lang="en-US" sz="2400" spc="-1" strike="noStrike">
              <a:solidFill>
                <a:srgbClr val="ffffff"/>
              </a:solidFill>
              <a:latin typeface="Trebuchet MS"/>
            </a:endParaRPr>
          </a:p>
        </p:txBody>
      </p:sp>
      <p:graphicFrame>
        <p:nvGraphicFramePr>
          <p:cNvPr id="178" name=""/>
          <p:cNvGraphicFramePr/>
          <p:nvPr/>
        </p:nvGraphicFramePr>
        <p:xfrm>
          <a:off x="457200" y="1295280"/>
          <a:ext cx="8229600" cy="4259520"/>
        </p:xfrm>
        <a:graphic>
          <a:graphicData uri="http://schemas.openxmlformats.org/drawingml/2006/table">
            <a:tbl>
              <a:tblPr/>
              <a:tblGrid>
                <a:gridCol w="1165320"/>
                <a:gridCol w="2330280"/>
                <a:gridCol w="4734000"/>
              </a:tblGrid>
              <a:tr h="396360">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 Diagnostic Test Performance </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6360">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lausible unmeasured confounding and bias that would  decrease an observed effect or increase an effect if none was observed </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Occasionally, in an observational study, plausible confounding factors would work in the direction opposite to that of the observed effect. Had these confounders not been present, the observed effect would have larger. In such a case, the evidence can be upgraded</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impact of plausible unmeasured confounders may be relevant to testing strategies that predict outcomes. A study may be biased to find low diagnostic accuracy via spectrum bias and yet despite this find very high diagnostic accuracy.</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60680">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Strength of association (magnitude of effect)</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rength of association refers to the likelihood that the observed effect or association is large enough that it cannot have occurred solely as a result of bias from potential confounding factors.</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strength of association may be relevant when comparing the accuracy of two different medical tests with one being more accurate than the other. </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t is possible that the accuracy of a test is better than the reference standard because of an imperfect reference standard. It is important to consider this and modify the analysis to take into consideration alternative assumptions about the best reference standard.</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9" name="TextBox 1"/>
          <p:cNvSpPr/>
          <p:nvPr/>
        </p:nvSpPr>
        <p:spPr>
          <a:xfrm>
            <a:off x="380880" y="57150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ength-of-evidence grades reflect a global assessment of principle and associated domains.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assessment should generate an overall summary grade (high, moderate, low, or insufficient evidence).</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cus on providing an overall grade for the relevant Key Question link in the analytical chain or in outcomes relevant to patients/decisionmaker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outcomes should be identified beforehan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 how to incorporate multiple domains into the overall assessment.</a:t>
            </a:r>
            <a:endParaRPr b="0" lang="en-US" sz="2200" spc="-1" strike="noStrike">
              <a:solidFill>
                <a:srgbClr val="ffffff"/>
              </a:solidFill>
              <a:latin typeface="Trebuchet MS"/>
            </a:endParaRPr>
          </a:p>
        </p:txBody>
      </p:sp>
      <p:sp>
        <p:nvSpPr>
          <p:cNvPr id="181" name="PlaceHolder 1"/>
          <p:cNvSpPr>
            <a:spLocks noGrp="1"/>
          </p:cNvSpPr>
          <p:nvPr>
            <p:ph type="title"/>
          </p:nvPr>
        </p:nvSpPr>
        <p:spPr>
          <a:xfrm>
            <a:off x="38052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Principle 5: Multiple Domains Should Be Incorporated Into an Overall Assessment in a Transparent Way (1 of 2)</a:t>
            </a:r>
            <a:endParaRPr b="1" lang="en-US" sz="2500" spc="-1" strike="noStrike">
              <a:solidFill>
                <a:srgbClr val="ffffff"/>
              </a:solidFill>
              <a:latin typeface="Trebuchet MS"/>
            </a:endParaRPr>
          </a:p>
        </p:txBody>
      </p:sp>
      <p:sp>
        <p:nvSpPr>
          <p:cNvPr id="182"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value of grading the bodies of evidence that influence decisionmaking. </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required domains involved in assessing strength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challenges specific to grading the strength of a body of evidence on medical test performance.</a:t>
            </a:r>
            <a:endParaRPr b="0" lang="en-US" sz="24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2" name="TextBox 1"/>
          <p:cNvSpPr/>
          <p:nvPr/>
        </p:nvSpPr>
        <p:spPr>
          <a:xfrm>
            <a:off x="68580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 is no empirical evidence for a difference between assigning grades based on qualitative versus quantitative approache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GRADE approach</a:t>
            </a:r>
            <a:endParaRPr b="0" lang="en-US" sz="21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ordinal rankings are high </a:t>
            </a:r>
            <a:r>
              <a:rPr b="0" lang="en-US" sz="1900" spc="-1" strike="noStrike">
                <a:solidFill>
                  <a:srgbClr val="ffffff"/>
                </a:solidFill>
                <a:latin typeface="Symbol"/>
                <a:ea typeface="Symbol"/>
              </a:rPr>
              <a:t></a:t>
            </a:r>
            <a:r>
              <a:rPr b="0" lang="en-US" sz="1900" spc="-1" strike="noStrike">
                <a:solidFill>
                  <a:srgbClr val="ffffff"/>
                </a:solidFill>
                <a:latin typeface="Trebuchet MS"/>
              </a:rPr>
              <a:t> moderate </a:t>
            </a:r>
            <a:r>
              <a:rPr b="0" lang="en-US" sz="1900" spc="-1" strike="noStrike">
                <a:solidFill>
                  <a:srgbClr val="ffffff"/>
                </a:solidFill>
                <a:latin typeface="Symbol"/>
                <a:ea typeface="Symbol"/>
              </a:rPr>
              <a:t></a:t>
            </a:r>
            <a:r>
              <a:rPr b="0" lang="en-US" sz="1900" spc="-1" strike="noStrike">
                <a:solidFill>
                  <a:srgbClr val="ffffff"/>
                </a:solidFill>
                <a:latin typeface="Trebuchet MS"/>
              </a:rPr>
              <a:t> low </a:t>
            </a:r>
            <a:r>
              <a:rPr b="0" lang="en-US" sz="1900" spc="-1" strike="noStrike">
                <a:solidFill>
                  <a:srgbClr val="ffffff"/>
                </a:solidFill>
                <a:latin typeface="Symbol"/>
                <a:ea typeface="Symbol"/>
              </a:rPr>
              <a:t></a:t>
            </a:r>
            <a:r>
              <a:rPr b="0" lang="en-US" sz="1900" spc="-1" strike="noStrike">
                <a:solidFill>
                  <a:srgbClr val="ffffff"/>
                </a:solidFill>
                <a:latin typeface="Trebuchet MS"/>
              </a:rPr>
              <a:t> very low.</a:t>
            </a:r>
            <a:endParaRPr b="0" lang="en-US" sz="19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se grades/overall rankings were developed using the eight GRADE domains.</a:t>
            </a:r>
            <a:endParaRPr b="0" lang="en-US" sz="19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EPC approach</a:t>
            </a:r>
            <a:endParaRPr b="0" lang="en-US" sz="21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approach allows greater flexibility in grading.</a:t>
            </a:r>
            <a:endParaRPr b="0" lang="en-US" sz="19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Whichever approach is used, the rationale for weighting the domains in assigning summary grades should be described.</a:t>
            </a:r>
            <a:endParaRPr b="0" lang="en-US" sz="2300" spc="-1" strike="noStrike">
              <a:solidFill>
                <a:srgbClr val="ffffff"/>
              </a:solidFill>
              <a:latin typeface="Trebuchet MS"/>
            </a:endParaRPr>
          </a:p>
        </p:txBody>
      </p:sp>
      <p:sp>
        <p:nvSpPr>
          <p:cNvPr id="184"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Principle 5: Multiple Domains Should Be Incorporated Into an Overall Assessment in a Transparent Way (2 of 2)</a:t>
            </a:r>
            <a:endParaRPr b="1" lang="en-US" sz="2500" spc="-1" strike="noStrike">
              <a:solidFill>
                <a:srgbClr val="ffffff"/>
              </a:solidFill>
              <a:latin typeface="Trebuchet MS"/>
            </a:endParaRPr>
          </a:p>
        </p:txBody>
      </p:sp>
      <p:sp>
        <p:nvSpPr>
          <p:cNvPr id="185"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pproach to Evidence Grading</a:t>
            </a:r>
            <a:endParaRPr b="1" lang="en-US" sz="2800" spc="-1" strike="noStrike">
              <a:solidFill>
                <a:srgbClr val="ffffff"/>
              </a:solidFill>
              <a:latin typeface="Trebuchet MS"/>
            </a:endParaRPr>
          </a:p>
        </p:txBody>
      </p:sp>
      <p:pic>
        <p:nvPicPr>
          <p:cNvPr id="187" name="Diagram 1" descr="This figure lists the steps in grading a body of evidence on diagnostic test accuracy outcomes. It is adapted from the GRADE (Grading of Recommendations Assessment, Development, and Evaluation) approach and the EPC (Evidence-based Practice Center) approach as described in the Methods Guide for Effectiveness and Comparative Effectiveness Reviews. The steps include: (1) carefully consider which accuracy outcomes link most directly to clinical outcomes, (2) independently score the body of evidence (two reviewers are needed), (3) consider the seven principle strength-of-evidence domains, (4) asses the domains explicitly, (5) resolve differences in domain scores and grades of strength, and (6) assign a single summary grade for each body of evidence."/>
          <p:cNvPicPr/>
          <p:nvPr/>
        </p:nvPicPr>
        <p:blipFill>
          <a:blip r:embed="rId1"/>
          <a:stretch/>
        </p:blipFill>
        <p:spPr>
          <a:xfrm>
            <a:off x="228600" y="1219320"/>
            <a:ext cx="6324480" cy="5100480"/>
          </a:xfrm>
          <a:prstGeom prst="rect">
            <a:avLst/>
          </a:prstGeom>
          <a:ln w="0">
            <a:noFill/>
          </a:ln>
        </p:spPr>
      </p:pic>
      <p:sp>
        <p:nvSpPr>
          <p:cNvPr id="188" name="TextBox 1"/>
          <p:cNvSpPr/>
          <p:nvPr/>
        </p:nvSpPr>
        <p:spPr>
          <a:xfrm>
            <a:off x="6553080" y="4632480"/>
            <a:ext cx="2514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 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en grading a body of evidence on diagnostic test accuracy, carefully consider which accuracy outcomes are linked to clinical outcomes</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number of false-positive results are important when the diagnostic test is followed by an invasive procedur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itive predictive value, negative predictive value, and likelihood ratios also important when the test is part of a management strategy.</a:t>
            </a:r>
            <a:endParaRPr b="0" lang="en-US" sz="2400" spc="-1" strike="noStrike">
              <a:solidFill>
                <a:srgbClr val="ffffff"/>
              </a:solidFill>
              <a:latin typeface="Trebuchet MS"/>
            </a:endParaRPr>
          </a:p>
        </p:txBody>
      </p:sp>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1 of 6)</a:t>
            </a:r>
            <a:endParaRPr b="1" lang="en-US" sz="2800" spc="-1" strike="noStrike">
              <a:solidFill>
                <a:srgbClr val="ffffff"/>
              </a:solidFill>
              <a:latin typeface="Trebuchet MS"/>
            </a:endParaRPr>
          </a:p>
        </p:txBody>
      </p:sp>
      <p:sp>
        <p:nvSpPr>
          <p:cNvPr id="19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2 of 6)</a:t>
            </a:r>
            <a:endParaRPr b="1" lang="en-US" sz="2800" spc="-1" strike="noStrike">
              <a:solidFill>
                <a:srgbClr val="ffffff"/>
              </a:solidFill>
              <a:latin typeface="Trebuchet MS"/>
            </a:endParaRPr>
          </a:p>
        </p:txBody>
      </p:sp>
      <p:graphicFrame>
        <p:nvGraphicFramePr>
          <p:cNvPr id="193" name=""/>
          <p:cNvGraphicFramePr/>
          <p:nvPr/>
        </p:nvGraphicFramePr>
        <p:xfrm>
          <a:off x="457200" y="1600200"/>
          <a:ext cx="8229600" cy="2209680"/>
        </p:xfrm>
        <a:graphic>
          <a:graphicData uri="http://schemas.openxmlformats.org/drawingml/2006/table">
            <a:tbl>
              <a:tblPr/>
              <a:tblGrid>
                <a:gridCol w="880920"/>
                <a:gridCol w="882720"/>
                <a:gridCol w="660600"/>
                <a:gridCol w="734760"/>
                <a:gridCol w="514440"/>
                <a:gridCol w="662040"/>
                <a:gridCol w="587520"/>
                <a:gridCol w="587160"/>
                <a:gridCol w="588960"/>
                <a:gridCol w="1174680"/>
                <a:gridCol w="955800"/>
              </a:tblGrid>
              <a:tr h="210240">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utcom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Quantity and Type</a:t>
                      </a:r>
                      <a:br>
                        <a:rPr sz="1200"/>
                      </a:br>
                      <a:r>
                        <a:rPr b="1" lang="en-US" sz="1200" spc="-1" strike="noStrike">
                          <a:solidFill>
                            <a:srgbClr val="000000"/>
                          </a:solidFill>
                          <a:latin typeface="Palatino Linotype"/>
                        </a:rPr>
                        <a:t>of Evidenc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Findin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tarting Grade</a:t>
                      </a:r>
                      <a:endParaRPr b="0" lang="en-US" sz="1200" spc="-1" strike="noStrike">
                        <a:solidFill>
                          <a:srgbClr val="000000"/>
                        </a:solidFill>
                        <a:latin typeface="Palatino Linotype"/>
                      </a:endParaRPr>
                    </a:p>
                  </a:txBody>
                  <a:tcPr anchor="ctr" marL="8640" marR="8640">
                    <a:lnL w="5760">
                      <a:solidFill>
                        <a:srgbClr val="ffffff"/>
                      </a:solidFill>
                    </a:lnL>
                    <a:lnR w="18720">
                      <a:solidFill>
                        <a:srgbClr val="ffffff"/>
                      </a:solidFill>
                    </a:lnR>
                    <a:lnT w="5760">
                      <a:solidFill>
                        <a:srgbClr val="ffffff"/>
                      </a:solidFill>
                    </a:lnT>
                    <a:lnB w="18720">
                      <a:solidFill>
                        <a:srgbClr val="ffffff"/>
                      </a:solidFill>
                    </a:lnB>
                    <a:solidFill>
                      <a:srgbClr val="dde3ee"/>
                    </a:solidFill>
                  </a:tcPr>
                </a:tc>
                <a:tc gridSpan="5">
                  <a:txBody>
                    <a:bodyPr lIns="8640" rIns="8640" tIns="0" bIns="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crease GRAD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GRADE</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f Evidence     for Outcome</a:t>
                      </a:r>
                      <a:endParaRPr b="0" lang="en-US" sz="1200" spc="-1" strike="noStrike">
                        <a:solidFill>
                          <a:srgbClr val="000000"/>
                        </a:solidFill>
                        <a:latin typeface="Palatino Linotype"/>
                      </a:endParaRPr>
                    </a:p>
                  </a:txBody>
                  <a:tcPr anchor="ctr" marL="8640" marR="8640">
                    <a:lnL w="1872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verall GRAD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9129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B</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1872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CON</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IR</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R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UB</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18720">
                      <a:solidFill>
                        <a:srgbClr val="ffffff"/>
                      </a:solidFill>
                    </a:lnR>
                    <a:lnT w="1872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2012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ensitivity*</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 </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68%</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rowSpan="4">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pecificity</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 </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99%</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PV</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97%</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NPV</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82%</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bl>
          </a:graphicData>
        </a:graphic>
      </p:graphicFrame>
      <p:sp>
        <p:nvSpPr>
          <p:cNvPr id="194" name="Rectangle 2"/>
          <p:cNvSpPr/>
          <p:nvPr/>
        </p:nvSpPr>
        <p:spPr>
          <a:xfrm>
            <a:off x="228600" y="3886200"/>
            <a:ext cx="8610480" cy="20739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ata taken from MacCannell T, Umscheid CA, Agarwal RK, et al. Infect Control Hosp Epidemiol 2011 Oct;32(10): 939-69. PMID: 21931246. </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These outcomes were considered the most critical by the guideline developers. Data taken from Turcios RM, Widdowson MA, Sulka AC, et al. Clin Infect Dis 2006 Apr 1;42(7):964-9. PMID: 16511760.</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These modifiers can impact the GRADE rating by 1 or 2 points. Data taken from Turcios et al. (2011). </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 </a:t>
            </a:r>
            <a:r>
              <a:rPr b="0" lang="en-US" sz="1300" spc="-1" strike="noStrike">
                <a:solidFill>
                  <a:srgbClr val="ffffff"/>
                </a:solidFill>
                <a:latin typeface="Arial"/>
                <a:ea typeface="Arial"/>
              </a:rPr>
              <a:t>If applicable, consider the additional domains of strength of association, dose-response, and impact of plausible</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confounders.</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N = consistency; DIAG = diagnostic test; DIR = directness; GRADE = Grading of Recommendations Assessment, Development, and Evaluation; NPV = negative predictive value; PPV = positive predictive value; PRE = precision;   PUB = publication bias; RB = risk of bias</a:t>
            </a:r>
            <a:endParaRPr b="0" lang="en-US" sz="1300" spc="-1" strike="noStrike">
              <a:solidFill>
                <a:srgbClr val="000000"/>
              </a:solidFill>
              <a:latin typeface="Palatino Linotype"/>
            </a:endParaRPr>
          </a:p>
        </p:txBody>
      </p:sp>
      <p:sp>
        <p:nvSpPr>
          <p:cNvPr id="195" name="Rectangle 3"/>
          <p:cNvSpPr/>
          <p:nvPr/>
        </p:nvSpPr>
        <p:spPr>
          <a:xfrm>
            <a:off x="457200" y="114300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Identifying Norovirus Infection in a Health Care Setting</a:t>
            </a:r>
            <a:endParaRPr b="0" lang="en-US" sz="1800" spc="-1" strike="noStrike">
              <a:solidFill>
                <a:srgbClr val="000000"/>
              </a:solidFill>
              <a:latin typeface="Palatino Linotype"/>
            </a:endParaRPr>
          </a:p>
        </p:txBody>
      </p:sp>
      <p:sp>
        <p:nvSpPr>
          <p:cNvPr id="196" name="TextBox 1"/>
          <p:cNvSpPr/>
          <p:nvPr/>
        </p:nvSpPr>
        <p:spPr>
          <a:xfrm>
            <a:off x="152280" y="6019920"/>
            <a:ext cx="8839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r>
              <a:rPr b="0" lang="en-US" sz="1300" spc="-1" strike="noStrike">
                <a:solidFill>
                  <a:srgbClr val="ffffff"/>
                </a:solidFill>
                <a:latin typeface="Arial"/>
                <a:ea typeface="Arial"/>
              </a:rPr>
              <a:t>.</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example concerns accuracy unrelated to outcomes when the test is part of a treatment versus watchful-waiting algorithm.</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review was conducted on the use of noninvasive imaging in addition to a standard workup after detection of a breast lesion.</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udies were intended to triage women into three groups: </a:t>
            </a:r>
            <a:r>
              <a:rPr b="0" lang="ja-JP" sz="1900" spc="-1" strike="noStrike">
                <a:solidFill>
                  <a:srgbClr val="ffffff"/>
                </a:solidFill>
                <a:latin typeface="Trebuchet MS"/>
              </a:rPr>
              <a:t>“</a:t>
            </a:r>
            <a:r>
              <a:rPr b="0" lang="en-US" sz="1900" spc="-1" strike="noStrike">
                <a:solidFill>
                  <a:srgbClr val="ffffff"/>
                </a:solidFill>
                <a:latin typeface="Trebuchet MS"/>
              </a:rPr>
              <a:t>biopsy,</a:t>
            </a:r>
            <a:r>
              <a:rPr b="0" lang="ja-JP" sz="1900" spc="-1" strike="noStrike">
                <a:solidFill>
                  <a:srgbClr val="ffffff"/>
                </a:solidFill>
                <a:latin typeface="Trebuchet MS"/>
              </a:rPr>
              <a:t>”</a:t>
            </a:r>
            <a:r>
              <a:rPr b="0" lang="en-US" sz="1900" spc="-1" strike="noStrike">
                <a:solidFill>
                  <a:srgbClr val="ffffff"/>
                </a:solidFill>
                <a:latin typeface="Trebuchet MS"/>
              </a:rPr>
              <a:t> </a:t>
            </a:r>
            <a:r>
              <a:rPr b="0" lang="ja-JP" sz="1900" spc="-1" strike="noStrike">
                <a:solidFill>
                  <a:srgbClr val="ffffff"/>
                </a:solidFill>
                <a:latin typeface="Trebuchet MS"/>
              </a:rPr>
              <a:t>“</a:t>
            </a:r>
            <a:r>
              <a:rPr b="0" lang="en-US" sz="1900" spc="-1" strike="noStrike">
                <a:solidFill>
                  <a:srgbClr val="ffffff"/>
                </a:solidFill>
                <a:latin typeface="Trebuchet MS"/>
              </a:rPr>
              <a:t>watchful waiting,</a:t>
            </a:r>
            <a:r>
              <a:rPr b="0" lang="ja-JP" sz="1900" spc="-1" strike="noStrike">
                <a:solidFill>
                  <a:srgbClr val="ffffff"/>
                </a:solidFill>
                <a:latin typeface="Trebuchet MS"/>
              </a:rPr>
              <a:t>”</a:t>
            </a:r>
            <a:r>
              <a:rPr b="0" lang="en-US" sz="1900" spc="-1" strike="noStrike">
                <a:solidFill>
                  <a:srgbClr val="ffffff"/>
                </a:solidFill>
                <a:latin typeface="Trebuchet MS"/>
              </a:rPr>
              <a:t>, or </a:t>
            </a:r>
            <a:r>
              <a:rPr b="0" lang="ja-JP" sz="1900" spc="-1" strike="noStrike">
                <a:solidFill>
                  <a:srgbClr val="ffffff"/>
                </a:solidFill>
                <a:latin typeface="Trebuchet MS"/>
              </a:rPr>
              <a:t>“</a:t>
            </a:r>
            <a:r>
              <a:rPr b="0" lang="en-US" sz="1900" spc="-1" strike="noStrike">
                <a:solidFill>
                  <a:srgbClr val="ffffff"/>
                </a:solidFill>
                <a:latin typeface="Trebuchet MS"/>
              </a:rPr>
              <a:t>return to normal screening intervals.</a:t>
            </a:r>
            <a:r>
              <a:rPr b="0" lang="ja-JP" sz="1900" spc="-1" strike="noStrike">
                <a:solidFill>
                  <a:srgbClr val="ffffff"/>
                </a:solidFill>
                <a:latin typeface="Trebuchet MS"/>
              </a:rPr>
              <a:t>”</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lthough the accuracy of the exact diagnosis was low, clinical management was the same. </a:t>
            </a:r>
            <a:endParaRPr b="0" lang="en-US" sz="1900" spc="-1" strike="noStrike">
              <a:solidFill>
                <a:srgbClr val="ffffff"/>
              </a:solidFill>
              <a:latin typeface="Trebuchet MS"/>
            </a:endParaRPr>
          </a:p>
          <a:p>
            <a:pPr lvl="2" marL="1095480" indent="-29232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finding holds true if the post-test probability does not cross the decision management threshold.</a:t>
            </a:r>
            <a:endParaRPr b="0" lang="en-US" sz="1700" spc="-1" strike="noStrike">
              <a:solidFill>
                <a:srgbClr val="ffffff"/>
              </a:solidFill>
              <a:latin typeface="Trebuchet MS"/>
            </a:endParaRPr>
          </a:p>
          <a:p>
            <a:pPr lvl="2" marL="1095480" indent="-29232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t shows need to evaluate the surrogate measure in the context of the clinical outcome.</a:t>
            </a:r>
            <a:endParaRPr b="0" lang="en-US" sz="17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3 of 6)</a:t>
            </a:r>
            <a:endParaRPr b="1" lang="en-US" sz="2800" spc="-1" strike="noStrike">
              <a:solidFill>
                <a:srgbClr val="ffffff"/>
              </a:solidFill>
              <a:latin typeface="Trebuchet MS"/>
            </a:endParaRPr>
          </a:p>
        </p:txBody>
      </p:sp>
      <p:sp>
        <p:nvSpPr>
          <p:cNvPr id="199" name="TextBox 1"/>
          <p:cNvSpPr/>
          <p:nvPr/>
        </p:nvSpPr>
        <p:spPr>
          <a:xfrm>
            <a:off x="83808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ruening W, Uhl S, Fontanarosa J, et al. Comparative Effectiveness Review No. 47. Available at</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www.ncbi.nlm.nih.gov/books/NBK84530/pdf/TOC.pdf.</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wo reviewers should independently score the major outcomes and comparisons within each Key Question.</a:t>
            </a:r>
            <a:endParaRPr b="0" lang="en-US" sz="2300" spc="-1" strike="noStrike">
              <a:solidFill>
                <a:srgbClr val="ffffff"/>
              </a:solidFill>
              <a:latin typeface="Trebuchet MS"/>
            </a:endParaRPr>
          </a:p>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ach reviewer should assess each of the following domains to grade each outcome:</a:t>
            </a:r>
            <a:endParaRPr b="0" lang="en-US" sz="23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rectnes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recision</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sistency</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isk of bia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ublication bias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ose-response association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trength of association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mpact of unmeasured confounders (as needed)</a:t>
            </a:r>
            <a:endParaRPr b="0" lang="en-US" sz="21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4 of 6)</a:t>
            </a:r>
            <a:endParaRPr b="1" lang="en-US" sz="2800" spc="-1" strike="noStrike">
              <a:solidFill>
                <a:srgbClr val="ffffff"/>
              </a:solidFill>
              <a:latin typeface="Trebuchet MS"/>
            </a:endParaRPr>
          </a:p>
        </p:txBody>
      </p:sp>
      <p:sp>
        <p:nvSpPr>
          <p:cNvPr id="202"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outcomes reviewers choose as critical affect how the domains of directness, precision, and consistency are graded.</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comparison of multisplice coronary computed tomography scans versus coronary angiography:</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ue-positive, true-negative, and false-positive results were considered direct evidence.</a:t>
            </a:r>
            <a:endParaRPr b="0" lang="en-US" sz="1800" spc="-1" strike="noStrike">
              <a:solidFill>
                <a:srgbClr val="ffffff"/>
              </a:solidFill>
              <a:latin typeface="Trebuchet MS"/>
            </a:endParaRPr>
          </a:p>
          <a:p>
            <a:pPr lvl="3" marL="14986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was little uncertainty about the clinical implications of these results.</a:t>
            </a:r>
            <a:endParaRPr b="0" lang="en-US" sz="16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lse-negative results were considered indirect evidence.</a:t>
            </a:r>
            <a:endParaRPr b="0" lang="en-US" sz="1800" spc="-1" strike="noStrike">
              <a:solidFill>
                <a:srgbClr val="ffffff"/>
              </a:solidFill>
              <a:latin typeface="Trebuchet MS"/>
            </a:endParaRPr>
          </a:p>
          <a:p>
            <a:pPr lvl="3" marL="14986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was uncertainty about the clinical implications of these results.</a:t>
            </a:r>
            <a:endParaRPr b="0" lang="en-US" sz="16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overall results were: a </a:t>
            </a:r>
            <a:r>
              <a:rPr b="0" lang="ja-JP" sz="1800" spc="-1" strike="noStrike">
                <a:solidFill>
                  <a:srgbClr val="ffffff"/>
                </a:solidFill>
                <a:latin typeface="Trebuchet MS"/>
              </a:rPr>
              <a:t>“</a:t>
            </a:r>
            <a:r>
              <a:rPr b="0" lang="en-US" sz="1800" spc="-1" strike="noStrike">
                <a:solidFill>
                  <a:srgbClr val="ffffff"/>
                </a:solidFill>
                <a:latin typeface="Trebuchet MS"/>
              </a:rPr>
              <a:t>low</a:t>
            </a:r>
            <a:r>
              <a:rPr b="0" lang="ja-JP" sz="1800" spc="-1" strike="noStrike">
                <a:solidFill>
                  <a:srgbClr val="ffffff"/>
                </a:solidFill>
                <a:latin typeface="Trebuchet MS"/>
              </a:rPr>
              <a:t>”</a:t>
            </a:r>
            <a:r>
              <a:rPr b="0" lang="en-US" sz="1800" spc="-1" strike="noStrike">
                <a:solidFill>
                  <a:srgbClr val="ffffff"/>
                </a:solidFill>
                <a:latin typeface="Trebuchet MS"/>
              </a:rPr>
              <a:t> strength-of-evidence grade for false-negative results, and a “moderate” strength-of-evidence grade for other accuracy outcomes.</a:t>
            </a:r>
            <a:endParaRPr b="0" lang="en-US" sz="18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5 of 6)</a:t>
            </a:r>
            <a:endParaRPr b="1" lang="en-US" sz="2800" spc="-1" strike="noStrike">
              <a:solidFill>
                <a:srgbClr val="ffffff"/>
              </a:solidFill>
              <a:latin typeface="Trebuchet MS"/>
            </a:endParaRPr>
          </a:p>
        </p:txBody>
      </p:sp>
      <p:sp>
        <p:nvSpPr>
          <p:cNvPr id="205" name="TextBox 1"/>
          <p:cNvSpPr/>
          <p:nvPr/>
        </p:nvSpPr>
        <p:spPr>
          <a:xfrm>
            <a:off x="838080" y="5715000"/>
            <a:ext cx="77724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chunemann HJ, Oxman AD, Brozek J, et al. BMJ 2008 May 17;336(7653):1106-10. PMID: 18483053.</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reasonable to consider either:</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more flexible qualitative approach to grading</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tandard ordinal approach (ranging from high to insufficient strength of evidence)</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olve differences in domain assessments and outcome grade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e how the consensus score was reached (e.g., discussion, third-party adjudication).</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rive at a single summary grade through transparent and systematic method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the impact of various accuracy outcomes on the overall strength-of-evidence grad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 which of these outcomes are </a:t>
            </a:r>
            <a:r>
              <a:rPr b="0" lang="ja-JP" sz="2000" spc="-1" strike="noStrike">
                <a:solidFill>
                  <a:srgbClr val="ffffff"/>
                </a:solidFill>
                <a:latin typeface="Trebuchet MS"/>
              </a:rPr>
              <a:t>“</a:t>
            </a:r>
            <a:r>
              <a:rPr b="0" lang="en-US" sz="2000" spc="-1" strike="noStrike">
                <a:solidFill>
                  <a:srgbClr val="ffffff"/>
                </a:solidFill>
                <a:latin typeface="Trebuchet MS"/>
              </a:rPr>
              <a:t>key.”</a:t>
            </a:r>
            <a:endParaRPr b="0" lang="en-US" sz="20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6 of 6)</a:t>
            </a:r>
            <a:endParaRPr b="1" lang="en-US" sz="2800" spc="-1" strike="noStrike">
              <a:solidFill>
                <a:srgbClr val="ffffff"/>
              </a:solidFill>
              <a:latin typeface="Trebuchet MS"/>
            </a:endParaRPr>
          </a:p>
        </p:txBody>
      </p:sp>
      <p:sp>
        <p:nvSpPr>
          <p:cNvPr id="208"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greatest challenge is assessing multiple links in a chain of evidence connecting test performance to changes in clinical outcomes.</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module focused on diagnostic test performance, a crucial link in the chain.</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No one system for grading the strength of evidence for diagnostic tests has been shown to be superior to any other; many are still early in development.</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eviews are made more useful to decisionmakers by: </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pplying the consistent and transparent system of grading using the discussed domain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iving an explicit rationale for the choice of grades based on these domains</a:t>
            </a:r>
            <a:endParaRPr b="0" lang="en-US" sz="1900" spc="-1" strike="noStrike">
              <a:solidFill>
                <a:srgbClr val="ffffff"/>
              </a:solidFill>
              <a:latin typeface="Trebuchet MS"/>
            </a:endParaRPr>
          </a:p>
        </p:txBody>
      </p:sp>
      <p:sp>
        <p:nvSpPr>
          <p:cNvPr id="210"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a:t>
            </a:r>
            <a:endParaRPr b="1" lang="en-US" sz="2800" spc="-1" strike="noStrike">
              <a:solidFill>
                <a:srgbClr val="ffffff"/>
              </a:solidFill>
              <a:latin typeface="Trebuchet MS"/>
            </a:endParaRPr>
          </a:p>
        </p:txBody>
      </p:sp>
      <p:sp>
        <p:nvSpPr>
          <p:cNvPr id="21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RADE (Grading of Recommendations Assessment, Development, and Evaluation) system can be used for diagnostic tes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outcomes to consider (if availabl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ffectivenes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m</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using intermediate accuracy outcomes, an analytic framework is necessary to:</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scribe how the test is related to clinical outcom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ineate the individual questions that can be answered</a:t>
            </a:r>
            <a:endParaRPr b="0" lang="en-US" sz="22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3)</a:t>
            </a:r>
            <a:endParaRPr b="1" lang="en-US" sz="2800" spc="-1" strike="noStrike">
              <a:solidFill>
                <a:srgbClr val="ffffff"/>
              </a:solidFill>
              <a:latin typeface="Trebuchet MS"/>
            </a:endParaRPr>
          </a:p>
        </p:txBody>
      </p:sp>
      <p:sp>
        <p:nvSpPr>
          <p:cNvPr id="214"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ding the strength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specific to diagnos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of grading the strength of a body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view</a:t>
            </a:r>
            <a:endParaRPr b="1" lang="en-US" sz="2800" spc="-1" strike="noStrike">
              <a:solidFill>
                <a:srgbClr val="ffffff"/>
              </a:solidFill>
              <a:latin typeface="Trebuchet MS"/>
            </a:endParaRPr>
          </a:p>
        </p:txBody>
      </p:sp>
      <p:sp>
        <p:nvSpPr>
          <p:cNvPr id="105" name="TextBox 1"/>
          <p:cNvSpPr/>
          <p:nvPr/>
        </p:nvSpPr>
        <p:spPr>
          <a:xfrm>
            <a:off x="685800" y="583236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can use these domains to grade the strength of evidence of a diagnostic tes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isk of bi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nes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stenc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cis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ublication bi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se-response associ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associ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usible unmeasured confounders</a:t>
            </a:r>
            <a:endParaRPr b="0" lang="en-US" sz="22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3)</a:t>
            </a:r>
            <a:endParaRPr b="1" lang="en-US" sz="2800" spc="-1" strike="noStrike">
              <a:solidFill>
                <a:srgbClr val="ffffff"/>
              </a:solidFill>
              <a:latin typeface="Trebuchet MS"/>
            </a:endParaRPr>
          </a:p>
        </p:txBody>
      </p:sp>
      <p:sp>
        <p:nvSpPr>
          <p:cNvPr id="217"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the test</a:t>
            </a:r>
            <a:r>
              <a:rPr b="0" lang="ja-JP" sz="2400" spc="-1" strike="noStrike">
                <a:solidFill>
                  <a:srgbClr val="ffffff"/>
                </a:solidFill>
                <a:latin typeface="Trebuchet MS"/>
              </a:rPr>
              <a:t>’</a:t>
            </a:r>
            <a:r>
              <a:rPr b="0" lang="en-US" sz="2400" spc="-1" strike="noStrike">
                <a:solidFill>
                  <a:srgbClr val="ffffff"/>
                </a:solidFill>
                <a:latin typeface="Trebuchet MS"/>
              </a:rPr>
              <a:t>s clinical context whe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lecting accuracy outcomes (i.e., sensitivity, specificity, positive predictive value, negative predictive value, true-positive/negative outcomes, and false-positive/negative outcom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termining the needed precision levels of these outcom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consider explaining:</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ationale for a particular summary grade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mains that were weighted the most in assigning the grade</a:t>
            </a:r>
            <a:endParaRPr b="0" lang="en-US" sz="22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3 of 3)</a:t>
            </a:r>
            <a:endParaRPr b="1" lang="en-US" sz="2800" spc="-1" strike="noStrike">
              <a:solidFill>
                <a:srgbClr val="ffffff"/>
              </a:solidFill>
              <a:latin typeface="Trebuchet MS"/>
            </a:endParaRPr>
          </a:p>
        </p:txBody>
      </p:sp>
      <p:sp>
        <p:nvSpPr>
          <p:cNvPr id="220"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summary receiver operating characteristic (ROC) curve can be used to assess consistency of diagnostic accuracy among studies.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 ROC curve can display the sensitivity and specificity results from various studies. This offers a helpful visual to assess consistency or homogeneity in the direction and magnitude of results across different studies.</a:t>
            </a:r>
            <a:endParaRPr b="0" lang="en-US" sz="24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diagnostic tests are used as a triage test to other more invasive tests, there is a direct link between the accuracy of a diagnostic test and clinical outcom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Diagnostic tests are often used in triage or as part of a decision tree. In that case, the accuracy of risk classification is more important than the accuracy of diagnosis. The triage test is not linked directly to the clinical outcome.</a:t>
            </a:r>
            <a:endParaRPr b="0" lang="en-US" sz="24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the question is asking about the effect of testing on clinical outcomes, then a body of evidence that measures sensitivity and specificity as the outcomes should be considered indirec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Sensitivity and specificity are considered intermediate outcomes, or accuracy outcomes, that are used to assess diagnostic tests. They are considered indirect evidence of clinical outcomes.</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preferable to use a quantitative approach to assigning grades when feasible as opposed to using a qualitative approa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re is no empirical evidence of a difference between quantitative and qualitative approaches to assigning grades.</a:t>
            </a:r>
            <a:endParaRPr b="0" lang="en-US" sz="2400" spc="-1" strike="noStrike">
              <a:solidFill>
                <a:srgbClr val="ffffff"/>
              </a:solidFill>
              <a:latin typeface="Trebuchet MS"/>
            </a:endParaRPr>
          </a:p>
        </p:txBody>
      </p:sp>
      <p:sp>
        <p:nvSpPr>
          <p:cNvPr id="2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ffffff"/>
                </a:solidFill>
                <a:latin typeface="Trebuchet MS"/>
              </a:rPr>
              <a:t>“</a:t>
            </a:r>
            <a:r>
              <a:rPr b="0" lang="en-US" sz="2300" spc="-1" strike="noStrike">
                <a:solidFill>
                  <a:srgbClr val="ffffff"/>
                </a:solidFill>
                <a:latin typeface="Trebuchet MS"/>
              </a:rPr>
              <a:t>Grading</a:t>
            </a:r>
            <a:r>
              <a:rPr b="0" lang="ja-JP" sz="2300" spc="-1" strike="noStrike">
                <a:solidFill>
                  <a:srgbClr val="ffffff"/>
                </a:solidFill>
                <a:latin typeface="Trebuchet MS"/>
              </a:rPr>
              <a:t>”</a:t>
            </a:r>
            <a:r>
              <a:rPr b="0" lang="en-US" sz="2300" spc="-1" strike="noStrike">
                <a:solidFill>
                  <a:srgbClr val="ffffff"/>
                </a:solidFill>
                <a:latin typeface="Trebuchet MS"/>
              </a:rPr>
              <a:t> refers to assessment of the strength of the body of evidence supporting a given statement or conclusion.</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does not refer to the quality of an individual study.</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rading allows decisionmakers know if they are working with bodies of evidence that are of high, moderate, or low strength.</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makes their recommendations about interventions/tests more defensible.</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is module focuses on grading diagnostic tests (used in diagnostic and management strategies), not prognostic tests (predict responsiveness to treatment).</a:t>
            </a:r>
            <a:endParaRPr b="0" lang="en-US" sz="23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1 of 4)</a:t>
            </a:r>
            <a:endParaRPr b="1" lang="en-US" sz="2800" spc="-1" strike="noStrike">
              <a:solidFill>
                <a:srgbClr val="ffffff"/>
              </a:solidFill>
              <a:latin typeface="Trebuchet MS"/>
            </a:endParaRPr>
          </a:p>
        </p:txBody>
      </p:sp>
      <p:sp>
        <p:nvSpPr>
          <p:cNvPr id="108" name="TextBox 1"/>
          <p:cNvSpPr/>
          <p:nvPr/>
        </p:nvSpPr>
        <p:spPr>
          <a:xfrm>
            <a:off x="685800" y="583236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2400" spc="-1" strike="noStrike">
              <a:solidFill>
                <a:srgbClr val="ffffff"/>
              </a:solidFill>
              <a:latin typeface="Trebuchet MS"/>
            </a:endParaRPr>
          </a:p>
        </p:txBody>
      </p:sp>
      <p:sp>
        <p:nvSpPr>
          <p:cNvPr id="2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kins D, Fink K, Slutsky J. Better information for better health care: the Evidence-based Practice Center Program and the Agency for Healthcare Research and Quality. Ann Intern Med 2005 Jun 21;142(12 Pt 2):1035-41. PMID: 1596802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lshem H, Helfand M, Schunemann HJ, et al. GRADE guidelines: 3. Rating the quality of evidence. J Clin Epidemiol 2011 Apr;64(4):401-6. PMID: 21208779.</a:t>
            </a:r>
            <a:endParaRPr b="0" lang="en-US" sz="2000" spc="-1" strike="noStrike">
              <a:solidFill>
                <a:srgbClr val="ffffff"/>
              </a:solidFill>
              <a:latin typeface="Trebuchet MS"/>
            </a:endParaRPr>
          </a:p>
        </p:txBody>
      </p:sp>
      <p:sp>
        <p:nvSpPr>
          <p:cNvPr id="2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 NBK45220/pdf/TOC.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2000" spc="-1" strike="noStrike">
              <a:solidFill>
                <a:srgbClr val="ffffff"/>
              </a:solidFill>
              <a:latin typeface="Trebuchet MS"/>
            </a:endParaRPr>
          </a:p>
        </p:txBody>
      </p:sp>
      <p:sp>
        <p:nvSpPr>
          <p:cNvPr id="2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uyatt GH, Oxman AD, Vist GE, et al; GRADE Working Group. GRADE: an emerging consensus on rating quality of evidence and strength of recommendations. BMJ 2008 Apr 26;336(7650):924-6. PMID: 18436948.</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tman KE, Matchar DB, Chang SM. Assessing applicability of medical test studies in systematic reviews. In: Chang SM and Matchar DB, eds. Methods guide for medical test reviews. Rockville, MD: Agency for Healthcare Research and Quality; June 2012. p. 6.1-13. AHRQ Publication No. 12-EHC017. Available at www.effectivehealthcare.ahrq.gov/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hr KN, Carey TS. Assessing "best evidence": issues in grading the quality of studies for systematic reviews. Jt Comm J Qual Improv 1999 Sep;25(9):470-9. PMID: 10481816.</a:t>
            </a:r>
            <a:endParaRPr b="0" lang="en-US" sz="2000" spc="-1" strike="noStrike">
              <a:solidFill>
                <a:srgbClr val="ffffff"/>
              </a:solidFill>
              <a:latin typeface="Trebuchet MS"/>
            </a:endParaRPr>
          </a:p>
        </p:txBody>
      </p:sp>
      <p:sp>
        <p:nvSpPr>
          <p:cNvPr id="2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192320"/>
            <a:ext cx="8229600" cy="4827600"/>
          </a:xfrm>
          <a:prstGeom prst="rect">
            <a:avLst/>
          </a:prstGeom>
          <a:noFill/>
          <a:ln w="0">
            <a:noFill/>
          </a:ln>
        </p:spPr>
        <p:txBody>
          <a:bodyPr lIns="0" rIns="0" tIns="0" bIns="0" anchor="t">
            <a:normAutofit fontScale="95000"/>
          </a:bodyPr>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rd SJ, Irwig L, Simes RJ. When is measuring sensitivity and specificity sufficient to evaluate a diagnostic test, and when do we need randomized trials? Ann Intern Med 2006 Jun 6;144(11):850-5. PMID: 16754927.</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cCannell T, Umscheid CA, Agarwal RK, et al; Healthcare Infection Control Practices Advisory Committee (HICPAC). Guideline for the prevention and control of norovirus gastroenteritis outbreaks in healthcare settings. Infect Control Hosp Epidemiol 2011 Oct;32(10):939-69. PMID: 21931246.</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chionni L, Wilson RF, Marinopoulos SS, et al. Impact of Gene Expression Profiling Tests on Breast Cancer Outcomes. Evidence Report/Technology Assessment No. 160 (Prepared by the Johns Hopkins University Evidence-based Practice Center Under Contract No. 290-02-0018). Rockville, MD: Agency for Healthcare Research and Quality; January 2008. AHRQ Publication No. 08-E002. Available at www.ncbi.nlm.nih.gov/books/NBK38448.</a:t>
            </a:r>
            <a:endParaRPr b="0" lang="en-US" sz="2000" spc="-1" strike="noStrike">
              <a:solidFill>
                <a:srgbClr val="ffffff"/>
              </a:solidFill>
              <a:latin typeface="Trebuchet MS"/>
            </a:endParaRPr>
          </a:p>
        </p:txBody>
      </p:sp>
      <p:sp>
        <p:nvSpPr>
          <p:cNvPr id="2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uker SG, Kassirer JP. The threshold approach to clinical decision making. N Engl J Med 1980 May 15;302(20):1109-17. PMID: 736663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oss SD, Allen IE, Harrison KJ, et al. Systematic Review of the Literature Regarding the Diagnosis of Sleep Apnea. Evidence Report/Technology Assessment No. 1 (Prepared by MetaWorks Inc. under Contract No. 290-97-0016). Rockville, MD: Agency for Health Care Policy and Research. February 1999. AHCPR Publication No. 99-E002. Available at www.ncbi.nlm.nih.gov/books/NBK32884.</a:t>
            </a:r>
            <a:endParaRPr b="0" lang="en-US" sz="2000" spc="-1" strike="noStrike">
              <a:solidFill>
                <a:srgbClr val="ffffff"/>
              </a:solidFill>
              <a:latin typeface="Trebuchet MS"/>
            </a:endParaRPr>
          </a:p>
        </p:txBody>
      </p:sp>
      <p:sp>
        <p:nvSpPr>
          <p:cNvPr id="2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chunemann HJ, Oxman AD, Brozek J, et al; GRADE Working Group. Grading quality of evidence and strength of recommendations for diagnostic tests and strategies. BMJ 2008 May 17;336(7653):1106-10. PMID: 18483053.</a:t>
            </a:r>
            <a:endParaRPr b="0" lang="en-US" sz="2000" spc="-1" strike="noStrike">
              <a:solidFill>
                <a:srgbClr val="ffffff"/>
              </a:solidFill>
              <a:latin typeface="Trebuchet MS"/>
            </a:endParaRPr>
          </a:p>
        </p:txBody>
      </p:sp>
      <p:sp>
        <p:nvSpPr>
          <p:cNvPr id="2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6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Choosing the important outcomes for a systematic review of a medical test. In: Chang SM and Matchar DB, eds. Methods guide for medical test reviews. Rockville, MD: Agency for Healthcare Research and Quality; June 2012. p. 3.1-13. AHRQ Publication No. 12-EHC017. Available at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Brotman DJ, Emadi A, et al. Outcomes of Genetic Testing in Adults With a History of Venous Thromboembolism. Evidence Report/Technology Assessment No. 180 (Prepared by the Johns Hopkins University Evidence-based Practice Center under Contract No. HHSA 290-2007-10061-I). Rockville, MD: Agency for Healthcare Research and Quality; June 2009. AHRQ Publication No. 09-E011. Available at www.ncbi.nlm.nih.gov/books/NBK44591/pdf/TOC.pdf.</a:t>
            </a:r>
            <a:endParaRPr b="0" lang="en-US" sz="2000" spc="-1" strike="noStrike">
              <a:solidFill>
                <a:srgbClr val="ffffff"/>
              </a:solidFill>
              <a:latin typeface="Trebuchet MS"/>
            </a:endParaRPr>
          </a:p>
        </p:txBody>
      </p:sp>
      <p:sp>
        <p:nvSpPr>
          <p:cNvPr id="2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7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 medtestsguide.cfm.</a:t>
            </a:r>
            <a:endParaRPr b="0" lang="en-US" sz="2000" spc="-1" strike="noStrike">
              <a:solidFill>
                <a:srgbClr val="ffffff"/>
              </a:solidFill>
              <a:latin typeface="Trebuchet MS"/>
            </a:endParaRPr>
          </a:p>
        </p:txBody>
      </p:sp>
      <p:sp>
        <p:nvSpPr>
          <p:cNvPr id="2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8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urcios RM, Widdowson MA, Sulka AC, et al. Reevaluation of epidemiological criteria for identifying outbreaks of acute gastroenteritis due to norovirus: United States, 1998–2000. Clin Infect Dis 2006 Apr 1;42(7):964-9. PMID: 16511760.</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9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18960"/>
            <a:ext cx="8229600" cy="4949640"/>
          </a:xfrm>
          <a:prstGeom prst="rect">
            <a:avLst/>
          </a:prstGeom>
          <a:noFill/>
          <a:ln w="0">
            <a:noFill/>
          </a:ln>
        </p:spPr>
        <p:txBody>
          <a:bodyPr lIns="0" rIns="0" tIns="0" bIns="0" anchor="t">
            <a:normAutofit/>
          </a:bodyPr>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re are two approaches to grading strength of evidence: </a:t>
            </a:r>
            <a:endParaRPr b="0" lang="en-US" sz="21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RADE (Grading of Recommendations Assessment, Development, and Evaluation) </a:t>
            </a:r>
            <a:endParaRPr b="0" lang="en-US" sz="19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PC (Evidence-based Practice Center), which is a derivation of GRADE</a:t>
            </a:r>
            <a:endParaRPr b="0" lang="en-US" sz="1900" spc="-1" strike="noStrike">
              <a:solidFill>
                <a:srgbClr val="ffffff"/>
              </a:solidFill>
              <a:latin typeface="Trebuchet MS"/>
            </a:endParaRPr>
          </a:p>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module discusses the EPC approach while pointing out the minor differences between it and GRADE.</a:t>
            </a:r>
            <a:endParaRPr b="0" lang="en-US" sz="2100" spc="-1" strike="noStrike">
              <a:solidFill>
                <a:srgbClr val="ffffff"/>
              </a:solidFill>
              <a:latin typeface="Trebuchet MS"/>
            </a:endParaRPr>
          </a:p>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important to differentiate between assessing the quality of an individual study and the strength of an entire body of evidence.</a:t>
            </a:r>
            <a:endParaRPr b="0" lang="en-US" sz="21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ffff"/>
                </a:solidFill>
                <a:latin typeface="Trebuchet MS"/>
              </a:rPr>
              <a:t>“</a:t>
            </a:r>
            <a:r>
              <a:rPr b="0" lang="en-US" sz="1900" spc="-1" strike="noStrike">
                <a:solidFill>
                  <a:srgbClr val="ffffff"/>
                </a:solidFill>
                <a:latin typeface="Trebuchet MS"/>
              </a:rPr>
              <a:t>Strength</a:t>
            </a:r>
            <a:r>
              <a:rPr b="0" lang="ja-JP" sz="1900" spc="-1" strike="noStrike">
                <a:solidFill>
                  <a:srgbClr val="ffffff"/>
                </a:solidFill>
                <a:latin typeface="Trebuchet MS"/>
              </a:rPr>
              <a:t>”</a:t>
            </a:r>
            <a:r>
              <a:rPr b="0" lang="en-US" sz="1900" spc="-1" strike="noStrike">
                <a:solidFill>
                  <a:srgbClr val="ffffff"/>
                </a:solidFill>
                <a:latin typeface="Trebuchet MS"/>
              </a:rPr>
              <a:t> assessment includes the quality of an individual study </a:t>
            </a:r>
            <a:r>
              <a:rPr b="0" i="1" lang="en-US" sz="1900" spc="-1" strike="noStrike">
                <a:solidFill>
                  <a:srgbClr val="ffffff"/>
                </a:solidFill>
                <a:latin typeface="Trebuchet MS"/>
              </a:rPr>
              <a:t>plus</a:t>
            </a:r>
            <a:r>
              <a:rPr b="0" lang="en-US" sz="1900" spc="-1" strike="noStrike">
                <a:solidFill>
                  <a:srgbClr val="ffffff"/>
                </a:solidFill>
                <a:latin typeface="Trebuchet MS"/>
              </a:rPr>
              <a:t> other domains.</a:t>
            </a:r>
            <a:endParaRPr b="0" lang="en-US" sz="19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EPC approach uses the term </a:t>
            </a:r>
            <a:r>
              <a:rPr b="0" lang="ja-JP" sz="1900" spc="-1" strike="noStrike">
                <a:solidFill>
                  <a:srgbClr val="ffffff"/>
                </a:solidFill>
                <a:latin typeface="Trebuchet MS"/>
              </a:rPr>
              <a:t>“</a:t>
            </a:r>
            <a:r>
              <a:rPr b="0" lang="en-US" sz="1900" spc="-1" strike="noStrike">
                <a:solidFill>
                  <a:srgbClr val="ffffff"/>
                </a:solidFill>
                <a:latin typeface="Trebuchet MS"/>
              </a:rPr>
              <a:t>strength of evidence</a:t>
            </a:r>
            <a:r>
              <a:rPr b="0" lang="ja-JP" sz="1900" spc="-1" strike="noStrike">
                <a:solidFill>
                  <a:srgbClr val="ffffff"/>
                </a:solidFill>
                <a:latin typeface="Trebuchet MS"/>
              </a:rPr>
              <a:t>” </a:t>
            </a:r>
            <a:r>
              <a:rPr b="0" lang="en-US" sz="1900" spc="-1" strike="noStrike">
                <a:solidFill>
                  <a:srgbClr val="ffffff"/>
                </a:solidFill>
                <a:latin typeface="Trebuchet MS"/>
              </a:rPr>
              <a:t>rather than the term </a:t>
            </a:r>
            <a:r>
              <a:rPr b="0" lang="ja-JP" sz="1900" spc="-1" strike="noStrike">
                <a:solidFill>
                  <a:srgbClr val="ffffff"/>
                </a:solidFill>
                <a:latin typeface="Trebuchet MS"/>
              </a:rPr>
              <a:t>“</a:t>
            </a:r>
            <a:r>
              <a:rPr b="0" lang="en-US" sz="1900" spc="-1" strike="noStrike">
                <a:solidFill>
                  <a:srgbClr val="ffffff"/>
                </a:solidFill>
                <a:latin typeface="Trebuchet MS"/>
              </a:rPr>
              <a:t>quality of evidence</a:t>
            </a:r>
            <a:r>
              <a:rPr b="0" lang="ja-JP" sz="1900" spc="-1" strike="noStrike">
                <a:solidFill>
                  <a:srgbClr val="ffffff"/>
                </a:solidFill>
                <a:latin typeface="Trebuchet MS"/>
              </a:rPr>
              <a:t>” </a:t>
            </a:r>
            <a:r>
              <a:rPr b="0" lang="en-US" sz="1900" spc="-1" strike="noStrike">
                <a:solidFill>
                  <a:srgbClr val="ffffff"/>
                </a:solidFill>
                <a:latin typeface="Trebuchet MS"/>
              </a:rPr>
              <a:t>used in the GRADE approach to prevent mixing up these ideas.</a:t>
            </a:r>
            <a:endParaRPr b="0" lang="en-US" sz="19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2 of 4)</a:t>
            </a:r>
            <a:endParaRPr b="1" lang="en-US" sz="2800" spc="-1" strike="noStrike">
              <a:solidFill>
                <a:srgbClr val="ffffff"/>
              </a:solidFill>
              <a:latin typeface="Trebuchet MS"/>
            </a:endParaRPr>
          </a:p>
        </p:txBody>
      </p:sp>
      <p:sp>
        <p:nvSpPr>
          <p:cNvPr id="111" name="TextBox 1"/>
          <p:cNvSpPr/>
          <p:nvPr/>
        </p:nvSpPr>
        <p:spPr>
          <a:xfrm>
            <a:off x="76212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5280"/>
            <a:ext cx="8610480" cy="518184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our principle domains are used to assess strength of evidence:</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isk of bia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onsistency</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rectnes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ecision</a:t>
            </a:r>
            <a:endParaRPr b="0" lang="en-US" sz="19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dditional domains to be considered as needed:</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ublication bia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ose-response association</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xistence of plausible unmeasured confounder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rength of association (i.e. magnitude of effect)</a:t>
            </a:r>
            <a:endParaRPr b="0" lang="en-US" sz="19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3 of 4)</a:t>
            </a:r>
            <a:endParaRPr b="1" lang="en-US" sz="2800" spc="-1" strike="noStrike">
              <a:solidFill>
                <a:srgbClr val="ffffff"/>
              </a:solidFill>
              <a:latin typeface="Trebuchet MS"/>
            </a:endParaRPr>
          </a:p>
        </p:txBody>
      </p:sp>
      <p:sp>
        <p:nvSpPr>
          <p:cNvPr id="114" name="TextBox 1"/>
          <p:cNvSpPr/>
          <p:nvPr/>
        </p:nvSpPr>
        <p:spPr>
          <a:xfrm>
            <a:off x="685800" y="59086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
        <p:nvSpPr>
          <p:cNvPr id="115" name="TextBox 1"/>
          <p:cNvSpPr/>
          <p:nvPr/>
        </p:nvSpPr>
        <p:spPr>
          <a:xfrm>
            <a:off x="685800" y="5203800"/>
            <a:ext cx="7848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The GRADE approach considers </a:t>
            </a:r>
            <a:r>
              <a:rPr b="0" lang="ja-JP" sz="1700" spc="-1" strike="noStrike">
                <a:solidFill>
                  <a:srgbClr val="ffffff"/>
                </a:solidFill>
                <a:latin typeface="Trebuchet MS"/>
              </a:rPr>
              <a:t>“</a:t>
            </a:r>
            <a:r>
              <a:rPr b="0" lang="en-US" sz="1700" spc="-1" strike="noStrike">
                <a:solidFill>
                  <a:srgbClr val="ffffff"/>
                </a:solidFill>
                <a:latin typeface="Trebuchet MS"/>
              </a:rPr>
              <a:t>applicability</a:t>
            </a:r>
            <a:r>
              <a:rPr b="0" lang="ja-JP" sz="1700" spc="-1" strike="noStrike">
                <a:solidFill>
                  <a:srgbClr val="ffffff"/>
                </a:solidFill>
                <a:latin typeface="Trebuchet MS"/>
              </a:rPr>
              <a:t>”</a:t>
            </a:r>
            <a:r>
              <a:rPr b="0" lang="en-US" sz="1700" spc="-1" strike="noStrike">
                <a:solidFill>
                  <a:srgbClr val="ffffff"/>
                </a:solidFill>
                <a:latin typeface="Trebuchet MS"/>
              </a:rPr>
              <a:t> to be part of directness; the</a:t>
            </a:r>
            <a:endParaRPr b="0" lang="en-US" sz="17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a:t>
            </a:r>
            <a:r>
              <a:rPr b="0" lang="en-US" sz="1700" spc="-1" strike="noStrike">
                <a:solidFill>
                  <a:srgbClr val="ffffff"/>
                </a:solidFill>
                <a:latin typeface="Trebuchet MS"/>
              </a:rPr>
              <a:t>EPC approach considers it a component separate from strength of evidence.</a:t>
            </a:r>
            <a:endParaRPr b="0" lang="en-US" sz="17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the Evidence-based Practice Center approach, strength of evidence is graded for each outcome and comparison in the Key Questions.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least one Key Question usually relates to test performance (e.g., sensitivity and specific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key question topics that can also be evaluated using the methods outlined he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tic valid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valid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utility</a:t>
            </a:r>
            <a:endParaRPr b="0" lang="en-US" sz="2000" spc="-1" strike="noStrike">
              <a:solidFill>
                <a:srgbClr val="ffffff"/>
              </a:solidFill>
              <a:latin typeface="Trebuchet MS"/>
            </a:endParaRPr>
          </a:p>
        </p:txBody>
      </p:sp>
      <p:sp>
        <p:nvSpPr>
          <p:cNvPr id="1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4 of 4)</a:t>
            </a:r>
            <a:endParaRPr b="1" lang="en-US" sz="2800" spc="-1" strike="noStrike">
              <a:solidFill>
                <a:srgbClr val="ffffff"/>
              </a:solidFill>
              <a:latin typeface="Trebuchet MS"/>
            </a:endParaRPr>
          </a:p>
        </p:txBody>
      </p:sp>
      <p:sp>
        <p:nvSpPr>
          <p:cNvPr id="118" name="TextBox 1"/>
          <p:cNvSpPr/>
          <p:nvPr/>
        </p:nvSpPr>
        <p:spPr>
          <a:xfrm>
            <a:off x="380880" y="5105520"/>
            <a:ext cx="853452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hallenge 1: Tools for assessing the quality of evidence for an intervention are not easily applied to evidence for a diagnostic test.</a:t>
            </a:r>
            <a:endParaRPr b="0" lang="en-US" sz="21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vidence directly relates to the overarching Key Question for interventions; there is an indirect relationship for diagnostic tests.</a:t>
            </a:r>
            <a:endParaRPr b="0" lang="en-US" sz="19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stablishment of logical chains with analytic frameworks is needed, as is assessment of strength of evidence for each </a:t>
            </a:r>
            <a:r>
              <a:rPr b="0" lang="ja-JP" sz="1900" spc="-1" strike="noStrike">
                <a:solidFill>
                  <a:srgbClr val="ffffff"/>
                </a:solidFill>
                <a:latin typeface="Trebuchet MS"/>
              </a:rPr>
              <a:t>“</a:t>
            </a:r>
            <a:r>
              <a:rPr b="0" lang="en-US" sz="1900" spc="-1" strike="noStrike">
                <a:solidFill>
                  <a:srgbClr val="ffffff"/>
                </a:solidFill>
                <a:latin typeface="Trebuchet MS"/>
              </a:rPr>
              <a:t>link.</a:t>
            </a:r>
            <a:r>
              <a:rPr b="0" lang="ja-JP" sz="1900" spc="-1" strike="noStrike">
                <a:solidFill>
                  <a:srgbClr val="ffffff"/>
                </a:solidFill>
                <a:latin typeface="Trebuchet MS"/>
              </a:rPr>
              <a:t>”</a:t>
            </a:r>
            <a:endParaRPr b="0" lang="en-US" sz="19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strength of evidence of the overarching question of whether a test improves clinical outcomes depends on:</a:t>
            </a:r>
            <a:endParaRPr b="0" lang="en-US" sz="19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otal body of evidence</a:t>
            </a:r>
            <a:endParaRPr b="0" lang="en-US" sz="17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Body of evidence for weakest link in chain</a:t>
            </a:r>
            <a:endParaRPr b="0" lang="en-US" sz="17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ften there is no direct linkage between diagnostic accuracy and clinical outcomes.</a:t>
            </a:r>
            <a:endParaRPr b="0" lang="en-US" sz="19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Example: When tests are used as triage, accuracy of risk classification is more important than accuracy of diagnosis.</a:t>
            </a:r>
            <a:endParaRPr b="0" lang="en-US" sz="17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Diagnostic Tests (1 of 2)</a:t>
            </a:r>
            <a:endParaRPr b="1" lang="en-US" sz="2800" spc="-1" strike="noStrike">
              <a:solidFill>
                <a:srgbClr val="ffffff"/>
              </a:solidFill>
              <a:latin typeface="Trebuchet MS"/>
            </a:endParaRPr>
          </a:p>
        </p:txBody>
      </p:sp>
      <p:sp>
        <p:nvSpPr>
          <p:cNvPr id="121" name="TextBox 1"/>
          <p:cNvSpPr/>
          <p:nvPr/>
        </p:nvSpPr>
        <p:spPr>
          <a:xfrm>
            <a:off x="838080" y="59086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5:28:51Z</dcterms:created>
  <dc:creator>Alex P Vaz</dc:creator>
  <dc:description/>
  <dc:language>en-US</dc:language>
  <cp:lastModifiedBy>Tony Adams</cp:lastModifiedBy>
  <cp:lastPrinted>2011-08-01T17:41:23Z</cp:lastPrinted>
  <dcterms:modified xsi:type="dcterms:W3CDTF">2013-05-30T12:19:26Z</dcterms:modified>
  <cp:revision>378</cp:revision>
  <dc:subject/>
  <dc:title>PowerPoint Presentation</dc:title>
</cp:coreProperties>
</file>