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Agency for Healthcare Research and Quality presents the following e-learning tool “Engaging Stakeholders in the Effective Health Care Program” to provide researchers and investigators with foundational information on, and tools for, engaging a broad range of stakeholders in the Effective Health Care Program.  The information presented is adapted from content developed by the Scientific Resource Center at the Oregon Evidence-based Practice Center.</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928F-1F91-4559-98B1-9A9650A737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mary goal of the Effective Health Care Program is to make evidence accessible and actionable for all types of health care decision-makers. One approach to increasing the uptake and utilization of evidence by decision-makers is to engage these stakeholders early and often in the research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ing stakeholders early and throughout the research process increases the relevance of research products (Innvaer, Vist, Trommald &amp; Oxman, 2002), knowledge exchange between investigators and stakeholders (Graham, 2006), application of evidence (Graham, 2006), real-world context (Keown et al., 2008; Whitlock et al., 2009), and dissemination avenues (Keown et al., 2008). Ultimately, AHRQ hopes that engaging stakeholders in the research process can lead to improved research products and greater utilization of evidence in subsequent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CF66-C492-4864-8A4C-3A7A50B216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ngagement of stakeholders and the opening of communication between research investigators and their audiences increases the likelihood that end products will be relevant and useful to decision-makers at the point of care (Keown, et al., 2008; Graham, et al., 2006) and provides real-world context for the application of evidence (Keown, et al., 2008; Whitlock, et al., 200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ors want their work and resulting products to be utilized, but they sometimes lack information regarding the context and subtleties facing decision-makers. Similarly, decision-makers need to know which research products are applicable to the dilemmas they face, but they sometimes lack knowledge about which questions the research addresses, which research is reliable, and how to incorporate research findings into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7088-B7C9-4779-8539-F3FA4606E6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dian Health Services Research Foundation describes knowledge exchanges as “collaborative problem-solving between researchers and decision makers,” which results in interactions that produce mutual learning “through the process of planning, disseminating, and applying existing or new research in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ory of knowledge exchange posits that investigators and decision-makers are normally separate groups with distinct cultures and perspectives on research and knowledge, with neither group fully understanding the other’s world. Exchange of information, rather than one-way communication between investigators and stakeholders is a collaborative process that can be new to both. Involving stakeholder decision-makers in research processes allows for the exchange necessary to provide “real world” context to investigators while providing valuable information about the research process and how to utilize end products to decision-makers (Keown, et al., 2008). This ongoing exchange of information and knowledge between investigators and stakeholders ensures that the products generated are relevant and applicable to stakeholder decision making as well as useful to investigators (Graham, et al., 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of knowledge exchange and eliciting stakeholder input does not mean that stakeholders dictate what a final research product will say. Instead, it allows an opportunity to identify questions and outcomes that are important to end-users. The end product should provide answers to questions that matter to stakeholders. Even the answer “there was not sufficient evidence” can be useful.</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FF6D-1280-4A6E-84C8-EEB112E2D8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of knowledge exchange can be very different from knowledge transfer. Some of these differences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versus two way communic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ng information versus discussing and exploring topic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point of communication, after research versus multiple points of communication throughout the research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versus iterative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ribed or preset process versus organic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versus mutual benef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93B1-4ED4-46C9-88BA-C3F2616989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nk about which of the following stakeholder involvement techniques have been used by you or your research team:</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iscussing/identifying potential research topics with stakeholder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tending meetings of stakeholder groups/organiza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esenting information or findings at meetings of stakeholder groups/organiza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sking clinical experts to help develop or clarify a research suggestion</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volving stakeholders in developing research ques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volving consumers or frontline clinicians in topic refinement activitie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sting discussion or focus groups of consumers or frontline clinicia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sting draft documents for review and comment</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ublishing findings in journals, newsletter, etc.</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eing “commissioned” by a specialty society for a specific report</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th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D38C-0305-4E90-AF68-3DD8207A93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4E2B-485F-4554-ADA1-FEB10C4679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81D8-1A51-43FC-8783-FE60746572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ringing decision makers who can use the results of a particular piece of research into its formulation and conduct is the best predictor for seeing the findings applied” (Lomas, 2000). The process of applying knowledge to action is complex and challenging. It is not linear, but is instead iterative and organic. It involves a regular exchange of knowledge between researchers and relevant decision-makers, or stakeholders. And, it increases the application of evidence to practice, policy and decision making (Graham et al., 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aunders et al. (2007) concluded, “Actively seeking the views of consumers regarding health research is now recognized as an opportunity to access valuable untapped knowledge, and a means of improving the relevance and translation of research into practice… Consumer perspectives trigger consideration for the wider environmental, psychosocial, and behavioral contexts of people’s lives. Further reported benefits include a greater acceptance and uptake of research findings in the community, and more efficient use of research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as Whitlock et al. (2009) assert, “Engaging stakeholders as key informants provides credibility and avoids prioritizing topics that have no relevance to real-world issues.” Research that is valued and accepted by stakeholders is much more likely to be utilized and dissemin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C2CE-E34F-4000-BC06-8E04D8F367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ing stakeholders creates dissemination avenues for completed products (Keown, et al., 2008). Every stakeholder that is involved in the research process provides a potential opportunity for dissemination. Stakeholders may open dissemination paths through advocacy organizations or professional societies of which they are members, family and friends, their own health care providers or co-workers, health care systems, payer networks, or public programs. Each stakeholder can represent multiple avenues for dissemination, and the more invested they are in the research process and resulting products, the more likely they will be to help disseminate final products and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891-940C-47B9-9790-6B9AB5640A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first of four modules as part of this e-learning tool.</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3C39-A833-46E8-85E4-8C84D5B53C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5B36-5CDC-445F-A676-FE6609C8AB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9D3F-BBA8-4723-AFEC-03F2A8405F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75EA-4882-4BA1-8DF3-0D61D8231E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9F1A-6400-49BA-AD4E-C6D3DD2092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C364-DDE9-4955-9A70-CED9169DD8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8508-8DA4-4FA8-AAA8-FB7A17AE65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101D-08D6-4DE7-AEC9-B95DBA0BB8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0E65-C54F-45B5-B320-5FC0A8DB20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1A13-2D5B-4B12-AD18-73637EC0F8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6331-CBA1-4FBF-9AC0-658CC32BD2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0562-3F6B-4988-94DB-F2199330BA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2A08-3A30-4AB2-8B9D-31E5B7D159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ive Heath Care Program has established a series of methodological principles for conducting comparative effectiveness research and reviews. Stakeholder engagement is a guiding principle, along with transparency and scientific integrity. These principles can be found in the EHC Program Methods Guide, and have also been written about or referenced in other publications, such as the Journal of Clinical Epidemiology and several Institute of Medicine (IOM)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641F-FC32-4BC8-BDCB-2450D72E38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ient-centered approach to CER is central to evidence-based medicine and may require different techniques to address consumer concerns. “Clinicians must access the values and preferences of the patient and then place these in the context of the evidence about the benefits and risks of alternative courses of action” (Guyatt, 200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and their clinicians are concerned about outcomes. However, the outcomes most important to each may be different. For example, in a CER focused on lipid lowering agents, a physician may be most focused on the outcome of clinical tests. A patient, on the other hand, might be most worried about side-effect profiles and frequency of dosage. “These principles mean that, regardless of who nominates a topic and who might use a CER, the research &amp; reviews should address the circumstances and outcomes that are important to patients and consumers” (Helfand &amp; Balshem, 200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47C1-7EC4-468D-A08A-71ED20212F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overarching principles of the Effective Health Care Program is to conduct CERs by approaching the evidence by a clinical, patient-centered perspective. According to Helfand and Balshem (2009) “CERs…seek to provide decision-makers with accurate, independent, scientifically rigorous information for comparing the effectiveness and safety of alternative clinical options, and have become the foundation for decision-making in clinical practice and health policy. To play this important role in decision making, CERs must address significant questions that are relevant to patients and clinici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investigators can demonstrate that their work is focused on patients and consumers, including having consumers initiate research through topic nomination, provide input into the formation of research questions, and assist in translation of final reports.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E885-DFDE-48A3-A8D9-956A09FF7A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researchers can demonstrate that their work is consumer-centered. Please list three examples of how your work has been patient-cen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9731-1793-4082-BB68-DF6C6B0B1E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xamples of patient-centered approaches in the EHC Program. Some of these examples are list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1B5F-78D2-4B1D-8595-7701B3426F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xamples of patient-centered approaches in the EHC Program. Some of these examples are list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FE1E-132D-48E6-8796-6CC5C9C3C9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is continually evolving and expanding opportunities for stakeholder involvement to fulfill its ultimate vision for inclusive and broad stakeholder engagement and knowledge exchange. Further, AHRQ's expectation for stakeholder engagement is outlined in the founding legislation and current ARRA spend plan. AHRQ’s vision and expectation for stakeholder engagement are well grounded in the literature, and aim to increase topic nominations, improve product development to meet end-user needs, and expand dissemination of research products. AHRQ expects that strategic involvement of stakeholders throughout the EHC Program research process will be mutually beneficial to investigators, stakeholders, and the Program as the principles of engagement and CER are closely aligned. AHRQ will continue to seek opportunities to increase involvement and improve Program out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ED5A-0877-43F8-918B-2F7B0E13BF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EA74-75D7-41F9-88EA-F74BDAECD4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is continually evolving and expanding opportunities for stakeholder involvement to fulfill its vision for stakeholder engagement and knowledge exchange. AHRQ’s vision for stakeholder engagement is grounded in theory, principle, and practice. AHRQ’s vision aims to increase topic nominations, improve product development to meet end-user needs, and expand dissemination of research products. This module will provide information regarding AHRQ’s vision and expectations for, and theory and principles of stakeholder engagement in the EHC Program, as well as the alignment of these principles with the principles of comparative effectiveness research (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D5D3-EAE2-47E2-A832-D7D03153A3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8368-A4E6-486D-9093-7845C711E6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C2B4-6C50-4D76-9DD6-5AFD139314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D50A-2CD0-4369-9D68-50C75240F6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5BD7-B09B-4181-842D-A3564292FA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41BA-C178-4F95-AF36-11581C35C2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completing Module I, participants will be able t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HRQ’s vision for stakeholder eng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theoretical basis for engaging stakehol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t least three benefits of engaging stakeholders in resear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ree differences between knowledge transfer and knowledge ex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E4AC-D8C5-4CBB-BE6C-C644F75E74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nvolving stakeholders in research has meant communicating questions or problems in the beginning phases and communicating results at the end of that research (Burger, Gochfeld &amp; Pletnikoff, 2009). AHRQ, however, is committed to processes that engage stakeholders throughout the research process and at strategic points. </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8280-48E1-49C3-B801-2EE3EA3D4C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are defined as individuals or organizations who have a personal or professional interest in the topic (O’Haire, 2011). Engagement in the EHC Program is a process of giving voice to and involving stakeholders in Program related decision making and research. It serves the purpose of reciprocal learning and knowledge exchange to improve health. This ultimately requires transitioning from knowledge transfer to knowledge exchange in order to develop more interactive and in depth relationships. The concepts of knowledge transfer and knowledge exchange will be discussed later in this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1A15-57C1-4BB4-8984-EEE2C63260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 legislation creating the Effective Health Care Program (Section 1013, Medicare Prescription Drug, Improvement, and Modernization Act of 2003) outlined the need for broad stakeholder involvement. While stakeholders have been involved in multiple points of EHC Program research, funding from the American Reinvestment and Recovery Act (ARRA) of 2009 allowed for an expansion of EHC Program activities, increasing opportunities for stakeholder invol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has held the involvement of stakeholders as a central element of the EHC Program since its inception, and has clearly outlined the continued expectation for broad stakeholder engagement in its spend plan for ARRA funding. The EHC Program includes as stakeholders those individuals and organizations external to AHRQ and its network of research institutions; those individuals and organizations with an interest in applying the findings of the research completed under the Program. There is a particular interest by </a:t>
            </a:r>
            <a:r>
              <a:rPr b="0" lang="en-US" sz="1200" spc="-1" strike="noStrike">
                <a:solidFill>
                  <a:srgbClr val="ff0000"/>
                </a:solidFill>
                <a:latin typeface="Calibri"/>
              </a:rPr>
              <a:t>AHRQ </a:t>
            </a:r>
            <a:r>
              <a:rPr b="0" lang="en-US" sz="1200" spc="-1" strike="noStrike">
                <a:solidFill>
                  <a:srgbClr val="000000"/>
                </a:solidFill>
                <a:latin typeface="Calibri"/>
              </a:rPr>
              <a:t>for the research to inform health care decisions by stakeholders, be they consumers, clinicians, or policymak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8429-CF81-486B-A75B-F7E9C1E97D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s vision for stakeholder engagement has continued to evolve and expand, and aims to involve stakeholders throughout the research process. AHRQ seeks to create strategic points of involvement that are mutually beneficial to stakeholders and research institutions, and ultimately serve the goals of the Program. AHRQ’s vision of stakeholder involvement includes research institutions developing ongoing relationships with stakeholders—particularly patients and their families or caregivers, and frontline clinicians. It is intended that these collaborative relationships will inform topic nominations, topic development, refinement and review, and ultimately product dissemination. AHRQ intends for these partnerships to be inclusive and broad, and to support the development of quality EHC Program research products and disseminatio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49E8-F2B2-431A-A38F-C33E80F8D0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792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gaging Stakeholders in the </a:t>
            </a:r>
            <a:br>
              <a:rPr sz="3200"/>
            </a:br>
            <a:r>
              <a:rPr b="1" lang="en-US" sz="3200" spc="-1" strike="noStrike">
                <a:solidFill>
                  <a:srgbClr val="ffffff"/>
                </a:solidFill>
                <a:latin typeface="Trebuchet MS"/>
              </a:rPr>
              <a:t>Effective Health Care Program</a:t>
            </a: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and tools for researchers and investigators</a:t>
            </a:r>
            <a:endParaRPr b="0" lang="en-US" sz="2000" spc="-1" strike="noStrike">
              <a:solidFill>
                <a:srgbClr val="ffffff"/>
              </a:solidFill>
              <a:latin typeface="Trebuchet MS"/>
            </a:endParaRPr>
          </a:p>
        </p:txBody>
      </p:sp>
      <p:sp>
        <p:nvSpPr>
          <p:cNvPr id="83" name="SessionQuestion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Questions /&gt;</a:t>
            </a:r>
            <a:endParaRPr b="0" lang="en-US" sz="1800" spc="-1" strike="noStrike">
              <a:solidFill>
                <a:srgbClr val="000000"/>
              </a:solidFill>
              <a:latin typeface="Arial"/>
            </a:endParaRPr>
          </a:p>
        </p:txBody>
      </p:sp>
      <p:sp>
        <p:nvSpPr>
          <p:cNvPr id="84" name="SessionAnswerData" hidden="1"/>
          <p:cNvSpPr/>
          <p:nvPr/>
        </p:nvSpPr>
        <p:spPr>
          <a:xfrm>
            <a:off x="1270080" y="0"/>
            <a:ext cx="360" cy="969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Answers /&gt;</a:t>
            </a:r>
            <a:endParaRPr b="0" lang="en-US" sz="1800" spc="-1" strike="noStrike">
              <a:solidFill>
                <a:srgbClr val="000000"/>
              </a:solidFill>
              <a:latin typeface="Arial"/>
            </a:endParaRPr>
          </a:p>
        </p:txBody>
      </p:sp>
      <p:sp>
        <p:nvSpPr>
          <p:cNvPr id="85" name="SessionResponse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Responses /&gt;</a:t>
            </a:r>
            <a:endParaRPr b="0" lang="en-US" sz="1800" spc="-1" strike="noStrike">
              <a:solidFill>
                <a:srgbClr val="000000"/>
              </a:solidFill>
              <a:latin typeface="Arial"/>
            </a:endParaRPr>
          </a:p>
        </p:txBody>
      </p:sp>
      <p:sp>
        <p:nvSpPr>
          <p:cNvPr id="86"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endParaRPr b="1" lang="en-US" sz="2800" spc="-1" strike="noStrike">
              <a:solidFill>
                <a:srgbClr val="ffffff"/>
              </a:solidFill>
              <a:latin typeface="Trebuchet MS"/>
            </a:endParaRPr>
          </a:p>
        </p:txBody>
      </p:sp>
      <p:sp>
        <p:nvSpPr>
          <p:cNvPr id="10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suggests that engaging stakeholders in research increases:</a:t>
            </a:r>
            <a:endParaRPr b="0" lang="en-US" sz="2400" spc="-1" strike="noStrike">
              <a:solidFill>
                <a:srgbClr val="ffffff"/>
              </a:solidFill>
              <a:latin typeface="Trebuchet MS"/>
            </a:endParaRPr>
          </a:p>
          <a:p>
            <a:pPr lvl="4" marL="1498680" indent="-28260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105" name="Rectangle 5" descr=""/>
          <p:cNvPicPr/>
          <p:nvPr/>
        </p:nvPicPr>
        <p:blipFill>
          <a:blip r:embed="rId1"/>
          <a:stretch/>
        </p:blipFill>
        <p:spPr>
          <a:xfrm>
            <a:off x="1974960" y="2530440"/>
            <a:ext cx="5054400" cy="755640"/>
          </a:xfrm>
          <a:prstGeom prst="rect">
            <a:avLst/>
          </a:prstGeom>
          <a:ln w="0">
            <a:noFill/>
          </a:ln>
        </p:spPr>
      </p:pic>
      <p:pic>
        <p:nvPicPr>
          <p:cNvPr id="106" name="Rectangle 6" descr=""/>
          <p:cNvPicPr/>
          <p:nvPr/>
        </p:nvPicPr>
        <p:blipFill>
          <a:blip r:embed="rId2"/>
          <a:stretch/>
        </p:blipFill>
        <p:spPr>
          <a:xfrm>
            <a:off x="1957320" y="3292560"/>
            <a:ext cx="5052960" cy="755640"/>
          </a:xfrm>
          <a:prstGeom prst="rect">
            <a:avLst/>
          </a:prstGeom>
          <a:ln w="0">
            <a:noFill/>
          </a:ln>
        </p:spPr>
      </p:pic>
      <p:pic>
        <p:nvPicPr>
          <p:cNvPr id="107" name="Rectangle 7" descr=""/>
          <p:cNvPicPr/>
          <p:nvPr/>
        </p:nvPicPr>
        <p:blipFill>
          <a:blip r:embed="rId3"/>
          <a:stretch/>
        </p:blipFill>
        <p:spPr>
          <a:xfrm>
            <a:off x="1957320" y="4054320"/>
            <a:ext cx="5052960" cy="755640"/>
          </a:xfrm>
          <a:prstGeom prst="rect">
            <a:avLst/>
          </a:prstGeom>
          <a:ln w="0">
            <a:noFill/>
          </a:ln>
        </p:spPr>
      </p:pic>
      <p:pic>
        <p:nvPicPr>
          <p:cNvPr id="108" name="Rectangle 8" descr=""/>
          <p:cNvPicPr/>
          <p:nvPr/>
        </p:nvPicPr>
        <p:blipFill>
          <a:blip r:embed="rId4"/>
          <a:stretch/>
        </p:blipFill>
        <p:spPr>
          <a:xfrm>
            <a:off x="1957320" y="4816440"/>
            <a:ext cx="5052960" cy="7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 </a:t>
            </a:r>
            <a:br>
              <a:rPr sz="2800"/>
            </a:br>
            <a:r>
              <a:rPr b="1" lang="en-US" sz="2800" spc="-1" strike="noStrike">
                <a:solidFill>
                  <a:srgbClr val="ffffff"/>
                </a:solidFill>
                <a:latin typeface="Trebuchet MS"/>
              </a:rPr>
              <a:t>Relevance &amp; Context</a:t>
            </a:r>
            <a:endParaRPr b="1" lang="en-US" sz="2800" spc="-1" strike="noStrike">
              <a:solidFill>
                <a:srgbClr val="ffffff"/>
              </a:solidFill>
              <a:latin typeface="Trebuchet MS"/>
            </a:endParaRPr>
          </a:p>
        </p:txBody>
      </p:sp>
      <p:sp>
        <p:nvSpPr>
          <p:cNvPr id="110" name="PlaceHolder 2"/>
          <p:cNvSpPr>
            <a:spLocks noGrp="1"/>
          </p:cNvSpPr>
          <p:nvPr>
            <p:ph/>
          </p:nvPr>
        </p:nvSpPr>
        <p:spPr>
          <a:xfrm>
            <a:off x="609120" y="1219320"/>
            <a:ext cx="4419720" cy="483048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indicate that involving stakeholders early on leads to research products that feature:</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levant information</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le evidence</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l-world context</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formation to address existing stakeholder concerns</a:t>
            </a:r>
            <a:endParaRPr b="0" lang="en-US" sz="2400" spc="-1" strike="noStrike">
              <a:solidFill>
                <a:srgbClr val="ffffff"/>
              </a:solidFill>
              <a:latin typeface="Trebuchet MS"/>
            </a:endParaRPr>
          </a:p>
        </p:txBody>
      </p:sp>
      <p:sp>
        <p:nvSpPr>
          <p:cNvPr id="111" name="Text Box 2"/>
          <p:cNvSpPr/>
          <p:nvPr/>
        </p:nvSpPr>
        <p:spPr>
          <a:xfrm>
            <a:off x="5257800" y="2297160"/>
            <a:ext cx="3505320" cy="2377800"/>
          </a:xfrm>
          <a:prstGeom prst="rect">
            <a:avLst/>
          </a:prstGeom>
          <a:solidFill>
            <a:srgbClr val="ffffff">
              <a:alpha val="98000"/>
            </a:srgbClr>
          </a:solidFill>
          <a:ln w="76320">
            <a:solidFill>
              <a:srgbClr val="17365d"/>
            </a:solidFill>
            <a:miter/>
          </a:ln>
        </p:spPr>
        <p:style>
          <a:lnRef idx="0"/>
          <a:fillRef idx="0"/>
          <a:effectRef idx="0"/>
          <a:fontRef idx="minor"/>
        </p:style>
        <p:txBody>
          <a:bodyPr lIns="137160" rIns="13716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best oral medicines to treat for type 2 diabetes?</a:t>
            </a:r>
            <a:endParaRPr b="0" lang="en-US" sz="1800" spc="-1" strike="noStrike">
              <a:solidFill>
                <a:srgbClr val="000000"/>
              </a:solidFill>
              <a:latin typeface="Arial"/>
            </a:endParaRPr>
          </a:p>
          <a:p>
            <a:pPr lvl="1" marL="457200" algn="r">
              <a:lnSpc>
                <a:spcPct val="100000"/>
              </a:lnSpc>
              <a:spcAft>
                <a:spcPts val="1001"/>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pic submitted by the American College of Physicians, a professional association representing 132,000 medical practitioners across the 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br>
              <a:rPr sz="2800"/>
            </a:br>
            <a:r>
              <a:rPr b="1" lang="en-US" sz="2800" spc="-1" strike="noStrike">
                <a:solidFill>
                  <a:srgbClr val="ffffff"/>
                </a:solidFill>
                <a:latin typeface="Trebuchet MS"/>
              </a:rPr>
              <a:t>Knowledge Exchange</a:t>
            </a:r>
            <a:endParaRPr b="1" lang="en-US" sz="2800" spc="-1" strike="noStrike">
              <a:solidFill>
                <a:srgbClr val="ffffff"/>
              </a:solidFill>
              <a:latin typeface="Trebuchet MS"/>
            </a:endParaRPr>
          </a:p>
        </p:txBody>
      </p:sp>
      <p:sp>
        <p:nvSpPr>
          <p:cNvPr id="113" name=""/>
          <p:cNvSpPr txBox="1"/>
          <p:nvPr/>
        </p:nvSpPr>
        <p:spPr>
          <a:xfrm>
            <a:off x="456840" y="1066320"/>
            <a:ext cx="8381880" cy="4907160"/>
          </a:xfrm>
          <a:prstGeom prst="rect">
            <a:avLst/>
          </a:prstGeom>
          <a:noFill/>
          <a:ln w="0">
            <a:noFill/>
          </a:ln>
        </p:spPr>
        <p:txBody>
          <a:bodyPr lIns="0" rIns="0" tIns="0" bIns="0" anchor="t">
            <a:normAutofit/>
          </a:bodyPr>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volving stakeholders in the research process facilitat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114" name="Diagram 3" descr=""/>
          <p:cNvPicPr/>
          <p:nvPr/>
        </p:nvPicPr>
        <p:blipFill>
          <a:blip r:embed="rId1"/>
          <a:stretch/>
        </p:blipFill>
        <p:spPr>
          <a:xfrm>
            <a:off x="1822320" y="2279520"/>
            <a:ext cx="5499360" cy="379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pic>
        <p:nvPicPr>
          <p:cNvPr id="116" name="Diagram 4" descr=""/>
          <p:cNvPicPr/>
          <p:nvPr/>
        </p:nvPicPr>
        <p:blipFill>
          <a:blip r:embed="rId1"/>
          <a:stretch/>
        </p:blipFill>
        <p:spPr>
          <a:xfrm>
            <a:off x="554040" y="1292400"/>
            <a:ext cx="8132760" cy="48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1:</a:t>
            </a:r>
            <a:br>
              <a:rPr sz="2800"/>
            </a:br>
            <a:r>
              <a:rPr b="1" lang="en-US" sz="2800" spc="-1" strike="noStrike">
                <a:solidFill>
                  <a:srgbClr val="ffffff"/>
                </a:solidFill>
                <a:latin typeface="Trebuchet MS"/>
              </a:rPr>
              <a:t>Stakeholder Engagement Techniques</a:t>
            </a:r>
            <a:endParaRPr b="1" lang="en-US" sz="2800" spc="-1" strike="noStrike">
              <a:solidFill>
                <a:srgbClr val="ffffff"/>
              </a:solidFill>
              <a:latin typeface="Trebuchet MS"/>
            </a:endParaRPr>
          </a:p>
        </p:txBody>
      </p:sp>
      <p:sp>
        <p:nvSpPr>
          <p:cNvPr id="118" name=""/>
          <p:cNvSpPr txBox="1"/>
          <p:nvPr/>
        </p:nvSpPr>
        <p:spPr>
          <a:xfrm>
            <a:off x="304560" y="1142640"/>
            <a:ext cx="8839080" cy="52578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nk about which of the following stakeholder involvement techniques have been used by you or your research team:</a:t>
            </a:r>
            <a:endParaRPr b="0" lang="en-US" sz="2400" spc="-1" strike="noStrike">
              <a:solidFill>
                <a:srgbClr val="ffffff"/>
              </a:solidFill>
              <a:latin typeface="Trebuchet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a:t>
            </a:r>
            <a:r>
              <a:rPr b="0" lang="en-US" sz="2000" spc="-1" strike="noStrike">
                <a:solidFill>
                  <a:srgbClr val="ffffff"/>
                </a:solidFill>
                <a:latin typeface="Trebuchet MS"/>
              </a:rPr>
              <a:t>Discussing/identifying potential research topics with stakeholder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ttending meetings of stakeholder groups/organiza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resenting information or findings at meetings of stakeholder organiza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sking clinical experts to help develop or clarify a research suggestion</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volving stakeholders in developing research ques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volving patients &amp; consumers or frontline clinicians in topic refinement activitie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osting draft documents for review and comment</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ublishing findings in journals, newsletter, etc.</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ollowing slide provides examples of stakeholder engagement techniques. For each example, please consider if the activity is a form of </a:t>
            </a:r>
            <a:r>
              <a:rPr b="0" lang="en-US" sz="2400" spc="-1" strike="noStrike" u="sng">
                <a:solidFill>
                  <a:srgbClr val="ffffff"/>
                </a:solidFill>
                <a:uFillTx/>
                <a:latin typeface="Trebuchet MS"/>
              </a:rPr>
              <a:t>knowledge transfer</a:t>
            </a:r>
            <a:r>
              <a:rPr b="0" lang="en-US" sz="2400" spc="-1" strike="noStrike">
                <a:solidFill>
                  <a:srgbClr val="ffffff"/>
                </a:solidFill>
                <a:latin typeface="Trebuchet MS"/>
              </a:rPr>
              <a:t> or </a:t>
            </a:r>
            <a:r>
              <a:rPr b="0" lang="en-US" sz="2400" spc="-1" strike="noStrike" u="sng">
                <a:solidFill>
                  <a:srgbClr val="ffffff"/>
                </a:solidFill>
                <a:uFillTx/>
                <a:latin typeface="Trebuchet MS"/>
              </a:rPr>
              <a:t>knowledge exchang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questions with stakehold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organization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r findings at meetings of stakeholder groups/organization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a nominator in topic refinement activiti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a draft document for review &amp; commen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ing findings in journals, newsletters, etc.</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 Answers</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4" name=""/>
          <p:cNvSpPr txBox="1"/>
          <p:nvPr/>
        </p:nvSpPr>
        <p:spPr>
          <a:xfrm>
            <a:off x="380520" y="1066680"/>
            <a:ext cx="8458200" cy="5059440"/>
          </a:xfrm>
          <a:prstGeom prst="rect">
            <a:avLst/>
          </a:prstGeom>
          <a:noFill/>
          <a:ln w="0">
            <a:noFill/>
          </a:ln>
        </p:spPr>
        <p:txBody>
          <a:bodyPr lIns="0" rIns="0" tIns="0" bIns="0" anchor="t">
            <a:normAutofit fontScale="98000"/>
          </a:bodyPr>
          <a:p>
            <a:pPr marL="447840" indent="-44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Knowledge Exchange</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questions with stakeholder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a nominator in topic refinement activitie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a draft document for review &amp; comment</a:t>
            </a:r>
            <a:endParaRPr b="0" lang="en-US" sz="2400" spc="-1" strike="noStrike">
              <a:solidFill>
                <a:srgbClr val="ffffff"/>
              </a:solidFill>
              <a:latin typeface="Trebuchet MS"/>
            </a:endParaRPr>
          </a:p>
          <a:p>
            <a:pPr marL="447840" indent="-4478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a:p>
            <a:pPr marL="447840" indent="-44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Knowledge Transfer</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organization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r findings at meetings of stakeholder groups/organization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ing findings in journals, newsletters, etc.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 </a:t>
            </a:r>
            <a:br>
              <a:rPr sz="2800"/>
            </a:br>
            <a:r>
              <a:rPr b="1" lang="en-US" sz="2800" spc="-1" strike="noStrike">
                <a:solidFill>
                  <a:srgbClr val="ffffff"/>
                </a:solidFill>
                <a:latin typeface="Trebuchet MS"/>
              </a:rPr>
              <a:t>Application of Evidence</a:t>
            </a:r>
            <a:endParaRPr b="1" lang="en-US" sz="2800" spc="-1" strike="noStrike">
              <a:solidFill>
                <a:srgbClr val="ffffff"/>
              </a:solidFill>
              <a:latin typeface="Trebuchet MS"/>
            </a:endParaRPr>
          </a:p>
        </p:txBody>
      </p:sp>
      <p:sp>
        <p:nvSpPr>
          <p:cNvPr id="12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he research process leads to applicable research products that:</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dress specific questions with appropriate context</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 useable and actionable</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orporate wider contextual issues</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 accepted and valued by end-us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br>
              <a:rPr sz="2800"/>
            </a:br>
            <a:r>
              <a:rPr b="1" lang="en-US" sz="2800" spc="-1" strike="noStrike">
                <a:solidFill>
                  <a:srgbClr val="ffffff"/>
                </a:solidFill>
                <a:latin typeface="Trebuchet MS"/>
              </a:rPr>
              <a:t>Dissemination Avenues</a:t>
            </a:r>
            <a:endParaRPr b="1" lang="en-US" sz="2800" spc="-1" strike="noStrike">
              <a:solidFill>
                <a:srgbClr val="ffffff"/>
              </a:solidFill>
              <a:latin typeface="Trebuchet MS"/>
            </a:endParaRPr>
          </a:p>
        </p:txBody>
      </p:sp>
      <p:sp>
        <p:nvSpPr>
          <p:cNvPr id="12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he research process can lead to dissemination opportunities through:</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ocacy organization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societie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and friend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ian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alth care system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c programs</a:t>
            </a:r>
            <a:endParaRPr b="0" lang="en-US" sz="2400" spc="-1" strike="noStrike">
              <a:solidFill>
                <a:srgbClr val="ffffff"/>
              </a:solidFill>
              <a:latin typeface="Trebuchet MS"/>
            </a:endParaRPr>
          </a:p>
        </p:txBody>
      </p:sp>
      <p:pic>
        <p:nvPicPr>
          <p:cNvPr id="129" name="Picture 2" descr="C:\Documents and Settings\slaughsa\Local Settings\Temporary Internet Files\Content.IE5\THRO710Z\MP900442390[1].jpg"/>
          <p:cNvPicPr/>
          <p:nvPr/>
        </p:nvPicPr>
        <p:blipFill>
          <a:blip r:embed="rId1"/>
          <a:stretch/>
        </p:blipFill>
        <p:spPr>
          <a:xfrm>
            <a:off x="5638680" y="2895480"/>
            <a:ext cx="2791080" cy="1855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ull Course Outline</a:t>
            </a:r>
            <a:endParaRPr b="1" lang="en-US" sz="2800" spc="-1" strike="noStrike">
              <a:solidFill>
                <a:srgbClr val="ffffff"/>
              </a:solidFill>
              <a:latin typeface="Trebuchet MS"/>
            </a:endParaRPr>
          </a:p>
        </p:txBody>
      </p:sp>
      <p:pic>
        <p:nvPicPr>
          <p:cNvPr id="88" name="Content Placeholder 3" descr=""/>
          <p:cNvPicPr/>
          <p:nvPr/>
        </p:nvPicPr>
        <p:blipFill>
          <a:blip r:embed="rId1"/>
          <a:stretch/>
        </p:blipFill>
        <p:spPr>
          <a:xfrm>
            <a:off x="378000" y="1243080"/>
            <a:ext cx="8381880" cy="498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ollowing slide provide examples of engagement activities. Please consider the possible resulting benefit(s) for each example.</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ideas from stakeholder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br>
              <a:rPr sz="2800"/>
            </a:br>
            <a:r>
              <a:rPr b="1" lang="en-US" sz="2800" spc="-1" strike="noStrike">
                <a:solidFill>
                  <a:srgbClr val="ffffff"/>
                </a:solidFill>
                <a:latin typeface="Trebuchet MS"/>
              </a:rPr>
              <a:t>Benefits of Stakeholder Engagement</a:t>
            </a:r>
            <a:endParaRPr b="1" lang="en-US" sz="2800" spc="-1" strike="noStrike">
              <a:solidFill>
                <a:srgbClr val="ffffff"/>
              </a:solidFill>
              <a:latin typeface="Trebuchet MS"/>
            </a:endParaRPr>
          </a:p>
        </p:txBody>
      </p:sp>
      <p:sp>
        <p:nvSpPr>
          <p:cNvPr id="13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ideas from stakeholder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 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 organizations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f research findings at meetings of stakeholder groups/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f research findings at meetings of stakeholder groups/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opic refinement activitie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opic refinement activitie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draft documents for review &amp; comment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dule I</a:t>
            </a:r>
            <a:endParaRPr b="1" lang="en-US" sz="3200" spc="-1" strike="noStrike">
              <a:solidFill>
                <a:srgbClr val="ffffff"/>
              </a:solidFill>
              <a:latin typeface="Trebuchet MS"/>
            </a:endParaRPr>
          </a:p>
        </p:txBody>
      </p:sp>
      <p:sp>
        <p:nvSpPr>
          <p:cNvPr id="90"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s Vision for Stakeholder Engagement</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5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draft documents for review &amp; comment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HC Program Principles </a:t>
            </a:r>
            <a:endParaRPr b="1" lang="en-US" sz="2800" spc="-1" strike="noStrike">
              <a:solidFill>
                <a:srgbClr val="ffffff"/>
              </a:solidFill>
              <a:latin typeface="Trebuchet MS"/>
            </a:endParaRPr>
          </a:p>
        </p:txBody>
      </p:sp>
      <p:sp>
        <p:nvSpPr>
          <p:cNvPr id="15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principles identified by the EHC Program to guide research activities include:</a:t>
            </a:r>
            <a:endParaRPr b="0" lang="en-US" sz="24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earch must be relevant and timely to meet the needs of decision-makers</a:t>
            </a:r>
            <a:endParaRPr b="0" lang="en-US" sz="24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c participation and transparency increase public confidence in the scientific integrity, credibility of research processes, and provide further accountability to researchers (Slutsky, et al., 2008)</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C:\Documents and Settings\slaughsa\Local Settings\Temporary Internet Files\Content.IE5\S5YDTQEQ\MP900439289[1].jpg"/>
          <p:cNvPicPr/>
          <p:nvPr/>
        </p:nvPicPr>
        <p:blipFill>
          <a:blip r:embed="rId1"/>
          <a:stretch/>
        </p:blipFill>
        <p:spPr>
          <a:xfrm>
            <a:off x="6248520" y="4343400"/>
            <a:ext cx="2008080" cy="1411200"/>
          </a:xfrm>
          <a:prstGeom prst="rect">
            <a:avLst/>
          </a:prstGeom>
          <a:ln w="0">
            <a:noFill/>
          </a:ln>
          <a:effectLst>
            <a:outerShdw dist="139498" dir="2700000" blurRad="0" rotWithShape="0">
              <a:srgbClr val="333333">
                <a:alpha val="65000"/>
              </a:srgbClr>
            </a:outerShdw>
          </a:effectLst>
        </p:spPr>
      </p:pic>
      <p:sp>
        <p:nvSpPr>
          <p:cNvPr id="15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tient-Centered Approach to CER</a:t>
            </a:r>
            <a:endParaRPr b="1" lang="en-US" sz="2800" spc="-1" strike="noStrike">
              <a:solidFill>
                <a:srgbClr val="ffffff"/>
              </a:solidFill>
              <a:latin typeface="Trebuchet MS"/>
            </a:endParaRPr>
          </a:p>
        </p:txBody>
      </p:sp>
      <p:sp>
        <p:nvSpPr>
          <p:cNvPr id="15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Central to evidence-based medicin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search should address patient &amp; consumer concer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quires different techniques</a:t>
            </a:r>
            <a:endParaRPr b="0" lang="en-US" sz="2400" spc="-1" strike="noStrike">
              <a:solidFill>
                <a:srgbClr val="ffffff"/>
              </a:solidFill>
              <a:latin typeface="Trebuchet MS"/>
            </a:endParaRPr>
          </a:p>
        </p:txBody>
      </p:sp>
      <p:pic>
        <p:nvPicPr>
          <p:cNvPr id="157" name="Picture 5" descr="C:\Documents and Settings\slaughsa\Local Settings\Temporary Internet Files\Content.IE5\THRO710Z\MP900448491[1].jpg"/>
          <p:cNvPicPr/>
          <p:nvPr/>
        </p:nvPicPr>
        <p:blipFill>
          <a:blip r:embed="rId2"/>
          <a:stretch/>
        </p:blipFill>
        <p:spPr>
          <a:xfrm>
            <a:off x="4343400" y="4038480"/>
            <a:ext cx="2057400" cy="1371600"/>
          </a:xfrm>
          <a:prstGeom prst="rect">
            <a:avLst/>
          </a:prstGeom>
          <a:ln w="0">
            <a:noFill/>
          </a:ln>
          <a:effectLst>
            <a:outerShdw dist="139498" dir="2700000" blurRad="0" rotWithShape="0">
              <a:srgbClr val="333333">
                <a:alpha val="65000"/>
              </a:srgbClr>
            </a:outerShdw>
          </a:effectLst>
        </p:spPr>
      </p:pic>
      <p:pic>
        <p:nvPicPr>
          <p:cNvPr id="158" name="Picture 3" descr="C:\Documents and Settings\slaughsa\Local Settings\Temporary Internet Files\Content.IE5\S5YDTQEQ\MP900423046[1].jpg"/>
          <p:cNvPicPr/>
          <p:nvPr/>
        </p:nvPicPr>
        <p:blipFill>
          <a:blip r:embed="rId3"/>
          <a:stretch/>
        </p:blipFill>
        <p:spPr>
          <a:xfrm>
            <a:off x="5562720" y="3048120"/>
            <a:ext cx="1447560" cy="1447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 &amp; Patient-Centered Approach to CER</a:t>
            </a:r>
            <a:endParaRPr b="1" lang="en-US" sz="2800" spc="-1" strike="noStrike">
              <a:solidFill>
                <a:srgbClr val="ffffff"/>
              </a:solidFill>
              <a:latin typeface="Trebuchet MS"/>
            </a:endParaRPr>
          </a:p>
        </p:txBody>
      </p:sp>
      <p:sp>
        <p:nvSpPr>
          <p:cNvPr id="160" name=""/>
          <p:cNvSpPr txBox="1"/>
          <p:nvPr/>
        </p:nvSpPr>
        <p:spPr>
          <a:xfrm>
            <a:off x="76320" y="1295280"/>
            <a:ext cx="8229600" cy="4827600"/>
          </a:xfrm>
          <a:prstGeom prst="rect">
            <a:avLst/>
          </a:prstGeom>
          <a:noFill/>
          <a:ln w="0">
            <a:noFill/>
          </a:ln>
        </p:spPr>
        <p:txBody>
          <a:bodyPr lIns="0" rIns="0" tIns="0" bIns="0"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One of the overarching principles of the EHC Program is to conduct CERs by approaching the evidence by a clinical, patient-centered perspective.</a:t>
            </a:r>
            <a:endParaRPr b="0" lang="en-US" sz="2400" spc="-1" strike="noStrike">
              <a:solidFill>
                <a:srgbClr val="ffffff"/>
              </a:solidFill>
              <a:latin typeface="Trebuchet MS"/>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lfand &amp; Balshem ,2009; Slutsky, et. al., 2008) </a:t>
            </a:r>
            <a:endParaRPr b="0" lang="en-US" sz="2400" spc="-1" strike="noStrike">
              <a:solidFill>
                <a:srgbClr val="ffffff"/>
              </a:solidFill>
              <a:latin typeface="Trebuchet MS"/>
            </a:endParaRPr>
          </a:p>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4:</a:t>
            </a:r>
            <a:br>
              <a:rPr sz="2800"/>
            </a:br>
            <a:r>
              <a:rPr b="1" lang="en-US" sz="2800" spc="-1" strike="noStrike">
                <a:solidFill>
                  <a:srgbClr val="ffffff"/>
                </a:solidFill>
                <a:latin typeface="Trebuchet MS"/>
              </a:rPr>
              <a:t>Patient-Centered Research</a:t>
            </a:r>
            <a:endParaRPr b="1" lang="en-US" sz="2800" spc="-1" strike="noStrike">
              <a:solidFill>
                <a:srgbClr val="ffffff"/>
              </a:solidFill>
              <a:latin typeface="Trebuchet MS"/>
            </a:endParaRPr>
          </a:p>
        </p:txBody>
      </p:sp>
      <p:sp>
        <p:nvSpPr>
          <p:cNvPr id="16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any ways researchers can demonstrate that their work is patient-centered. Please think of three examples of how your work has been patient-centered.</a:t>
            </a:r>
            <a:endParaRPr b="0" lang="en-US" sz="2400" spc="-1" strike="noStrike">
              <a:solidFill>
                <a:srgbClr val="ffffff"/>
              </a:solidFill>
              <a:latin typeface="Trebuchet MS"/>
            </a:endParaRPr>
          </a:p>
          <a:p>
            <a:pPr lvl="4" marL="1498680" indent="-28260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Patient-Centered Approaches</a:t>
            </a:r>
            <a:endParaRPr b="1" lang="en-US" sz="2800" spc="-1" strike="noStrike">
              <a:solidFill>
                <a:srgbClr val="ffffff"/>
              </a:solidFill>
              <a:latin typeface="Trebuchet MS"/>
            </a:endParaRPr>
          </a:p>
        </p:txBody>
      </p:sp>
      <p:sp>
        <p:nvSpPr>
          <p:cNvPr id="1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viding public access and opportunity to comment on draft documents</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cusing reports on outcomes and measures important to patients and their clinicians</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cumenting and making publicly available the processes used to develop a report</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9920" y="128520"/>
            <a:ext cx="823284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Patient-Centered Approaches (Cont)</a:t>
            </a:r>
            <a:endParaRPr b="1" lang="en-US" sz="2800" spc="-1" strike="noStrike">
              <a:solidFill>
                <a:srgbClr val="ffffff"/>
              </a:solidFill>
              <a:latin typeface="Trebuchet MS"/>
            </a:endParaRPr>
          </a:p>
        </p:txBody>
      </p:sp>
      <p:sp>
        <p:nvSpPr>
          <p:cNvPr id="16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patients and their clinicians i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ing and prioritizing research topics and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ntifying and refining key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nning, developing and updating reviews and protocols/repor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ulting during report developm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ributing to other dissemination &amp; translational activiti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lecting patient “testimonials” that illustrate the context and circumstances of patient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Module I</a:t>
            </a:r>
            <a:endParaRPr b="1" lang="en-US" sz="2800" spc="-1" strike="noStrike">
              <a:solidFill>
                <a:srgbClr val="ffffff"/>
              </a:solidFill>
              <a:latin typeface="Trebuchet MS"/>
            </a:endParaRPr>
          </a:p>
        </p:txBody>
      </p:sp>
      <p:sp>
        <p:nvSpPr>
          <p:cNvPr id="16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vision for stakeholder engagement is inclusive, broad, and evolv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expectation for stakeholder engagement is outlined in the initial legislation and current ARRA spend pla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suggests there are many benefits to engaging stakeholders in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of comparative effectiveness research (CER) and stakeholder engagement align closely</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 Quiz</a:t>
            </a:r>
            <a:endParaRPr b="1" lang="en-US" sz="2800" spc="-1" strike="noStrike">
              <a:solidFill>
                <a:srgbClr val="ffffff"/>
              </a:solidFill>
              <a:latin typeface="Trebuchet MS"/>
            </a:endParaRPr>
          </a:p>
        </p:txBody>
      </p:sp>
      <p:sp>
        <p:nvSpPr>
          <p:cNvPr id="17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help you review the information presented in Module I, please complete the following quiz. Answers are provided at the end of the modul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129528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ease select the statement that most closely represents AHRQ's vision for stakeholder engagement in the EHC Program:</a:t>
            </a:r>
            <a:endParaRPr b="1" lang="en-US" sz="2200" spc="-1" strike="noStrike">
              <a:solidFill>
                <a:srgbClr val="ffffff"/>
              </a:solidFill>
              <a:latin typeface="Trebuchet MS"/>
            </a:endParaRPr>
          </a:p>
        </p:txBody>
      </p:sp>
      <p:sp>
        <p:nvSpPr>
          <p:cNvPr id="172" name=""/>
          <p:cNvSpPr txBox="1"/>
          <p:nvPr/>
        </p:nvSpPr>
        <p:spPr>
          <a:xfrm>
            <a:off x="609120" y="2590920"/>
            <a:ext cx="8077320" cy="35352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only be involved in the final stages of resear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be strategically involved throughout the research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should be silent partn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impede the research process, but have to be included according to Congress</a:t>
            </a:r>
            <a:endParaRPr b="0" lang="en-US" sz="2400" spc="-1" strike="noStrike">
              <a:solidFill>
                <a:srgbClr val="ffffff"/>
              </a:solidFill>
              <a:latin typeface="Trebuchet MS"/>
            </a:endParaRPr>
          </a:p>
        </p:txBody>
      </p:sp>
      <p:sp>
        <p:nvSpPr>
          <p:cNvPr id="173"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Expect in Module I</a:t>
            </a:r>
            <a:endParaRPr b="1" lang="en-US" sz="2800" spc="-1" strike="noStrike">
              <a:solidFill>
                <a:srgbClr val="ffffff"/>
              </a:solidFill>
              <a:latin typeface="Trebuchet MS"/>
            </a:endParaRPr>
          </a:p>
        </p:txBody>
      </p:sp>
      <p:sp>
        <p:nvSpPr>
          <p:cNvPr id="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ule I will cover the following topic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vision for stakeholder engagement in the EHC Program</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heory and evidence behind stakeholder engagement in comparative effectiveness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lignment of principles of comparative effectiveness research (CER) and stakeholder engagemen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129528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ease select the statement that most closely represents AHRQ's vision for stakeholder engagement in the EHC Program:</a:t>
            </a:r>
            <a:endParaRPr b="1" lang="en-US" sz="2200" spc="-1" strike="noStrike">
              <a:solidFill>
                <a:srgbClr val="ffffff"/>
              </a:solidFill>
              <a:latin typeface="Trebuchet MS"/>
            </a:endParaRPr>
          </a:p>
        </p:txBody>
      </p:sp>
      <p:sp>
        <p:nvSpPr>
          <p:cNvPr id="175" name=""/>
          <p:cNvSpPr txBox="1"/>
          <p:nvPr/>
        </p:nvSpPr>
        <p:spPr>
          <a:xfrm>
            <a:off x="609120" y="2590920"/>
            <a:ext cx="8077320" cy="35352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only be involved in the final stages of resear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Stakeholders should be strategically involved throughout the research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should be silent partn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impede the research process, but have to be included according to Congress</a:t>
            </a:r>
            <a:endParaRPr b="0" lang="en-US" sz="2400" spc="-1" strike="noStrike">
              <a:solidFill>
                <a:srgbClr val="ffffff"/>
              </a:solidFill>
              <a:latin typeface="Trebuchet MS"/>
            </a:endParaRPr>
          </a:p>
        </p:txBody>
      </p:sp>
      <p:sp>
        <p:nvSpPr>
          <p:cNvPr id="176"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1: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7160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does the evidence suggest are potential benefits of stakeholder involvement in research?</a:t>
            </a:r>
            <a:endParaRPr b="1" lang="en-US" sz="2200" spc="-1" strike="noStrike">
              <a:solidFill>
                <a:srgbClr val="ffffff"/>
              </a:solidFill>
              <a:latin typeface="Trebuchet MS"/>
            </a:endParaRPr>
          </a:p>
        </p:txBody>
      </p:sp>
      <p:sp>
        <p:nvSpPr>
          <p:cNvPr id="178" name=""/>
          <p:cNvSpPr txBox="1"/>
          <p:nvPr/>
        </p:nvSpPr>
        <p:spPr>
          <a:xfrm>
            <a:off x="761760" y="2590560"/>
            <a:ext cx="7924680" cy="338292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application of evidenc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wer reading level of research repor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relevancy of research produc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dissemination avenu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number of editors to review reports</a:t>
            </a:r>
            <a:endParaRPr b="0" lang="en-US" sz="2400" spc="-1" strike="noStrike">
              <a:solidFill>
                <a:srgbClr val="ffffff"/>
              </a:solidFill>
              <a:latin typeface="Trebuchet MS"/>
            </a:endParaRPr>
          </a:p>
        </p:txBody>
      </p:sp>
      <p:sp>
        <p:nvSpPr>
          <p:cNvPr id="179"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37160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does the evidence suggest are potential benefits of stakeholder involvement in research?</a:t>
            </a:r>
            <a:endParaRPr b="1" lang="en-US" sz="2200" spc="-1" strike="noStrike">
              <a:solidFill>
                <a:srgbClr val="ffffff"/>
              </a:solidFill>
              <a:latin typeface="Trebuchet MS"/>
            </a:endParaRPr>
          </a:p>
        </p:txBody>
      </p:sp>
      <p:sp>
        <p:nvSpPr>
          <p:cNvPr id="181" name=""/>
          <p:cNvSpPr txBox="1"/>
          <p:nvPr/>
        </p:nvSpPr>
        <p:spPr>
          <a:xfrm>
            <a:off x="761760" y="2590560"/>
            <a:ext cx="7924680" cy="338292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application of evidenc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wer reading level of research repor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relevancy of research produc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dissemination avenu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number of editors to review reports</a:t>
            </a:r>
            <a:endParaRPr b="0" lang="en-US" sz="2400" spc="-1" strike="noStrike">
              <a:solidFill>
                <a:srgbClr val="ffffff"/>
              </a:solidFill>
              <a:latin typeface="Trebuchet MS"/>
            </a:endParaRPr>
          </a:p>
        </p:txBody>
      </p:sp>
      <p:sp>
        <p:nvSpPr>
          <p:cNvPr id="182"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2: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0280" y="127476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core principles of comparative effectiveness research and evidence-based medicine that closely aligns with principles of stakeholder engagement is:</a:t>
            </a:r>
            <a:endParaRPr b="1" lang="en-US" sz="2200" spc="-1" strike="noStrike">
              <a:solidFill>
                <a:srgbClr val="ffffff"/>
              </a:solidFill>
              <a:latin typeface="Trebuchet MS"/>
            </a:endParaRPr>
          </a:p>
        </p:txBody>
      </p:sp>
      <p:sp>
        <p:nvSpPr>
          <p:cNvPr id="184" name=""/>
          <p:cNvSpPr txBox="1"/>
          <p:nvPr/>
        </p:nvSpPr>
        <p:spPr>
          <a:xfrm>
            <a:off x="761760" y="2361960"/>
            <a:ext cx="7924680" cy="37638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ndardize methodolog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er review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centered approach</a:t>
            </a:r>
            <a:endParaRPr b="0" lang="en-US" sz="2400" spc="-1" strike="noStrike">
              <a:solidFill>
                <a:srgbClr val="ffffff"/>
              </a:solidFill>
              <a:latin typeface="Trebuchet MS"/>
            </a:endParaRPr>
          </a:p>
        </p:txBody>
      </p:sp>
      <p:sp>
        <p:nvSpPr>
          <p:cNvPr id="185"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0280" y="127476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core principles of comparative effectiveness research and evidence-based medicine that closely aligns with principles of stakeholder engagement is:</a:t>
            </a:r>
            <a:endParaRPr b="1" lang="en-US" sz="2200" spc="-1" strike="noStrike">
              <a:solidFill>
                <a:srgbClr val="ffffff"/>
              </a:solidFill>
              <a:latin typeface="Trebuchet MS"/>
            </a:endParaRPr>
          </a:p>
        </p:txBody>
      </p:sp>
      <p:sp>
        <p:nvSpPr>
          <p:cNvPr id="187" name=""/>
          <p:cNvSpPr txBox="1"/>
          <p:nvPr/>
        </p:nvSpPr>
        <p:spPr>
          <a:xfrm>
            <a:off x="761760" y="2361960"/>
            <a:ext cx="7924680" cy="37638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ndardize methodolog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er review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Patient-centered approach</a:t>
            </a:r>
            <a:endParaRPr b="0" lang="en-US" sz="2400" spc="-1" strike="noStrike">
              <a:solidFill>
                <a:srgbClr val="ffffff"/>
              </a:solidFill>
              <a:latin typeface="Trebuchet MS"/>
            </a:endParaRPr>
          </a:p>
        </p:txBody>
      </p:sp>
      <p:sp>
        <p:nvSpPr>
          <p:cNvPr id="188"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3: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pic>
        <p:nvPicPr>
          <p:cNvPr id="190" name="Content Placeholder 2" descr=""/>
          <p:cNvPicPr/>
          <p:nvPr/>
        </p:nvPicPr>
        <p:blipFill>
          <a:blip r:embed="rId1"/>
          <a:stretch/>
        </p:blipFill>
        <p:spPr>
          <a:xfrm>
            <a:off x="311040" y="1133640"/>
            <a:ext cx="8558280" cy="52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sp>
        <p:nvSpPr>
          <p:cNvPr id="192" name=""/>
          <p:cNvSpPr txBox="1"/>
          <p:nvPr/>
        </p:nvSpPr>
        <p:spPr>
          <a:xfrm>
            <a:off x="304920" y="1066680"/>
            <a:ext cx="8534160" cy="5105520"/>
          </a:xfrm>
          <a:prstGeom prst="rect">
            <a:avLst/>
          </a:prstGeom>
          <a:noFill/>
          <a:ln w="0">
            <a:noFill/>
          </a:ln>
        </p:spPr>
        <p:txBody>
          <a:bodyPr lIns="0" rIns="0" tIns="0" bIns="0" anchor="t">
            <a:normAutofit/>
          </a:bodyPr>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raham, I.D., Logan, J., Harrison, M.B., Straus, S.E., Tetroe, J., Caswell, W. &amp; Robinson, N. (2006). Lost in Knowledge Translation: Time for a Map? </a:t>
            </a:r>
            <a:r>
              <a:rPr b="0" i="1" lang="en-US" sz="1700" spc="-1" strike="noStrike">
                <a:solidFill>
                  <a:srgbClr val="ffffff"/>
                </a:solidFill>
                <a:latin typeface="Trebuchet MS"/>
              </a:rPr>
              <a:t>The Journal of Continuing Education in the Health Professions, </a:t>
            </a:r>
            <a:r>
              <a:rPr b="0" lang="en-US" sz="1700" spc="-1" strike="noStrike">
                <a:solidFill>
                  <a:srgbClr val="ffffff"/>
                </a:solidFill>
                <a:latin typeface="Trebuchet MS"/>
              </a:rPr>
              <a:t>26: 13-24.</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uyatt, G. &amp; Rennie, D.  (Eds.). (2002). </a:t>
            </a:r>
            <a:r>
              <a:rPr b="0" i="1" lang="en-US" sz="1700" spc="-1" strike="noStrike">
                <a:solidFill>
                  <a:srgbClr val="ffffff"/>
                </a:solidFill>
                <a:latin typeface="Trebuchet MS"/>
              </a:rPr>
              <a:t>Users’ guides to the medical literature: A manual for evidence-based clinical practice. </a:t>
            </a:r>
            <a:r>
              <a:rPr b="0" lang="en-US" sz="1700" spc="-1" strike="noStrike">
                <a:solidFill>
                  <a:srgbClr val="ffffff"/>
                </a:solidFill>
                <a:latin typeface="Trebuchet MS"/>
              </a:rPr>
              <a:t>Chicago, IL: AMA Press.</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Helfand, M. &amp; Balshem, H. (2009). Principles for developing guidance: AHRQ and the effective health care program. </a:t>
            </a:r>
            <a:r>
              <a:rPr b="0" i="1" lang="en-US" sz="1700" spc="-1" strike="noStrike">
                <a:solidFill>
                  <a:srgbClr val="ffffff"/>
                </a:solidFill>
                <a:latin typeface="Trebuchet MS"/>
              </a:rPr>
              <a:t>Journal of Clinical Epidemiology. </a:t>
            </a:r>
            <a:r>
              <a:rPr b="0" lang="en-US" sz="1700" spc="-1" strike="noStrike">
                <a:solidFill>
                  <a:srgbClr val="ffffff"/>
                </a:solidFill>
                <a:latin typeface="Trebuchet MS"/>
              </a:rPr>
              <a:t>Article in press.</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nvaer, S., Vist, G., Trommald, M. &amp; Oxman, A. (2002). Health policy-makers’ perceptions of their use of evidence: a systematic review. </a:t>
            </a:r>
            <a:r>
              <a:rPr b="0" i="1" lang="en-US" sz="1700" spc="-1" strike="noStrike">
                <a:solidFill>
                  <a:srgbClr val="ffffff"/>
                </a:solidFill>
                <a:latin typeface="Trebuchet MS"/>
              </a:rPr>
              <a:t>Journal of Health Services Research &amp; Policy, </a:t>
            </a:r>
            <a:r>
              <a:rPr b="0" lang="en-US" sz="1700" spc="-1" strike="noStrike">
                <a:solidFill>
                  <a:srgbClr val="ffffff"/>
                </a:solidFill>
                <a:latin typeface="Trebuchet MS"/>
              </a:rPr>
              <a:t>7(4): 239-44.</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Keown, K., Van Eerd, D. &amp; Irvin, E. (2008). Stakeholder Engagement Opportunities in Systematic Reviews: Knowledge Transfer for Policy and Practice. </a:t>
            </a:r>
            <a:r>
              <a:rPr b="0" i="1" lang="en-US" sz="1700" spc="-1" strike="noStrike">
                <a:solidFill>
                  <a:srgbClr val="ffffff"/>
                </a:solidFill>
                <a:latin typeface="Trebuchet MS"/>
              </a:rPr>
              <a:t>Journal of Continuing Education in the Health Professions, </a:t>
            </a:r>
            <a:r>
              <a:rPr b="0" lang="en-US" sz="1700" spc="-1" strike="noStrike">
                <a:solidFill>
                  <a:srgbClr val="ffffff"/>
                </a:solidFill>
                <a:latin typeface="Trebuchet MS"/>
              </a:rPr>
              <a:t>28(2): 67-72.</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Lomas, J. (2000). Using ‘Linkage and Exchange’ to Move Research into Policy at a Canadian Foundation. </a:t>
            </a:r>
            <a:r>
              <a:rPr b="0" i="1" lang="en-US" sz="1700" spc="-1" strike="noStrike">
                <a:solidFill>
                  <a:srgbClr val="ffffff"/>
                </a:solidFill>
                <a:latin typeface="Trebuchet MS"/>
              </a:rPr>
              <a:t>Health Affairs, </a:t>
            </a:r>
            <a:r>
              <a:rPr b="0" lang="en-US" sz="1700" spc="-1" strike="noStrike">
                <a:solidFill>
                  <a:srgbClr val="ffffff"/>
                </a:solidFill>
                <a:latin typeface="Trebuchet MS"/>
              </a:rPr>
              <a:t>19(3): 236-240.</a:t>
            </a: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pic>
        <p:nvPicPr>
          <p:cNvPr id="194" name="Content Placeholder 2" descr=""/>
          <p:cNvPicPr/>
          <p:nvPr/>
        </p:nvPicPr>
        <p:blipFill>
          <a:blip r:embed="rId1"/>
          <a:stretch/>
        </p:blipFill>
        <p:spPr>
          <a:xfrm>
            <a:off x="324000" y="1152360"/>
            <a:ext cx="867384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 Learning Objectives</a:t>
            </a:r>
            <a:endParaRPr b="1" lang="en-US" sz="2800" spc="-1" strike="noStrike">
              <a:solidFill>
                <a:srgbClr val="ffffff"/>
              </a:solidFill>
              <a:latin typeface="Trebuchet MS"/>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ter completing Module I, participants will be able to:</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HRQ’s vision for stakeholder engageme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theoretical basis for engaging stakeholde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at least three benefits of engaging stakeholders in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three differences between knowledge transfer and knowledge exchang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akeholder Engagement in Research</a:t>
            </a:r>
            <a:endParaRPr b="1" lang="en-US" sz="2800" spc="-1" strike="noStrike">
              <a:solidFill>
                <a:srgbClr val="ffffff"/>
              </a:solidFill>
              <a:latin typeface="Trebuchet MS"/>
            </a:endParaRPr>
          </a:p>
        </p:txBody>
      </p:sp>
      <p:pic>
        <p:nvPicPr>
          <p:cNvPr id="96" name="Content Placeholder 2" descr=""/>
          <p:cNvPicPr/>
          <p:nvPr/>
        </p:nvPicPr>
        <p:blipFill>
          <a:blip r:embed="rId1"/>
          <a:stretch/>
        </p:blipFill>
        <p:spPr>
          <a:xfrm>
            <a:off x="328680" y="1163520"/>
            <a:ext cx="855972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fining  Stakeholder Engagement</a:t>
            </a:r>
            <a:endParaRPr b="1" lang="en-US" sz="2800" spc="-1" strike="noStrike">
              <a:solidFill>
                <a:srgbClr val="ffffff"/>
              </a:solidFill>
              <a:latin typeface="Trebuchet MS"/>
            </a:endParaRPr>
          </a:p>
        </p:txBody>
      </p:sp>
      <p:pic>
        <p:nvPicPr>
          <p:cNvPr id="98" name="Content Placeholder 2" descr=""/>
          <p:cNvPicPr/>
          <p:nvPr/>
        </p:nvPicPr>
        <p:blipFill>
          <a:blip r:embed="rId1"/>
          <a:stretch/>
        </p:blipFill>
        <p:spPr>
          <a:xfrm>
            <a:off x="255600" y="1195560"/>
            <a:ext cx="8717040" cy="49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s Vision for Stakeholder Engagement</a:t>
            </a:r>
            <a:endParaRPr b="1" lang="en-US" sz="2800" spc="-1" strike="noStrike">
              <a:solidFill>
                <a:srgbClr val="ffffff"/>
              </a:solidFill>
              <a:latin typeface="Trebuchet MS"/>
            </a:endParaRPr>
          </a:p>
        </p:txBody>
      </p:sp>
      <p:pic>
        <p:nvPicPr>
          <p:cNvPr id="100" name="Content Placeholder 2" descr=""/>
          <p:cNvPicPr/>
          <p:nvPr/>
        </p:nvPicPr>
        <p:blipFill>
          <a:blip r:embed="rId1"/>
          <a:stretch/>
        </p:blipFill>
        <p:spPr>
          <a:xfrm>
            <a:off x="219240" y="1163520"/>
            <a:ext cx="8791560" cy="496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s Vision for Stakeholder Engagement</a:t>
            </a:r>
            <a:endParaRPr b="1" lang="en-US" sz="2800" spc="-1" strike="noStrike">
              <a:solidFill>
                <a:srgbClr val="ffffff"/>
              </a:solidFill>
              <a:latin typeface="Trebuchet MS"/>
            </a:endParaRPr>
          </a:p>
        </p:txBody>
      </p:sp>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are involved throughout the research proces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reate strategic involvement and partnerships with a broad and inclusive range of stakeholde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laborative relationships should inform all phases of research </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input maximize usefulness of EHC Program product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6:45:48Z</dcterms:created>
  <dc:creator>khs</dc:creator>
  <dc:description/>
  <dc:language>en-US</dc:language>
  <cp:lastModifiedBy>Danielle Lavallee</cp:lastModifiedBy>
  <dcterms:modified xsi:type="dcterms:W3CDTF">2011-10-31T22:02:13Z</dcterms:modified>
  <cp:revision>14</cp:revision>
  <dc:subject/>
  <dc:title>Slide 1</dc:title>
</cp:coreProperties>
</file>