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4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move the slide</a:t>
            </a:r>
            <a:endParaRPr b="1" lang="en-US" sz="3200" spc="-1" strike="noStrike">
              <a:solidFill>
                <a:srgbClr val="ffffff"/>
              </a:solidFill>
              <a:latin typeface="Trebuchet MS"/>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The Agency for Healthcare Research and Quality presents the following e-learning tool “Engaging Stakeholders in the Effective Health Care Program” to provide researchers and investigators with foundational information on, and tools for, engaging a broad range of stakeholders in the Effective Health Care Program.  The information presented is adapted from content developed by the Scientific Resource Center at the Oregon Evidence-based Practice Center.</a:t>
            </a: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4522F-E23C-4357-B068-72E0E4CE4F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mary goal of the Effective Health Care Program is to make evidence accessible and actionable for all types of health care decision-makers. One approach to increasing the uptake and utilization of evidence by decision-makers is to engage these stakeholders early and often in the research proc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ing stakeholders early and throughout the research process increases the relevance of research products (Innvaer, Vist, Trommald &amp; Oxman, 2002), knowledge exchange between investigators and stakeholders (Graham, 2006), application of evidence (Graham, 2006), real-world context (Keown et al., 2008; Whitlock et al., 2009), and dissemination avenues (Keown et al., 2008). Ultimately, AHRQ hopes that engaging stakeholders in the research process can lead to improved research products and greater utilization of evidence in subsequent decision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3C08-1DF2-4B47-855D-F96D498F92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engagement of stakeholders and the opening of communication between research investigators and their audiences increases the likelihood that end products will be relevant and useful to decision-makers at the point of care (Keown, et al., 2008; Graham, et al., 2006) and provides real-world context for the application of evidence (Keown, et al., 2008; Whitlock, et al., 200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ors want their work and resulting products to be utilized, but they sometimes lack information regarding the context and subtleties facing decision-makers. Similarly, decision-makers need to know which research products are applicable to the dilemmas they face, but they sometimes lack knowledge about which questions the research addresses, which research is reliable, and how to incorporate research findings into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3D83-C17A-4775-BD62-A660D26E48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dian Health Services Research Foundation describes knowledge exchanges as “collaborative problem-solving between researchers and decision makers,” which results in interactions that produce mutual learning “through the process of planning, disseminating, and applying existing or new research in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eory of knowledge exchange posits that investigators and decision-makers are normally separate groups with distinct cultures and perspectives on research and knowledge, with neither group fully understanding the other’s world. Exchange of information, rather than one-way communication between investigators and stakeholders is a collaborative process that can be new to both. Involving stakeholder decision-makers in research processes allows for the exchange necessary to provide “real world” context to investigators while providing valuable information about the research process and how to utilize end products to decision-makers (Keown, et al., 2008). This ongoing exchange of information and knowledge between investigators and stakeholders ensures that the products generated are relevant and applicable to stakeholder decision making as well as useful to investigators (Graham, et al., 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of knowledge exchange and eliciting stakeholder input does not mean that stakeholders dictate what a final research product will say. Instead, it allows an opportunity to identify questions and outcomes that are important to end-users. The end product should provide answers to questions that matter to stakeholders. Even the answer “there was not sufficient evidence” can be useful.</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23D1-B388-4114-9FBF-1A2C50D11F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of knowledge exchange can be very different from knowledge transfer. Some of these differences incl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ay versus two way communic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ng information versus discussing and exploring topic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le point of communication, after research versus multiple points of communication throughout the research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versus iterative proces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ribed or preset process versus organic proces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versus mutual benef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ECAD1-2358-4913-B216-6E59F208C67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ink about which of the following stakeholder involvement techniques have been used by you or your research team:</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Discussing/identifying potential research topics with stakeholder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tending meetings of stakeholder groups/organization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resenting information or findings at meetings of stakeholder groups/organization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sking clinical experts to help develop or clarify a research suggestion</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volving stakeholders in developing research question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Involving consumers or frontline clinicians in topic refinement activitie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sting discussion or focus groups of consumers or frontline clinicians</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osting draft documents for review and comment</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Publishing findings in journals, newsletter, etc.</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eing “commissioned” by a specialty society for a specific report</a:t>
            </a:r>
            <a:endParaRPr b="0" lang="en-US" sz="1100" spc="-1" strike="noStrike">
              <a:solidFill>
                <a:srgbClr val="000000"/>
              </a:solidFill>
              <a:latin typeface="Calibri"/>
            </a:endParaRPr>
          </a:p>
          <a:p>
            <a:pPr lvl="1" marL="392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Othe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2AF43-74DD-4E23-8D99-94AE1567837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CEE6-94FE-4172-AC94-BB269293FBA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B9BB-6D22-4B5C-90DF-CC5A3F34FF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Bringing decision makers who can use the results of a particular piece of research into its formulation and conduct is the best predictor for seeing the findings applied” (Lomas, 2000). The process of applying knowledge to action is complex and challenging. It is not linear, but is instead iterative and organic. It involves a regular exchange of knowledge between researchers and relevant decision-makers, or stakeholders. And, it increases the application of evidence to practice, policy and decision making (Graham et al., 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aunders et al. (2007) concluded, “Actively seeking the views of consumers regarding health research is now recognized as an opportunity to access valuable untapped knowledge, and a means of improving the relevance and translation of research into practice… Consumer perspectives trigger consideration for the wider environmental, psychosocial, and behavioral contexts of people’s lives. Further reported benefits include a greater acceptance and uptake of research findings in the community, and more efficient use of research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 as Whitlock et al. (2009) assert, “Engaging stakeholders as key informants provides credibility and avoids prioritizing topics that have no relevance to real-world issues.” Research that is valued and accepted by stakeholders is much more likely to be utilized and dissemin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C7D59-A46F-44AB-9005-3BA93DAE4F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ing stakeholders creates dissemination avenues for completed products (Keown, et al., 2008). Every stakeholder that is involved in the research process provides a potential opportunity for dissemination. Stakeholders may open dissemination paths through advocacy organizations or professional societies of which they are members, family and friends, their own health care providers or co-workers, health care systems, payer networks, or public programs. Each stakeholder can represent multiple avenues for dissemination, and the more invested they are in the research process and resulting products, the more likely they will be to help disseminate final products and find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5305-F1F3-4DA4-A072-D5FF55AA94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first of four modules as part of this e-learning tool.</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28C6-EC8B-496F-B00D-60CEADD3DD5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B079-AF01-43A9-A785-30DF46B378D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C465-7F37-4582-84FB-97BF8113888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9E49-CDAF-4CB1-BBC5-4CC172E7DFC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3993-42C0-49F4-B2CC-CCB301354C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07B5-83FF-4713-B96A-07425A73AA9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F8602-1895-402F-AD4D-EF29A8328F6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65F17-F4F5-477E-8814-8E75342958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9350-C40D-4414-A499-4D95C00C27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5E65-1400-4949-83AA-7C92B76FB6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CC41-A2E2-4BE7-B4F2-2740B682CD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EF2AA-5EE6-4259-9EF1-5F4EA9D7FC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89A06-F565-4C15-8C83-F3D366FBD7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ive Heath Care Program has established a series of methodological principles for conducting comparative effectiveness research and reviews. Stakeholder engagement is a guiding principle, along with transparency and scientific integrity. These principles can be found in the EHC Program Methods Guide, and have also been written about or referenced in other publications, such as the Journal of Clinical Epidemiology and several Institute of Medicine (IOM) repo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0F76-6423-490D-A7EC-6DD9F5704F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tient-centered approach to CER is central to evidence-based medicine and may require different techniques to address consumer concerns. “Clinicians must access the values and preferences of the patient and then place these in the context of the evidence about the benefits and risks of alternative courses of action” (Guyatt, 200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and their clinicians are concerned about outcomes. However, the outcomes most important to each may be different. For example, in a CER focused on lipid lowering agents, a physician may be most focused on the outcome of clinical tests. A patient, on the other hand, might be most worried about side-effect profiles and frequency of dosage. “These principles mean that, regardless of who nominates a topic and who might use a CER, the research &amp; reviews should address the circumstances and outcomes that are important to patients and consumers” (Helfand &amp; Balshem, 200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E4FAA-2083-4AC8-824E-013785FB3B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overarching principles of the Effective Health Care Program is to conduct CERs by approaching the evidence by a clinical, patient-centered perspective. According to Helfand and Balshem (2009) “CERs…seek to provide decision-makers with accurate, independent, scientifically rigorous information for comparing the effectiveness and safety of alternative clinical options, and have become the foundation for decision-making in clinical practice and health policy. To play this important role in decision making, CERs must address significant questions that are relevant to patients and clinici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ways investigators can demonstrate that their work is focused on patients and consumers, including having consumers initiate research through topic nomination, provide input into the formation of research questions, and assist in translation of final reports.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04F05-F46A-4973-8337-FFE525FAE20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ways researchers can demonstrate that their work is consumer-centered. Please list three examples of how your work has been patient-cen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7873-CAB1-47A6-96B3-BC16D8524D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examples of patient-centered approaches in the EHC Program. Some of these examples are list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4F2D-C4DF-4894-B01C-6DEC1A0EA53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examples of patient-centered approaches in the EHC Program. Some of these examples are list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1A32-3D15-4E0A-8480-790427A0811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is continually evolving and expanding opportunities for stakeholder involvement to fulfill its ultimate vision for inclusive and broad stakeholder engagement and knowledge exchange. Further, AHRQ's expectation for stakeholder engagement is outlined in the founding legislation and current ARRA spend plan. AHRQ’s vision and expectation for stakeholder engagement are well grounded in the literature, and aim to increase topic nominations, improve product development to meet end-user needs, and expand dissemination of research products. AHRQ expects that strategic involvement of stakeholders throughout the EHC Program research process will be mutually beneficial to investigators, stakeholders, and the Program as the principles of engagement and CER are closely aligned. AHRQ will continue to seek opportunities to increase involvement and improve Program outp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01CB-EA97-4208-8BFB-C52F72B904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CF58-709E-41FA-91E7-C28D11124F4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is continually evolving and expanding opportunities for stakeholder involvement to fulfill its vision for stakeholder engagement and knowledge exchange. AHRQ’s vision for stakeholder engagement is grounded in theory, principle, and practice. AHRQ’s vision aims to increase topic nominations, improve product development to meet end-user needs, and expand dissemination of research products. This module will provide information regarding AHRQ’s vision and expectations for, and theory and principles of stakeholder engagement in the EHC Program, as well as the alignment of these principles with the principles of comparative effectiveness research (C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70845-73DC-4385-8559-026BA2D46EE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F168-881D-412D-8FA9-16C7D62A3C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2AB8F-6FEB-492A-B4E1-C7B3521F32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0DD4-BE0D-4B9D-ABD9-FBB5145989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00B6-FCCC-4648-AAE5-AD37E1A005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989B2-89E4-4162-98F1-0B228B02C0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completing Module I, participants will be able t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HRQ’s vision for stakeholder engag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be the theoretical basis for engaging stakehold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at least three benefits of engaging stakeholders in researc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three differences between knowledge transfer and knowledge ex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3732E-F62D-4624-BF39-4E877C05F0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involving stakeholders in research has meant communicating questions or problems in the beginning phases and communicating results at the end of that research (Burger, Gochfeld &amp; Pletnikoff, 2009). AHRQ, however, is committed to processes that engage stakeholders throughout the research process and at strategic points. </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3C17-6555-4906-83E0-6A903B9F35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keholders are defined as individuals or organizations who have a personal or professional interest in the topic (O’Haire, 2011). Engagement in the EHC Program is a process of giving voice to and involving stakeholders in Program related decision making and research. It serves the purpose of reciprocal learning and knowledge exchange to improve health. This ultimately requires transitioning from knowledge transfer to knowledge exchange in order to develop more interactive and in depth relationships. The concepts of knowledge transfer and knowledge exchange will be discussed later in this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B950D-1B00-45A1-86EE-D7A0DFB80A3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l legislation creating the Effective Health Care Program (Section 1013, Medicare Prescription Drug, Improvement, and Modernization Act of 2003) outlined the need for broad stakeholder involvement. While stakeholders have been involved in multiple points of EHC Program research, funding from the American Reinvestment and Recovery Act (ARRA) of 2009 allowed for an expansion of EHC Program activities, increasing opportunities for stakeholder involv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 has held the involvement of stakeholders as a central element of the EHC Program since its inception, and has clearly outlined the continued expectation for broad stakeholder engagement in its spend plan for ARRA funding. The EHC Program includes as stakeholders those individuals and organizations external to AHRQ and its network of research institutions; those individuals and organizations with an interest in applying the findings of the research completed under the Program. There is a particular interest by </a:t>
            </a:r>
            <a:r>
              <a:rPr b="0" lang="en-US" sz="1200" spc="-1" strike="noStrike">
                <a:solidFill>
                  <a:srgbClr val="ff0000"/>
                </a:solidFill>
                <a:latin typeface="Calibri"/>
              </a:rPr>
              <a:t>AHRQ </a:t>
            </a:r>
            <a:r>
              <a:rPr b="0" lang="en-US" sz="1200" spc="-1" strike="noStrike">
                <a:solidFill>
                  <a:srgbClr val="000000"/>
                </a:solidFill>
                <a:latin typeface="Calibri"/>
              </a:rPr>
              <a:t>for the research to inform health care decisions by stakeholders, be they consumers, clinicians, or policymak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FFB48-C601-4BDC-965E-9350D45B93D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RQ’s vision for stakeholder engagement has continued to evolve and expand, and aims to involve stakeholders throughout the research process. AHRQ seeks to create strategic points of involvement that are mutually beneficial to stakeholders and research institutions, and ultimately serve the goals of the Program. AHRQ’s vision of stakeholder involvement includes research institutions developing ongoing relationships with stakeholders—particularly patients and their families or caregivers, and frontline clinicians. It is intended that these collaborative relationships will inform topic nominations, topic development, refinement and review, and ultimately product dissemination. AHRQ intends for these partnerships to be inclusive and broad, and to support the development of quality EHC Program research products and dissemination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89640" rIns="8964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7FB7-F35B-4227-8508-0422118541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30320"/>
            <a:ext cx="8229600" cy="3989520"/>
          </a:xfrm>
          <a:prstGeom prst="rect">
            <a:avLst/>
          </a:prstGeom>
          <a:noFill/>
          <a:ln w="0">
            <a:noFill/>
          </a:ln>
        </p:spPr>
        <p:txBody>
          <a:bodyPr lIns="0" rIns="0" tIns="0" bIns="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rebuchet MS"/>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
        <p:nvSpPr>
          <p:cNvPr id="1"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Rectangle 5"/>
          <p:cNvSpPr/>
          <p:nvPr/>
        </p:nvSpPr>
        <p:spPr>
          <a:xfrm>
            <a:off x="5638680" y="6497640"/>
            <a:ext cx="1067040" cy="2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Straight Connector 3"/>
          <p:cNvSpPr/>
          <p:nvPr/>
        </p:nvSpPr>
        <p:spPr>
          <a:xfrm>
            <a:off x="703440" y="3059280"/>
            <a:ext cx="7715160" cy="0"/>
          </a:xfrm>
          <a:prstGeom prst="line">
            <a:avLst/>
          </a:prstGeom>
          <a:ln w="25560">
            <a:solidFill>
              <a:srgbClr val="82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 name="Picture 4" descr="EHC-logo-reversed-color.png"/>
          <p:cNvPicPr/>
          <p:nvPr/>
        </p:nvPicPr>
        <p:blipFill>
          <a:blip r:embed="rId3"/>
          <a:stretch/>
        </p:blipFill>
        <p:spPr>
          <a:xfrm>
            <a:off x="2666880" y="5181480"/>
            <a:ext cx="3581640" cy="546120"/>
          </a:xfrm>
          <a:prstGeom prst="rect">
            <a:avLst/>
          </a:prstGeom>
          <a:ln w="0">
            <a:noFill/>
          </a:ln>
        </p:spPr>
      </p:pic>
      <p:sp>
        <p:nvSpPr>
          <p:cNvPr id="4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lick to edit the title text format</a:t>
            </a:r>
            <a:endParaRPr b="1"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447920"/>
            <a:ext cx="777240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Engaging Stakeholders in the </a:t>
            </a:r>
            <a:br>
              <a:rPr sz="3200"/>
            </a:br>
            <a:r>
              <a:rPr b="1" lang="en-US" sz="3200" spc="-1" strike="noStrike">
                <a:solidFill>
                  <a:srgbClr val="ffffff"/>
                </a:solidFill>
                <a:latin typeface="Trebuchet MS"/>
              </a:rPr>
              <a:t>Effective Health Care Program</a:t>
            </a:r>
            <a:endParaRPr b="1" lang="en-US" sz="3200" spc="-1" strike="noStrike">
              <a:solidFill>
                <a:srgbClr val="ffffff"/>
              </a:solidFill>
              <a:latin typeface="Trebuchet MS"/>
            </a:endParaRPr>
          </a:p>
        </p:txBody>
      </p:sp>
      <p:sp>
        <p:nvSpPr>
          <p:cNvPr id="82" name="PlaceHolder 2"/>
          <p:cNvSpPr>
            <a:spLocks noGrp="1"/>
          </p:cNvSpPr>
          <p:nvPr>
            <p:ph type="subTitle"/>
          </p:nvPr>
        </p:nvSpPr>
        <p:spPr>
          <a:xfrm>
            <a:off x="685440" y="3798360"/>
            <a:ext cx="739620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Information and tools for researchers and investigators</a:t>
            </a:r>
            <a:endParaRPr b="0" lang="en-US" sz="2000" spc="-1" strike="noStrike">
              <a:solidFill>
                <a:srgbClr val="ffffff"/>
              </a:solidFill>
              <a:latin typeface="Trebuchet MS"/>
            </a:endParaRPr>
          </a:p>
        </p:txBody>
      </p:sp>
      <p:sp>
        <p:nvSpPr>
          <p:cNvPr id="83" name="SessionQuestion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Questions /&gt;</a:t>
            </a:r>
            <a:endParaRPr b="0" lang="en-US" sz="1800" spc="-1" strike="noStrike">
              <a:solidFill>
                <a:srgbClr val="000000"/>
              </a:solidFill>
              <a:latin typeface="Arial"/>
            </a:endParaRPr>
          </a:p>
        </p:txBody>
      </p:sp>
      <p:sp>
        <p:nvSpPr>
          <p:cNvPr id="84" name="SessionAnswerData" hidden="1"/>
          <p:cNvSpPr/>
          <p:nvPr/>
        </p:nvSpPr>
        <p:spPr>
          <a:xfrm>
            <a:off x="1270080" y="0"/>
            <a:ext cx="360" cy="969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Answers /&gt;</a:t>
            </a:r>
            <a:endParaRPr b="0" lang="en-US" sz="1800" spc="-1" strike="noStrike">
              <a:solidFill>
                <a:srgbClr val="000000"/>
              </a:solidFill>
              <a:latin typeface="Arial"/>
            </a:endParaRPr>
          </a:p>
        </p:txBody>
      </p:sp>
      <p:sp>
        <p:nvSpPr>
          <p:cNvPr id="85" name="SessionResponseData" hidden="1"/>
          <p:cNvSpPr/>
          <p:nvPr/>
        </p:nvSpPr>
        <p:spPr>
          <a:xfrm>
            <a:off x="0" y="0"/>
            <a:ext cx="360" cy="102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AllResponses /&gt;</a:t>
            </a:r>
            <a:endParaRPr b="0" lang="en-US" sz="1800" spc="-1" strike="noStrike">
              <a:solidFill>
                <a:srgbClr val="000000"/>
              </a:solidFill>
              <a:latin typeface="Arial"/>
            </a:endParaRPr>
          </a:p>
        </p:txBody>
      </p:sp>
      <p:sp>
        <p:nvSpPr>
          <p:cNvPr id="86" name="SessionPresentationSettingsData" hidden="1"/>
          <p:cNvSpPr/>
          <p:nvPr/>
        </p:nvSpPr>
        <p:spPr>
          <a:xfrm>
            <a:off x="0" y="0"/>
            <a:ext cx="360" cy="3609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xml version="1.0"?&gt;&lt;Settings&gt;&lt;answerBulletFormat&gt;Numeric&lt;/answerBulletFormat&gt;&lt;answerNowAutoInsert&gt;No&lt;/answerNowAutoInsert&gt;&lt;answerNowStyle&gt;Explosion&lt;/answerNowStyle&gt;&lt;answerNowText&gt;Answer Now&lt;/answerNowText&gt;&lt;chartColors&gt;Use PowerPoint Color Scheme&lt;/chartColors&gt;&lt;chartType&gt;Horizontal&lt;/chartType&gt;&lt;correctAnswerIndicator&gt;Checkmark&lt;/correctAnswerIndicator&gt;&lt;countdownAutoInsert&gt;No&lt;/countdownAutoInsert&gt;&lt;countdownSeconds&gt;10&lt;/countdownSeconds&gt;&lt;countdownSound&gt;TicToc.wav&lt;/countdownSound&gt;&lt;countdownStyle&gt;Box&lt;/countdownStyle&gt;&lt;gridAutoInsert&gt;No&lt;/gridAutoInsert&gt;&lt;gridFillStyle&gt;Answered&lt;/gridFillStyle&gt;&lt;gridFillColor&gt;255,255,0&lt;/gridFillColor&gt;&lt;gridOpacity&gt;50%&lt;/gridOpacity&gt;&lt;gridTextStyle&gt;Keypad #&lt;/gridTextStyle&gt;&lt;inputSource&gt;Response Devices&lt;/inputSource&gt;&lt;multipleResponseDivisor&gt;# of Responses&lt;/multipleResponseDivisor&gt;&lt;participantsLeaderBoard&gt;5&lt;/participantsLeaderBoard&gt;&lt;percentageDecimalPlaces&gt;0&lt;/percentageDecimalPlaces&gt;&lt;responseCounterAutoInsert&gt;No&lt;/responseCounterAutoInsert&gt;&lt;responseCounterStyle&gt;Oval&lt;/responseCounterStyle&gt;&lt;responseCounterDisplayValue&gt;# of Votes Received&lt;/responseCounterDisplayValue&gt;&lt;insertObjectUsingColor&gt;Red&lt;/insertObjectUsingColor&gt;&lt;showResults&gt;Yes&lt;/showResults&gt;&lt;teamColors&gt;Use PowerPoint Color Scheme&lt;/teamColors&gt;&lt;teamIdentificationType&gt;None&lt;/teamIdentificationType&gt;&lt;teamScoringType&gt;Voting pads only&lt;/teamScoringType&gt;&lt;teamScoringDecimalPlaces&gt;1&lt;/teamScoringDecimalPlaces&gt;&lt;teamIdentificationItem&gt;&lt;/teamIdentificationItem&gt;&lt;teamsLeaderBoard&gt;5&lt;/teamsLeaderBoard&gt;&lt;teamName1&gt;&lt;/teamName1&gt;&lt;teamName2&gt;&lt;/teamName2&gt;&lt;teamName3&gt;&lt;/teamName3&gt;&lt;teamName4&gt;&lt;/teamName4&gt;&lt;teamName5&gt;&lt;/teamName5&gt;&lt;teamName6&gt;&lt;/teamName6&gt;&lt;teamName7&gt;&lt;/teamName7&gt;&lt;teamName8&gt;&lt;/teamName8&gt;&lt;teamName9&gt;&lt;/teamName9&gt;&lt;teamName10&gt;&lt;/teamName10&gt;&lt;showControlBar&gt;All Slides&lt;/showControlBar&gt;&lt;defaultCorrectPointValue&gt;0&lt;/defaultCorrectPointValue&gt;&lt;defaultIncorrectPointValue&gt;0&lt;/defaultIncorrectPointValue&gt;&lt;chartColor1&gt;187,224,227&lt;/chartColor1&gt;&lt;chartColor2&gt;51,51,153&lt;/chartColor2&gt;&lt;chartColor3&gt;0,153,153&lt;/chartColor3&gt;&lt;chartColor4&gt;153,204,0&lt;/chartColor4&gt;&lt;chartColor5&gt;128,128,128&lt;/chartColor5&gt;&lt;chartColor6&gt;0,0,0&lt;/chartColor6&gt;&lt;chartColor7&gt;0,102,204&lt;/chartColor7&gt;&lt;chartColor8&gt;204,204,255&lt;/chartColor8&gt;&lt;chartColor9&gt;255,0,0&lt;/chartColor9&gt;&lt;chartColor10&gt;255,255,0&lt;/chartColor10&gt;&lt;teamColor1&gt;187,224,227&lt;/teamColor1&gt;&lt;teamColor2&gt;51,51,153&lt;/teamColor2&gt;&lt;teamColor3&gt;0,153,153&lt;/teamColor3&gt;&lt;teamColor4&gt;153,204,0&lt;/teamColor4&gt;&lt;teamColor5&gt;128,128,128&lt;/teamColor5&gt;&lt;teamColor6&gt;0,0,0&lt;/teamColor6&gt;&lt;teamColor7&gt;0,102,204&lt;/teamColor7&gt;&lt;teamColor8&gt;204,204,255&lt;/teamColor8&gt;&lt;teamColor9&gt;255,0,0&lt;/teamColor9&gt;&lt;teamColor10&gt;255,255,0&lt;/teamColor10&gt;&lt;displayAnswerImagesDuringVote&gt;Yes&lt;/displayAnswerImagesDuringVote&gt;&lt;displayAnswerImagesWithResponses&gt;Yes&lt;/displayAnswerImagesWithResponses&gt;&lt;displayAnswerTextDuringVote&gt;Yes&lt;/displayAnswerTextDuringVote&gt;&lt;displayAnswerTextWithResponses&gt;Yes&lt;/displayAnswerTextWithResponses&gt;&lt;questionSlideID&gt;&lt;/questionSlideID&gt;&lt;controlBarState&gt;Expanded&lt;/controlBarState&gt;&lt;isGridColorKnownColor&gt;True&lt;/isGridColorKnownColor&gt;&lt;gridColorName&gt;Yellow&lt;/gridColorName&gt;&lt;/Settings&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a:t>
            </a:r>
            <a:endParaRPr b="1" lang="en-US" sz="2800" spc="-1" strike="noStrike">
              <a:solidFill>
                <a:srgbClr val="ffffff"/>
              </a:solidFill>
              <a:latin typeface="Trebuchet MS"/>
            </a:endParaRPr>
          </a:p>
        </p:txBody>
      </p:sp>
      <p:sp>
        <p:nvSpPr>
          <p:cNvPr id="104"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suggests that engaging stakeholders in research increases:</a:t>
            </a:r>
            <a:endParaRPr b="0" lang="en-US" sz="2400" spc="-1" strike="noStrike">
              <a:solidFill>
                <a:srgbClr val="ffffff"/>
              </a:solidFill>
              <a:latin typeface="Trebuchet MS"/>
            </a:endParaRPr>
          </a:p>
          <a:p>
            <a:pPr lvl="4" marL="1498680" indent="-28260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105" name="Rectangle 5" descr=""/>
          <p:cNvPicPr/>
          <p:nvPr/>
        </p:nvPicPr>
        <p:blipFill>
          <a:blip r:embed="rId1"/>
          <a:stretch/>
        </p:blipFill>
        <p:spPr>
          <a:xfrm>
            <a:off x="1974960" y="2530440"/>
            <a:ext cx="5054400" cy="755640"/>
          </a:xfrm>
          <a:prstGeom prst="rect">
            <a:avLst/>
          </a:prstGeom>
          <a:ln w="0">
            <a:noFill/>
          </a:ln>
        </p:spPr>
      </p:pic>
      <p:pic>
        <p:nvPicPr>
          <p:cNvPr id="106" name="Rectangle 6" descr=""/>
          <p:cNvPicPr/>
          <p:nvPr/>
        </p:nvPicPr>
        <p:blipFill>
          <a:blip r:embed="rId2"/>
          <a:stretch/>
        </p:blipFill>
        <p:spPr>
          <a:xfrm>
            <a:off x="1957320" y="3292560"/>
            <a:ext cx="5052960" cy="755640"/>
          </a:xfrm>
          <a:prstGeom prst="rect">
            <a:avLst/>
          </a:prstGeom>
          <a:ln w="0">
            <a:noFill/>
          </a:ln>
        </p:spPr>
      </p:pic>
      <p:pic>
        <p:nvPicPr>
          <p:cNvPr id="107" name="Rectangle 7" descr=""/>
          <p:cNvPicPr/>
          <p:nvPr/>
        </p:nvPicPr>
        <p:blipFill>
          <a:blip r:embed="rId3"/>
          <a:stretch/>
        </p:blipFill>
        <p:spPr>
          <a:xfrm>
            <a:off x="1957320" y="4054320"/>
            <a:ext cx="5052960" cy="755640"/>
          </a:xfrm>
          <a:prstGeom prst="rect">
            <a:avLst/>
          </a:prstGeom>
          <a:ln w="0">
            <a:noFill/>
          </a:ln>
        </p:spPr>
      </p:pic>
      <p:pic>
        <p:nvPicPr>
          <p:cNvPr id="108" name="Rectangle 8" descr=""/>
          <p:cNvPicPr/>
          <p:nvPr/>
        </p:nvPicPr>
        <p:blipFill>
          <a:blip r:embed="rId4"/>
          <a:stretch/>
        </p:blipFill>
        <p:spPr>
          <a:xfrm>
            <a:off x="1957320" y="4816440"/>
            <a:ext cx="5052960" cy="75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 </a:t>
            </a:r>
            <a:br>
              <a:rPr sz="2800"/>
            </a:br>
            <a:r>
              <a:rPr b="1" lang="en-US" sz="2800" spc="-1" strike="noStrike">
                <a:solidFill>
                  <a:srgbClr val="ffffff"/>
                </a:solidFill>
                <a:latin typeface="Trebuchet MS"/>
              </a:rPr>
              <a:t>Relevance &amp; Context</a:t>
            </a:r>
            <a:endParaRPr b="1" lang="en-US" sz="2800" spc="-1" strike="noStrike">
              <a:solidFill>
                <a:srgbClr val="ffffff"/>
              </a:solidFill>
              <a:latin typeface="Trebuchet MS"/>
            </a:endParaRPr>
          </a:p>
        </p:txBody>
      </p:sp>
      <p:sp>
        <p:nvSpPr>
          <p:cNvPr id="110" name="PlaceHolder 2"/>
          <p:cNvSpPr>
            <a:spLocks noGrp="1"/>
          </p:cNvSpPr>
          <p:nvPr>
            <p:ph/>
          </p:nvPr>
        </p:nvSpPr>
        <p:spPr>
          <a:xfrm>
            <a:off x="609120" y="1219320"/>
            <a:ext cx="4419720" cy="4830480"/>
          </a:xfrm>
          <a:prstGeom prst="rect">
            <a:avLst/>
          </a:prstGeom>
          <a:noFill/>
          <a:ln w="0">
            <a:noFill/>
          </a:ln>
        </p:spPr>
        <p:txBody>
          <a:bodyPr lIns="90000" rIns="90000" tIns="46800" bIns="46800" anchor="t">
            <a:norm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udies indicate that involving stakeholders early on leads to research products that feature:</a:t>
            </a:r>
            <a:endParaRPr b="0" lang="en-US" sz="2400" spc="-1" strike="noStrike">
              <a:solidFill>
                <a:srgbClr val="ffffff"/>
              </a:solidFill>
              <a:latin typeface="Trebuchet MS"/>
            </a:endParaRPr>
          </a:p>
          <a:p>
            <a:pPr>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levant information</a:t>
            </a:r>
            <a:endParaRPr b="0" lang="en-US" sz="2400" spc="-1" strike="noStrike">
              <a:solidFill>
                <a:srgbClr val="ffffff"/>
              </a:solidFill>
              <a:latin typeface="Trebuchet MS"/>
            </a:endParaRPr>
          </a:p>
          <a:p>
            <a:pPr>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pplicable evidence</a:t>
            </a:r>
            <a:endParaRPr b="0" lang="en-US" sz="2400" spc="-1" strike="noStrike">
              <a:solidFill>
                <a:srgbClr val="ffffff"/>
              </a:solidFill>
              <a:latin typeface="Trebuchet MS"/>
            </a:endParaRPr>
          </a:p>
          <a:p>
            <a:pPr>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al-world context</a:t>
            </a:r>
            <a:endParaRPr b="0" lang="en-US" sz="2400" spc="-1" strike="noStrike">
              <a:solidFill>
                <a:srgbClr val="ffffff"/>
              </a:solidFill>
              <a:latin typeface="Trebuchet MS"/>
            </a:endParaRPr>
          </a:p>
          <a:p>
            <a:pPr>
              <a:lnSpc>
                <a:spcPct val="110000"/>
              </a:lnSpc>
              <a:spcBef>
                <a:spcPts val="901"/>
              </a:spcBef>
              <a:buClr>
                <a:srgbClr val="dfb20f"/>
              </a:buClr>
              <a:buSzPct val="8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formation to address existing stakeholder concerns</a:t>
            </a:r>
            <a:endParaRPr b="0" lang="en-US" sz="2400" spc="-1" strike="noStrike">
              <a:solidFill>
                <a:srgbClr val="ffffff"/>
              </a:solidFill>
              <a:latin typeface="Trebuchet MS"/>
            </a:endParaRPr>
          </a:p>
        </p:txBody>
      </p:sp>
      <p:sp>
        <p:nvSpPr>
          <p:cNvPr id="111" name="Text Box 2"/>
          <p:cNvSpPr/>
          <p:nvPr/>
        </p:nvSpPr>
        <p:spPr>
          <a:xfrm>
            <a:off x="5257800" y="2297160"/>
            <a:ext cx="3505320" cy="2377800"/>
          </a:xfrm>
          <a:prstGeom prst="rect">
            <a:avLst/>
          </a:prstGeom>
          <a:solidFill>
            <a:srgbClr val="ffffff">
              <a:alpha val="98000"/>
            </a:srgbClr>
          </a:solidFill>
          <a:ln w="76320">
            <a:solidFill>
              <a:srgbClr val="17365d"/>
            </a:solidFill>
            <a:miter/>
          </a:ln>
        </p:spPr>
        <p:style>
          <a:lnRef idx="0"/>
          <a:fillRef idx="0"/>
          <a:effectRef idx="0"/>
          <a:fontRef idx="minor"/>
        </p:style>
        <p:txBody>
          <a:bodyPr lIns="137160" rIns="137160"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are the best oral medicines to treat for type 2 diabetes?</a:t>
            </a:r>
            <a:endParaRPr b="0" lang="en-US" sz="1800" spc="-1" strike="noStrike">
              <a:solidFill>
                <a:srgbClr val="000000"/>
              </a:solidFill>
              <a:latin typeface="Arial"/>
            </a:endParaRPr>
          </a:p>
          <a:p>
            <a:pPr lvl="1" marL="457200" algn="r">
              <a:lnSpc>
                <a:spcPct val="100000"/>
              </a:lnSpc>
              <a:spcAft>
                <a:spcPts val="1001"/>
              </a:spcAft>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Topic submitted by the American College of Physicians, a professional association representing 132,000 medical practitioners across the n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a:t>
            </a:r>
            <a:br>
              <a:rPr sz="2800"/>
            </a:br>
            <a:r>
              <a:rPr b="1" lang="en-US" sz="2800" spc="-1" strike="noStrike">
                <a:solidFill>
                  <a:srgbClr val="ffffff"/>
                </a:solidFill>
                <a:latin typeface="Trebuchet MS"/>
              </a:rPr>
              <a:t>Knowledge Exchange</a:t>
            </a:r>
            <a:endParaRPr b="1" lang="en-US" sz="2800" spc="-1" strike="noStrike">
              <a:solidFill>
                <a:srgbClr val="ffffff"/>
              </a:solidFill>
              <a:latin typeface="Trebuchet MS"/>
            </a:endParaRPr>
          </a:p>
        </p:txBody>
      </p:sp>
      <p:sp>
        <p:nvSpPr>
          <p:cNvPr id="113" name=""/>
          <p:cNvSpPr txBox="1"/>
          <p:nvPr/>
        </p:nvSpPr>
        <p:spPr>
          <a:xfrm>
            <a:off x="456840" y="1066320"/>
            <a:ext cx="8381880" cy="4907160"/>
          </a:xfrm>
          <a:prstGeom prst="rect">
            <a:avLst/>
          </a:prstGeom>
          <a:noFill/>
          <a:ln w="0">
            <a:noFill/>
          </a:ln>
        </p:spPr>
        <p:txBody>
          <a:bodyPr lIns="0" rIns="0" tIns="0" bIns="0" anchor="t">
            <a:normAutofit/>
          </a:bodyPr>
          <a:p>
            <a:pPr marL="291960" indent="-29196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volving stakeholders in the research process facilitates:</a:t>
            </a: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a:p>
            <a:pPr marL="29196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114" name="Diagram 3" descr=""/>
          <p:cNvPicPr/>
          <p:nvPr/>
        </p:nvPicPr>
        <p:blipFill>
          <a:blip r:embed="rId1"/>
          <a:stretch/>
        </p:blipFill>
        <p:spPr>
          <a:xfrm>
            <a:off x="1822320" y="2279520"/>
            <a:ext cx="5499360" cy="379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Knowledge Transfer vs. Knowledge Exchange</a:t>
            </a:r>
            <a:endParaRPr b="1" lang="en-US" sz="2800" spc="-1" strike="noStrike">
              <a:solidFill>
                <a:srgbClr val="ffffff"/>
              </a:solidFill>
              <a:latin typeface="Trebuchet MS"/>
            </a:endParaRPr>
          </a:p>
        </p:txBody>
      </p:sp>
      <p:pic>
        <p:nvPicPr>
          <p:cNvPr id="116" name="Diagram 4" descr=""/>
          <p:cNvPicPr/>
          <p:nvPr/>
        </p:nvPicPr>
        <p:blipFill>
          <a:blip r:embed="rId1"/>
          <a:stretch/>
        </p:blipFill>
        <p:spPr>
          <a:xfrm>
            <a:off x="554040" y="1292400"/>
            <a:ext cx="8132760" cy="480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1:</a:t>
            </a:r>
            <a:br>
              <a:rPr sz="2800"/>
            </a:br>
            <a:r>
              <a:rPr b="1" lang="en-US" sz="2800" spc="-1" strike="noStrike">
                <a:solidFill>
                  <a:srgbClr val="ffffff"/>
                </a:solidFill>
                <a:latin typeface="Trebuchet MS"/>
              </a:rPr>
              <a:t>Stakeholder Engagement Techniques</a:t>
            </a:r>
            <a:endParaRPr b="1" lang="en-US" sz="2800" spc="-1" strike="noStrike">
              <a:solidFill>
                <a:srgbClr val="ffffff"/>
              </a:solidFill>
              <a:latin typeface="Trebuchet MS"/>
            </a:endParaRPr>
          </a:p>
        </p:txBody>
      </p:sp>
      <p:sp>
        <p:nvSpPr>
          <p:cNvPr id="118" name=""/>
          <p:cNvSpPr txBox="1"/>
          <p:nvPr/>
        </p:nvSpPr>
        <p:spPr>
          <a:xfrm>
            <a:off x="304560" y="1142640"/>
            <a:ext cx="8839080" cy="52578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nk about which of the following stakeholder involvement techniques have been used by you or your research team:</a:t>
            </a:r>
            <a:endParaRPr b="0" lang="en-US" sz="2400" spc="-1" strike="noStrike">
              <a:solidFill>
                <a:srgbClr val="ffffff"/>
              </a:solidFill>
              <a:latin typeface="Trebuchet MS"/>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 </a:t>
            </a:r>
            <a:r>
              <a:rPr b="0" lang="en-US" sz="2000" spc="-1" strike="noStrike">
                <a:solidFill>
                  <a:srgbClr val="ffffff"/>
                </a:solidFill>
                <a:latin typeface="Trebuchet MS"/>
              </a:rPr>
              <a:t>Discussing/identifying potential research topics with stakeholder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ttending meetings of stakeholder groups/organization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Presenting information or findings at meetings of stakeholder organization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Asking clinical experts to help develop or clarify a research suggestion</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nvolving stakeholders in developing research question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Involving patients &amp; consumers or frontline clinicians in topic refinement activities</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Posting draft documents for review and comment</a:t>
            </a:r>
            <a:endParaRPr b="0" lang="en-US" sz="2000" spc="-1" strike="noStrike">
              <a:solidFill>
                <a:srgbClr val="ffffff"/>
              </a:solidFill>
              <a:latin typeface="Trebuchet MS"/>
            </a:endParaRPr>
          </a:p>
          <a:p>
            <a:pPr lvl="1" marL="272880">
              <a:lnSpc>
                <a:spcPct val="100000"/>
              </a:lnSpc>
              <a:spcBef>
                <a:spcPts val="75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 </a:t>
            </a:r>
            <a:r>
              <a:rPr b="0" lang="en-US" sz="2000" spc="-1" strike="noStrike">
                <a:solidFill>
                  <a:srgbClr val="ffffff"/>
                </a:solidFill>
                <a:latin typeface="Trebuchet MS"/>
              </a:rPr>
              <a:t>Publishing findings in journals, newsletter, etc.</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2:</a:t>
            </a:r>
            <a:br>
              <a:rPr sz="2800"/>
            </a:br>
            <a:r>
              <a:rPr b="1" lang="en-US" sz="2800" spc="-1" strike="noStrike">
                <a:solidFill>
                  <a:srgbClr val="ffffff"/>
                </a:solidFill>
                <a:latin typeface="Trebuchet MS"/>
              </a:rPr>
              <a:t>Knowledge Transfer vs. Knowledge Exchange</a:t>
            </a:r>
            <a:endParaRPr b="1" lang="en-US" sz="2800" spc="-1" strike="noStrike">
              <a:solidFill>
                <a:srgbClr val="ffffff"/>
              </a:solidFill>
              <a:latin typeface="Trebuchet MS"/>
            </a:endParaRPr>
          </a:p>
        </p:txBody>
      </p:sp>
      <p:sp>
        <p:nvSpPr>
          <p:cNvPr id="12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following slide provides examples of stakeholder engagement techniques. For each example, please consider if the activity is a form of </a:t>
            </a:r>
            <a:r>
              <a:rPr b="0" lang="en-US" sz="2400" spc="-1" strike="noStrike" u="sng">
                <a:solidFill>
                  <a:srgbClr val="ffffff"/>
                </a:solidFill>
                <a:uFillTx/>
                <a:latin typeface="Trebuchet MS"/>
              </a:rPr>
              <a:t>knowledge transfer</a:t>
            </a:r>
            <a:r>
              <a:rPr b="0" lang="en-US" sz="2400" spc="-1" strike="noStrike">
                <a:solidFill>
                  <a:srgbClr val="ffffff"/>
                </a:solidFill>
                <a:latin typeface="Trebuchet MS"/>
              </a:rPr>
              <a:t> or </a:t>
            </a:r>
            <a:r>
              <a:rPr b="0" lang="en-US" sz="2400" spc="-1" strike="noStrike" u="sng">
                <a:solidFill>
                  <a:srgbClr val="ffffff"/>
                </a:solidFill>
                <a:uFillTx/>
                <a:latin typeface="Trebuchet MS"/>
              </a:rPr>
              <a:t>knowledge exchange.</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2:</a:t>
            </a:r>
            <a:br>
              <a:rPr sz="2800"/>
            </a:br>
            <a:r>
              <a:rPr b="1" lang="en-US" sz="2800" spc="-1" strike="noStrike">
                <a:solidFill>
                  <a:srgbClr val="ffffff"/>
                </a:solidFill>
                <a:latin typeface="Trebuchet MS"/>
              </a:rPr>
              <a:t>Knowledge Transfer vs. Knowledge Exchange</a:t>
            </a:r>
            <a:endParaRPr b="1" lang="en-US" sz="2800" spc="-1" strike="noStrike">
              <a:solidFill>
                <a:srgbClr val="ffffff"/>
              </a:solidFill>
              <a:latin typeface="Trebuchet MS"/>
            </a:endParaRPr>
          </a:p>
        </p:txBody>
      </p:sp>
      <p:sp>
        <p:nvSpPr>
          <p:cNvPr id="122" name=""/>
          <p:cNvSpPr txBox="1"/>
          <p:nvPr/>
        </p:nvSpPr>
        <p:spPr>
          <a:xfrm>
            <a:off x="457200" y="1298520"/>
            <a:ext cx="8229600" cy="48276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cussing/soliciting potential research questions with stakeholde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ding meetings of stakeholder groups/organization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ing information or findings at meetings of stakeholder groups/organization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a nominator in topic refinement activiti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ting a draft document for review &amp; comment</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shing findings in journals, newsletters, etc.</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0320"/>
            <a:ext cx="8229600" cy="8604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2: Answers</a:t>
            </a:r>
            <a:br>
              <a:rPr sz="2800"/>
            </a:br>
            <a:r>
              <a:rPr b="1" lang="en-US" sz="2800" spc="-1" strike="noStrike">
                <a:solidFill>
                  <a:srgbClr val="ffffff"/>
                </a:solidFill>
                <a:latin typeface="Trebuchet MS"/>
              </a:rPr>
              <a:t>Knowledge Transfer vs. Knowledge Exchange</a:t>
            </a:r>
            <a:endParaRPr b="1" lang="en-US" sz="2800" spc="-1" strike="noStrike">
              <a:solidFill>
                <a:srgbClr val="ffffff"/>
              </a:solidFill>
              <a:latin typeface="Trebuchet MS"/>
            </a:endParaRPr>
          </a:p>
        </p:txBody>
      </p:sp>
      <p:sp>
        <p:nvSpPr>
          <p:cNvPr id="124" name=""/>
          <p:cNvSpPr txBox="1"/>
          <p:nvPr/>
        </p:nvSpPr>
        <p:spPr>
          <a:xfrm>
            <a:off x="380520" y="1066680"/>
            <a:ext cx="8458200" cy="5059440"/>
          </a:xfrm>
          <a:prstGeom prst="rect">
            <a:avLst/>
          </a:prstGeom>
          <a:noFill/>
          <a:ln w="0">
            <a:noFill/>
          </a:ln>
        </p:spPr>
        <p:txBody>
          <a:bodyPr lIns="0" rIns="0" tIns="0" bIns="0" anchor="t">
            <a:normAutofit fontScale="98000"/>
          </a:bodyPr>
          <a:p>
            <a:pPr marL="447840" indent="-447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Knowledge Exchange</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cussing/soliciting potential research questions with stakeholders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a nominator in topic refinement activities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ting a draft document for review &amp; comment</a:t>
            </a:r>
            <a:endParaRPr b="0" lang="en-US" sz="2400" spc="-1" strike="noStrike">
              <a:solidFill>
                <a:srgbClr val="ffffff"/>
              </a:solidFill>
              <a:latin typeface="Trebuchet MS"/>
            </a:endParaRPr>
          </a:p>
          <a:p>
            <a:pPr marL="447840" indent="-44784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rebuchet MS"/>
            </a:endParaRPr>
          </a:p>
          <a:p>
            <a:pPr marL="447840" indent="-447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Knowledge Transfer</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ding meetings of stakeholder groups/organizations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ing information or findings at meetings of stakeholder groups/organizations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shing findings in journals, newsletters, etc. </a:t>
            </a: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447840" indent="-447840">
              <a:lnSpc>
                <a:spcPct val="100000"/>
              </a:lnSpc>
              <a:spcBef>
                <a:spcPts val="901"/>
              </a:spcBef>
              <a:buClr>
                <a:srgbClr val="dfb20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 </a:t>
            </a:r>
            <a:br>
              <a:rPr sz="2800"/>
            </a:br>
            <a:r>
              <a:rPr b="1" lang="en-US" sz="2800" spc="-1" strike="noStrike">
                <a:solidFill>
                  <a:srgbClr val="ffffff"/>
                </a:solidFill>
                <a:latin typeface="Trebuchet MS"/>
              </a:rPr>
              <a:t>Application of Evidence</a:t>
            </a:r>
            <a:endParaRPr b="1" lang="en-US" sz="2800" spc="-1" strike="noStrike">
              <a:solidFill>
                <a:srgbClr val="ffffff"/>
              </a:solidFill>
              <a:latin typeface="Trebuchet MS"/>
            </a:endParaRPr>
          </a:p>
        </p:txBody>
      </p:sp>
      <p:sp>
        <p:nvSpPr>
          <p:cNvPr id="126"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stakeholders in the research process leads to applicable research products that:</a:t>
            </a:r>
            <a:endParaRPr b="0" lang="en-US" sz="2400" spc="-1" strike="noStrike">
              <a:solidFill>
                <a:srgbClr val="ffffff"/>
              </a:solidFill>
              <a:latin typeface="Trebuchet MS"/>
            </a:endParaRPr>
          </a:p>
          <a:p>
            <a:pPr>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dress specific questions with appropriate context</a:t>
            </a:r>
            <a:endParaRPr b="0" lang="en-US" sz="2400" spc="-1" strike="noStrike">
              <a:solidFill>
                <a:srgbClr val="ffffff"/>
              </a:solidFill>
              <a:latin typeface="Trebuchet MS"/>
            </a:endParaRPr>
          </a:p>
          <a:p>
            <a:pPr>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re useable and actionable</a:t>
            </a:r>
            <a:endParaRPr b="0" lang="en-US" sz="2400" spc="-1" strike="noStrike">
              <a:solidFill>
                <a:srgbClr val="ffffff"/>
              </a:solidFill>
              <a:latin typeface="Trebuchet MS"/>
            </a:endParaRPr>
          </a:p>
          <a:p>
            <a:pPr>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orporate wider contextual issues</a:t>
            </a:r>
            <a:endParaRPr b="0" lang="en-US" sz="2400" spc="-1" strike="noStrike">
              <a:solidFill>
                <a:srgbClr val="ffffff"/>
              </a:solidFill>
              <a:latin typeface="Trebuchet MS"/>
            </a:endParaRPr>
          </a:p>
          <a:p>
            <a:pPr>
              <a:lnSpc>
                <a:spcPct val="100000"/>
              </a:lnSpc>
              <a:spcBef>
                <a:spcPts val="901"/>
              </a:spcBef>
              <a:buClr>
                <a:srgbClr val="dfb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re accepted and valued by end-user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Theory of Stakeholder Engagement:</a:t>
            </a:r>
            <a:br>
              <a:rPr sz="2800"/>
            </a:br>
            <a:r>
              <a:rPr b="1" lang="en-US" sz="2800" spc="-1" strike="noStrike">
                <a:solidFill>
                  <a:srgbClr val="ffffff"/>
                </a:solidFill>
                <a:latin typeface="Trebuchet MS"/>
              </a:rPr>
              <a:t>Dissemination Avenues</a:t>
            </a:r>
            <a:endParaRPr b="1" lang="en-US" sz="2800" spc="-1" strike="noStrike">
              <a:solidFill>
                <a:srgbClr val="ffffff"/>
              </a:solidFill>
              <a:latin typeface="Trebuchet MS"/>
            </a:endParaRPr>
          </a:p>
        </p:txBody>
      </p:sp>
      <p:sp>
        <p:nvSpPr>
          <p:cNvPr id="128"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stakeholders in the research process can lead to dissemination opportunities through:</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dvocacy organization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ofessional societie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amily and friend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linician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ealth care system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yers</a:t>
            </a:r>
            <a:endParaRPr b="0" lang="en-US" sz="24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c programs</a:t>
            </a:r>
            <a:endParaRPr b="0" lang="en-US" sz="2400" spc="-1" strike="noStrike">
              <a:solidFill>
                <a:srgbClr val="ffffff"/>
              </a:solidFill>
              <a:latin typeface="Trebuchet MS"/>
            </a:endParaRPr>
          </a:p>
        </p:txBody>
      </p:sp>
      <p:pic>
        <p:nvPicPr>
          <p:cNvPr id="129" name="Picture 2" descr="C:\Documents and Settings\slaughsa\Local Settings\Temporary Internet Files\Content.IE5\THRO710Z\MP900442390[1].jpg"/>
          <p:cNvPicPr/>
          <p:nvPr/>
        </p:nvPicPr>
        <p:blipFill>
          <a:blip r:embed="rId1"/>
          <a:stretch/>
        </p:blipFill>
        <p:spPr>
          <a:xfrm>
            <a:off x="5638680" y="2895480"/>
            <a:ext cx="2791080" cy="18558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Full Course Outline</a:t>
            </a:r>
            <a:endParaRPr b="1" lang="en-US" sz="2800" spc="-1" strike="noStrike">
              <a:solidFill>
                <a:srgbClr val="ffffff"/>
              </a:solidFill>
              <a:latin typeface="Trebuchet MS"/>
            </a:endParaRPr>
          </a:p>
        </p:txBody>
      </p:sp>
      <p:pic>
        <p:nvPicPr>
          <p:cNvPr id="88" name="Content Placeholder 3" descr=""/>
          <p:cNvPicPr/>
          <p:nvPr/>
        </p:nvPicPr>
        <p:blipFill>
          <a:blip r:embed="rId1"/>
          <a:stretch/>
        </p:blipFill>
        <p:spPr>
          <a:xfrm>
            <a:off x="378000" y="1243080"/>
            <a:ext cx="8381880" cy="4986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3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following slide provide examples of engagement activities. Please consider the possible resulting benefit(s) for each example.</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3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 of stakeholder engagement:</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cussing/soliciting potential research ideas from stakeholder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br>
              <a:rPr sz="2800"/>
            </a:br>
            <a:r>
              <a:rPr b="1" lang="en-US" sz="2800" spc="-1" strike="noStrike">
                <a:solidFill>
                  <a:srgbClr val="ffffff"/>
                </a:solidFill>
                <a:latin typeface="Trebuchet MS"/>
              </a:rPr>
              <a:t>Benefits of Stakeholder Engagement</a:t>
            </a:r>
            <a:endParaRPr b="1" lang="en-US" sz="2800" spc="-1" strike="noStrike">
              <a:solidFill>
                <a:srgbClr val="ffffff"/>
              </a:solidFill>
              <a:latin typeface="Trebuchet MS"/>
            </a:endParaRPr>
          </a:p>
        </p:txBody>
      </p:sp>
      <p:sp>
        <p:nvSpPr>
          <p:cNvPr id="13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A, B, C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iscussing/soliciting potential research ideas from stakeholder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3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 of stakeholder engagement:</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ding meetings of stakeholder groups/ organization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3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A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ttending meetings of stakeholder groups/ organizations :</a:t>
            </a: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 of stakeholder engagement:</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ing information of research findings at meetings of stakeholder groups/organization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C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esenting information of research findings at meetings of stakeholder groups/organization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5"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 of stakeholder engagement:</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stakeholders in topic refinement activitie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7"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A, B, C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stakeholders in topic refinement activitie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49"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lease consider the possible resulting benefit(s):</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ting draft documents for review &amp; comment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480"/>
            <a:ext cx="7772400" cy="1565280"/>
          </a:xfrm>
          <a:prstGeom prst="rect">
            <a:avLst/>
          </a:prstGeom>
          <a:noFill/>
          <a:ln w="0">
            <a:noFill/>
          </a:ln>
          <a:effectLst>
            <a:outerShdw dist="36147" dir="2700000" blurRad="0" rotWithShape="0">
              <a:srgbClr val="000000"/>
            </a:outerShdw>
          </a:effectLst>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Module I</a:t>
            </a:r>
            <a:endParaRPr b="1" lang="en-US" sz="3200" spc="-1" strike="noStrike">
              <a:solidFill>
                <a:srgbClr val="ffffff"/>
              </a:solidFill>
              <a:latin typeface="Trebuchet MS"/>
            </a:endParaRPr>
          </a:p>
        </p:txBody>
      </p:sp>
      <p:sp>
        <p:nvSpPr>
          <p:cNvPr id="90" name="PlaceHolder 2"/>
          <p:cNvSpPr>
            <a:spLocks noGrp="1"/>
          </p:cNvSpPr>
          <p:nvPr>
            <p:ph type="subTitle"/>
          </p:nvPr>
        </p:nvSpPr>
        <p:spPr>
          <a:xfrm>
            <a:off x="685440" y="3798360"/>
            <a:ext cx="7396200" cy="1839960"/>
          </a:xfrm>
          <a:prstGeom prst="rect">
            <a:avLst/>
          </a:prstGeom>
          <a:noFill/>
          <a:ln w="0">
            <a:noFill/>
          </a:ln>
        </p:spPr>
        <p:txBody>
          <a:bodyPr lIns="0" rIns="0" tIns="0" bIns="0" anchor="t">
            <a:noAutofit/>
          </a:bodyPr>
          <a:p>
            <a:pPr indent="0" algn="ctr">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HRQ’s Vision for Stakeholder Engagement</a:t>
            </a:r>
            <a:endParaRPr b="0" lang="en-US" sz="2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3:</a:t>
            </a:r>
            <a:endParaRPr b="1" lang="en-US" sz="2800" spc="-1" strike="noStrike">
              <a:solidFill>
                <a:srgbClr val="ffffff"/>
              </a:solidFill>
              <a:latin typeface="Trebuchet MS"/>
            </a:endParaRPr>
          </a:p>
        </p:txBody>
      </p:sp>
      <p:sp>
        <p:nvSpPr>
          <p:cNvPr id="151"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nswer: A, B, C &amp; D</a:t>
            </a: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osting draft documents for review &amp; comments</a:t>
            </a:r>
            <a:endParaRPr b="0" lang="en-US" sz="24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relevance &amp; context</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Knowledge exchang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application of evidence</a:t>
            </a:r>
            <a:endParaRPr b="0" lang="en-US" sz="2200" spc="-1" strike="noStrike">
              <a:solidFill>
                <a:srgbClr val="ffffff"/>
              </a:solidFill>
              <a:latin typeface="Trebuchet MS"/>
            </a:endParaRPr>
          </a:p>
          <a:p>
            <a:pPr lvl="1" marL="857160" indent="-457200">
              <a:lnSpc>
                <a:spcPct val="100000"/>
              </a:lnSpc>
              <a:spcBef>
                <a:spcPts val="825"/>
              </a:spcBef>
              <a:buClr>
                <a:srgbClr val="dfb20f"/>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000"/>
                </a:solidFill>
                <a:latin typeface="Trebuchet MS"/>
              </a:rPr>
              <a:t>Increased dissemination avenues</a:t>
            </a:r>
            <a:endParaRPr b="0" lang="en-US" sz="22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HC Program Principles </a:t>
            </a:r>
            <a:endParaRPr b="1" lang="en-US" sz="2800" spc="-1" strike="noStrike">
              <a:solidFill>
                <a:srgbClr val="ffffff"/>
              </a:solidFill>
              <a:latin typeface="Trebuchet MS"/>
            </a:endParaRPr>
          </a:p>
        </p:txBody>
      </p:sp>
      <p:sp>
        <p:nvSpPr>
          <p:cNvPr id="153"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Key principles identified by the EHC Program to guide research activities include:</a:t>
            </a:r>
            <a:endParaRPr b="0" lang="en-US" sz="24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Research must be relevant and timely to meet the needs of decision-makers</a:t>
            </a:r>
            <a:endParaRPr b="0" lang="en-US" sz="2400" spc="-1" strike="noStrike">
              <a:solidFill>
                <a:srgbClr val="ffffff"/>
              </a:solidFill>
              <a:latin typeface="Trebuchet MS"/>
            </a:endParaRPr>
          </a:p>
          <a:p>
            <a:pPr>
              <a:lnSpc>
                <a:spcPct val="100000"/>
              </a:lnSpc>
              <a:spcBef>
                <a:spcPts val="67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ublic participation and transparency increase public confidence in the scientific integrity, credibility of research processes, and provide further accountability to researchers (Slutsky, et al., 2008)</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4" descr="C:\Documents and Settings\slaughsa\Local Settings\Temporary Internet Files\Content.IE5\S5YDTQEQ\MP900439289[1].jpg"/>
          <p:cNvPicPr/>
          <p:nvPr/>
        </p:nvPicPr>
        <p:blipFill>
          <a:blip r:embed="rId1"/>
          <a:stretch/>
        </p:blipFill>
        <p:spPr>
          <a:xfrm>
            <a:off x="6248520" y="4343400"/>
            <a:ext cx="2008080" cy="1411200"/>
          </a:xfrm>
          <a:prstGeom prst="rect">
            <a:avLst/>
          </a:prstGeom>
          <a:ln w="0">
            <a:noFill/>
          </a:ln>
          <a:effectLst>
            <a:outerShdw dist="139498" dir="2700000" blurRad="0" rotWithShape="0">
              <a:srgbClr val="333333">
                <a:alpha val="65000"/>
              </a:srgbClr>
            </a:outerShdw>
          </a:effectLst>
        </p:spPr>
      </p:pic>
      <p:sp>
        <p:nvSpPr>
          <p:cNvPr id="15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Patient-Centered Approach to CER</a:t>
            </a:r>
            <a:endParaRPr b="1" lang="en-US" sz="2800" spc="-1" strike="noStrike">
              <a:solidFill>
                <a:srgbClr val="ffffff"/>
              </a:solidFill>
              <a:latin typeface="Trebuchet MS"/>
            </a:endParaRPr>
          </a:p>
        </p:txBody>
      </p:sp>
      <p:sp>
        <p:nvSpPr>
          <p:cNvPr id="15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Central to evidence-based medicine</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Research should address patient &amp; consumer concern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Requires different techniques</a:t>
            </a:r>
            <a:endParaRPr b="0" lang="en-US" sz="2400" spc="-1" strike="noStrike">
              <a:solidFill>
                <a:srgbClr val="ffffff"/>
              </a:solidFill>
              <a:latin typeface="Trebuchet MS"/>
            </a:endParaRPr>
          </a:p>
        </p:txBody>
      </p:sp>
      <p:pic>
        <p:nvPicPr>
          <p:cNvPr id="157" name="Picture 5" descr="C:\Documents and Settings\slaughsa\Local Settings\Temporary Internet Files\Content.IE5\THRO710Z\MP900448491[1].jpg"/>
          <p:cNvPicPr/>
          <p:nvPr/>
        </p:nvPicPr>
        <p:blipFill>
          <a:blip r:embed="rId2"/>
          <a:stretch/>
        </p:blipFill>
        <p:spPr>
          <a:xfrm>
            <a:off x="4343400" y="4038480"/>
            <a:ext cx="2057400" cy="1371600"/>
          </a:xfrm>
          <a:prstGeom prst="rect">
            <a:avLst/>
          </a:prstGeom>
          <a:ln w="0">
            <a:noFill/>
          </a:ln>
          <a:effectLst>
            <a:outerShdw dist="139498" dir="2700000" blurRad="0" rotWithShape="0">
              <a:srgbClr val="333333">
                <a:alpha val="65000"/>
              </a:srgbClr>
            </a:outerShdw>
          </a:effectLst>
        </p:spPr>
      </p:pic>
      <p:pic>
        <p:nvPicPr>
          <p:cNvPr id="158" name="Picture 3" descr="C:\Documents and Settings\slaughsa\Local Settings\Temporary Internet Files\Content.IE5\S5YDTQEQ\MP900423046[1].jpg"/>
          <p:cNvPicPr/>
          <p:nvPr/>
        </p:nvPicPr>
        <p:blipFill>
          <a:blip r:embed="rId3"/>
          <a:stretch/>
        </p:blipFill>
        <p:spPr>
          <a:xfrm>
            <a:off x="5562720" y="3048120"/>
            <a:ext cx="1447560" cy="1447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HRQ &amp; Patient-Centered Approach to CER</a:t>
            </a:r>
            <a:endParaRPr b="1" lang="en-US" sz="2800" spc="-1" strike="noStrike">
              <a:solidFill>
                <a:srgbClr val="ffffff"/>
              </a:solidFill>
              <a:latin typeface="Trebuchet MS"/>
            </a:endParaRPr>
          </a:p>
        </p:txBody>
      </p:sp>
      <p:sp>
        <p:nvSpPr>
          <p:cNvPr id="160" name=""/>
          <p:cNvSpPr txBox="1"/>
          <p:nvPr/>
        </p:nvSpPr>
        <p:spPr>
          <a:xfrm>
            <a:off x="76320" y="1295280"/>
            <a:ext cx="8229600" cy="4827600"/>
          </a:xfrm>
          <a:prstGeom prst="rect">
            <a:avLst/>
          </a:prstGeom>
          <a:noFill/>
          <a:ln w="0">
            <a:noFill/>
          </a:ln>
        </p:spPr>
        <p:txBody>
          <a:bodyPr lIns="0" rIns="0" tIns="0" bIns="0" anchor="t">
            <a:norm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   </a:t>
            </a:r>
            <a:r>
              <a:rPr b="0" lang="en-US" sz="2400" spc="-1" strike="noStrike">
                <a:solidFill>
                  <a:srgbClr val="ffffff"/>
                </a:solidFill>
                <a:latin typeface="Trebuchet MS"/>
              </a:rPr>
              <a:t>One of the overarching principles of the EHC Program is to conduct CERs by approaching the evidence by a clinical, patient-centered perspective.</a:t>
            </a:r>
            <a:endParaRPr b="0" lang="en-US" sz="2400" spc="-1" strike="noStrike">
              <a:solidFill>
                <a:srgbClr val="ffffff"/>
              </a:solidFill>
              <a:latin typeface="Trebuchet MS"/>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elfand &amp; Balshem ,2009; Slutsky, et. al., 2008) </a:t>
            </a:r>
            <a:endParaRPr b="0" lang="en-US" sz="2400" spc="-1" strike="noStrike">
              <a:solidFill>
                <a:srgbClr val="ffffff"/>
              </a:solidFill>
              <a:latin typeface="Trebuchet MS"/>
            </a:endParaRPr>
          </a:p>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291960" indent="-291960"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a:p>
            <a:pPr marL="291960" indent="-291960"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ngagement Exercise 4:</a:t>
            </a:r>
            <a:br>
              <a:rPr sz="2800"/>
            </a:br>
            <a:r>
              <a:rPr b="1" lang="en-US" sz="2800" spc="-1" strike="noStrike">
                <a:solidFill>
                  <a:srgbClr val="ffffff"/>
                </a:solidFill>
                <a:latin typeface="Trebuchet MS"/>
              </a:rPr>
              <a:t>Patient-Centered Research</a:t>
            </a:r>
            <a:endParaRPr b="1" lang="en-US" sz="2800" spc="-1" strike="noStrike">
              <a:solidFill>
                <a:srgbClr val="ffffff"/>
              </a:solidFill>
              <a:latin typeface="Trebuchet MS"/>
            </a:endParaRPr>
          </a:p>
        </p:txBody>
      </p:sp>
      <p:sp>
        <p:nvSpPr>
          <p:cNvPr id="162"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re are many ways researchers can demonstrate that their work is patient-centered. Please think of three examples of how your work has been patient-centered.</a:t>
            </a:r>
            <a:endParaRPr b="0" lang="en-US" sz="2400" spc="-1" strike="noStrike">
              <a:solidFill>
                <a:srgbClr val="ffffff"/>
              </a:solidFill>
              <a:latin typeface="Trebuchet MS"/>
            </a:endParaRPr>
          </a:p>
          <a:p>
            <a:pPr lvl="4" marL="1498680" indent="-282600">
              <a:lnSpc>
                <a:spcPct val="100000"/>
              </a:lnSpc>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xamples of Patient-Centered Approaches</a:t>
            </a:r>
            <a:endParaRPr b="1" lang="en-US" sz="2800" spc="-1" strike="noStrike">
              <a:solidFill>
                <a:srgbClr val="ffffff"/>
              </a:solidFill>
              <a:latin typeface="Trebuchet MS"/>
            </a:endParaRPr>
          </a:p>
        </p:txBody>
      </p:sp>
      <p:sp>
        <p:nvSpPr>
          <p:cNvPr id="16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119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oviding public access and opportunity to comment on draft documents</a:t>
            </a:r>
            <a:endParaRPr b="0" lang="en-US" sz="3200" spc="-1" strike="noStrike">
              <a:solidFill>
                <a:srgbClr val="ffffff"/>
              </a:solidFill>
              <a:latin typeface="Trebuchet MS"/>
            </a:endParaRPr>
          </a:p>
          <a:p>
            <a:pPr marL="291960" indent="-291960">
              <a:lnSpc>
                <a:spcPct val="100000"/>
              </a:lnSpc>
              <a:spcBef>
                <a:spcPts val="119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cusing reports on outcomes and measures important to patients and their clinicians</a:t>
            </a:r>
            <a:endParaRPr b="0" lang="en-US" sz="3200" spc="-1" strike="noStrike">
              <a:solidFill>
                <a:srgbClr val="ffffff"/>
              </a:solidFill>
              <a:latin typeface="Trebuchet MS"/>
            </a:endParaRPr>
          </a:p>
          <a:p>
            <a:pPr marL="291960" indent="-291960">
              <a:lnSpc>
                <a:spcPct val="100000"/>
              </a:lnSpc>
              <a:spcBef>
                <a:spcPts val="119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cumenting and making publicly available the processes used to develop a report</a:t>
            </a:r>
            <a:endParaRPr b="0" lang="en-US" sz="3200" spc="-1" strike="noStrike">
              <a:solidFill>
                <a:srgbClr val="ffffff"/>
              </a:solidFill>
              <a:latin typeface="Trebuchet MS"/>
            </a:endParaRPr>
          </a:p>
          <a:p>
            <a:pPr marL="291960" indent="-291960">
              <a:lnSpc>
                <a:spcPct val="100000"/>
              </a:lnSpc>
              <a:spcBef>
                <a:spcPts val="1199"/>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9920" y="128520"/>
            <a:ext cx="823284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Examples of Patient-Centered Approaches (Cont)</a:t>
            </a:r>
            <a:endParaRPr b="1" lang="en-US" sz="2800" spc="-1" strike="noStrike">
              <a:solidFill>
                <a:srgbClr val="ffffff"/>
              </a:solidFill>
              <a:latin typeface="Trebuchet MS"/>
            </a:endParaRPr>
          </a:p>
        </p:txBody>
      </p:sp>
      <p:sp>
        <p:nvSpPr>
          <p:cNvPr id="166"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volving patients and their clinicians in:</a:t>
            </a:r>
            <a:endParaRPr b="0" lang="en-US" sz="24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Generating and prioritizing research topics and question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Identifying and refining key question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anning, developing and updating reviews and protocols/reports</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sulting during report development</a:t>
            </a:r>
            <a:endParaRPr b="0" lang="en-US" sz="2200" spc="-1" strike="noStrike">
              <a:solidFill>
                <a:srgbClr val="ffffff"/>
              </a:solidFill>
              <a:latin typeface="Trebuchet MS"/>
            </a:endParaRPr>
          </a:p>
          <a:p>
            <a:pPr lvl="1" marL="693720" indent="-291960">
              <a:lnSpc>
                <a:spcPct val="100000"/>
              </a:lnSpc>
              <a:spcBef>
                <a:spcPts val="825"/>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ontributing to other dissemination &amp; translational activities</a:t>
            </a:r>
            <a:endParaRPr b="0" lang="en-US" sz="22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lecting patient “testimonials” that illustrate the context and circumstances of patient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mmary of Module I</a:t>
            </a:r>
            <a:endParaRPr b="1" lang="en-US" sz="2800" spc="-1" strike="noStrike">
              <a:solidFill>
                <a:srgbClr val="ffffff"/>
              </a:solidFill>
              <a:latin typeface="Trebuchet MS"/>
            </a:endParaRPr>
          </a:p>
        </p:txBody>
      </p:sp>
      <p:sp>
        <p:nvSpPr>
          <p:cNvPr id="168"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HRQ’s vision for stakeholder engagement is inclusive, broad, and evolving</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HRQ’s expectation for stakeholder engagement is outlined in the initial legislation and current ARRA spend plan</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vidence suggests there are many benefits to engaging stakeholders in research</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rinciples of comparative effectiveness research (CER) and stakeholder engagement align closely</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 Quiz</a:t>
            </a:r>
            <a:endParaRPr b="1" lang="en-US" sz="2800" spc="-1" strike="noStrike">
              <a:solidFill>
                <a:srgbClr val="ffffff"/>
              </a:solidFill>
              <a:latin typeface="Trebuchet MS"/>
            </a:endParaRPr>
          </a:p>
        </p:txBody>
      </p:sp>
      <p:sp>
        <p:nvSpPr>
          <p:cNvPr id="170" name=""/>
          <p:cNvSpPr txBox="1"/>
          <p:nvPr/>
        </p:nvSpPr>
        <p:spPr>
          <a:xfrm>
            <a:off x="457200" y="1298520"/>
            <a:ext cx="8229600" cy="4827600"/>
          </a:xfrm>
          <a:prstGeom prst="rect">
            <a:avLst/>
          </a:prstGeom>
          <a:noFill/>
          <a:ln w="0">
            <a:noFill/>
          </a:ln>
        </p:spPr>
        <p:txBody>
          <a:bodyPr lIns="0" rIns="0" tIns="0" bIns="0" anchor="t">
            <a:norm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o help you review the information presented in Module I, please complete the following quiz. Answers are provided at the end of the module.</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129528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ease select the statement that most closely represents AHRQ's vision for stakeholder engagement in the EHC Program:</a:t>
            </a:r>
            <a:endParaRPr b="1" lang="en-US" sz="2200" spc="-1" strike="noStrike">
              <a:solidFill>
                <a:srgbClr val="ffffff"/>
              </a:solidFill>
              <a:latin typeface="Trebuchet MS"/>
            </a:endParaRPr>
          </a:p>
        </p:txBody>
      </p:sp>
      <p:sp>
        <p:nvSpPr>
          <p:cNvPr id="172" name=""/>
          <p:cNvSpPr txBox="1"/>
          <p:nvPr/>
        </p:nvSpPr>
        <p:spPr>
          <a:xfrm>
            <a:off x="609120" y="2590920"/>
            <a:ext cx="8077320" cy="35352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should only be involved in the final stages of research</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should be strategically involved throughout the research proces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 should be silent partne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impede the research process, but have to be included according to Congress</a:t>
            </a:r>
            <a:endParaRPr b="0" lang="en-US" sz="2400" spc="-1" strike="noStrike">
              <a:solidFill>
                <a:srgbClr val="ffffff"/>
              </a:solidFill>
              <a:latin typeface="Trebuchet MS"/>
            </a:endParaRPr>
          </a:p>
        </p:txBody>
      </p:sp>
      <p:sp>
        <p:nvSpPr>
          <p:cNvPr id="173"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hat to Expect in Module I</a:t>
            </a:r>
            <a:endParaRPr b="1" lang="en-US" sz="2800" spc="-1" strike="noStrike">
              <a:solidFill>
                <a:srgbClr val="ffffff"/>
              </a:solidFill>
              <a:latin typeface="Trebuchet MS"/>
            </a:endParaRPr>
          </a:p>
        </p:txBody>
      </p:sp>
      <p:sp>
        <p:nvSpPr>
          <p:cNvPr id="9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dule I will cover the following topic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HRQ’s vision for stakeholder engagement in the EHC Program</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theory and evidence behind stakeholder engagement in comparative effectiveness research</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alignment of principles of comparative effectiveness research (CER) and stakeholder engagement</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129528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Please select the statement that most closely represents AHRQ's vision for stakeholder engagement in the EHC Program:</a:t>
            </a:r>
            <a:endParaRPr b="1" lang="en-US" sz="2200" spc="-1" strike="noStrike">
              <a:solidFill>
                <a:srgbClr val="ffffff"/>
              </a:solidFill>
              <a:latin typeface="Trebuchet MS"/>
            </a:endParaRPr>
          </a:p>
        </p:txBody>
      </p:sp>
      <p:sp>
        <p:nvSpPr>
          <p:cNvPr id="175" name=""/>
          <p:cNvSpPr txBox="1"/>
          <p:nvPr/>
        </p:nvSpPr>
        <p:spPr>
          <a:xfrm>
            <a:off x="609120" y="2590920"/>
            <a:ext cx="8077320" cy="35352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should only be involved in the final stages of research</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Stakeholders should be strategically involved throughout the research proces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 should be silent partner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impede the research process, but have to be included according to Congress</a:t>
            </a:r>
            <a:endParaRPr b="0" lang="en-US" sz="2400" spc="-1" strike="noStrike">
              <a:solidFill>
                <a:srgbClr val="ffffff"/>
              </a:solidFill>
              <a:latin typeface="Trebuchet MS"/>
            </a:endParaRPr>
          </a:p>
        </p:txBody>
      </p:sp>
      <p:sp>
        <p:nvSpPr>
          <p:cNvPr id="176"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1: </a:t>
            </a:r>
            <a:r>
              <a:rPr b="1" lang="en-US" sz="3000" spc="-1" strike="noStrike">
                <a:solidFill>
                  <a:srgbClr val="ffc000"/>
                </a:solidFill>
                <a:latin typeface="Trebuchet MS"/>
              </a:rPr>
              <a:t>ANS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37160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of the following does the evidence suggest are potential benefits of stakeholder involvement in research?</a:t>
            </a:r>
            <a:endParaRPr b="1" lang="en-US" sz="2200" spc="-1" strike="noStrike">
              <a:solidFill>
                <a:srgbClr val="ffffff"/>
              </a:solidFill>
              <a:latin typeface="Trebuchet MS"/>
            </a:endParaRPr>
          </a:p>
        </p:txBody>
      </p:sp>
      <p:sp>
        <p:nvSpPr>
          <p:cNvPr id="178" name=""/>
          <p:cNvSpPr txBox="1"/>
          <p:nvPr/>
        </p:nvSpPr>
        <p:spPr>
          <a:xfrm>
            <a:off x="761760" y="2590560"/>
            <a:ext cx="7924680" cy="338292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application of evidence</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wer reading level of research report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relevancy of research product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dissemination avenu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number of editors to review reports</a:t>
            </a:r>
            <a:endParaRPr b="0" lang="en-US" sz="2400" spc="-1" strike="noStrike">
              <a:solidFill>
                <a:srgbClr val="ffffff"/>
              </a:solidFill>
              <a:latin typeface="Trebuchet MS"/>
            </a:endParaRPr>
          </a:p>
        </p:txBody>
      </p:sp>
      <p:sp>
        <p:nvSpPr>
          <p:cNvPr id="179"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37160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Which of the following does the evidence suggest are potential benefits of stakeholder involvement in research?</a:t>
            </a:r>
            <a:endParaRPr b="1" lang="en-US" sz="2200" spc="-1" strike="noStrike">
              <a:solidFill>
                <a:srgbClr val="ffffff"/>
              </a:solidFill>
              <a:latin typeface="Trebuchet MS"/>
            </a:endParaRPr>
          </a:p>
        </p:txBody>
      </p:sp>
      <p:sp>
        <p:nvSpPr>
          <p:cNvPr id="181" name=""/>
          <p:cNvSpPr txBox="1"/>
          <p:nvPr/>
        </p:nvSpPr>
        <p:spPr>
          <a:xfrm>
            <a:off x="761760" y="2590560"/>
            <a:ext cx="7924680" cy="338292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Increased application of evidence</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wer reading level of research report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Increased relevancy of research product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Trebuchet MS"/>
              </a:rPr>
              <a:t>Increased dissemination avenue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creased number of editors to review reports</a:t>
            </a:r>
            <a:endParaRPr b="0" lang="en-US" sz="2400" spc="-1" strike="noStrike">
              <a:solidFill>
                <a:srgbClr val="ffffff"/>
              </a:solidFill>
              <a:latin typeface="Trebuchet MS"/>
            </a:endParaRPr>
          </a:p>
        </p:txBody>
      </p:sp>
      <p:sp>
        <p:nvSpPr>
          <p:cNvPr id="182"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2: </a:t>
            </a:r>
            <a:r>
              <a:rPr b="1" lang="en-US" sz="3000" spc="-1" strike="noStrike">
                <a:solidFill>
                  <a:srgbClr val="ffc000"/>
                </a:solidFill>
                <a:latin typeface="Trebuchet MS"/>
              </a:rPr>
              <a:t>ANS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0280" y="127476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core principles of comparative effectiveness research and evidence-based medicine that closely aligns with principles of stakeholder engagement is:</a:t>
            </a:r>
            <a:endParaRPr b="1" lang="en-US" sz="2200" spc="-1" strike="noStrike">
              <a:solidFill>
                <a:srgbClr val="ffffff"/>
              </a:solidFill>
              <a:latin typeface="Trebuchet MS"/>
            </a:endParaRPr>
          </a:p>
        </p:txBody>
      </p:sp>
      <p:sp>
        <p:nvSpPr>
          <p:cNvPr id="184" name=""/>
          <p:cNvSpPr txBox="1"/>
          <p:nvPr/>
        </p:nvSpPr>
        <p:spPr>
          <a:xfrm>
            <a:off x="761760" y="2361960"/>
            <a:ext cx="7924680" cy="37638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ndardize methodolog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eer review proces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atient-centered approach</a:t>
            </a:r>
            <a:endParaRPr b="0" lang="en-US" sz="2400" spc="-1" strike="noStrike">
              <a:solidFill>
                <a:srgbClr val="ffffff"/>
              </a:solidFill>
              <a:latin typeface="Trebuchet MS"/>
            </a:endParaRPr>
          </a:p>
        </p:txBody>
      </p:sp>
      <p:sp>
        <p:nvSpPr>
          <p:cNvPr id="185"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3</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0280" y="127476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One of the core principles of comparative effectiveness research and evidence-based medicine that closely aligns with principles of stakeholder engagement is:</a:t>
            </a:r>
            <a:endParaRPr b="1" lang="en-US" sz="2200" spc="-1" strike="noStrike">
              <a:solidFill>
                <a:srgbClr val="ffffff"/>
              </a:solidFill>
              <a:latin typeface="Trebuchet MS"/>
            </a:endParaRPr>
          </a:p>
        </p:txBody>
      </p:sp>
      <p:sp>
        <p:nvSpPr>
          <p:cNvPr id="187" name=""/>
          <p:cNvSpPr txBox="1"/>
          <p:nvPr/>
        </p:nvSpPr>
        <p:spPr>
          <a:xfrm>
            <a:off x="761760" y="2361960"/>
            <a:ext cx="7924680" cy="3763800"/>
          </a:xfrm>
          <a:prstGeom prst="rect">
            <a:avLst/>
          </a:prstGeom>
          <a:noFill/>
          <a:ln w="0">
            <a:noFill/>
          </a:ln>
        </p:spPr>
        <p:txBody>
          <a:bodyPr lIns="0" rIns="0" tIns="0" bIns="0" anchor="t">
            <a:normAutofit/>
          </a:bodyPr>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ndardize methodology</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Peer review process</a:t>
            </a:r>
            <a:endParaRPr b="0" lang="en-US" sz="2400" spc="-1" strike="noStrike">
              <a:solidFill>
                <a:srgbClr val="ffffff"/>
              </a:solidFill>
              <a:latin typeface="Trebuchet MS"/>
            </a:endParaRPr>
          </a:p>
          <a:p>
            <a:pPr marL="457200" indent="-457200">
              <a:lnSpc>
                <a:spcPct val="100000"/>
              </a:lnSpc>
              <a:spcBef>
                <a:spcPts val="901"/>
              </a:spcBef>
              <a:buClr>
                <a:srgbClr val="dfb20f"/>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Patient-centered approach</a:t>
            </a:r>
            <a:endParaRPr b="0" lang="en-US" sz="2400" spc="-1" strike="noStrike">
              <a:solidFill>
                <a:srgbClr val="ffffff"/>
              </a:solidFill>
              <a:latin typeface="Trebuchet MS"/>
            </a:endParaRPr>
          </a:p>
        </p:txBody>
      </p:sp>
      <p:sp>
        <p:nvSpPr>
          <p:cNvPr id="188" name="mmprod_title"/>
          <p:cNvSpPr/>
          <p:nvPr/>
        </p:nvSpPr>
        <p:spPr>
          <a:xfrm>
            <a:off x="533520" y="228600"/>
            <a:ext cx="7997760" cy="762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odule I Quiz: </a:t>
            </a:r>
            <a:endParaRPr b="0" lang="en-US" sz="3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Question 3: </a:t>
            </a:r>
            <a:r>
              <a:rPr b="1" lang="en-US" sz="3000" spc="-1" strike="noStrike">
                <a:solidFill>
                  <a:srgbClr val="ffc000"/>
                </a:solidFill>
                <a:latin typeface="Trebuchet MS"/>
              </a:rPr>
              <a:t>ANSW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rks Cited</a:t>
            </a:r>
            <a:endParaRPr b="1" lang="en-US" sz="2800" spc="-1" strike="noStrike">
              <a:solidFill>
                <a:srgbClr val="ffffff"/>
              </a:solidFill>
              <a:latin typeface="Trebuchet MS"/>
            </a:endParaRPr>
          </a:p>
        </p:txBody>
      </p:sp>
      <p:pic>
        <p:nvPicPr>
          <p:cNvPr id="190" name="Content Placeholder 2" descr=""/>
          <p:cNvPicPr/>
          <p:nvPr/>
        </p:nvPicPr>
        <p:blipFill>
          <a:blip r:embed="rId1"/>
          <a:stretch/>
        </p:blipFill>
        <p:spPr>
          <a:xfrm>
            <a:off x="311040" y="1133640"/>
            <a:ext cx="8558280" cy="52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rks Cited</a:t>
            </a:r>
            <a:endParaRPr b="1" lang="en-US" sz="2800" spc="-1" strike="noStrike">
              <a:solidFill>
                <a:srgbClr val="ffffff"/>
              </a:solidFill>
              <a:latin typeface="Trebuchet MS"/>
            </a:endParaRPr>
          </a:p>
        </p:txBody>
      </p:sp>
      <p:sp>
        <p:nvSpPr>
          <p:cNvPr id="192" name=""/>
          <p:cNvSpPr txBox="1"/>
          <p:nvPr/>
        </p:nvSpPr>
        <p:spPr>
          <a:xfrm>
            <a:off x="304920" y="1066680"/>
            <a:ext cx="8534160" cy="5105520"/>
          </a:xfrm>
          <a:prstGeom prst="rect">
            <a:avLst/>
          </a:prstGeom>
          <a:noFill/>
          <a:ln w="0">
            <a:noFill/>
          </a:ln>
        </p:spPr>
        <p:txBody>
          <a:bodyPr lIns="0" rIns="0" tIns="0" bIns="0" anchor="t">
            <a:normAutofit/>
          </a:bodyPr>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Graham, I.D., Logan, J., Harrison, M.B., Straus, S.E., Tetroe, J., Caswell, W. &amp; Robinson, N. (2006). Lost in Knowledge Translation: Time for a Map? </a:t>
            </a:r>
            <a:r>
              <a:rPr b="0" i="1" lang="en-US" sz="1700" spc="-1" strike="noStrike">
                <a:solidFill>
                  <a:srgbClr val="ffffff"/>
                </a:solidFill>
                <a:latin typeface="Trebuchet MS"/>
              </a:rPr>
              <a:t>The Journal of Continuing Education in the Health Professions, </a:t>
            </a:r>
            <a:r>
              <a:rPr b="0" lang="en-US" sz="1700" spc="-1" strike="noStrike">
                <a:solidFill>
                  <a:srgbClr val="ffffff"/>
                </a:solidFill>
                <a:latin typeface="Trebuchet MS"/>
              </a:rPr>
              <a:t>26: 13-24.</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Guyatt, G. &amp; Rennie, D.  (Eds.). (2002). </a:t>
            </a:r>
            <a:r>
              <a:rPr b="0" i="1" lang="en-US" sz="1700" spc="-1" strike="noStrike">
                <a:solidFill>
                  <a:srgbClr val="ffffff"/>
                </a:solidFill>
                <a:latin typeface="Trebuchet MS"/>
              </a:rPr>
              <a:t>Users’ guides to the medical literature: A manual for evidence-based clinical practice. </a:t>
            </a:r>
            <a:r>
              <a:rPr b="0" lang="en-US" sz="1700" spc="-1" strike="noStrike">
                <a:solidFill>
                  <a:srgbClr val="ffffff"/>
                </a:solidFill>
                <a:latin typeface="Trebuchet MS"/>
              </a:rPr>
              <a:t>Chicago, IL: AMA Press.</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Helfand, M. &amp; Balshem, H. (2009). Principles for developing guidance: AHRQ and the effective health care program. </a:t>
            </a:r>
            <a:r>
              <a:rPr b="0" i="1" lang="en-US" sz="1700" spc="-1" strike="noStrike">
                <a:solidFill>
                  <a:srgbClr val="ffffff"/>
                </a:solidFill>
                <a:latin typeface="Trebuchet MS"/>
              </a:rPr>
              <a:t>Journal of Clinical Epidemiology. </a:t>
            </a:r>
            <a:r>
              <a:rPr b="0" lang="en-US" sz="1700" spc="-1" strike="noStrike">
                <a:solidFill>
                  <a:srgbClr val="ffffff"/>
                </a:solidFill>
                <a:latin typeface="Trebuchet MS"/>
              </a:rPr>
              <a:t>Article in press.</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Innvaer, S., Vist, G., Trommald, M. &amp; Oxman, A. (2002). Health policy-makers’ perceptions of their use of evidence: a systematic review. </a:t>
            </a:r>
            <a:r>
              <a:rPr b="0" i="1" lang="en-US" sz="1700" spc="-1" strike="noStrike">
                <a:solidFill>
                  <a:srgbClr val="ffffff"/>
                </a:solidFill>
                <a:latin typeface="Trebuchet MS"/>
              </a:rPr>
              <a:t>Journal of Health Services Research &amp; Policy, </a:t>
            </a:r>
            <a:r>
              <a:rPr b="0" lang="en-US" sz="1700" spc="-1" strike="noStrike">
                <a:solidFill>
                  <a:srgbClr val="ffffff"/>
                </a:solidFill>
                <a:latin typeface="Trebuchet MS"/>
              </a:rPr>
              <a:t>7(4): 239-44.</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Keown, K., Van Eerd, D. &amp; Irvin, E. (2008). Stakeholder Engagement Opportunities in Systematic Reviews: Knowledge Transfer for Policy and Practice. </a:t>
            </a:r>
            <a:r>
              <a:rPr b="0" i="1" lang="en-US" sz="1700" spc="-1" strike="noStrike">
                <a:solidFill>
                  <a:srgbClr val="ffffff"/>
                </a:solidFill>
                <a:latin typeface="Trebuchet MS"/>
              </a:rPr>
              <a:t>Journal of Continuing Education in the Health Professions, </a:t>
            </a:r>
            <a:r>
              <a:rPr b="0" lang="en-US" sz="1700" spc="-1" strike="noStrike">
                <a:solidFill>
                  <a:srgbClr val="ffffff"/>
                </a:solidFill>
                <a:latin typeface="Trebuchet MS"/>
              </a:rPr>
              <a:t>28(2): 67-72.</a:t>
            </a:r>
            <a:endParaRPr b="0" lang="en-US" sz="1700" spc="-1" strike="noStrike">
              <a:solidFill>
                <a:srgbClr val="ffffff"/>
              </a:solidFill>
              <a:latin typeface="Trebuchet MS"/>
            </a:endParaRPr>
          </a:p>
          <a:p>
            <a:pPr marL="291960" indent="-291960">
              <a:lnSpc>
                <a:spcPct val="10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rebuchet MS"/>
              </a:rPr>
              <a:t>Lomas, J. (2000). Using ‘Linkage and Exchange’ to Move Research into Policy at a Canadian Foundation. </a:t>
            </a:r>
            <a:r>
              <a:rPr b="0" i="1" lang="en-US" sz="1700" spc="-1" strike="noStrike">
                <a:solidFill>
                  <a:srgbClr val="ffffff"/>
                </a:solidFill>
                <a:latin typeface="Trebuchet MS"/>
              </a:rPr>
              <a:t>Health Affairs, </a:t>
            </a:r>
            <a:r>
              <a:rPr b="0" lang="en-US" sz="1700" spc="-1" strike="noStrike">
                <a:solidFill>
                  <a:srgbClr val="ffffff"/>
                </a:solidFill>
                <a:latin typeface="Trebuchet MS"/>
              </a:rPr>
              <a:t>19(3): 236-240.</a:t>
            </a:r>
            <a:endParaRPr b="0" lang="en-US" sz="17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rks Cited</a:t>
            </a:r>
            <a:endParaRPr b="1" lang="en-US" sz="2800" spc="-1" strike="noStrike">
              <a:solidFill>
                <a:srgbClr val="ffffff"/>
              </a:solidFill>
              <a:latin typeface="Trebuchet MS"/>
            </a:endParaRPr>
          </a:p>
        </p:txBody>
      </p:sp>
      <p:pic>
        <p:nvPicPr>
          <p:cNvPr id="194" name="Content Placeholder 2" descr=""/>
          <p:cNvPicPr/>
          <p:nvPr/>
        </p:nvPicPr>
        <p:blipFill>
          <a:blip r:embed="rId1"/>
          <a:stretch/>
        </p:blipFill>
        <p:spPr>
          <a:xfrm>
            <a:off x="324000" y="1152360"/>
            <a:ext cx="867384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Module I Learning Objectives</a:t>
            </a:r>
            <a:endParaRPr b="1" lang="en-US" sz="2800" spc="-1" strike="noStrike">
              <a:solidFill>
                <a:srgbClr val="ffffff"/>
              </a:solidFill>
              <a:latin typeface="Trebuchet MS"/>
            </a:endParaRPr>
          </a:p>
        </p:txBody>
      </p:sp>
      <p:sp>
        <p:nvSpPr>
          <p:cNvPr id="94"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After completing Module I, participants will be able to:</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AHRQ’s vision for stakeholder engagement</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Describe the theoretical basis for engaging stakeholder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st at least three benefits of engaging stakeholders in research</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dentify three differences between knowledge transfer and knowledge exchange</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takeholder Engagement in Research</a:t>
            </a:r>
            <a:endParaRPr b="1" lang="en-US" sz="2800" spc="-1" strike="noStrike">
              <a:solidFill>
                <a:srgbClr val="ffffff"/>
              </a:solidFill>
              <a:latin typeface="Trebuchet MS"/>
            </a:endParaRPr>
          </a:p>
        </p:txBody>
      </p:sp>
      <p:pic>
        <p:nvPicPr>
          <p:cNvPr id="96" name="Content Placeholder 2" descr=""/>
          <p:cNvPicPr/>
          <p:nvPr/>
        </p:nvPicPr>
        <p:blipFill>
          <a:blip r:embed="rId1"/>
          <a:stretch/>
        </p:blipFill>
        <p:spPr>
          <a:xfrm>
            <a:off x="328680" y="1163520"/>
            <a:ext cx="8559720" cy="496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efining  Stakeholder Engagement</a:t>
            </a:r>
            <a:endParaRPr b="1" lang="en-US" sz="2800" spc="-1" strike="noStrike">
              <a:solidFill>
                <a:srgbClr val="ffffff"/>
              </a:solidFill>
              <a:latin typeface="Trebuchet MS"/>
            </a:endParaRPr>
          </a:p>
        </p:txBody>
      </p:sp>
      <p:pic>
        <p:nvPicPr>
          <p:cNvPr id="98" name="Content Placeholder 2" descr=""/>
          <p:cNvPicPr/>
          <p:nvPr/>
        </p:nvPicPr>
        <p:blipFill>
          <a:blip r:embed="rId1"/>
          <a:stretch/>
        </p:blipFill>
        <p:spPr>
          <a:xfrm>
            <a:off x="255600" y="1195560"/>
            <a:ext cx="8717040" cy="493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HRQ’s Vision for Stakeholder Engagement</a:t>
            </a:r>
            <a:endParaRPr b="1" lang="en-US" sz="2800" spc="-1" strike="noStrike">
              <a:solidFill>
                <a:srgbClr val="ffffff"/>
              </a:solidFill>
              <a:latin typeface="Trebuchet MS"/>
            </a:endParaRPr>
          </a:p>
        </p:txBody>
      </p:sp>
      <p:pic>
        <p:nvPicPr>
          <p:cNvPr id="100" name="Content Placeholder 2" descr=""/>
          <p:cNvPicPr/>
          <p:nvPr/>
        </p:nvPicPr>
        <p:blipFill>
          <a:blip r:embed="rId1"/>
          <a:stretch/>
        </p:blipFill>
        <p:spPr>
          <a:xfrm>
            <a:off x="219240" y="1163520"/>
            <a:ext cx="8791560" cy="496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0280" y="128520"/>
            <a:ext cx="7997760" cy="8589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HRQ’s Vision for Stakeholder Engagement</a:t>
            </a:r>
            <a:endParaRPr b="1" lang="en-US" sz="2800" spc="-1" strike="noStrike">
              <a:solidFill>
                <a:srgbClr val="ffffff"/>
              </a:solidFill>
              <a:latin typeface="Trebuchet MS"/>
            </a:endParaRPr>
          </a:p>
        </p:txBody>
      </p:sp>
      <p:sp>
        <p:nvSpPr>
          <p:cNvPr id="102" name=""/>
          <p:cNvSpPr txBox="1"/>
          <p:nvPr/>
        </p:nvSpPr>
        <p:spPr>
          <a:xfrm>
            <a:off x="457200" y="1298520"/>
            <a:ext cx="8229600" cy="4827600"/>
          </a:xfrm>
          <a:prstGeom prst="rect">
            <a:avLst/>
          </a:prstGeom>
          <a:noFill/>
          <a:ln w="0">
            <a:noFill/>
          </a:ln>
        </p:spPr>
        <p:txBody>
          <a:bodyPr lIns="0" rIns="0" tIns="0" bIns="0" anchor="t">
            <a:normAutofit/>
          </a:bodyPr>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s are involved throughout the research proces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reate strategic involvement and partnerships with a broad and inclusive range of stakeholders</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llaborative relationships should inform all phases of research </a:t>
            </a:r>
            <a:endParaRPr b="0" lang="en-US" sz="2400" spc="-1" strike="noStrike">
              <a:solidFill>
                <a:srgbClr val="ffffff"/>
              </a:solidFill>
              <a:latin typeface="Trebuchet MS"/>
            </a:endParaRPr>
          </a:p>
          <a:p>
            <a:pPr marL="291960" indent="-291960">
              <a:lnSpc>
                <a:spcPct val="100000"/>
              </a:lnSpc>
              <a:spcBef>
                <a:spcPts val="901"/>
              </a:spcBef>
              <a:buClr>
                <a:srgbClr val="dfb20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takeholder input maximize usefulness of EHC Program product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3T16:45:48Z</dcterms:created>
  <dc:creator>khs</dc:creator>
  <dc:description/>
  <dc:language>en-US</dc:language>
  <cp:lastModifiedBy>Danielle Lavallee</cp:lastModifiedBy>
  <dcterms:modified xsi:type="dcterms:W3CDTF">2011-10-31T22:02:13Z</dcterms:modified>
  <cp:revision>14</cp:revision>
  <dc:subject/>
  <dc:title>Slide 1</dc:title>
</cp:coreProperties>
</file>