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 Agency for Healthcare Research and Quality presents the following e-learning tool “Engaging Stakeholders in the Effective Health Care Program” to provide researchers and investigators with foundational information on, and tools for, engaging a broad range of stakeholders in the Effective Health Care Program.  The information presented is adapted from content developed by the Scientific Resource Center at the Oregon Evidence-based Practice Center.</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2682-71A9-4B69-A7CD-60BFF11B18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the best use of limited budget and resources, it is often necessary to focus EHC Program efforts and narrow research topics to meet these high-priority areas.  Stakeholders can play a role in shaping these priorities in the following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may be invited to participate in conference calls or in-person meetings to discuss priorities for research top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may be invited to take part in a group discussion that provides insights to researchers over the life of a research proj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42910-4D06-43E0-A76A-C74DBD1E54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refinement, one of the first steps in the research process, is concerned with identifying and defining key questions that are important to the myriad of stakeholders in health care. During topic refinement, the research institution is expected to seek input and guidance from consumers, clinicians and policymakers on real-world dilemmas and context, as well as to seek input on clinical logic from expe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e of key informants during topic refinement helps ensure the subsequent research addresses the questions most important to decision-makers, represents an accurate scope of issues, and produces the most valuable and usable product. Key informants may include patients and caregivers, clinicians (both generalist and specialty), representatives of relevant professional and consumer organizations, insurers and health plan representatives, public policymakers, and others with experience making health care decisions relevant to the top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for research reviews, all stakeholders are welcome to provide public comment on draft key questions through the website. This helps to further ensure a broad range of interests are represented, and that the final products are responsive to the public and meet the needs of end-u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DE259-0DCA-4C95-B97A-4592C314FF3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ing and recruiting stakeholders to participate as key informants during topic refinement can be challenging. Some tips for locating potential key informants include:</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for patients and other consumers through advocacy organizations and support group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for clinicians through professional organizations and societies, or certification board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for policymakers through professional networks such as Medicaid Medical Directors Learning Network, Drug Effectiveness Review Project, or through private insur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824A0-34BA-47B2-86D4-503AC3FBE5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ies for stakeholder involvement are more limited during the research process itself. During this phase, the role of stakeholders is primarily to provide clinical and methodological guidance on research protocols, methodological and clinical appropriateness of study selection criteria. Stakeholders involved in this phase will typically be experts, either clinical or methodological, end-users of the reports, and others to help the researcher maintain fidelity to the applicability of issues and end-user perspec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C0362-C0F0-419C-A6C1-839A2210B5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may provide peer and public review of both research reviews and reports online.  The intent of the peer and public review process is to ensure scientific integrity and quality of research reports. Organizations such as professional societies are encouraged to suggest experts to participate in peer review.</a:t>
            </a:r>
            <a:r>
              <a:rPr b="0" i="1" lang="en-US" sz="1200" spc="-1" strike="noStrike">
                <a:solidFill>
                  <a:srgbClr val="000000"/>
                </a:solidFill>
                <a:latin typeface="Calibri"/>
              </a:rPr>
              <a:t> </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20748-1818-45AB-9F00-C05FA558B4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research institutions are not directly involved in the translation of reports and dissemination of the resulting summary guides, the important work of involving stakeholders in the earlier EHC Program phases can assist with this final phase. Stakeholder input is essential for the final translation of the research reviews and development of summary guides, as well as for strategic dissemination partnerships. Early involvement of stakeholders in the research process, increases the likelihood of continued engagement and interest in dissemination activities and the Program over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may be involved with topic decision-context groups, summary guide reviews, and product user feedback. All potential end-users are invited to participate during this phase, including consumers, clinicians, and policymakers. Experts will be consulted as well to ensure scientific accuracy of translated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isenberg Center is responsible for conducting stakeholder engagement at this ph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A1A4-673C-479E-9020-BCB5072B5B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phase of the EHC Program research process there are multiple opportunities for engagement with stakeholders. Stakeholders may be involved in one or multiple points. Because each point of involvement serves a unique purpose, investigators should consider the most appropriate stakeholders to involve in order for valuable and constructive knowledge exchange to occur. </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F9E2-2A90-44F9-A7E4-4F1DE30933F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8328-99CB-41E1-9885-592FE45387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module as part of a four module e-learning series:</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F31C-02BE-43B8-AC0F-C695E49182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46D81-9173-404E-9CAF-5F9382A87C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EHC Program phase there are multiple opportunities for engagement with stakeholders. Stakeholders may be involved in one or multiple points. This section reviews the EHC Program phases, engagement purpose, and opportunities for engagement at each phase. It also discusses the types of stakeholders that investigators should consider inv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541B0-55B7-435D-A885-C100CF0754E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completing Module III, participants will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t least three opportunities to involve stakeholders EHC program resear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the objective of:</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oint of involvement in the EHC Program research proces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ing stakeholders at each point</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AHRQ’s goals for stakeholder invol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892D-8D1A-4B58-B987-5857A7D918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 has held the involvement of stakeholders as central to its EHC Program since its inception, and has clearly outlined the continued expectation for broad stakeholder engagement as a core principle in supported activities. AHRQ defines EHC Program stakeholders as those individuals and organizations who have an interest—personal or professional—in the findings and applications of the research completed under the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642D-961A-41A9-A5A2-5FA1FCC5D7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ases of research conducted in the EHC Program are presented here.  Stakeholders have the opportunity to get involved at many different points throughout the research process – from the nomination of research topics through the dissemination and translation of research findings.  At each point of the process, researchers involve stakeholders recognizing their ability to contribute valuable input to ensure that the research is relevant to real world decision making.</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may be engaged at only one point, while others will interact with the Program at multiple points during the research process depending on the activity. Each point of engagement serves a different purpose, and provides distinct opportunities for involvement. The “art” of engaging stakeholders involves matching their interests with research objectives and the purpose of each Program ph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 envisions ongoing relationships between its research institutions and stakeholders so that continued collaboration and knowledge exchange occurs throughout topic identification and nomination, topic refinement, research development and translation.</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B893-5F14-4239-9885-AD64428568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pic identification and nomination is an important component of the Effective Health Care Program. All stakeholders are encouraged to identify and nominate topics for research, including patients and consumers, clinicians, policymakers, clinical and methodological experts, funders, researchers, and other health care decision-makers. Participation by decision-makers at this point ensures that research responds to the key dilemmas and information gaps faced by end-us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HC Program accepts nominations from individuals and organizations, and nominations can be submitted through the website or by mai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FF5CE-C952-45A2-9B7C-99A92EEC3CF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447920"/>
            <a:ext cx="7772400" cy="1565280"/>
          </a:xfrm>
          <a:prstGeom prst="rect">
            <a:avLst/>
          </a:prstGeom>
          <a:noFill/>
          <a:ln w="0">
            <a:noFill/>
          </a:ln>
          <a:effectLst>
            <a:outerShdw dist="36147"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ngaging Stakeholders in the </a:t>
            </a:r>
            <a:br>
              <a:rPr sz="3200"/>
            </a:br>
            <a:r>
              <a:rPr b="1" lang="en-US" sz="3200" spc="-1" strike="noStrike">
                <a:solidFill>
                  <a:srgbClr val="ffffff"/>
                </a:solidFill>
                <a:latin typeface="Trebuchet MS"/>
              </a:rPr>
              <a:t>Effective Health Care Program</a:t>
            </a:r>
            <a:endParaRPr b="1" lang="en-US" sz="3200" spc="-1" strike="noStrike">
              <a:solidFill>
                <a:srgbClr val="ffffff"/>
              </a:solidFill>
              <a:latin typeface="Trebuchet MS"/>
            </a:endParaRPr>
          </a:p>
        </p:txBody>
      </p:sp>
      <p:sp>
        <p:nvSpPr>
          <p:cNvPr id="82" name="PlaceHolder 2"/>
          <p:cNvSpPr>
            <a:spLocks noGrp="1"/>
          </p:cNvSpPr>
          <p:nvPr>
            <p:ph type="subTitle"/>
          </p:nvPr>
        </p:nvSpPr>
        <p:spPr>
          <a:xfrm>
            <a:off x="685440" y="3798360"/>
            <a:ext cx="739620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formation and tools for researchers and investigators</a:t>
            </a:r>
            <a:endParaRPr b="0" lang="en-US" sz="2000" spc="-1" strike="noStrike">
              <a:solidFill>
                <a:srgbClr val="ffffff"/>
              </a:solidFill>
              <a:latin typeface="Trebuchet MS"/>
            </a:endParaRPr>
          </a:p>
        </p:txBody>
      </p:sp>
      <p:sp>
        <p:nvSpPr>
          <p:cNvPr id="83" name="SessionQuestionData" hidden="1"/>
          <p:cNvSpPr/>
          <p:nvPr/>
        </p:nvSpPr>
        <p:spPr>
          <a:xfrm>
            <a:off x="0" y="0"/>
            <a:ext cx="360" cy="102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Questions /&gt;</a:t>
            </a:r>
            <a:endParaRPr b="0" lang="en-US" sz="1800" spc="-1" strike="noStrike">
              <a:solidFill>
                <a:srgbClr val="000000"/>
              </a:solidFill>
              <a:latin typeface="Arial"/>
            </a:endParaRPr>
          </a:p>
        </p:txBody>
      </p:sp>
      <p:sp>
        <p:nvSpPr>
          <p:cNvPr id="84" name="SessionAnswerData" hidden="1"/>
          <p:cNvSpPr/>
          <p:nvPr/>
        </p:nvSpPr>
        <p:spPr>
          <a:xfrm>
            <a:off x="1270080" y="0"/>
            <a:ext cx="360" cy="969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Answers /&gt;</a:t>
            </a:r>
            <a:endParaRPr b="0" lang="en-US" sz="1800" spc="-1" strike="noStrike">
              <a:solidFill>
                <a:srgbClr val="000000"/>
              </a:solidFill>
              <a:latin typeface="Arial"/>
            </a:endParaRPr>
          </a:p>
        </p:txBody>
      </p:sp>
      <p:sp>
        <p:nvSpPr>
          <p:cNvPr id="85" name="SessionResponseData" hidden="1"/>
          <p:cNvSpPr/>
          <p:nvPr/>
        </p:nvSpPr>
        <p:spPr>
          <a:xfrm>
            <a:off x="0" y="0"/>
            <a:ext cx="360" cy="102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Responses /&gt;</a:t>
            </a:r>
            <a:endParaRPr b="0" lang="en-US" sz="1800" spc="-1" strike="noStrike">
              <a:solidFill>
                <a:srgbClr val="000000"/>
              </a:solidFill>
              <a:latin typeface="Arial"/>
            </a:endParaRPr>
          </a:p>
        </p:txBody>
      </p:sp>
      <p:sp>
        <p:nvSpPr>
          <p:cNvPr id="86" name="SessionPresentationSettingsData" hidden="1"/>
          <p:cNvSpPr/>
          <p:nvPr/>
        </p:nvSpPr>
        <p:spPr>
          <a:xfrm>
            <a:off x="0" y="0"/>
            <a:ext cx="36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Settings&gt;&lt;answerBulletFormat&gt;Numeric&lt;/answerBulletFormat&gt;&lt;answerNowAutoInsert&gt;No&lt;/answerNowAutoInsert&gt;&lt;answerNowStyle&gt;Explosion&lt;/answerNowStyle&gt;&lt;answerNowText&gt;Answer Now&lt;/answerNowText&gt;&lt;chartColors&gt;Use PowerPoint Color Scheme&lt;/chartColors&gt;&lt;chartType&gt;Horizontal&lt;/chartType&gt;&lt;correctAnswerIndicator&gt;Checkmark&lt;/correctAnswerIndicator&gt;&lt;countdownAutoInsert&gt;No&lt;/countdownAutoInsert&gt;&lt;countdownSeconds&gt;10&lt;/countdownSeconds&gt;&lt;countdownSound&gt;TicToc.wav&lt;/countdownSound&gt;&lt;countdownStyle&gt;Box&lt;/countdownStyle&gt;&lt;gridAutoInsert&gt;No&lt;/gridAutoInsert&gt;&lt;gridFillStyle&gt;Answered&lt;/gridFillStyle&gt;&lt;gridFillColor&gt;255,255,0&lt;/gridFillColor&gt;&lt;gridOpacity&gt;50%&lt;/gridOpacity&gt;&lt;gridTextStyle&gt;Keypad #&lt;/gridTextStyle&gt;&lt;inputSource&gt;Response Devices&lt;/inputSource&gt;&lt;multipleResponseDivisor&gt;# of Responses&lt;/multipleResponseDivisor&gt;&lt;participantsLeaderBoard&gt;5&lt;/participantsLeaderBoard&gt;&lt;percentageDecimalPlaces&gt;0&lt;/percentageDecimalPlaces&gt;&lt;responseCounterAutoInsert&gt;No&lt;/responseCounterAutoInsert&gt;&lt;responseCounterStyle&gt;Oval&lt;/responseCounterStyle&gt;&lt;responseCounterDisplayValue&gt;# of Votes Received&lt;/responseCounterDisplayValue&gt;&lt;insertObjectUsingColor&gt;Red&lt;/insertObjectUsingColor&gt;&lt;showResults&gt;Yes&lt;/showResults&gt;&lt;teamColors&gt;Use PowerPoint Color Scheme&lt;/teamColors&gt;&lt;teamIdentificationType&gt;None&lt;/teamIdentificationType&gt;&lt;teamScoringType&gt;Voting pads only&lt;/teamScoringType&gt;&lt;teamScoringDecimalPlaces&gt;1&lt;/teamScoringDecimalPlaces&gt;&lt;teamIdentificationItem&gt;&lt;/teamIdentificationItem&gt;&lt;teamsLeaderBoard&gt;5&lt;/teamsLeaderBoard&gt;&lt;teamName1&gt;&lt;/teamName1&gt;&lt;teamName2&gt;&lt;/teamName2&gt;&lt;teamName3&gt;&lt;/teamName3&gt;&lt;teamName4&gt;&lt;/teamName4&gt;&lt;teamName5&gt;&lt;/teamName5&gt;&lt;teamName6&gt;&lt;/teamName6&gt;&lt;teamName7&gt;&lt;/teamName7&gt;&lt;teamName8&gt;&lt;/teamName8&gt;&lt;teamName9&gt;&lt;/teamName9&gt;&lt;teamName10&gt;&lt;/teamName10&gt;&lt;showControlBar&gt;All Slides&lt;/showControlBar&gt;&lt;defaultCorrectPointValue&gt;0&lt;/defaultCorrectPointValue&gt;&lt;defaultIncorrectPointValue&gt;0&lt;/defaultIncorrectPointValue&gt;&lt;chartColor1&gt;187,224,227&lt;/chartColor1&gt;&lt;chartColor2&gt;51,51,153&lt;/chartColor2&gt;&lt;chartColor3&gt;0,153,153&lt;/chartColor3&gt;&lt;chartColor4&gt;153,204,0&lt;/chartColor4&gt;&lt;chartColor5&gt;128,128,128&lt;/chartColor5&gt;&lt;chartColor6&gt;0,0,0&lt;/chartColor6&gt;&lt;chartColor7&gt;0,102,204&lt;/chartColor7&gt;&lt;chartColor8&gt;204,204,255&lt;/chartColor8&gt;&lt;chartColor9&gt;255,0,0&lt;/chartColor9&gt;&lt;chartColor10&gt;255,255,0&lt;/chartColor10&gt;&lt;teamColor1&gt;187,224,227&lt;/teamColor1&gt;&lt;teamColor2&gt;51,51,153&lt;/teamColor2&gt;&lt;teamColor3&gt;0,153,153&lt;/teamColor3&gt;&lt;teamColor4&gt;153,204,0&lt;/teamColor4&gt;&lt;teamColor5&gt;128,128,128&lt;/teamColor5&gt;&lt;teamColor6&gt;0,0,0&lt;/teamColor6&gt;&lt;teamColor7&gt;0,102,204&lt;/teamColor7&gt;&lt;teamColor8&gt;204,204,255&lt;/teamColor8&gt;&lt;teamColor9&gt;255,0,0&lt;/teamColor9&gt;&lt;teamColor10&gt;255,255,0&lt;/teamColor10&gt;&lt;displayAnswerImagesDuringVote&gt;Yes&lt;/displayAnswerImagesDuringVote&gt;&lt;displayAnswerImagesWithResponses&gt;Yes&lt;/displayAnswerImagesWithResponses&gt;&lt;displayAnswerTextDuringVote&gt;Yes&lt;/displayAnswerTextDuringVote&gt;&lt;displayAnswerTextWithResponses&gt;Yes&lt;/displayAnswerTextWithResponses&gt;&lt;questionSlideID&gt;&lt;/questionSlideID&gt;&lt;controlBarState&gt;Expanded&lt;/controlBarState&gt;&lt;isGridColorKnownColor&gt;True&lt;/isGridColorKnownColor&gt;&lt;gridColorName&gt;Yellow&lt;/gridColorName&gt;&lt;/Settings&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opic Prioritization</a:t>
            </a:r>
            <a:endParaRPr b="1" lang="en-US" sz="2800" spc="-1" strike="noStrike">
              <a:solidFill>
                <a:srgbClr val="ffffff"/>
              </a:solidFill>
              <a:latin typeface="Trebuchet MS"/>
            </a:endParaRPr>
          </a:p>
        </p:txBody>
      </p:sp>
      <p:pic>
        <p:nvPicPr>
          <p:cNvPr id="114" name="Content Placeholder 3" descr=""/>
          <p:cNvPicPr/>
          <p:nvPr/>
        </p:nvPicPr>
        <p:blipFill>
          <a:blip r:embed="rId1"/>
          <a:stretch/>
        </p:blipFill>
        <p:spPr>
          <a:xfrm>
            <a:off x="378000" y="1243080"/>
            <a:ext cx="8388000" cy="498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opic Refinement</a:t>
            </a:r>
            <a:endParaRPr b="1" lang="en-US" sz="2800" spc="-1" strike="noStrike">
              <a:solidFill>
                <a:srgbClr val="ffffff"/>
              </a:solidFill>
              <a:latin typeface="Trebuchet MS"/>
            </a:endParaRPr>
          </a:p>
        </p:txBody>
      </p:sp>
      <p:pic>
        <p:nvPicPr>
          <p:cNvPr id="116" name="Content Placeholder 3" descr=""/>
          <p:cNvPicPr/>
          <p:nvPr/>
        </p:nvPicPr>
        <p:blipFill>
          <a:blip r:embed="rId1"/>
          <a:stretch/>
        </p:blipFill>
        <p:spPr>
          <a:xfrm>
            <a:off x="378000" y="1243080"/>
            <a:ext cx="8388000" cy="498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opic Refinement &amp; Key Informants</a:t>
            </a:r>
            <a:endParaRPr b="1" lang="en-US" sz="2800" spc="-1" strike="noStrike">
              <a:solidFill>
                <a:srgbClr val="ffffff"/>
              </a:solidFill>
              <a:latin typeface="Trebuchet MS"/>
            </a:endParaRPr>
          </a:p>
        </p:txBody>
      </p:sp>
      <p:sp>
        <p:nvSpPr>
          <p:cNvPr id="11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Ways to find key informants include contacting:</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vocacy organizations and support group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fessional organizations and societie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ertification board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fessional network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vate insurer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search Protocol Development</a:t>
            </a:r>
            <a:endParaRPr b="1" lang="en-US" sz="2800" spc="-1" strike="noStrike">
              <a:solidFill>
                <a:srgbClr val="ffffff"/>
              </a:solidFill>
              <a:latin typeface="Trebuchet MS"/>
            </a:endParaRPr>
          </a:p>
        </p:txBody>
      </p:sp>
      <p:pic>
        <p:nvPicPr>
          <p:cNvPr id="120" name="Content Placeholder 3" descr=""/>
          <p:cNvPicPr/>
          <p:nvPr/>
        </p:nvPicPr>
        <p:blipFill>
          <a:blip r:embed="rId1"/>
          <a:stretch/>
        </p:blipFill>
        <p:spPr>
          <a:xfrm>
            <a:off x="378000" y="1243080"/>
            <a:ext cx="8388000" cy="498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eer and Public Review</a:t>
            </a:r>
            <a:endParaRPr b="1" lang="en-US" sz="2800" spc="-1" strike="noStrike">
              <a:solidFill>
                <a:srgbClr val="ffffff"/>
              </a:solidFill>
              <a:latin typeface="Trebuchet MS"/>
            </a:endParaRPr>
          </a:p>
        </p:txBody>
      </p:sp>
      <p:pic>
        <p:nvPicPr>
          <p:cNvPr id="122" name="Content Placeholder 3" descr=""/>
          <p:cNvPicPr/>
          <p:nvPr/>
        </p:nvPicPr>
        <p:blipFill>
          <a:blip r:embed="rId1"/>
          <a:stretch/>
        </p:blipFill>
        <p:spPr>
          <a:xfrm>
            <a:off x="378000" y="1243080"/>
            <a:ext cx="8424720" cy="498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port Translation &amp; Dissemination</a:t>
            </a:r>
            <a:endParaRPr b="1" lang="en-US" sz="2800" spc="-1" strike="noStrike">
              <a:solidFill>
                <a:srgbClr val="ffffff"/>
              </a:solidFill>
              <a:latin typeface="Trebuchet MS"/>
            </a:endParaRPr>
          </a:p>
        </p:txBody>
      </p:sp>
      <p:pic>
        <p:nvPicPr>
          <p:cNvPr id="124" name="Content Placeholder 3" descr=""/>
          <p:cNvPicPr/>
          <p:nvPr/>
        </p:nvPicPr>
        <p:blipFill>
          <a:blip r:embed="rId1"/>
          <a:stretch/>
        </p:blipFill>
        <p:spPr>
          <a:xfrm>
            <a:off x="225360" y="1090440"/>
            <a:ext cx="8620200" cy="4876920"/>
          </a:xfrm>
          <a:prstGeom prst="rect">
            <a:avLst/>
          </a:prstGeom>
          <a:ln w="0">
            <a:noFill/>
          </a:ln>
        </p:spPr>
      </p:pic>
      <p:sp>
        <p:nvSpPr>
          <p:cNvPr id="125" name="TextBox 4"/>
          <p:cNvSpPr/>
          <p:nvPr/>
        </p:nvSpPr>
        <p:spPr>
          <a:xfrm>
            <a:off x="152280" y="5954760"/>
            <a:ext cx="876312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a:t>
            </a:r>
            <a:r>
              <a:rPr b="1" lang="en-US" sz="1700" spc="-1" strike="noStrike">
                <a:solidFill>
                  <a:srgbClr val="ffffff"/>
                </a:solidFill>
                <a:latin typeface="Trebuchet MS"/>
              </a:rPr>
              <a:t>Eisenberg Center leads stakeholder engagement for translation and disseminatio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Module III</a:t>
            </a:r>
            <a:endParaRPr b="1" lang="en-US" sz="2800" spc="-1" strike="noStrike">
              <a:solidFill>
                <a:srgbClr val="ffffff"/>
              </a:solidFill>
              <a:latin typeface="Trebuchet MS"/>
            </a:endParaRPr>
          </a:p>
        </p:txBody>
      </p:sp>
      <p:sp>
        <p:nvSpPr>
          <p:cNvPr id="127"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and Involve stakeholders early in the proces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multiple opportunities for stakeholder engagement in the EHC Program</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opportunity serves a unique purpos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 order to ensure valuable and constructive knowledge exchange, consider the most appropriate stakeholders to involv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many ways to locate and recruit stakeholder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a:t>
            </a:r>
            <a:endParaRPr b="1" lang="en-US" sz="2800" spc="-1" strike="noStrike">
              <a:solidFill>
                <a:srgbClr val="ffffff"/>
              </a:solidFill>
              <a:latin typeface="Trebuchet MS"/>
            </a:endParaRPr>
          </a:p>
        </p:txBody>
      </p:sp>
      <p:sp>
        <p:nvSpPr>
          <p:cNvPr id="12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help you review the information presented in Module III, please complete the following quiz. Answers are provided at the end of the module.</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Module III Quiz: </a:t>
            </a:r>
            <a:br>
              <a:rPr sz="2400"/>
            </a:br>
            <a:r>
              <a:rPr b="1" lang="en-US" sz="2400" spc="-1" strike="noStrike">
                <a:solidFill>
                  <a:srgbClr val="ffffff"/>
                </a:solidFill>
                <a:latin typeface="Trebuchet MS"/>
              </a:rPr>
              <a:t>Question 1</a:t>
            </a:r>
            <a:endParaRPr b="1" lang="en-US" sz="2400" spc="-1" strike="noStrike">
              <a:solidFill>
                <a:srgbClr val="ffffff"/>
              </a:solidFill>
              <a:latin typeface="Trebuchet MS"/>
            </a:endParaRPr>
          </a:p>
        </p:txBody>
      </p:sp>
      <p:sp>
        <p:nvSpPr>
          <p:cNvPr id="131"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Which of the following activities are opportunities for stakeholder involvement in the EHC Program? Select all that apply:</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uggesting a research idea</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roviding input on inclusion/exclusion criteria</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Discussing key questions</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llustrating clinical context for a topic</a:t>
            </a:r>
            <a:endParaRPr b="0" lang="en-US" sz="22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rebuchet MS"/>
              </a:rPr>
              <a:t>Module III Quiz: </a:t>
            </a:r>
            <a:br>
              <a:rPr sz="2400"/>
            </a:br>
            <a:r>
              <a:rPr b="1" lang="en-US" sz="2400" spc="-1" strike="noStrike">
                <a:solidFill>
                  <a:srgbClr val="ffffff"/>
                </a:solidFill>
                <a:latin typeface="Trebuchet MS"/>
              </a:rPr>
              <a:t>Question 1: </a:t>
            </a:r>
            <a:r>
              <a:rPr b="1" lang="en-US" sz="2400" spc="-1" strike="noStrike">
                <a:solidFill>
                  <a:srgbClr val="ffc000"/>
                </a:solidFill>
                <a:latin typeface="Trebuchet MS"/>
              </a:rPr>
              <a:t>ANSWER</a:t>
            </a:r>
            <a:endParaRPr b="1" lang="en-US" sz="2400" spc="-1" strike="noStrike">
              <a:solidFill>
                <a:srgbClr val="ffffff"/>
              </a:solidFill>
              <a:latin typeface="Trebuchet MS"/>
            </a:endParaRPr>
          </a:p>
        </p:txBody>
      </p:sp>
      <p:sp>
        <p:nvSpPr>
          <p:cNvPr id="133"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1) Which of the following activities are opportunities for stakeholder involvement in the EHC Program? </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Suggesting a research idea</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Providing input on inclusion/exclusion criteria</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Discussing key questions</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Illustrating clinical context for a topic</a:t>
            </a:r>
            <a:endParaRPr b="0" lang="en-US" sz="2200" spc="-1" strike="noStrike">
              <a:solidFill>
                <a:srgbClr val="ffffff"/>
              </a:solidFill>
              <a:latin typeface="Trebuchet MS"/>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Full Course Outline</a:t>
            </a:r>
            <a:endParaRPr b="1" lang="en-US" sz="2800" spc="-1" strike="noStrike">
              <a:solidFill>
                <a:srgbClr val="ffffff"/>
              </a:solidFill>
              <a:latin typeface="Trebuchet MS"/>
            </a:endParaRPr>
          </a:p>
        </p:txBody>
      </p:sp>
      <p:pic>
        <p:nvPicPr>
          <p:cNvPr id="88" name="Content Placeholder 3" descr=""/>
          <p:cNvPicPr/>
          <p:nvPr/>
        </p:nvPicPr>
        <p:blipFill>
          <a:blip r:embed="rId1"/>
          <a:stretch/>
        </p:blipFill>
        <p:spPr>
          <a:xfrm>
            <a:off x="378000" y="1243080"/>
            <a:ext cx="8381880" cy="498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2</a:t>
            </a:r>
            <a:endParaRPr b="1" lang="en-US" sz="2800" spc="-1" strike="noStrike">
              <a:solidFill>
                <a:srgbClr val="ffffff"/>
              </a:solidFill>
              <a:latin typeface="Trebuchet MS"/>
            </a:endParaRPr>
          </a:p>
        </p:txBody>
      </p:sp>
      <p:sp>
        <p:nvSpPr>
          <p:cNvPr id="135"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Match the engagement purpose with the appropriate EHC Program phase.  Identify nominations relevant to real-world health care decisions:</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2: </a:t>
            </a:r>
            <a:r>
              <a:rPr b="1" lang="en-US" sz="2800" spc="-1" strike="noStrike">
                <a:solidFill>
                  <a:srgbClr val="ffc000"/>
                </a:solidFill>
                <a:latin typeface="Trebuchet MS"/>
              </a:rPr>
              <a:t>ANSWER</a:t>
            </a:r>
            <a:endParaRPr b="1" lang="en-US" sz="2800" spc="-1" strike="noStrike">
              <a:solidFill>
                <a:srgbClr val="ffffff"/>
              </a:solidFill>
              <a:latin typeface="Trebuchet MS"/>
            </a:endParaRPr>
          </a:p>
        </p:txBody>
      </p:sp>
      <p:sp>
        <p:nvSpPr>
          <p:cNvPr id="137"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2. Match the engagement purpose with the appropriate EHC Program phase.  Identify nominations relevant to real-world health care decisions:</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3</a:t>
            </a:r>
            <a:endParaRPr b="1" lang="en-US" sz="2800" spc="-1" strike="noStrike">
              <a:solidFill>
                <a:srgbClr val="ffffff"/>
              </a:solidFill>
              <a:latin typeface="Trebuchet MS"/>
            </a:endParaRPr>
          </a:p>
        </p:txBody>
      </p:sp>
      <p:sp>
        <p:nvSpPr>
          <p:cNvPr id="139"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3.  Match the engagement purpose with the appropriate EHC Program phase. Provide clinical and methodological input:</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457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3: </a:t>
            </a:r>
            <a:r>
              <a:rPr b="1" lang="en-US" sz="2800" spc="-1" strike="noStrike">
                <a:solidFill>
                  <a:srgbClr val="ffc000"/>
                </a:solidFill>
                <a:latin typeface="Trebuchet MS"/>
              </a:rPr>
              <a:t>ANSWER</a:t>
            </a:r>
            <a:endParaRPr b="1" lang="en-US" sz="2800" spc="-1" strike="noStrike">
              <a:solidFill>
                <a:srgbClr val="ffffff"/>
              </a:solidFill>
              <a:latin typeface="Trebuchet MS"/>
            </a:endParaRPr>
          </a:p>
        </p:txBody>
      </p:sp>
      <p:sp>
        <p:nvSpPr>
          <p:cNvPr id="141"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3.  Match the engagement purpose with the appropriate EHC Program phase. Provide clinical and methodological input:</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457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4</a:t>
            </a:r>
            <a:endParaRPr b="1" lang="en-US" sz="2800" spc="-1" strike="noStrike">
              <a:solidFill>
                <a:srgbClr val="ffffff"/>
              </a:solidFill>
              <a:latin typeface="Trebuchet MS"/>
            </a:endParaRPr>
          </a:p>
        </p:txBody>
      </p:sp>
      <p:sp>
        <p:nvSpPr>
          <p:cNvPr id="143"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4.  Match the engagement purpose with the appropriate EHC Program phase. Provide input to develop and prioritize research gaps:</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4</a:t>
            </a:r>
            <a:r>
              <a:rPr b="1" lang="en-US" sz="2800" spc="-1" strike="noStrike">
                <a:solidFill>
                  <a:srgbClr val="ffffff"/>
                </a:solidFill>
                <a:latin typeface="Trebuchet MS"/>
              </a:rPr>
              <a:t>:</a:t>
            </a:r>
            <a:r>
              <a:rPr b="1" lang="en-US" sz="2800" spc="-1" strike="noStrike">
                <a:solidFill>
                  <a:srgbClr val="ffc000"/>
                </a:solidFill>
                <a:latin typeface="Trebuchet MS"/>
              </a:rPr>
              <a:t> ANSWER</a:t>
            </a:r>
            <a:endParaRPr b="1" lang="en-US" sz="2800" spc="-1" strike="noStrike">
              <a:solidFill>
                <a:srgbClr val="ffffff"/>
              </a:solidFill>
              <a:latin typeface="Trebuchet MS"/>
            </a:endParaRPr>
          </a:p>
        </p:txBody>
      </p:sp>
      <p:sp>
        <p:nvSpPr>
          <p:cNvPr id="145"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4.  Match the engagement purpose with the appropriate EHC Program phase. Provide input to develop and prioritize research gaps:</a:t>
            </a:r>
            <a:endParaRPr b="0" lang="en-US" sz="24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Identification &amp; Nomination</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Topic Prioritization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Topic Refine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search Protocol Development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eer/Public Review </a:t>
            </a:r>
            <a:endParaRPr b="0" lang="en-US" sz="2000" spc="-1" strike="noStrike">
              <a:solidFill>
                <a:srgbClr val="ffffff"/>
              </a:solidFill>
              <a:latin typeface="Trebuchet MS"/>
            </a:endParaRPr>
          </a:p>
          <a:p>
            <a:pPr lvl="1" marL="743040" indent="-343080">
              <a:lnSpc>
                <a:spcPct val="100000"/>
              </a:lnSpc>
              <a:spcBef>
                <a:spcPts val="751"/>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Report Translation &amp; Dissemination</a:t>
            </a:r>
            <a:endParaRPr b="0" lang="en-US" sz="20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5</a:t>
            </a:r>
            <a:r>
              <a:rPr b="1" lang="en-US" sz="2800" spc="-1" strike="noStrike">
                <a:solidFill>
                  <a:srgbClr val="ffffff"/>
                </a:solidFill>
                <a:latin typeface="Trebuchet MS"/>
              </a:rPr>
              <a:t>:</a:t>
            </a:r>
            <a:endParaRPr b="1" lang="en-US" sz="2800" spc="-1" strike="noStrike">
              <a:solidFill>
                <a:srgbClr val="ffffff"/>
              </a:solidFill>
              <a:latin typeface="Trebuchet MS"/>
            </a:endParaRPr>
          </a:p>
        </p:txBody>
      </p:sp>
      <p:sp>
        <p:nvSpPr>
          <p:cNvPr id="147"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st three ways in which you could locate and recruit stakeholders.</a:t>
            </a:r>
            <a:endParaRPr b="0" lang="en-US" sz="24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Quiz: </a:t>
            </a:r>
            <a:br>
              <a:rPr sz="2800"/>
            </a:br>
            <a:r>
              <a:rPr b="1" lang="en-US" sz="2800" spc="-1" strike="noStrike">
                <a:solidFill>
                  <a:srgbClr val="ffffff"/>
                </a:solidFill>
                <a:latin typeface="Trebuchet MS"/>
              </a:rPr>
              <a:t>Question 5</a:t>
            </a:r>
            <a:r>
              <a:rPr b="1" lang="en-US" sz="2800" spc="-1" strike="noStrike">
                <a:solidFill>
                  <a:srgbClr val="ffffff"/>
                </a:solidFill>
                <a:latin typeface="Trebuchet MS"/>
              </a:rPr>
              <a:t>: </a:t>
            </a:r>
            <a:r>
              <a:rPr b="1" lang="en-US" sz="2800" spc="-1" strike="noStrike">
                <a:solidFill>
                  <a:srgbClr val="ffc000"/>
                </a:solidFill>
                <a:latin typeface="Trebuchet MS"/>
              </a:rPr>
              <a:t>ANSWER</a:t>
            </a:r>
            <a:endParaRPr b="1" lang="en-US" sz="2800" spc="-1" strike="noStrike">
              <a:solidFill>
                <a:srgbClr val="ffffff"/>
              </a:solidFill>
              <a:latin typeface="Trebuchet MS"/>
            </a:endParaRPr>
          </a:p>
        </p:txBody>
      </p:sp>
      <p:sp>
        <p:nvSpPr>
          <p:cNvPr id="149" name="PlaceHolder 2"/>
          <p:cNvSpPr>
            <a:spLocks noGrp="1"/>
          </p:cNvSpPr>
          <p:nvPr>
            <p:ph/>
          </p:nvPr>
        </p:nvSpPr>
        <p:spPr>
          <a:xfrm>
            <a:off x="457200" y="1294920"/>
            <a:ext cx="8153280" cy="483084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st three ways in which you could locate and recruit stakeholders. </a:t>
            </a:r>
            <a:endParaRPr b="0" lang="en-US" sz="2400" spc="-1" strike="noStrike">
              <a:solidFill>
                <a:srgbClr val="ffffff"/>
              </a:solidFill>
              <a:latin typeface="Trebuchet MS"/>
            </a:endParaRPr>
          </a:p>
          <a:p>
            <a:pPr marL="45720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000"/>
                </a:solidFill>
                <a:latin typeface="Trebuchet MS"/>
              </a:rPr>
              <a:t>Potential ways to recruit and identify stakeholders include:</a:t>
            </a:r>
            <a:endParaRPr b="0" lang="en-US" sz="2200" spc="-1" strike="noStrike">
              <a:solidFill>
                <a:srgbClr val="ffffff"/>
              </a:solidFill>
              <a:latin typeface="Trebuchet MS"/>
            </a:endParaRPr>
          </a:p>
          <a:p>
            <a:pPr lvl="1" marL="56988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Patients &amp; consumers </a:t>
            </a:r>
            <a:endParaRPr b="0" lang="en-US" sz="20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Advocacy organizations </a:t>
            </a:r>
            <a:endParaRPr b="0" lang="en-US" sz="16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Support groups</a:t>
            </a:r>
            <a:endParaRPr b="0" lang="en-US" sz="1600" spc="-1" strike="noStrike">
              <a:solidFill>
                <a:srgbClr val="ffffff"/>
              </a:solidFill>
              <a:latin typeface="Trebuchet MS"/>
            </a:endParaRPr>
          </a:p>
          <a:p>
            <a:pPr lvl="1" marL="56988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Clinicians </a:t>
            </a:r>
            <a:endParaRPr b="0" lang="en-US" sz="20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Professional organizations and societies</a:t>
            </a:r>
            <a:endParaRPr b="0" lang="en-US" sz="16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Certification boards</a:t>
            </a:r>
            <a:endParaRPr b="0" lang="en-US" sz="1600" spc="-1" strike="noStrike">
              <a:solidFill>
                <a:srgbClr val="ffffff"/>
              </a:solidFill>
              <a:latin typeface="Trebuchet MS"/>
            </a:endParaRPr>
          </a:p>
          <a:p>
            <a:pPr lvl="1" marL="56988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Trebuchet MS"/>
              </a:rPr>
              <a:t>Policymakers </a:t>
            </a:r>
            <a:endParaRPr b="0" lang="en-US" sz="20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Professional networks (MMDLN, MED, DERP, NASADD) </a:t>
            </a:r>
            <a:endParaRPr b="0" lang="en-US" sz="1600" spc="-1" strike="noStrike">
              <a:solidFill>
                <a:srgbClr val="ffffff"/>
              </a:solidFill>
              <a:latin typeface="Trebuchet MS"/>
            </a:endParaRPr>
          </a:p>
          <a:p>
            <a:pPr lvl="2" marL="855720" indent="-284040">
              <a:lnSpc>
                <a:spcPct val="100000"/>
              </a:lnSpc>
              <a:buClr>
                <a:srgbClr val="dfb20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000"/>
                </a:solidFill>
                <a:latin typeface="Trebuchet MS"/>
              </a:rPr>
              <a:t>Through private insurers</a:t>
            </a:r>
            <a:endParaRPr b="0" lang="en-US" sz="1600" spc="-1" strike="noStrike">
              <a:solidFill>
                <a:srgbClr val="ffffff"/>
              </a:solidFill>
              <a:latin typeface="Trebuchet MS"/>
            </a:endParaRPr>
          </a:p>
          <a:p>
            <a:pPr lvl="1" marL="5698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orks Cited</a:t>
            </a:r>
            <a:endParaRPr b="1" lang="en-US" sz="2800" spc="-1" strike="noStrike">
              <a:solidFill>
                <a:srgbClr val="ffffff"/>
              </a:solidFill>
              <a:latin typeface="Trebuchet MS"/>
            </a:endParaRPr>
          </a:p>
        </p:txBody>
      </p:sp>
      <p:sp>
        <p:nvSpPr>
          <p:cNvPr id="151"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gency for Healthcare Research and Quality (2009). </a:t>
            </a:r>
            <a:r>
              <a:rPr b="0" i="1" lang="en-US" sz="2200" spc="-1" strike="noStrike">
                <a:solidFill>
                  <a:srgbClr val="ffffff"/>
                </a:solidFill>
                <a:latin typeface="Trebuchet MS"/>
              </a:rPr>
              <a:t>Methods Guide for Effectiveness and Comparative Effectiveness Reviews.</a:t>
            </a:r>
            <a:r>
              <a:rPr b="0" lang="en-US" sz="2200" spc="-1" strike="noStrike">
                <a:solidFill>
                  <a:srgbClr val="ffffff"/>
                </a:solidFill>
                <a:latin typeface="Trebuchet MS"/>
              </a:rPr>
              <a:t> Rockville, MD. Available at: http://effectivehealthcare.ahrq.gov/index.cfm/search-for-guides-reviews-and-reports/?pageaction=displayproduct&amp;productid=318</a:t>
            </a:r>
            <a:endParaRPr b="0" lang="en-US" sz="2200" spc="-1" strike="noStrike">
              <a:solidFill>
                <a:srgbClr val="ffffff"/>
              </a:solidFill>
              <a:latin typeface="Trebuchet MS"/>
            </a:endParaRPr>
          </a:p>
          <a:p>
            <a:pPr marL="291960" indent="-2919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gency for Healthcare Research and Quality (2009). </a:t>
            </a:r>
            <a:r>
              <a:rPr b="0" i="1" lang="en-US" sz="2200" spc="-1" strike="noStrike">
                <a:solidFill>
                  <a:srgbClr val="ffffff"/>
                </a:solidFill>
                <a:latin typeface="Trebuchet MS"/>
              </a:rPr>
              <a:t>Operating Plan for American Recovery and Reinvestment Act Funds for Comparative Effectiveness Research as the Agency for Healthcare Research and Quality.</a:t>
            </a:r>
            <a:endParaRPr b="0" lang="en-US" sz="2200" spc="-1" strike="noStrike">
              <a:solidFill>
                <a:srgbClr val="ffffff"/>
              </a:solidFill>
              <a:latin typeface="Trebuchet MS"/>
            </a:endParaRPr>
          </a:p>
          <a:p>
            <a:pPr marL="291960" indent="-2919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480"/>
            <a:ext cx="7772400" cy="1565280"/>
          </a:xfrm>
          <a:prstGeom prst="rect">
            <a:avLst/>
          </a:prstGeom>
          <a:noFill/>
          <a:ln w="0">
            <a:noFill/>
          </a:ln>
          <a:effectLst>
            <a:outerShdw dist="36147"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odule III</a:t>
            </a:r>
            <a:endParaRPr b="1" lang="en-US" sz="3200" spc="-1" strike="noStrike">
              <a:solidFill>
                <a:srgbClr val="ffffff"/>
              </a:solidFill>
              <a:latin typeface="Trebuchet MS"/>
            </a:endParaRPr>
          </a:p>
        </p:txBody>
      </p:sp>
      <p:sp>
        <p:nvSpPr>
          <p:cNvPr id="90" name="PlaceHolder 2"/>
          <p:cNvSpPr>
            <a:spLocks noGrp="1"/>
          </p:cNvSpPr>
          <p:nvPr>
            <p:ph type="subTitle"/>
          </p:nvPr>
        </p:nvSpPr>
        <p:spPr>
          <a:xfrm>
            <a:off x="685440" y="3798360"/>
            <a:ext cx="739620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Points of Engagement in the EHC Program</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hat to Expect in Module III</a:t>
            </a:r>
            <a:endParaRPr b="1" lang="en-US" sz="2800" spc="-1" strike="noStrike">
              <a:solidFill>
                <a:srgbClr val="ffffff"/>
              </a:solidFill>
              <a:latin typeface="Trebuchet MS"/>
            </a:endParaRPr>
          </a:p>
        </p:txBody>
      </p:sp>
      <p:sp>
        <p:nvSpPr>
          <p:cNvPr id="9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ule III will outline opportunities for stakeholders to be engaged in the Effective Health Care (EHC) Program. For each EHC Program phase this module will discus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ints of stakeholder involvement</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rpose of points of involvement</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ngagement opportunitie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tential types of stakeholders to involve</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II Learning Objectives</a:t>
            </a:r>
            <a:endParaRPr b="1" lang="en-US" sz="2800" spc="-1" strike="noStrike">
              <a:solidFill>
                <a:srgbClr val="ffffff"/>
              </a:solidFill>
              <a:latin typeface="Trebuchet MS"/>
            </a:endParaRPr>
          </a:p>
        </p:txBody>
      </p:sp>
      <p:sp>
        <p:nvSpPr>
          <p:cNvPr id="9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fter completing Module III participants will be able to:</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at least three opportunities to involve stakeholders in EHC Program research</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the objective of:</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ach point of involvement in the EHC Program research proces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volving stakeholders at each point</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AHRQ’s goals for stakeholder involvement</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HRQ Expectations</a:t>
            </a:r>
            <a:endParaRPr b="1" lang="en-US" sz="2800" spc="-1" strike="noStrike">
              <a:solidFill>
                <a:srgbClr val="ffffff"/>
              </a:solidFill>
              <a:latin typeface="Trebuchet MS"/>
            </a:endParaRPr>
          </a:p>
        </p:txBody>
      </p:sp>
      <p:pic>
        <p:nvPicPr>
          <p:cNvPr id="96" name="Content Placeholder 2" descr=""/>
          <p:cNvPicPr/>
          <p:nvPr/>
        </p:nvPicPr>
        <p:blipFill>
          <a:blip r:embed="rId1"/>
          <a:stretch/>
        </p:blipFill>
        <p:spPr>
          <a:xfrm>
            <a:off x="262080" y="1189080"/>
            <a:ext cx="8705880" cy="49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HC Program Phases of Research  </a:t>
            </a:r>
            <a:endParaRPr b="1" lang="en-US" sz="2800" spc="-1" strike="noStrike">
              <a:solidFill>
                <a:srgbClr val="ffffff"/>
              </a:solidFill>
              <a:latin typeface="Trebuchet MS"/>
            </a:endParaRPr>
          </a:p>
        </p:txBody>
      </p:sp>
      <p:pic>
        <p:nvPicPr>
          <p:cNvPr id="98" name="Diagram 3" descr=""/>
          <p:cNvPicPr/>
          <p:nvPr/>
        </p:nvPicPr>
        <p:blipFill>
          <a:blip r:embed="rId1"/>
          <a:stretch/>
        </p:blipFill>
        <p:spPr>
          <a:xfrm>
            <a:off x="907920" y="1054080"/>
            <a:ext cx="7053480" cy="5054760"/>
          </a:xfrm>
          <a:prstGeom prst="rect">
            <a:avLst/>
          </a:prstGeom>
          <a:ln w="0">
            <a:noFill/>
          </a:ln>
        </p:spPr>
      </p:pic>
      <p:sp>
        <p:nvSpPr>
          <p:cNvPr id="99" name="Up Arrow 8"/>
          <p:cNvSpPr/>
          <p:nvPr/>
        </p:nvSpPr>
        <p:spPr>
          <a:xfrm rot="10800000">
            <a:off x="4343040" y="213336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Up Arrow 9"/>
          <p:cNvSpPr/>
          <p:nvPr/>
        </p:nvSpPr>
        <p:spPr>
          <a:xfrm rot="13500000">
            <a:off x="5069520" y="2343240"/>
            <a:ext cx="228600" cy="640080"/>
          </a:xfrm>
          <a:prstGeom prst="upArrow">
            <a:avLst>
              <a:gd name="adj1" fmla="val 50000"/>
              <a:gd name="adj2" fmla="val 50024"/>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Up Arrow 10"/>
          <p:cNvSpPr/>
          <p:nvPr/>
        </p:nvSpPr>
        <p:spPr>
          <a:xfrm rot="16200000">
            <a:off x="5417280" y="325476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Up Arrow 11"/>
          <p:cNvSpPr/>
          <p:nvPr/>
        </p:nvSpPr>
        <p:spPr>
          <a:xfrm flipH="1" rot="5400000">
            <a:off x="3252960" y="326268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Up Arrow 12"/>
          <p:cNvSpPr/>
          <p:nvPr/>
        </p:nvSpPr>
        <p:spPr>
          <a:xfrm flipH="1" flipV="1" rot="10800000">
            <a:off x="4342320" y="434232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Up Arrow 13"/>
          <p:cNvSpPr/>
          <p:nvPr/>
        </p:nvSpPr>
        <p:spPr>
          <a:xfrm rot="19329600">
            <a:off x="5097600" y="413028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Up Arrow 14"/>
          <p:cNvSpPr/>
          <p:nvPr/>
        </p:nvSpPr>
        <p:spPr>
          <a:xfrm flipH="1" flipV="1" rot="12935400">
            <a:off x="3593520" y="412092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Up Arrow 15"/>
          <p:cNvSpPr/>
          <p:nvPr/>
        </p:nvSpPr>
        <p:spPr>
          <a:xfrm rot="8700000">
            <a:off x="3569400" y="2400120"/>
            <a:ext cx="228600" cy="639720"/>
          </a:xfrm>
          <a:prstGeom prst="upArrow">
            <a:avLst>
              <a:gd name="adj1" fmla="val 50000"/>
              <a:gd name="adj2" fmla="val 49996"/>
            </a:avLst>
          </a:prstGeom>
          <a:solidFill>
            <a:srgbClr val="ffd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ounded Rectangle 17"/>
          <p:cNvSpPr/>
          <p:nvPr/>
        </p:nvSpPr>
        <p:spPr>
          <a:xfrm>
            <a:off x="3855960" y="3200400"/>
            <a:ext cx="1189080" cy="685800"/>
          </a:xfrm>
          <a:prstGeom prst="roundRect">
            <a:avLst>
              <a:gd name="adj" fmla="val 10000"/>
            </a:avLst>
          </a:prstGeom>
          <a:solidFill>
            <a:srgbClr val="ff404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Rounded Rectangle 4"/>
          <p:cNvSpPr/>
          <p:nvPr/>
        </p:nvSpPr>
        <p:spPr>
          <a:xfrm>
            <a:off x="3895560" y="3220920"/>
            <a:ext cx="1109880" cy="644760"/>
          </a:xfrm>
          <a:prstGeom prst="rect">
            <a:avLst/>
          </a:prstGeom>
          <a:solidFill>
            <a:srgbClr val="ff4040"/>
          </a:solidFill>
          <a:ln w="0">
            <a:noFill/>
          </a:ln>
        </p:spPr>
        <p:style>
          <a:lnRef idx="0"/>
          <a:fillRef idx="0"/>
          <a:effectRef idx="0"/>
          <a:fontRef idx="minor"/>
        </p:style>
        <p:txBody>
          <a:bodyPr lIns="30600" rIns="30600" tIns="30600" bIns="30600" anchor="ctr">
            <a:noAutofit/>
          </a:bodyPr>
          <a:p>
            <a:pPr algn="ctr">
              <a:lnSpc>
                <a:spcPct val="90000"/>
              </a:lnSpc>
              <a:spcAft>
                <a:spcPts val="612"/>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400" spc="-1" strike="noStrike">
                <a:solidFill>
                  <a:srgbClr val="000000"/>
                </a:solidFill>
                <a:latin typeface="Trebuchet MS"/>
              </a:rPr>
              <a:t>EHC </a:t>
            </a:r>
            <a:endParaRPr b="0" lang="en-US" sz="1400" spc="-1" strike="noStrike">
              <a:solidFill>
                <a:srgbClr val="000000"/>
              </a:solidFill>
              <a:latin typeface="Arial"/>
            </a:endParaRPr>
          </a:p>
          <a:p>
            <a:pPr algn="ctr">
              <a:lnSpc>
                <a:spcPct val="90000"/>
              </a:lnSpc>
              <a:spcAft>
                <a:spcPts val="612"/>
              </a:spcAft>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Lst>
            </a:pPr>
            <a:r>
              <a:rPr b="1" lang="en-US" sz="1400" spc="-1" strike="noStrike">
                <a:solidFill>
                  <a:srgbClr val="000000"/>
                </a:solidFill>
                <a:latin typeface="Trebuchet MS"/>
              </a:rPr>
              <a:t>Progr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akeholder Activities in EHC Program Research</a:t>
            </a:r>
            <a:endParaRPr b="1" lang="en-US" sz="2800" spc="-1" strike="noStrike">
              <a:solidFill>
                <a:srgbClr val="ffffff"/>
              </a:solidFill>
              <a:latin typeface="Trebuchet MS"/>
            </a:endParaRPr>
          </a:p>
        </p:txBody>
      </p:sp>
      <p:pic>
        <p:nvPicPr>
          <p:cNvPr id="110" name="Content Placeholder 6" descr=""/>
          <p:cNvPicPr/>
          <p:nvPr/>
        </p:nvPicPr>
        <p:blipFill>
          <a:blip r:embed="rId1"/>
          <a:stretch/>
        </p:blipFill>
        <p:spPr>
          <a:xfrm>
            <a:off x="450720" y="1243080"/>
            <a:ext cx="8242560" cy="4981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opic Identification and Nomination</a:t>
            </a:r>
            <a:endParaRPr b="1" lang="en-US" sz="2800" spc="-1" strike="noStrike">
              <a:solidFill>
                <a:srgbClr val="ffffff"/>
              </a:solidFill>
              <a:latin typeface="Trebuchet MS"/>
            </a:endParaRPr>
          </a:p>
        </p:txBody>
      </p:sp>
      <p:pic>
        <p:nvPicPr>
          <p:cNvPr id="112" name="Content Placeholder 3" descr=""/>
          <p:cNvPicPr/>
          <p:nvPr/>
        </p:nvPicPr>
        <p:blipFill>
          <a:blip r:embed="rId1"/>
          <a:stretch/>
        </p:blipFill>
        <p:spPr>
          <a:xfrm>
            <a:off x="378000" y="1243080"/>
            <a:ext cx="8388000" cy="498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6:45:48Z</dcterms:created>
  <dc:creator>khs</dc:creator>
  <dc:description/>
  <dc:language>en-US</dc:language>
  <cp:lastModifiedBy>Danielle Lavallee</cp:lastModifiedBy>
  <dcterms:modified xsi:type="dcterms:W3CDTF">2011-10-31T21:53:02Z</dcterms:modified>
  <cp:revision>32</cp:revision>
  <dc:subject/>
  <dc:title>Slide 1</dc:title>
</cp:coreProperties>
</file>