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E22F-6654-4223-B04C-9E06CB68D5B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ective Search Strategies for Systematic Review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4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develop effective search strategies when conducting a systematic review of a medical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AHRQ Publicaton No. 12-EHC076-EF. Chapter 4 of Methods Guide for Medical Test Reviews (AHRQ Publication No. 12-EHC017). Rockville, MD: Agency for Healthcare Research and Quality; June 2012.</a:t>
            </a:r>
            <a:r>
              <a:rPr b="0" lang="en-US" sz="1200" spc="-1" strike="noStrike">
                <a:solidFill>
                  <a:srgbClr val="000000"/>
                </a:solidFill>
                <a:latin typeface="Calibri"/>
              </a:rPr>
              <a:t>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of Searching for Studie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primary principles for developing search strategies for systematic reviews of medical tests. First, do not rely solely on search filters. Second, do not rely on controlled vocabulary (subject headings) alone. Finally, search in multiple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4840" y="696960"/>
            <a:ext cx="4648320" cy="3486240"/>
          </a:xfrm>
          <a:prstGeom prst="rect">
            <a:avLst/>
          </a:prstGeom>
          <a:ln w="0">
            <a:noFill/>
          </a:ln>
        </p:spPr>
      </p:sp>
      <p:sp>
        <p:nvSpPr>
          <p:cNvPr id="2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Search Principle 1: Do Not Rely on Search Filters Alone (1 of 2)</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earch filters or </a:t>
            </a:r>
            <a:r>
              <a:rPr b="0" lang="ja-JP" sz="400" spc="-1" strike="noStrike">
                <a:solidFill>
                  <a:srgbClr val="000000"/>
                </a:solidFill>
                <a:latin typeface="Calibri"/>
              </a:rPr>
              <a:t>“</a:t>
            </a:r>
            <a:r>
              <a:rPr b="0" lang="en-US" sz="400" spc="-1" strike="noStrike">
                <a:solidFill>
                  <a:srgbClr val="000000"/>
                </a:solidFill>
                <a:latin typeface="Calibri"/>
              </a:rPr>
              <a:t>hedges</a:t>
            </a:r>
            <a:r>
              <a:rPr b="0" lang="ja-JP" sz="400" spc="-1" strike="noStrike">
                <a:solidFill>
                  <a:srgbClr val="000000"/>
                </a:solidFill>
                <a:latin typeface="Calibri"/>
              </a:rPr>
              <a:t>”</a:t>
            </a:r>
            <a:r>
              <a:rPr b="0" lang="en-US" sz="400" spc="-1" strike="noStrike">
                <a:solidFill>
                  <a:srgbClr val="000000"/>
                </a:solidFill>
                <a:latin typeface="Calibri"/>
              </a:rPr>
              <a:t> are pre-prepared and tested searches pertaining to a particular disease developed to aid systematic reviewers in evaluating tests. These filters can be combined with searches on a specific disease or condition. Most of these filters have been developed for MEDLINE</a:t>
            </a:r>
            <a:r>
              <a:rPr b="0" lang="en-US" sz="400" spc="-1" strike="noStrike" baseline="30000">
                <a:solidFill>
                  <a:srgbClr val="000000"/>
                </a:solidFill>
                <a:latin typeface="Symbol"/>
                <a:ea typeface="Symbol"/>
              </a:rPr>
              <a:t></a:t>
            </a:r>
            <a:r>
              <a:rPr b="0" lang="en-US" sz="400" spc="-1" strike="noStrike">
                <a:solidFill>
                  <a:srgbClr val="000000"/>
                </a:solidFill>
                <a:latin typeface="Calibri"/>
              </a:rPr>
              <a:t>, such as the filter used in the PubMed</a:t>
            </a:r>
            <a:r>
              <a:rPr b="0" lang="en-US" sz="400" spc="-1" strike="noStrike" baseline="30000">
                <a:solidFill>
                  <a:srgbClr val="000000"/>
                </a:solidFill>
                <a:latin typeface="Symbol"/>
                <a:ea typeface="Symbol"/>
              </a:rPr>
              <a:t></a:t>
            </a:r>
            <a:r>
              <a:rPr b="0" lang="en-US" sz="400" spc="-1" strike="noStrike">
                <a:solidFill>
                  <a:srgbClr val="000000"/>
                </a:solidFill>
                <a:latin typeface="Calibri"/>
              </a:rPr>
              <a:t> Clinical Queries for </a:t>
            </a:r>
            <a:r>
              <a:rPr b="0" lang="ja-JP" sz="400" spc="-1" strike="noStrike">
                <a:solidFill>
                  <a:srgbClr val="000000"/>
                </a:solidFill>
                <a:latin typeface="Calibri"/>
              </a:rPr>
              <a:t>“</a:t>
            </a:r>
            <a:r>
              <a:rPr b="0" lang="en-US" sz="400" spc="-1" strike="noStrike">
                <a:solidFill>
                  <a:srgbClr val="000000"/>
                </a:solidFill>
                <a:latin typeface="Calibri"/>
              </a:rPr>
              <a:t>diagnosis.</a:t>
            </a:r>
            <a:r>
              <a:rPr b="0" lang="ja-JP" sz="400" spc="-1" strike="noStrike">
                <a:solidFill>
                  <a:srgbClr val="000000"/>
                </a:solidFill>
                <a:latin typeface="Calibri"/>
              </a:rPr>
              <a:t>” </a:t>
            </a:r>
            <a:r>
              <a:rPr b="0" lang="en-US" sz="400" spc="-1" strike="noStrike">
                <a:solidFill>
                  <a:srgbClr val="000000"/>
                </a:solidFill>
                <a:latin typeface="Calibri"/>
              </a:rPr>
              <a:t>Filters have also been developed specifically for diagnostic imaging and for EMBASE</a:t>
            </a:r>
            <a:r>
              <a:rPr b="0" lang="en-US" sz="400" spc="-1" strike="noStrike" baseline="30000">
                <a:solidFill>
                  <a:srgbClr val="000000"/>
                </a:solidFill>
                <a:latin typeface="Symbol"/>
                <a:ea typeface="Symbol"/>
              </a:rPr>
              <a:t></a:t>
            </a:r>
            <a:r>
              <a:rPr b="0" lang="en-US" sz="400" spc="-1" strike="noStrike">
                <a:solidFill>
                  <a:srgbClr val="000000"/>
                </a:solidFill>
                <a:latin typeface="Calibri"/>
              </a:rPr>
              <a:t>.</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owever, even though these search filters might be useful for the casual researcher needing good articles on diagnosis, they should be considered inappropriate for use in systematic reviews of medical tests. Several researchers have reported that using such filters for systematic reviews resulted in the omission of relevant studies. In addition, these searches often come up short, especially for studies published before 1990 because of nonstandardized reporting and indexing of medical test studies. Yet the reporting and indexing of medical test studies may improve, in much the same way as the reporting and indexing of randomized controlled trials have improved, making the use of filters more appropriate when searching for systematic reviews of medical tests in the future. </a:t>
            </a: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ferences:</a:t>
            </a: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400" spc="-1" strike="noStrike">
                <a:solidFill>
                  <a:srgbClr val="000000"/>
                </a:solidFill>
                <a:latin typeface="Calibri"/>
                <a:ea typeface="Arial"/>
              </a:rPr>
              <a:t>. </a:t>
            </a:r>
            <a:r>
              <a:rPr b="0" lang="en-US" sz="400" spc="-1" strike="noStrike">
                <a:solidFill>
                  <a:srgbClr val="000000"/>
                </a:solidFill>
                <a:latin typeface="Calibri"/>
              </a:rPr>
              <a:t>AHRQ Publication No. 12-EHC017. Available at www.effectivehealthcare.ahrq.gov/medtestsguide.cfm.</a:t>
            </a: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stin MP, Brazzelli MG, Fraser CM, et al. Developing a sensitive search strategy in MEDLINE to retrieve studies on assessment of the diagnostic performance of imaging techniques. Radiology 2008 May;247(2):365-73. PMID: 18372447.</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8372447</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achmann LM, Coray R, Estermann P, et al. Identifying diagnostic studies in MEDLINE: reducing the number needed to read. J Am Med Inform Assoc 2002 Nov-Dec;9(6):653-8. PMID: 1238611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38611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achmann LM, Estermann P, Kornenberg C, et al. Identifying diagnostic accuracy studies in EMBASE. J Med Libr Assoc 2003 Jul;91(3):341-6. PMID: 1288356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88356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ville WL, Bezemer PD, Bouter LM. Publications on diagnostic test evaluation in family medicine journals: an optimal search strategy. J Clin Epidemiol 2000 Jan;53(1):65-9. PMID: 1069390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069390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oust JA, Pietrzak E, Sanders S, et al. Identifying studies for systematic reviews of diagnostic tests was difficult due to the poor sensitivity and precision of methodologic filters and the lack of information in the abstract. J Clin Epidemiol 2005 May;58(5):444-9. PMID: 1584533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84533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aynes RB, Wilczynski N, McKibbon KA, et al. Developing optimal search strategies for detecting clinically sound studies in MEDLINE. J Am Med Inform Assoc 1994 Nov-Dec;1(6):447-58. PMID: 785057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785057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Leeflang MM, Scholten RJ, Rutjes AW, et al. Use of methodological search filters to identify diagnostic accuracy studies can lead to the omission of relevant studies. J Clin Epidemiol 2006 Mar;59(3):234-40. PMID: 1648835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648835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itchie G, Glanville J, Lefebvre C. Do published search filters to identify diagnostic test accuracy studies perform adequately? Health Info Libr J 2007 Sep;24(3):188-92. PMID: 1771417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771417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an der Weijden T, Ijzermans CJ, Dinant GJ, et al. Identifying relevant diagnostic studies in MEDLINE. The diagnostic value of the erythrocyte sedimentation rate (ESR) and dipstick as an example. Fam Pract 1997 Jun;14(3):204-8. PMID: 920149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920149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incent S, Greenley S, Beaven O. Clinical evidence diagnosis: developing a sensitive search strategy to retrieve diagnostic studies on deep vein thrombosis: a pragmatic approach. Health Info Libr J 2003 Sep;20(3):150-9. PMID: 12919278.</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919278</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iting P, Westwood M, Beynon R, et al. Inclusion of methodological filters in searches for diagnostic test accuracy studies misses relevant studies. J Clin Epidemiol 2011 Jun;64(6):602-7. PMID: 21075596.</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21075596</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ilczynski NL, Haynes RB. EMBASE search strategies for identifying methodologically sound diagnostic studies for use by clinicians and researchers. BMC Med 2005 Mar;3:7. PMID: 15796772.</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796772</a:t>
            </a:r>
            <a:endParaRPr b="0" lang="en-US" sz="4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6960"/>
            <a:ext cx="4648320" cy="3486240"/>
          </a:xfrm>
          <a:prstGeom prst="rect">
            <a:avLst/>
          </a:prstGeom>
          <a:ln w="0">
            <a:noFill/>
          </a:ln>
        </p:spPr>
      </p:sp>
      <p:sp>
        <p:nvSpPr>
          <p:cNvPr id="20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1: Do Not Rely on Search Filters Alone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llustrates an example of a filter used by PubMed</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Clinical Queries when the category chosen is </a:t>
            </a:r>
            <a:r>
              <a:rPr b="0" lang="ja-JP" sz="1200" spc="-1" strike="noStrike">
                <a:solidFill>
                  <a:srgbClr val="000000"/>
                </a:solidFill>
                <a:latin typeface="Calibri"/>
              </a:rPr>
              <a:t>“</a:t>
            </a:r>
            <a:r>
              <a:rPr b="0" lang="en-US" sz="1200" spc="-1" strike="noStrike">
                <a:solidFill>
                  <a:srgbClr val="000000"/>
                </a:solidFill>
                <a:latin typeface="Calibri"/>
              </a:rPr>
              <a:t>diagnosis.</a:t>
            </a:r>
            <a:r>
              <a:rPr b="0" lang="ja-JP" sz="1200" spc="-1" strike="noStrike">
                <a:solidFill>
                  <a:srgbClr val="000000"/>
                </a:solidFill>
                <a:latin typeface="Calibri"/>
              </a:rPr>
              <a:t>”</a:t>
            </a:r>
            <a:r>
              <a:rPr b="0" lang="en-US" sz="1200" spc="-1" strike="noStrike">
                <a:solidFill>
                  <a:srgbClr val="000000"/>
                </a:solidFill>
                <a:latin typeface="Calibri"/>
              </a:rPr>
              <a:t> As this figure shows, a filter for diagnosis can be optimized either to be sensitive or to be specific by choosing either “Broad” or “Narrow” in the Scope selection box on the Web site. These different optimizations result both in differing search strings, as well as in varying accuracy of the diagnosis filter for finding pub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s RB, Wilczynski NL. Optimal search strategies for retrieving scientifically strong studies of diagnosis from Medline: analytical survey. MBJ 2004 May 1;328(7447):1040. PMID: 150730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15073027</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earch Principle 2: Do Not Rely on Controlled Vocabulary (Subject Headings) Alon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principle of searching for studies on medical tests is not to rely on controlled vocabulary or subject headings alone. Specifically, it is important to use all known variants of the test name such as abbreviations, generic and proprietary names, and international terms and spellings. As an example, think of the hematocrit test, also known as packed cell volume test. This test can be abbreviated as Hct, Crit, or PCV and could also have a specific name given by the manufacturer, such as LighTouch</a:t>
            </a:r>
            <a:r>
              <a:rPr b="0" lang="en-US" sz="900" spc="-1" strike="noStrike" baseline="30000">
                <a:solidFill>
                  <a:srgbClr val="000000"/>
                </a:solidFill>
                <a:latin typeface="Calibri"/>
              </a:rPr>
              <a:t>®</a:t>
            </a:r>
            <a:r>
              <a:rPr b="0" lang="en-US" sz="900" spc="-1" strike="noStrike">
                <a:solidFill>
                  <a:srgbClr val="000000"/>
                </a:solidFill>
                <a:latin typeface="Calibri"/>
              </a:rPr>
              <a:t> HCT. In a country such as Great Britain, the alternate spelling of haematocrit will be used. Keep in mind that these variants may not all be included in the controlled vocabulary terms and that the nonstandardized reporting and indexing often makes these terms unreliabl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en possible, use textwords to help identify medical test articles that have not yet been indexed or have not been indexed properly. Filters may suggest the sort of textwords that may be appropriate and so may give a helpful starting poin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ville WL, Bezemer PD, Bouter LM. Publications on diagnostic test evaluation in family medicine journals: an optimal search strategy. J Clin Epidemiol 2000 Jan;53(1):65-9. PMID: 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n der Weijden T, Ijzermans CJ, Dinant GJ, et al. Identifying relevant diagnostic studies in MEDLINE. The diagnostic value of the erythrocyte sedimentation rate (ESR) and dipstick as an example. Fam Pract 1997 Jun;14(3):204-8. PMID: 920149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9201493</a:t>
            </a:r>
            <a:endParaRPr b="0" lang="en-U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Search Principle 3: Search in Multiple Locations (1 of 4)</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ystematic reviewers should use more than one database to search for medical test studies and should tailor their searches to each database. Searching multiple databases reduces the risk of bias, given the lack of overlap between the many databases. It is also important to combine highly sensitive searches and manual (also known as </a:t>
            </a:r>
            <a:r>
              <a:rPr b="0" lang="ja-JP" sz="400" spc="-1" strike="noStrike">
                <a:solidFill>
                  <a:srgbClr val="000000"/>
                </a:solidFill>
                <a:latin typeface="Calibri"/>
              </a:rPr>
              <a:t>“</a:t>
            </a:r>
            <a:r>
              <a:rPr b="0" lang="en-US" sz="400" spc="-1" strike="noStrike">
                <a:solidFill>
                  <a:srgbClr val="000000"/>
                </a:solidFill>
                <a:latin typeface="Calibri"/>
              </a:rPr>
              <a:t>brute force</a:t>
            </a:r>
            <a:r>
              <a:rPr b="0" lang="ja-JP" sz="400" spc="-1" strike="noStrike">
                <a:solidFill>
                  <a:srgbClr val="000000"/>
                </a:solidFill>
                <a:latin typeface="Calibri"/>
              </a:rPr>
              <a:t>”</a:t>
            </a:r>
            <a:r>
              <a:rPr b="0" lang="en-US" sz="400" spc="-1" strike="noStrike">
                <a:solidFill>
                  <a:srgbClr val="000000"/>
                </a:solidFill>
                <a:latin typeface="Calibri"/>
              </a:rPr>
              <a:t>) article screening until reporting and indexing are improved and standardized. </a:t>
            </a:r>
            <a:br>
              <a:rPr sz="400"/>
            </a:br>
            <a:r>
              <a:rPr b="0" lang="en-US" sz="400" spc="-1" strike="noStrike">
                <a:solidFill>
                  <a:srgbClr val="000000"/>
                </a:solidFill>
                <a:latin typeface="Calibri"/>
              </a:rPr>
              <a:t>However, this approach is still likely to miss relevant articles. Therefore, systematic reviewers should utilize additional sources such as additional bibliographic databases, citation analysis, and regulatory documents. Specific to medical tests, the regulatory documents for diagnostics are available at Devices@FDA, a U.S. Food and Drug Administration Web site (www.accessdata.fda.gov/scripts/cdrh/devicesatfda/index.cfm).</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ferences:</a:t>
            </a: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400" spc="-1" strike="noStrike">
                <a:solidFill>
                  <a:srgbClr val="000000"/>
                </a:solidFill>
                <a:latin typeface="Calibri"/>
                <a:ea typeface="Arial"/>
              </a:rPr>
              <a:t>. </a:t>
            </a:r>
            <a:r>
              <a:rPr b="0" lang="en-US" sz="400" spc="-1" strike="noStrike">
                <a:solidFill>
                  <a:srgbClr val="000000"/>
                </a:solidFill>
                <a:latin typeface="Calibri"/>
              </a:rPr>
              <a:t>AHRQ Publication No. 12-EHC017. Available at www.effectivehealthcare.ahrq.gov/medtestsguide.cfm.</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etran AP, Say L, Gulmezoglu AM, et al. Effectiveness of different databases in identifying studies for systematic reviews: experience from the WHO systematic review of maternal morbidity and mortality. BMC Med Res Methodol 2005 Jan 28;5(1):6. PMID: 1567988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67988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onn VS, Isaramalai SA, Rath S, et al. Beyond MEDLINE for literature searches. J Nurs Scholarsh 2003;35(2):177-82. PMID: 1285430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85430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oust JA, Pietrzak E, Sanders S, et al. Identifying studies for systematic reviews of diagnostic tests was difficult due to the poor sensitivity and precision of methodologic filters and the lack of information in the abstract. J Clin Epidemiol 2005 May;58(5):444-9. PMID: 1584533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84533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onest H, Bachmann LM, Khan K. Electronic searching of the literature for systematic reviews of screening and diagnostic tests for preterm birth. Eur J Obstet Gynecol Reprod Biol 2003 Mar 26;107(1):19-23. PMID: 1259388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59388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Leeflang MM, Scholten RJ, Rutjes AW, et al. Use of methodological search filters to identify diagnostic accuracy studies can lead to the omission of relevant studies. J Clin Epidemiol 2006 Mar;59(3):234-40. PMID: 1648835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648835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itchie G, Glanville J, Lefebvre C. Do published search filters to identify diagnostic test accuracy studies perform adequately? Health Info Libr J 2007 Sep;24(3):188-92. PMID: 17714117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771417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ampson M, Barrowman NJ, Moher D, et al. Should meta-analysts search EMBASE in addition to MEDLINE? J Clin Epidemiol 2003 Oct;56(10):943-55. PMID: 14568625.</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4568625</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tevinson C, Lawlor DA. Searching multiple databases for systematic reviews: added value or diminishing returns? Complement Ther Med 2004 Dec;12(4):228-32. PMID: 1564983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64983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uarez-Almazor ME, Belseck E, Homik J, et al. Identifying clinical trials in the medical literature with electronic databases: MEDLINE alone is not enough. Control Clin Trials 2000 Oct;21(5):476-487. PMID: 11018564.</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1018564</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incent S, Greenley S, Beaven O. Clinical evidence diagnosis: developing a sensitive search strategy to retrieve diagnostic studies on deep vein thrombosis: a pragmatic approach. Health Info Libr J 2003 Sep;20(3):150-9. PMID:1291927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91927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iting P, Westwood M, Burke M, et al. Systematic reviews of test accuracy should search a range of databases to identify primary studies. J Clin Epidemiol 2008 Apr;61(4):357-64. PMID: 1831356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831356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Zheng MH, Zhang X, Ye Q, et al. Searching additional databases except PubMed are necessary for a systematic review. Stroke 2008 Aug;39(8):e139. PMID: 18583557.</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8583557</a:t>
            </a:r>
            <a:endParaRPr b="0" lang="en-US" sz="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3: Search in Multiple Locations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shows some examples of specialized databases used for certain topics. Those listed here are freely available and include databases such as PubMed</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which covers biology and the health sciences, and the WHO Global Health Library, which focuses on international biomedical top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3: Search in Multiple Locations (3 of 4)</a:t>
            </a:r>
            <a:br>
              <a:rPr sz="1200"/>
            </a:br>
            <a:r>
              <a:rPr b="0" lang="en-US" sz="1200" spc="-1" strike="noStrike">
                <a:solidFill>
                  <a:srgbClr val="000000"/>
                </a:solidFill>
                <a:latin typeface="Calibri"/>
              </a:rPr>
              <a:t>The databases listed in the table require subscriptions and include EMBAS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which covers many non–U.S. studies and has an emphasis on pharmaceuticals, and PyscINFO</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which covers the psychological lit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3: Search in Multiple Locations (4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shows examples of citation-tracking databases and which of those are free (i.e., Google Scholar, PubFocus, and PubReMiner) or require a subscription (i.e., SciVers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Scopus and Web of Scienc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Many academic institutions have subscriptions to the specialized databases or tracking databases and allow greater access to their teams of systematic revie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xamples of Search Strateg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an example, in the AHRQ report, </a:t>
            </a:r>
            <a:r>
              <a:rPr b="0" i="1" lang="en-US" sz="900" spc="-1" strike="noStrike">
                <a:solidFill>
                  <a:srgbClr val="000000"/>
                </a:solidFill>
                <a:latin typeface="Calibri"/>
              </a:rPr>
              <a:t>Testing for BNP and NT-proBNP in the Diagnosis and Prognosis of Heart Failure</a:t>
            </a:r>
            <a:r>
              <a:rPr b="0" lang="en-US" sz="900" spc="-1" strike="noStrike">
                <a:solidFill>
                  <a:srgbClr val="000000"/>
                </a:solidFill>
                <a:latin typeface="Calibri"/>
              </a:rPr>
              <a:t>, the medical tests in question were known. Therefore, the search consisted of all possible variations on the names of these tests and did not need to include a search string to capture the diagnostic testing concep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alibri"/>
              </a:rPr>
              <a:t>By contrast, in the AHRQ report, </a:t>
            </a:r>
            <a:r>
              <a:rPr b="0" i="1" lang="en-US" sz="900" spc="-1" strike="noStrike">
                <a:solidFill>
                  <a:srgbClr val="000000"/>
                </a:solidFill>
                <a:latin typeface="Calibri"/>
              </a:rPr>
              <a:t>Effectiveness of Noninvasive Diagnostic Tests for Breast Abnormalities</a:t>
            </a:r>
            <a:r>
              <a:rPr b="0" lang="en-US" sz="900" spc="-1" strike="noStrike">
                <a:solidFill>
                  <a:srgbClr val="000000"/>
                </a:solidFill>
                <a:latin typeface="Calibri"/>
              </a:rPr>
              <a:t>, all possible diagnostic tests were not known. For this reason, the search strategy included a search string meant to capture the diagnostic testing concept, which relied heavily on textwords, as you can see here in the actual search string used in PubMed.</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lion C, Santaguida PL, Hill S, et al. Testing for BNP and NT-proBNP in the Diagnosis and Prognosis of Heart Failure. Evidence Report/Technology Assessment No. 142 (Prepared by the McMaster University Evidence-based Practice Center under Contract No. 290-02-0020). Rockville, MD: Agency for Healthcare Research and Quality; September 2006. AHRQ Publication No. 06-E014. Available at www.ncbi.nlm.nih.gov/books/NBK3813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ruening W, Launders J, Pinkney N, et al. Effectiveness of Noninvasive Diagnostic Tests for Breast Abnormalities. Comparative Effectiveness Review No. 2 (Prepared by the ECRI Evidence-based Practice Center under Contract No. 290-02-0019). Rockville, MD: Agency for Healthcare Research and Quality; February 2006. AHRQ Publication No. 06-EHC005-EF. Available at www.effectivehealthcare.ahrq.gov/repFiles/BrCADx%20Final%20Report.pdf. </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ere are five key messages related to optimal searching for studies on medical test reviews. First, reviewers cannot depend exclusively on diagnostic search filters. Second, when the full range of tests is known, searching for the specific test using all variable names may be sufficient. Third, the current best way to identify relevant studies is to combine highly sensitive database searches, hand searching, and searching lists of cited references. Fourth, it is important </a:t>
            </a:r>
            <a:r>
              <a:rPr b="0" i="1" lang="en-US" sz="1200" spc="-1" strike="noStrike">
                <a:solidFill>
                  <a:srgbClr val="000000"/>
                </a:solidFill>
                <a:latin typeface="Calibri"/>
              </a:rPr>
              <a:t>not</a:t>
            </a:r>
            <a:r>
              <a:rPr b="0" lang="en-US" sz="1200" spc="-1" strike="noStrike">
                <a:solidFill>
                  <a:srgbClr val="000000"/>
                </a:solidFill>
                <a:latin typeface="Calibri"/>
              </a:rPr>
              <a:t> to rely on controlled vocabulary alone. Finally, multiple locations and databases should be searched. When targeting medical tests, the Devices@FDA Web site </a:t>
            </a:r>
            <a:r>
              <a:rPr b="0" lang="en-US" sz="1200" spc="-1" strike="noStrike">
                <a:solidFill>
                  <a:srgbClr val="000000"/>
                </a:solidFill>
                <a:latin typeface="Calibri"/>
              </a:rPr>
              <a:t>(www.accessdata.fda.gov/scripts/cdrh/devicesatfda/index.cfm) </a:t>
            </a:r>
            <a:r>
              <a:rPr b="0" lang="en-US" sz="1200" spc="-1" strike="noStrike">
                <a:solidFill>
                  <a:srgbClr val="000000"/>
                </a:solidFill>
                <a:latin typeface="Calibri"/>
              </a:rPr>
              <a:t>is particularly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in the review. The third step is to analyze and synthesize the studies, which involves assessing the quality of individual studies, assessing applicability, grading the strength of the body of evidence, conducting a meta-analysis with and without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and decision modeling. This module focuses on how to find relevant studies from which to extract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learning objectives for this module. The first is to recognize the importance of a multiple-approach method of searching. The second is to understand the current state of indexing and reporting and its subsequent effect on the most pragmatic methods of conducting sear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6)</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8320" cy="3486240"/>
          </a:xfrm>
          <a:prstGeom prst="rect">
            <a:avLst/>
          </a:prstGeom>
          <a:ln w="0">
            <a:noFill/>
          </a:ln>
        </p:spPr>
      </p:sp>
      <p:sp>
        <p:nvSpPr>
          <p:cNvPr id="1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neral Search Guidance (1 of 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verall goal in any search is to locate all the published studies relevant to the identified key questions. Although this CME activity focuses on search strategies for studies relevant to systematic reviews of medical tests, note that the guidance on searching while performing a general systematic review also applies to a search of medical tests. This more general guidance is discussed in greater detail in the </a:t>
            </a:r>
            <a:r>
              <a:rPr b="0" i="1" lang="en-US" sz="1000" spc="-1" strike="noStrike">
                <a:solidFill>
                  <a:srgbClr val="000000"/>
                </a:solidFill>
                <a:latin typeface="Calibri"/>
              </a:rPr>
              <a:t>Methods Guide for Effectiveness and Comparative Effectiveness Reviews</a:t>
            </a:r>
            <a:r>
              <a:rPr b="0" lang="en-US" sz="1000" spc="-1" strike="noStrike">
                <a:solidFill>
                  <a:srgbClr val="000000"/>
                </a:solidFill>
                <a:latin typeface="Calibri"/>
              </a:rPr>
              <a:t> and its associated modul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riefly, that guidance emphasizes the importance of maintaining a balance between recall and precision. As a reminder, recall is the amount of relevant literature that is located, while precision is the percentage of retrieved literature that is relevant. The optimal balance between recall and precision depends on the context; however, when performing comparative effectiveness reviews the goal is to complete a comprehensive and exhaustive search with minimal resour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eneral Search Guidance (2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performing the searches it is important to use both controlled and uncontrolled vocabulary, to tailor the search to each individual database, and to only place limits on criteria such as age and language when there is a specific justification. The specific search strategy should be developed with the research team by referring to the analytic framework and incorporating the developed inclusion and exclusion criteri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atabases that should always be explored include MEDLINE</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and the Cochrane Central Register of Controlled Trials. Other useful databases include EMBASE</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CINAHL</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and PsycINFO</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1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Search Guidance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arches relevant to medical tests, as well as to all systematic reviews in general, search for additional studies through several other sources. These other sources include specifically targeting key studies included in the review and looking at their references, additional citation databases such as SciVers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Scopus or the Web of Scienc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a:t>
            </a:r>
            <a:r>
              <a:rPr b="0" lang="en-US" sz="1200" spc="-1" strike="noStrike">
                <a:solidFill>
                  <a:srgbClr val="000000"/>
                </a:solidFill>
                <a:latin typeface="Calibri"/>
              </a:rPr>
              <a:t> and, if appropriate, the grey literature including sources such as clinical trial registries and conference proceedings or abstracts. Examples of grey literature sources include ClinicalTrials.gov, the World Health Organization International Clinical Trials Registry Platform, and the ProQuest COS Conference Papers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allenges Specific to Searches for Studies of Medical Tests (1 of 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the general search strategies, there are specific challenges and potential solutions for searching for studies relevant to medical tests. Because a systematic review of medical tests will most likely compare multiple testing strategies, each relevant test strategy needs to be considered in the search strategy. There are normally two approaches used to conduct such a search: either searching all possible tests used to evaluate the disease in question (note that this approach requires that the investigative team has knowledge of all possible testing strategies available) or searching on the specific disease or condition and then filtering for the medical tes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should be noted that searching is often an iterative process, as findings from one type of search can lead to new information and further refinements to the searching criteria.</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ville WL, Bezemer PD, Bouter LM. Publications on diagnostic test evaluation in family medicine journals: an optimal search strategy. J Clin Epidemiol 2000 Jan;53(1):65-9. PMID: 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n der Weijden T, Ijzermans CJ, Dinant GJ, et al. Identifying relevant diagnostic studies in MEDLINE. The diagnostic value of the erythrocyte sedimentation rate (ESR) and dipstick as an example. Fam Pract 1997 Jun;14(3):204-8. PMID: 920149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9201493</a:t>
            </a:r>
            <a:endParaRPr b="0" lang="en-U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Searching for Studies of Medical Tests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of the first approach — searching for specific named tests — has the advantage of being straightforward and allowing the team to use the names of the tests to locate studies. In this case, a specific search for the concept of diagnosis, screening, or prognosis may not be necessary. However, there are some drawbacks. There is a chance the reviewers will miss emerging approaches, since testing strategies are constantly evolving and a new testing strategy may not yet be a named test. There also may be test overlap, in which case the test name alone may be insufficient. For example, tests can measure a gene product that may be associated with multiple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6960"/>
            <a:ext cx="4648320" cy="3486240"/>
          </a:xfrm>
          <a:prstGeom prst="rect">
            <a:avLst/>
          </a:prstGeom>
          <a:ln w="0">
            <a:noFill/>
          </a:ln>
        </p:spPr>
      </p:sp>
      <p:sp>
        <p:nvSpPr>
          <p:cNvPr id="2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Searching for Studies of Medical Test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drawbacks of searching for specific named tests, a second approach to searching is often considered. In this approach, the reviewers search on the specific disease or condition and then filter for medical tests to find potentially relevant publications. This approach is often advisable if specific tests are unknown. This approach can also be used in combination with searches for known test names. The drawback of this approach, however, is that it often requires starting with a very broad search strategy and then filtering down to the relevant studies, greatly increasing the burden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second approach of searching for a specific disease or condition is used more frequently by reviewers because it has fewer drawb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ffective Search Strategies for Systematic Reviews of Medical Test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160"/>
            <a:ext cx="8229600" cy="319716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not rely on search filters alone.</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not rely on controlled vocabulary (subject headings) alone.</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arch in multiple locations.</a:t>
            </a:r>
            <a:endParaRPr b="0" lang="en-US" sz="28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s of Searching for Studies of Medical Tests</a:t>
            </a:r>
            <a:endParaRPr b="1" lang="en-US" sz="3200" spc="-1" strike="noStrike">
              <a:solidFill>
                <a:srgbClr val="ffffff"/>
              </a:solidFill>
              <a:latin typeface="Trebuchet MS"/>
            </a:endParaRPr>
          </a:p>
        </p:txBody>
      </p:sp>
      <p:sp>
        <p:nvSpPr>
          <p:cNvPr id="123"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344600"/>
            <a:ext cx="8229600" cy="4294080"/>
          </a:xfrm>
          <a:prstGeom prst="rect">
            <a:avLst/>
          </a:prstGeom>
          <a:noFill/>
          <a:ln w="0">
            <a:noFill/>
          </a:ln>
        </p:spPr>
        <p:txBody>
          <a:bodyPr lIns="0" rIns="0" tIns="0" bIns="0" anchor="t">
            <a:normAutofit/>
          </a:bodyPr>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filters (or </a:t>
            </a:r>
            <a:r>
              <a:rPr b="0" lang="ja-JP" sz="2200" spc="-1" strike="noStrike">
                <a:solidFill>
                  <a:srgbClr val="ffffff"/>
                </a:solidFill>
                <a:latin typeface="Trebuchet MS"/>
              </a:rPr>
              <a:t>“</a:t>
            </a:r>
            <a:r>
              <a:rPr b="0" lang="en-US" sz="2200" spc="-1" strike="noStrike">
                <a:solidFill>
                  <a:srgbClr val="ffffff"/>
                </a:solidFill>
                <a:latin typeface="Trebuchet MS"/>
              </a:rPr>
              <a:t>hedges</a:t>
            </a:r>
            <a:r>
              <a:rPr b="0" lang="ja-JP" sz="2200" spc="-1" strike="noStrike">
                <a:solidFill>
                  <a:srgbClr val="ffffff"/>
                </a:solidFill>
                <a:latin typeface="Trebuchet MS"/>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lvl="1" marL="693720" indent="-291960">
              <a:lnSpc>
                <a:spcPct val="8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re pre-prepared and tested searches.</a:t>
            </a:r>
            <a:endParaRPr b="0" lang="en-US" sz="1800" spc="-1" strike="noStrike">
              <a:solidFill>
                <a:srgbClr val="ffffff"/>
              </a:solidFill>
              <a:latin typeface="Trebuchet MS"/>
            </a:endParaRPr>
          </a:p>
          <a:p>
            <a:pPr lvl="1" marL="693720" indent="-291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n be combined with searches on a particular disease or condition.</a:t>
            </a:r>
            <a:endParaRPr b="0" lang="en-US" sz="2000" spc="-1" strike="noStrike">
              <a:solidFill>
                <a:srgbClr val="ffffff"/>
              </a:solidFill>
              <a:latin typeface="Trebuchet MS"/>
            </a:endParaRPr>
          </a:p>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st search filters have been developed for MEDLINE</a:t>
            </a:r>
            <a:r>
              <a:rPr b="0" lang="en-US" sz="2200" spc="-1" strike="noStrike" baseline="30000">
                <a:solidFill>
                  <a:srgbClr val="ffffff"/>
                </a:solidFill>
                <a:latin typeface="Symbol"/>
                <a:ea typeface="Symbol"/>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ditional search filters have been developed specifically for diagnostic imaging and EMBASE</a:t>
            </a:r>
            <a:r>
              <a:rPr b="0" lang="en-US" sz="2200" spc="-1" strike="noStrike" baseline="30000">
                <a:solidFill>
                  <a:srgbClr val="ffffff"/>
                </a:solidFill>
                <a:latin typeface="Trebuchet MS"/>
              </a:rPr>
              <a:t> </a:t>
            </a:r>
            <a:r>
              <a:rPr b="0" lang="en-US" sz="2200" spc="-1" strike="noStrike" baseline="30000">
                <a:solidFill>
                  <a:srgbClr val="ffffff"/>
                </a:solidFill>
                <a:latin typeface="Symbol"/>
                <a:ea typeface="Symbol"/>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urrently, search filters are inappropriate for systematic reviews because they:</a:t>
            </a:r>
            <a:endParaRPr b="0" lang="en-US" sz="2200" spc="-1" strike="noStrike">
              <a:solidFill>
                <a:srgbClr val="ffffff"/>
              </a:solidFill>
              <a:latin typeface="Trebuchet MS"/>
            </a:endParaRPr>
          </a:p>
          <a:p>
            <a:pPr lvl="1" marL="693720" indent="-291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y miss relevant studies.</a:t>
            </a:r>
            <a:endParaRPr b="0" lang="en-US" sz="2000" spc="-1" strike="noStrike">
              <a:solidFill>
                <a:srgbClr val="ffffff"/>
              </a:solidFill>
              <a:latin typeface="Trebuchet MS"/>
            </a:endParaRPr>
          </a:p>
          <a:p>
            <a:pPr lvl="1" marL="693720" indent="-291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 not perform as well for studies published before 1990 because of nonstandardized reporting and indexing of medical test studies, which may improve in the future.</a:t>
            </a:r>
            <a:endParaRPr b="0" lang="en-US" sz="20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1: Do Not Rely on</a:t>
            </a:r>
            <a:br>
              <a:rPr sz="3200"/>
            </a:br>
            <a:r>
              <a:rPr b="1" lang="en-US" sz="3200" spc="-1" strike="noStrike">
                <a:solidFill>
                  <a:srgbClr val="ffffff"/>
                </a:solidFill>
                <a:latin typeface="Trebuchet MS"/>
              </a:rPr>
              <a:t>Search Filters Alone (1 of 2)</a:t>
            </a:r>
            <a:endParaRPr b="1" lang="en-US" sz="3200" spc="-1" strike="noStrike">
              <a:solidFill>
                <a:srgbClr val="ffffff"/>
              </a:solidFill>
              <a:latin typeface="Trebuchet MS"/>
            </a:endParaRPr>
          </a:p>
        </p:txBody>
      </p:sp>
      <p:sp>
        <p:nvSpPr>
          <p:cNvPr id="126"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533520" y="2489040"/>
          <a:ext cx="8076960" cy="3073680"/>
        </p:xfrm>
        <a:graphic>
          <a:graphicData uri="http://schemas.openxmlformats.org/drawingml/2006/table">
            <a:tbl>
              <a:tblPr/>
              <a:tblGrid>
                <a:gridCol w="1006200"/>
                <a:gridCol w="1957680"/>
                <a:gridCol w="1987560"/>
                <a:gridCol w="3125520"/>
              </a:tblGrid>
              <a:tr h="430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tegory</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Optimization of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ensitivity/Specificity of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ubMed</a:t>
                      </a:r>
                      <a:r>
                        <a:rPr b="1" lang="en-US" sz="1400" spc="-1" strike="noStrike" baseline="30000">
                          <a:solidFill>
                            <a:srgbClr val="000000"/>
                          </a:solidFill>
                          <a:latin typeface="Symbol"/>
                          <a:ea typeface="Symbol"/>
                        </a:rPr>
                        <a:t></a:t>
                      </a:r>
                      <a:r>
                        <a:rPr b="1" lang="en-US" sz="1400" spc="-1" strike="noStrike">
                          <a:solidFill>
                            <a:srgbClr val="000000"/>
                          </a:solidFill>
                          <a:latin typeface="Trebuchet MS"/>
                        </a:rPr>
                        <a:t> Search String</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r>
              <a:tr h="1500840">
                <a:tc rowSpan="2">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iagnosis</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road</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sitivity/breadth</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of </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Diagnosis</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74%</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sitiv*[Title/Abstract] OR sensitivity and specificity[MeSH Terms] OR diagnos*[Title/Abstract] OR diagnosis[MeSH:noexp] OR diagnostic* [MeSH:noexp] OR diagnosis,differential[MeSH:noexp] OR diagnosis[Subheading:noexp])</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114228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Narrow</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ecificity/narrowness</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of </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Diagnosis</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98%</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ecificity[Title/Abstract])</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1: Do Not Rely on</a:t>
            </a:r>
            <a:br>
              <a:rPr sz="3200"/>
            </a:br>
            <a:r>
              <a:rPr b="1" lang="en-US" sz="3200" spc="-1" strike="noStrike">
                <a:solidFill>
                  <a:srgbClr val="ffffff"/>
                </a:solidFill>
                <a:latin typeface="Trebuchet MS"/>
              </a:rPr>
              <a:t>Search Filters Alone (2 of 2)</a:t>
            </a:r>
            <a:endParaRPr b="1" lang="en-US" sz="3200" spc="-1" strike="noStrike">
              <a:solidFill>
                <a:srgbClr val="ffffff"/>
              </a:solidFill>
              <a:latin typeface="Trebuchet MS"/>
            </a:endParaRPr>
          </a:p>
        </p:txBody>
      </p:sp>
      <p:sp>
        <p:nvSpPr>
          <p:cNvPr id="129" name="Content Placeholder 1"/>
          <p:cNvSpPr/>
          <p:nvPr/>
        </p:nvSpPr>
        <p:spPr>
          <a:xfrm>
            <a:off x="457200" y="1290600"/>
            <a:ext cx="8229600" cy="1071720"/>
          </a:xfrm>
          <a:prstGeom prst="rect">
            <a:avLst/>
          </a:prstGeom>
          <a:noFill/>
          <a:ln w="0">
            <a:noFill/>
          </a:ln>
        </p:spPr>
        <p:style>
          <a:lnRef idx="0"/>
          <a:fillRef idx="0"/>
          <a:effectRef idx="0"/>
          <a:fontRef idx="minor"/>
        </p:style>
        <p:txBody>
          <a:bodyPr lIns="0" rIns="0" tIns="0" bIns="0" anchor="t">
            <a:no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Filter used by PubMed</a:t>
            </a:r>
            <a:r>
              <a:rPr b="0" lang="en-US" sz="2000" spc="-1" strike="noStrike" baseline="30000">
                <a:solidFill>
                  <a:srgbClr val="ffffff"/>
                </a:solidFill>
                <a:latin typeface="Symbol"/>
                <a:ea typeface="Symbol"/>
              </a:rPr>
              <a:t></a:t>
            </a:r>
            <a:r>
              <a:rPr b="0" lang="en-US" sz="2000" spc="-1" strike="noStrike">
                <a:solidFill>
                  <a:srgbClr val="ffffff"/>
                </a:solidFill>
                <a:latin typeface="Trebuchet MS"/>
              </a:rPr>
              <a:t> Clinical Queries </a:t>
            </a:r>
            <a:endParaRPr b="0" lang="en-US" sz="2000" spc="-1" strike="noStrike">
              <a:solidFill>
                <a:srgbClr val="000000"/>
              </a:solidFill>
              <a:latin typeface="Palatino Linotype"/>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Category selected: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Diagnosis</a:t>
            </a:r>
            <a:r>
              <a:rPr b="0" lang="ja-JP" sz="1800" spc="-1" strike="noStrike">
                <a:solidFill>
                  <a:srgbClr val="ffffff"/>
                </a:solidFill>
                <a:latin typeface="Trebuchet MS"/>
                <a:ea typeface="MS PGothic"/>
              </a:rPr>
              <a:t>”</a:t>
            </a:r>
            <a:endParaRPr b="0" lang="en-US" sz="1800" spc="-1" strike="noStrike">
              <a:solidFill>
                <a:srgbClr val="000000"/>
              </a:solidFill>
              <a:latin typeface="Palatino Linotype"/>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Two choices of scope to optimize search: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Broad</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 or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Narrow</a:t>
            </a:r>
            <a:r>
              <a:rPr b="0" lang="ja-JP" sz="1800" spc="-1" strike="noStrike">
                <a:solidFill>
                  <a:srgbClr val="ffffff"/>
                </a:solidFill>
                <a:latin typeface="Trebuchet MS"/>
                <a:ea typeface="MS PGothic"/>
              </a:rPr>
              <a:t>”</a:t>
            </a:r>
            <a:endParaRPr b="0" lang="en-US" sz="1800" spc="-1" strike="noStrike">
              <a:solidFill>
                <a:srgbClr val="000000"/>
              </a:solidFill>
              <a:latin typeface="Palatino Linotype"/>
            </a:endParaRPr>
          </a:p>
        </p:txBody>
      </p:sp>
      <p:sp>
        <p:nvSpPr>
          <p:cNvPr id="130" name="TextBox 4"/>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298520"/>
            <a:ext cx="8229600" cy="4416480"/>
          </a:xfrm>
          <a:prstGeom prst="rect">
            <a:avLst/>
          </a:prstGeom>
          <a:noFill/>
          <a:ln w="0">
            <a:noFill/>
          </a:ln>
        </p:spPr>
        <p:txBody>
          <a:bodyPr lIns="0" rIns="0" tIns="0" bIns="0" anchor="t">
            <a:normAutofit fontScale="99000"/>
          </a:bodyPr>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is important to use all known variants of a test name, as in the examples below that refer to hematocrit:</a:t>
            </a:r>
            <a:endParaRPr b="0" lang="en-US" sz="21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bbreviations (Hct, Crit, PCV)</a:t>
            </a:r>
            <a:endParaRPr b="0" lang="en-US" sz="19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Generic names (hematocrit, packed cell volume)</a:t>
            </a:r>
            <a:endParaRPr b="0" lang="en-US" sz="19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roprietary names (e.g., LighTouch</a:t>
            </a:r>
            <a:r>
              <a:rPr b="0" lang="en-US" sz="1900" spc="-1" strike="noStrike" baseline="30000">
                <a:solidFill>
                  <a:srgbClr val="ffffff"/>
                </a:solidFill>
                <a:latin typeface="Trebuchet MS"/>
              </a:rPr>
              <a:t>®</a:t>
            </a:r>
            <a:r>
              <a:rPr b="0" lang="en-US" sz="1900" spc="-1" strike="noStrike">
                <a:solidFill>
                  <a:srgbClr val="ffffff"/>
                </a:solidFill>
                <a:latin typeface="Trebuchet MS"/>
              </a:rPr>
              <a:t> HCT)</a:t>
            </a:r>
            <a:endParaRPr b="0" lang="en-US" sz="19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nternational terms/spellings (haematocrit)</a:t>
            </a:r>
            <a:endParaRPr b="0" lang="en-US" sz="1900" spc="-1" strike="noStrike">
              <a:solidFill>
                <a:srgbClr val="ffffff"/>
              </a:solidFill>
              <a:latin typeface="Trebuchet MS"/>
            </a:endParaRPr>
          </a:p>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trolled vocabulary may not contain all variants.</a:t>
            </a:r>
            <a:endParaRPr b="0" lang="en-US" sz="2100" spc="-1" strike="noStrike">
              <a:solidFill>
                <a:srgbClr val="ffffff"/>
              </a:solidFill>
              <a:latin typeface="Trebuchet MS"/>
            </a:endParaRPr>
          </a:p>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trolled vocabulary is unreliable due to nonstandardized reporting and indexing.</a:t>
            </a:r>
            <a:endParaRPr b="0" lang="en-US" sz="2100" spc="-1" strike="noStrike">
              <a:solidFill>
                <a:srgbClr val="ffffff"/>
              </a:solidFill>
              <a:latin typeface="Trebuchet MS"/>
            </a:endParaRPr>
          </a:p>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extwords help identify tests not yet indexed or indexed improperly.</a:t>
            </a:r>
            <a:endParaRPr b="0" lang="en-US" sz="21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Filters may suggest appropriate textwords.</a:t>
            </a:r>
            <a:endParaRPr b="0" lang="en-US" sz="1900" spc="-1" strike="noStrike">
              <a:solidFill>
                <a:srgbClr val="ffffff"/>
              </a:solidFill>
              <a:latin typeface="Trebuchet MS"/>
            </a:endParaRPr>
          </a:p>
        </p:txBody>
      </p:sp>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earch Principle 2: Do Not Rely on Controlled Vocabulary (Subject Headings) Alone</a:t>
            </a:r>
            <a:endParaRPr b="1" lang="en-US" sz="2800" spc="-1" strike="noStrike">
              <a:solidFill>
                <a:srgbClr val="ffffff"/>
              </a:solidFill>
              <a:latin typeface="Trebuchet MS"/>
            </a:endParaRPr>
          </a:p>
        </p:txBody>
      </p:sp>
      <p:sp>
        <p:nvSpPr>
          <p:cNvPr id="133"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arching more than one database and tailoring searches to each is always advisable. </a:t>
            </a:r>
            <a:r>
              <a:rPr b="0" lang="en-US" sz="1800" spc="-1" strike="noStrike">
                <a:solidFill>
                  <a:srgbClr val="ffffff"/>
                </a:solidFill>
                <a:latin typeface="Trebuchet MS"/>
              </a:rPr>
              <a:t>Otherwise, there is a risk of bias due to little overlap between the many databases.</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til reporting/indexing is standardized, the best method is to combine highly sensitive searches and manual article screening.</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rticles can still miss relevant articles, so additional sources of information are necessary.</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 sources of information:</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ditional bibliographic database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itation tracking (i.e., reading through references of relevant article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gulatory documents</a:t>
            </a:r>
            <a:endParaRPr b="0" lang="en-US" sz="1800" spc="-1" strike="noStrike">
              <a:solidFill>
                <a:srgbClr val="ffffff"/>
              </a:solidFill>
              <a:latin typeface="Trebuchet MS"/>
            </a:endParaRPr>
          </a:p>
          <a:p>
            <a:pPr lvl="2" marL="109692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earch for diagnostic documents at Devices@FDA, a U.S. Food and Drug Administration Web site.</a:t>
            </a:r>
            <a:endParaRPr b="0" lang="en-US" sz="1800" spc="-1" strike="noStrike">
              <a:solidFill>
                <a:srgbClr val="ffffff"/>
              </a:solidFill>
              <a:latin typeface="Trebuchet MS"/>
            </a:endParaRPr>
          </a:p>
        </p:txBody>
      </p:sp>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1 of 4)</a:t>
            </a:r>
            <a:endParaRPr b="1" lang="en-US" sz="3200" spc="-1" strike="noStrike">
              <a:solidFill>
                <a:srgbClr val="ffffff"/>
              </a:solidFill>
              <a:latin typeface="Trebuchet MS"/>
            </a:endParaRPr>
          </a:p>
        </p:txBody>
      </p:sp>
      <p:sp>
        <p:nvSpPr>
          <p:cNvPr id="136"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380880" y="1828800"/>
          <a:ext cx="8305920" cy="3970440"/>
        </p:xfrm>
        <a:graphic>
          <a:graphicData uri="http://schemas.openxmlformats.org/drawingml/2006/table">
            <a:tbl>
              <a:tblPr/>
              <a:tblGrid>
                <a:gridCol w="2743200"/>
                <a:gridCol w="3124440"/>
                <a:gridCol w="2438280"/>
              </a:tblGrid>
              <a:tr h="365040">
                <a:tc gridSpan="3">
                  <a:txBody>
                    <a:bodyPr lIns="18000" rIns="180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pen-Access Databases</a:t>
                      </a:r>
                      <a:endParaRPr b="0" lang="en-US" sz="1600" spc="-1" strike="noStrike">
                        <a:solidFill>
                          <a:srgbClr val="000000"/>
                        </a:solidFill>
                        <a:latin typeface="Palatino Linotype"/>
                      </a:endParaRPr>
                    </a:p>
                  </a:txBody>
                  <a:tcPr anchor="ctr" marL="18000" marR="1800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405000">
                <a:tc>
                  <a:txBody>
                    <a:bodyPr lIns="18000" rIns="18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Database</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18000" rIns="18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RL</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18000" rIns="18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opic Coverage</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83808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BIDS (International Bibliographic Information</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n Dietary Supplement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ods.od.nih.gov/Health_ Information/IBIDS.aspx</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etary supplement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0948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ubMed</a:t>
                      </a:r>
                      <a:r>
                        <a:rPr b="1" lang="en-US" sz="1600" spc="-1" strike="noStrike" baseline="30000">
                          <a:solidFill>
                            <a:srgbClr val="000000"/>
                          </a:solidFill>
                          <a:latin typeface="Symbol"/>
                          <a:ea typeface="Symbol"/>
                        </a:rPr>
                        <a:t></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ncbi.nlm.nih.gov/pubmed</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ology</a:t>
                      </a:r>
                      <a:endParaRPr b="0" lang="en-US" sz="16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ealth science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91440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OXNET (Toxicology Data Network)</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toxnet.nlm.nih.gov</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xicology</a:t>
                      </a:r>
                      <a:endParaRPr b="0" lang="en-US" sz="16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nvironmental health adverse effect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83844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World Health Organization Global Health Library</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who.int/ghl/medicus/en/</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rnational biomedical topics</a:t>
                      </a:r>
                      <a:endParaRPr b="0" lang="en-US" sz="16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lobal Index Medicu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bl>
          </a:graphicData>
        </a:graphic>
      </p:graphicFrame>
      <p:sp>
        <p:nvSpPr>
          <p:cNvPr id="138" name="TextBox 4"/>
          <p:cNvSpPr/>
          <p:nvPr/>
        </p:nvSpPr>
        <p:spPr>
          <a:xfrm>
            <a:off x="228600" y="1219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specialized databases that have free access:</a:t>
            </a:r>
            <a:endParaRPr b="0" lang="en-US" sz="2400" spc="-1" strike="noStrike">
              <a:solidFill>
                <a:srgbClr val="000000"/>
              </a:solidFill>
              <a:latin typeface="Palatino Linotype"/>
            </a:endParaRPr>
          </a:p>
        </p:txBody>
      </p:sp>
      <p:sp>
        <p:nvSpPr>
          <p:cNvPr id="139" name="Title 2"/>
          <p:cNvSpPr/>
          <p:nvPr/>
        </p:nvSpPr>
        <p:spPr>
          <a:xfrm>
            <a:off x="228600" y="76320"/>
            <a:ext cx="8229600" cy="86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2 of 4)</a:t>
            </a:r>
            <a:endParaRPr b="0" lang="en-US" sz="3200" spc="-1" strike="noStrike">
              <a:solidFill>
                <a:srgbClr val="000000"/>
              </a:solidFill>
              <a:latin typeface="Palatino Linotype"/>
            </a:endParaRPr>
          </a:p>
        </p:txBody>
      </p:sp>
      <p:sp>
        <p:nvSpPr>
          <p:cNvPr id="140" name="TextBox 5"/>
          <p:cNvSpPr/>
          <p:nvPr/>
        </p:nvSpPr>
        <p:spPr>
          <a:xfrm>
            <a:off x="304920" y="5867280"/>
            <a:ext cx="832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304920" y="1720800"/>
          <a:ext cx="8534160" cy="3994200"/>
        </p:xfrm>
        <a:graphic>
          <a:graphicData uri="http://schemas.openxmlformats.org/drawingml/2006/table">
            <a:tbl>
              <a:tblPr/>
              <a:tblGrid>
                <a:gridCol w="2508120"/>
                <a:gridCol w="3359160"/>
                <a:gridCol w="2666880"/>
              </a:tblGrid>
              <a:tr h="213480">
                <a:tc gridSpan="3">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ubscription Databases</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13480">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Database</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URL</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Topic Coverage</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63972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INAHL</a:t>
                      </a:r>
                      <a:r>
                        <a:rPr b="1" lang="en-US" sz="1400" spc="-1" strike="noStrike" baseline="30000">
                          <a:solidFill>
                            <a:srgbClr val="000000"/>
                          </a:solidFill>
                          <a:latin typeface="Symbol"/>
                          <a:ea typeface="Symbol"/>
                        </a:rPr>
                        <a:t></a:t>
                      </a:r>
                      <a:r>
                        <a:rPr b="1" lang="en-US" sz="1400" spc="-1" strike="noStrike">
                          <a:solidFill>
                            <a:srgbClr val="000000"/>
                          </a:solidFill>
                          <a:latin typeface="Trebuchet MS"/>
                        </a:rPr>
                        <a:t> (Cumulative Index</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to Nursing and Allied Health)</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ebscohost.com/cinahl</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rsing</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lied health</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106596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MBASE</a:t>
                      </a:r>
                      <a:r>
                        <a:rPr b="1" lang="en-US" sz="1400" spc="-1" strike="noStrike" baseline="30000">
                          <a:solidFill>
                            <a:srgbClr val="000000"/>
                          </a:solidFill>
                          <a:latin typeface="Symbol"/>
                          <a:ea typeface="Symbol"/>
                        </a:rPr>
                        <a:t></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embase.com</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iomedical with emphases on drugs and pharmaceuticals</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non</a:t>
                      </a:r>
                      <a:r>
                        <a:rPr b="0" lang="en-US" sz="1400" spc="-1" strike="noStrike">
                          <a:solidFill>
                            <a:srgbClr val="000000"/>
                          </a:solidFill>
                          <a:latin typeface="Arial"/>
                          <a:ea typeface="Arial"/>
                        </a:rPr>
                        <a:t>–</a:t>
                      </a:r>
                      <a:r>
                        <a:rPr b="0" lang="en-US" sz="1400" spc="-1" strike="noStrike">
                          <a:solidFill>
                            <a:srgbClr val="000000"/>
                          </a:solidFill>
                          <a:latin typeface="Trebuchet MS"/>
                        </a:rPr>
                        <a:t>U.S. coverage than MEDLINE</a:t>
                      </a:r>
                      <a:r>
                        <a:rPr b="0" lang="en-US" sz="1400" spc="-1" strike="noStrike" baseline="30000">
                          <a:solidFill>
                            <a:srgbClr val="000000"/>
                          </a:solidFill>
                          <a:latin typeface="Symbol"/>
                          <a:ea typeface="Symbol"/>
                        </a:rPr>
                        <a:t></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42660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IPA (International Pharmaceutical Abstracts)</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csa.com/factsheets/ipa-set-c.php</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rugs and pharmaceuticals</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3972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MANTIS (Manual Alternative and Natural Therapy Index System)</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healthindex.com/MANTIS.aspx</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steopathy</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ropractic</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ternative medicine</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63972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sycINFO</a:t>
                      </a:r>
                      <a:r>
                        <a:rPr b="1" lang="en-US" sz="1400" spc="-1" strike="noStrike" baseline="30000">
                          <a:solidFill>
                            <a:srgbClr val="000000"/>
                          </a:solidFill>
                          <a:latin typeface="Symbol"/>
                          <a:ea typeface="Symbol"/>
                        </a:rPr>
                        <a:t></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apa.org/pubs/databases/psycinfo/</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ex.aspx</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sychological literature</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42" name="TextBox 3"/>
          <p:cNvSpPr/>
          <p:nvPr/>
        </p:nvSpPr>
        <p:spPr>
          <a:xfrm>
            <a:off x="152280" y="117324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specialized databases that require a subscription:</a:t>
            </a:r>
            <a:endParaRPr b="0" lang="en-US" sz="2400" spc="-1" strike="noStrike">
              <a:solidFill>
                <a:srgbClr val="000000"/>
              </a:solidFill>
              <a:latin typeface="Palatino Linotype"/>
            </a:endParaRPr>
          </a:p>
        </p:txBody>
      </p:sp>
      <p:sp>
        <p:nvSpPr>
          <p:cNvPr id="143" name="Title 2"/>
          <p:cNvSpPr/>
          <p:nvPr/>
        </p:nvSpPr>
        <p:spPr>
          <a:xfrm>
            <a:off x="304920" y="76320"/>
            <a:ext cx="8229600" cy="86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3 of 4)</a:t>
            </a:r>
            <a:endParaRPr b="0" lang="en-US" sz="3200" spc="-1" strike="noStrike">
              <a:solidFill>
                <a:srgbClr val="000000"/>
              </a:solidFill>
              <a:latin typeface="Palatino Linotype"/>
            </a:endParaRPr>
          </a:p>
        </p:txBody>
      </p:sp>
      <p:sp>
        <p:nvSpPr>
          <p:cNvPr id="144" name="TextBox 4"/>
          <p:cNvSpPr/>
          <p:nvPr/>
        </p:nvSpPr>
        <p:spPr>
          <a:xfrm>
            <a:off x="22860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380880" y="1752480"/>
          <a:ext cx="8382240" cy="3124440"/>
        </p:xfrm>
        <a:graphic>
          <a:graphicData uri="http://schemas.openxmlformats.org/drawingml/2006/table">
            <a:tbl>
              <a:tblPr/>
              <a:tblGrid>
                <a:gridCol w="1905120"/>
                <a:gridCol w="5105520"/>
                <a:gridCol w="1371600"/>
              </a:tblGrid>
              <a:tr h="38124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Times New Roman"/>
                        </a:rPr>
                        <a:t>Citation-Tracking Database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80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Database</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RL</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Times New Roman"/>
                        </a:rPr>
                        <a:t>Acces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oogle Scholar</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scholar.google.com</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e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381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ubFocus</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pubfocus.com</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e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ubReMiner</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oinfo.amc.uva.nl/human-genetics/pubreminer</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e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09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ciVerse</a:t>
                      </a:r>
                      <a:r>
                        <a:rPr b="1" lang="en-US" sz="1600" spc="-1" strike="noStrike" baseline="30000">
                          <a:solidFill>
                            <a:srgbClr val="000000"/>
                          </a:solidFill>
                          <a:latin typeface="Symbol"/>
                          <a:ea typeface="Symbol"/>
                        </a:rPr>
                        <a:t></a:t>
                      </a:r>
                      <a:r>
                        <a:rPr b="1" lang="en-US" sz="1600" spc="-1" strike="noStrike">
                          <a:solidFill>
                            <a:srgbClr val="000000"/>
                          </a:solidFill>
                          <a:latin typeface="Trebuchet MS"/>
                        </a:rPr>
                        <a:t> Scopus</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info.scopus.com</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bscription required</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609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Web of Science</a:t>
                      </a:r>
                      <a:r>
                        <a:rPr b="1" lang="en-US" sz="1600" spc="-1" strike="noStrike" baseline="30000">
                          <a:solidFill>
                            <a:srgbClr val="000000"/>
                          </a:solidFill>
                          <a:latin typeface="Symbol"/>
                          <a:ea typeface="Symbol"/>
                        </a:rPr>
                        <a:t></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omsonreuters.com/products_services/science/ science_products/a-z/web_of_scienc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bscription required</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46" name="PlaceHolder 1"/>
          <p:cNvSpPr>
            <a:spLocks noGrp="1"/>
          </p:cNvSpPr>
          <p:nvPr>
            <p:ph type="title"/>
          </p:nvPr>
        </p:nvSpPr>
        <p:spPr>
          <a:xfrm>
            <a:off x="380880" y="1066680"/>
            <a:ext cx="8229600" cy="533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citation-tracking databases:</a:t>
            </a:r>
            <a:endParaRPr b="1" lang="en-US" sz="2400" spc="-1" strike="noStrike">
              <a:solidFill>
                <a:srgbClr val="ffffff"/>
              </a:solidFill>
              <a:latin typeface="Trebuchet MS"/>
            </a:endParaRPr>
          </a:p>
        </p:txBody>
      </p:sp>
      <p:sp>
        <p:nvSpPr>
          <p:cNvPr id="147" name="Title 2"/>
          <p:cNvSpPr/>
          <p:nvPr/>
        </p:nvSpPr>
        <p:spPr>
          <a:xfrm>
            <a:off x="304920" y="76320"/>
            <a:ext cx="8229600" cy="86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4 of 4)</a:t>
            </a:r>
            <a:endParaRPr b="0" lang="en-US" sz="3200" spc="-1" strike="noStrike">
              <a:solidFill>
                <a:srgbClr val="000000"/>
              </a:solidFill>
              <a:latin typeface="Palatino Linotype"/>
            </a:endParaRPr>
          </a:p>
        </p:txBody>
      </p:sp>
      <p:sp>
        <p:nvSpPr>
          <p:cNvPr id="148" name="TextBox 4"/>
          <p:cNvSpPr/>
          <p:nvPr/>
        </p:nvSpPr>
        <p:spPr>
          <a:xfrm>
            <a:off x="22860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218960"/>
            <a:ext cx="8229600" cy="4724280"/>
          </a:xfrm>
          <a:prstGeom prst="rect">
            <a:avLst/>
          </a:prstGeom>
          <a:noFill/>
          <a:ln w="0">
            <a:noFill/>
          </a:ln>
        </p:spPr>
        <p:txBody>
          <a:bodyPr lIns="0" rIns="0" tIns="0" bIns="0" anchor="t">
            <a:normAutofit fontScale="99000"/>
          </a:bodyPr>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HRQ Evidence Report/Technology Assessment No. 142: </a:t>
            </a:r>
            <a:r>
              <a:rPr b="0" i="1" lang="en-US" sz="2000" spc="-1" strike="noStrike">
                <a:solidFill>
                  <a:srgbClr val="ffffff"/>
                </a:solidFill>
                <a:latin typeface="Trebuchet MS"/>
              </a:rPr>
              <a:t>Testing for BNP and NT-proBNP in the Diagnosis and Prognosis of Heart Failure</a:t>
            </a:r>
            <a:endParaRPr b="0" lang="en-US" sz="20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ll medical tests were known.</a:t>
            </a:r>
            <a:endParaRPr b="0" lang="en-US" sz="18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search consisted of all possible variations on test names.</a:t>
            </a:r>
            <a:endParaRPr b="0" lang="en-US" sz="18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ing a search string to capture the diagnostic testing concept was not necessary.</a:t>
            </a:r>
            <a:endParaRPr b="0" lang="en-US" sz="1800" spc="-1" strike="noStrike">
              <a:solidFill>
                <a:srgbClr val="ffffff"/>
              </a:solidFill>
              <a:latin typeface="Trebuchet MS"/>
            </a:endParaRPr>
          </a:p>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HRQ Comparative Effectiveness Review No. 2: </a:t>
            </a:r>
            <a:r>
              <a:rPr b="0" i="1" lang="en-US" sz="2000" spc="-1" strike="noStrike">
                <a:solidFill>
                  <a:srgbClr val="ffffff"/>
                </a:solidFill>
                <a:latin typeface="Trebuchet MS"/>
              </a:rPr>
              <a:t>Effectiveness of Noninvasive Diagnostic Tests for Breast Abnormalities</a:t>
            </a:r>
            <a:endParaRPr b="0" lang="en-US" sz="20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ll medical tests were not known.</a:t>
            </a:r>
            <a:endParaRPr b="0" lang="en-US" sz="18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PubMed</a:t>
            </a:r>
            <a:r>
              <a:rPr b="0" lang="en-US" sz="1800" spc="-1" strike="noStrike" baseline="30000">
                <a:solidFill>
                  <a:srgbClr val="ffffff"/>
                </a:solidFill>
                <a:latin typeface="Symbol"/>
                <a:ea typeface="Symbol"/>
              </a:rPr>
              <a:t></a:t>
            </a:r>
            <a:r>
              <a:rPr b="0" lang="en-US" sz="1800" spc="-1" strike="noStrike">
                <a:solidFill>
                  <a:srgbClr val="ffffff"/>
                </a:solidFill>
                <a:latin typeface="Trebuchet MS"/>
              </a:rPr>
              <a:t> search string relied on textwords used to capture the diagnostic testing concept:</a:t>
            </a:r>
            <a:endParaRPr b="0" lang="en-US" sz="1800" spc="-1" strike="noStrike">
              <a:solidFill>
                <a:srgbClr val="ffffff"/>
              </a:solidFill>
              <a:latin typeface="Trebuchet MS"/>
            </a:endParaRPr>
          </a:p>
          <a:p>
            <a:pPr lvl="2" marL="793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rebuchet MS"/>
              </a:rPr>
              <a:t>“</a:t>
            </a:r>
            <a:r>
              <a:rPr b="0" lang="en-US" sz="1800" spc="-1" strike="noStrike">
                <a:solidFill>
                  <a:srgbClr val="ffffff"/>
                </a:solidFill>
                <a:latin typeface="Trebuchet MS"/>
              </a:rPr>
              <a:t>diagnosis OR diagnose OR diagnostic OR di[sh] OR </a:t>
            </a:r>
            <a:r>
              <a:rPr b="0" lang="ja-JP" sz="1800" spc="-1" strike="noStrike">
                <a:solidFill>
                  <a:srgbClr val="ffffff"/>
                </a:solidFill>
                <a:latin typeface="Trebuchet MS"/>
              </a:rPr>
              <a:t>“</a:t>
            </a:r>
            <a:r>
              <a:rPr b="0" lang="en-US" sz="1800" spc="-1" strike="noStrike">
                <a:solidFill>
                  <a:srgbClr val="ffffff"/>
                </a:solidFill>
                <a:latin typeface="Trebuchet MS"/>
              </a:rPr>
              <a:t>gold standard</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ROC</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receiver operating characteristic</a:t>
            </a:r>
            <a:r>
              <a:rPr b="0" lang="ja-JP" sz="1800" spc="-1" strike="noStrike">
                <a:solidFill>
                  <a:srgbClr val="ffffff"/>
                </a:solidFill>
                <a:latin typeface="Trebuchet MS"/>
              </a:rPr>
              <a:t>”</a:t>
            </a:r>
            <a:r>
              <a:rPr b="0" lang="en-US" sz="1800" spc="-1" strike="noStrike">
                <a:solidFill>
                  <a:srgbClr val="ffffff"/>
                </a:solidFill>
                <a:latin typeface="Trebuchet MS"/>
              </a:rPr>
              <a:t> OR sensitivity and specificity[mh] OR likelihood OR </a:t>
            </a:r>
            <a:r>
              <a:rPr b="0" lang="ja-JP" sz="1800" spc="-1" strike="noStrike">
                <a:solidFill>
                  <a:srgbClr val="ffffff"/>
                </a:solidFill>
                <a:latin typeface="Trebuchet MS"/>
              </a:rPr>
              <a:t>“</a:t>
            </a:r>
            <a:r>
              <a:rPr b="0" lang="en-US" sz="1800" spc="-1" strike="noStrike">
                <a:solidFill>
                  <a:srgbClr val="ffffff"/>
                </a:solidFill>
                <a:latin typeface="Trebuchet MS"/>
              </a:rPr>
              <a:t>false posi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false nega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true posi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true nega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predictive value</a:t>
            </a:r>
            <a:r>
              <a:rPr b="0" lang="ja-JP" sz="1800" spc="-1" strike="noStrike">
                <a:solidFill>
                  <a:srgbClr val="ffffff"/>
                </a:solidFill>
                <a:latin typeface="Trebuchet MS"/>
              </a:rPr>
              <a:t>”</a:t>
            </a:r>
            <a:r>
              <a:rPr b="0" lang="en-US" sz="1800" spc="-1" strike="noStrike">
                <a:solidFill>
                  <a:srgbClr val="ffffff"/>
                </a:solidFill>
                <a:latin typeface="Trebuchet MS"/>
              </a:rPr>
              <a:t> OR accuracy OR precision</a:t>
            </a:r>
            <a:r>
              <a:rPr b="0" lang="ja-JP" sz="1800" spc="-1" strike="noStrike">
                <a:solidFill>
                  <a:srgbClr val="ffffff"/>
                </a:solidFill>
                <a:latin typeface="Trebuchet MS"/>
              </a:rPr>
              <a:t>”</a:t>
            </a:r>
            <a:endParaRPr b="0" lang="en-US" sz="1800" spc="-1" strike="noStrike">
              <a:solidFill>
                <a:srgbClr val="ffffff"/>
              </a:solidFill>
              <a:latin typeface="Trebuchet MS"/>
            </a:endParaRPr>
          </a:p>
        </p:txBody>
      </p:sp>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s of Search Strategies</a:t>
            </a:r>
            <a:endParaRPr b="1" lang="en-US" sz="3200" spc="-1" strike="noStrike">
              <a:solidFill>
                <a:srgbClr val="ffffff"/>
              </a:solidFill>
              <a:latin typeface="Trebuchet MS"/>
            </a:endParaRPr>
          </a:p>
        </p:txBody>
      </p:sp>
      <p:sp>
        <p:nvSpPr>
          <p:cNvPr id="151" name="TextBox 3"/>
          <p:cNvSpPr/>
          <p:nvPr/>
        </p:nvSpPr>
        <p:spPr>
          <a:xfrm>
            <a:off x="457200" y="593892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298520"/>
            <a:ext cx="8229600" cy="44164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gnostic search filters cannot be depended on exclusively.</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the full range of tests is known, searching for a specific test using all variant names may be sufficient.</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mbining highly sensitive database searches (using textwords), hand searching, and searching lists of cited references is currently the best way to identify relevant studie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rely on controlled vocabulary alon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multiple locations and databas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 sure to check the Devices@FDA Web site, which is a useful sourc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
        <p:nvSpPr>
          <p:cNvPr id="154" name="TextBox 3"/>
          <p:cNvSpPr/>
          <p:nvPr/>
        </p:nvSpPr>
        <p:spPr>
          <a:xfrm>
            <a:off x="45720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4"/>
          <p:cNvGrpSpPr/>
          <p:nvPr/>
        </p:nvGrpSpPr>
        <p:grpSpPr>
          <a:xfrm>
            <a:off x="457200" y="1295280"/>
            <a:ext cx="8421840" cy="4572000"/>
            <a:chOff x="457200" y="1295280"/>
            <a:chExt cx="8421840" cy="4572000"/>
          </a:xfrm>
        </p:grpSpPr>
        <p:sp>
          <p:nvSpPr>
            <p:cNvPr id="89" name="Freeform 5"/>
            <p:cNvSpPr/>
            <p:nvPr/>
          </p:nvSpPr>
          <p:spPr>
            <a:xfrm>
              <a:off x="457200" y="2647800"/>
              <a:ext cx="2273400" cy="146196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6"/>
            <p:cNvSpPr/>
            <p:nvPr/>
          </p:nvSpPr>
          <p:spPr>
            <a:xfrm>
              <a:off x="1498320" y="2766960"/>
              <a:ext cx="2566800" cy="2911680"/>
            </a:xfrm>
            <a:custGeom>
              <a:avLst/>
              <a:gdLst/>
              <a:ahLst/>
              <a:rect l="l" t="t" r="r" b="b"/>
              <a:pathLst>
                <a:path w="2566988" h="2973142">
                  <a:moveTo>
                    <a:pt x="342749" y="2423096"/>
                  </a:moveTo>
                  <a:lnTo>
                    <a:pt x="391684" y="2374380"/>
                  </a:lnTo>
                  <a:cubicBezTo>
                    <a:pt x="682217" y="2776384"/>
                    <a:pt x="1143252" y="2947573"/>
                    <a:pt x="1577928" y="2814850"/>
                  </a:cubicBezTo>
                  <a:cubicBezTo>
                    <a:pt x="1970276" y="2695051"/>
                    <a:pt x="2281767" y="2345302"/>
                    <a:pt x="2401101" y="1890573"/>
                  </a:cubicBezTo>
                  <a:lnTo>
                    <a:pt x="2356849" y="1879282"/>
                  </a:lnTo>
                  <a:lnTo>
                    <a:pt x="2459436" y="1786588"/>
                  </a:lnTo>
                  <a:lnTo>
                    <a:pt x="2511609" y="1918766"/>
                  </a:lnTo>
                  <a:lnTo>
                    <a:pt x="2467359" y="1907477"/>
                  </a:lnTo>
                  <a:cubicBezTo>
                    <a:pt x="2341835" y="2385876"/>
                    <a:pt x="2012150" y="2754269"/>
                    <a:pt x="1596387" y="2880709"/>
                  </a:cubicBezTo>
                  <a:cubicBezTo>
                    <a:pt x="1137706" y="3020201"/>
                    <a:pt x="650872" y="2842493"/>
                    <a:pt x="342749" y="2423096"/>
                  </a:cubicBez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7"/>
            <p:cNvSpPr/>
            <p:nvPr/>
          </p:nvSpPr>
          <p:spPr>
            <a:xfrm>
              <a:off x="914400" y="4333680"/>
              <a:ext cx="2020680" cy="787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8"/>
            <p:cNvSpPr/>
            <p:nvPr/>
          </p:nvSpPr>
          <p:spPr>
            <a:xfrm>
              <a:off x="3309840" y="2647800"/>
              <a:ext cx="2271600" cy="18352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9"/>
            <p:cNvSpPr/>
            <p:nvPr/>
          </p:nvSpPr>
          <p:spPr>
            <a:xfrm>
              <a:off x="4130640" y="1295280"/>
              <a:ext cx="2065320" cy="2082960"/>
            </a:xfrm>
            <a:custGeom>
              <a:avLst/>
              <a:gdLst/>
              <a:ahLst/>
              <a:rect l="l" t="t" r="r" b="b"/>
              <a:pathLst>
                <a:path w="2065338" h="2126915">
                  <a:moveTo>
                    <a:pt x="233958" y="439331"/>
                  </a:moveTo>
                  <a:cubicBezTo>
                    <a:pt x="447554" y="148936"/>
                    <a:pt x="793785" y="-3988"/>
                    <a:pt x="1145108" y="36892"/>
                  </a:cubicBezTo>
                  <a:cubicBezTo>
                    <a:pt x="1493014" y="77375"/>
                    <a:pt x="1795209" y="302040"/>
                    <a:pt x="1942267" y="629535"/>
                  </a:cubicBezTo>
                  <a:lnTo>
                    <a:pt x="1970558" y="618573"/>
                  </a:lnTo>
                  <a:lnTo>
                    <a:pt x="1949635" y="708177"/>
                  </a:lnTo>
                  <a:lnTo>
                    <a:pt x="1871454" y="656971"/>
                  </a:lnTo>
                  <a:lnTo>
                    <a:pt x="1899744" y="646010"/>
                  </a:lnTo>
                  <a:cubicBezTo>
                    <a:pt x="1758654" y="333790"/>
                    <a:pt x="1470125" y="120031"/>
                    <a:pt x="1138397" y="81960"/>
                  </a:cubicBezTo>
                  <a:cubicBezTo>
                    <a:pt x="803314" y="43504"/>
                    <a:pt x="473355" y="189925"/>
                    <a:pt x="269854" y="467380"/>
                  </a:cubicBezTo>
                  <a:lnTo>
                    <a:pt x="233958" y="43933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10"/>
            <p:cNvSpPr/>
            <p:nvPr/>
          </p:nvSpPr>
          <p:spPr>
            <a:xfrm>
              <a:off x="3505320" y="1722240"/>
              <a:ext cx="2020680" cy="787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11"/>
            <p:cNvSpPr/>
            <p:nvPr/>
          </p:nvSpPr>
          <p:spPr>
            <a:xfrm>
              <a:off x="6161400" y="1295280"/>
              <a:ext cx="2489040" cy="356076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12"/>
            <p:cNvSpPr/>
            <p:nvPr/>
          </p:nvSpPr>
          <p:spPr>
            <a:xfrm>
              <a:off x="6858360" y="5079960"/>
              <a:ext cx="2020680" cy="787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in the review.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how to find relevant studies from which to extract data."/>
            <p:cNvPicPr/>
            <p:nvPr/>
          </p:nvPicPr>
          <p:blipFill>
            <a:blip r:embed="rId1"/>
            <a:stretch/>
          </p:blipFill>
          <p:spPr>
            <a:xfrm>
              <a:off x="3243240" y="3633120"/>
              <a:ext cx="1932480" cy="975240"/>
            </a:xfrm>
            <a:prstGeom prst="rect">
              <a:avLst/>
            </a:prstGeom>
            <a:ln w="0">
              <a:noFill/>
            </a:ln>
          </p:spPr>
        </p:pic>
        <p:sp>
          <p:nvSpPr>
            <p:cNvPr id="98" name="Shape 15"/>
            <p:cNvSpPr/>
            <p:nvPr/>
          </p:nvSpPr>
          <p:spPr>
            <a:xfrm rot="5043000">
              <a:off x="6158880" y="4051440"/>
              <a:ext cx="1590480" cy="1557360"/>
            </a:xfrm>
            <a:custGeom>
              <a:avLst/>
              <a:gdLst/>
              <a:ahLst/>
              <a:rect l="l" t="t" r="r" b="b"/>
              <a:pathLst>
                <a:path w="1624367" h="1557338">
                  <a:moveTo>
                    <a:pt x="677631" y="1518520"/>
                  </a:moveTo>
                  <a:lnTo>
                    <a:pt x="685061" y="1477668"/>
                  </a:lnTo>
                  <a:cubicBezTo>
                    <a:pt x="1036064" y="1535874"/>
                    <a:pt x="1380931" y="1347978"/>
                    <a:pt x="1507047" y="1029820"/>
                  </a:cubicBezTo>
                  <a:lnTo>
                    <a:pt x="1480375" y="1023015"/>
                  </a:lnTo>
                  <a:lnTo>
                    <a:pt x="1550099" y="966933"/>
                  </a:lnTo>
                  <a:lnTo>
                    <a:pt x="1574265" y="1046969"/>
                  </a:lnTo>
                  <a:lnTo>
                    <a:pt x="1547583" y="1040162"/>
                  </a:lnTo>
                  <a:cubicBezTo>
                    <a:pt x="1415921" y="1379476"/>
                    <a:pt x="1050148" y="1580603"/>
                    <a:pt x="677631" y="1518520"/>
                  </a:cubicBez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152280" y="6019920"/>
            <a:ext cx="6648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ly, when designing a literature search, higher precision is desirable relative to recall.</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1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Maintaining balance between recall and precision is usually desirable.</a:t>
            </a:r>
            <a:endParaRPr b="0" lang="en-US" sz="2400" spc="-1" strike="noStrike">
              <a:solidFill>
                <a:srgbClr val="ffffff"/>
              </a:solidFill>
              <a:latin typeface="Trebuchet MS"/>
            </a:endParaRPr>
          </a:p>
          <a:p>
            <a:pPr>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 filters are inappropriate for systematic review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 </a:t>
            </a:r>
            <a:endParaRPr b="0" lang="en-US" sz="22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Search filters may miss relevant studies and do not perform as well for studies published before 1990 because of nonstandardized reporting and indexing.</a:t>
            </a:r>
            <a:endParaRPr b="0" lang="en-US" sz="2400" spc="-1" strike="noStrike">
              <a:solidFill>
                <a:srgbClr val="ffffff"/>
              </a:solidFill>
              <a:latin typeface="Trebuchet MS"/>
            </a:endParaRPr>
          </a:p>
        </p:txBody>
      </p:sp>
      <p:sp>
        <p:nvSpPr>
          <p:cNvPr id="1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298520"/>
            <a:ext cx="8229600" cy="4827600"/>
          </a:xfrm>
          <a:prstGeom prst="rect">
            <a:avLst/>
          </a:prstGeom>
          <a:noFill/>
          <a:ln w="0">
            <a:noFill/>
          </a:ln>
        </p:spPr>
        <p:txBody>
          <a:bodyPr lIns="0" rIns="0" tIns="0" bIns="0" anchor="t">
            <a:normAutofit fontScale="99000"/>
          </a:bodyPr>
          <a:p>
            <a:pPr marL="452520" indent="-452520">
              <a:lnSpc>
                <a:spcPct val="100000"/>
              </a:lnSpc>
              <a:spcBef>
                <a:spcPts val="825"/>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of the following are true statements regarding controlled vocabulary:</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ontrolled vocabulary may not contain all variant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ontrolled vocabulary is reliable thanks to standardized reporting and indexing.</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xtwords help identify tests not yet indexed or indexed improperly.</a:t>
            </a:r>
            <a:endParaRPr b="0" lang="en-US" sz="2200" spc="-1" strike="noStrike">
              <a:solidFill>
                <a:srgbClr val="ffffff"/>
              </a:solidFill>
              <a:latin typeface="Trebuchet MS"/>
            </a:endParaRPr>
          </a:p>
          <a:p>
            <a:pPr lvl="1" marL="906480" indent="-50868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oice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nd b</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nd c</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and c</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three statements are true.</a:t>
            </a:r>
            <a:endParaRPr b="0" lang="en-US" sz="2200" spc="-1" strike="noStrike">
              <a:solidFill>
                <a:srgbClr val="ffffff"/>
              </a:solidFill>
              <a:latin typeface="Trebuchet MS"/>
            </a:endParaRPr>
          </a:p>
          <a:p>
            <a:pPr marL="452520" indent="-452520">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Controlled vocabulary is actually unreliable for identifying variants of a test name because of nonstandardized reporting and indexing.</a:t>
            </a:r>
            <a:endParaRPr b="0" lang="en-US" sz="24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ch of the following is </a:t>
            </a:r>
            <a:r>
              <a:rPr b="0" i="1" lang="en-US" sz="2400" spc="-1" strike="noStrike">
                <a:solidFill>
                  <a:srgbClr val="ffffff"/>
                </a:solidFill>
                <a:latin typeface="Trebuchet MS"/>
              </a:rPr>
              <a:t>not</a:t>
            </a:r>
            <a:r>
              <a:rPr b="0" lang="en-US" sz="2400" spc="-1" strike="noStrike">
                <a:solidFill>
                  <a:srgbClr val="ffffff"/>
                </a:solidFill>
                <a:latin typeface="Trebuchet MS"/>
              </a:rPr>
              <a:t> a principle of searching for studies outlined in this modul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rely on search filters alon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rely on controlled vocabulary alon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in multiple locations.</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void using Google Scholar as a search tool</a:t>
            </a:r>
            <a:r>
              <a:rPr b="1" lang="en-US" sz="2200" spc="-1" strike="noStrike">
                <a:solidFill>
                  <a:srgbClr val="ffffff"/>
                </a:solidFill>
                <a:latin typeface="Trebuchet MS"/>
              </a:rPr>
              <a:t>.</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Google Scholar can be useful for grey literature searches.</a:t>
            </a:r>
            <a:endParaRPr b="0" lang="en-US" sz="2400" spc="-1" strike="noStrike">
              <a:solidFill>
                <a:srgbClr val="ffffff"/>
              </a:solidFill>
              <a:latin typeface="Trebuchet MS"/>
            </a:endParaRPr>
          </a:p>
          <a:p>
            <a:pPr>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4, Effective Search Strategies for Systematic Reviews of Medical Tests.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stin MP, Brazzelli MG, Fraser CM, et al. Developing a sensitive search strategy in MEDLINE to retrieve studies on assessment of the diagnostic performance of imaging techniques. Radiology. 2008 May;247(2):365-73. PMID: 1837244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chmann LM, Coray R, Estermann P, et al. Identifying diagnostic studies in MEDLINE: reducing the number needed to read. J Am Med Inform Assoc. 2002 Nov-Dec;9(6):653-8. PMID: 1238611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chmann LM, Estermann P, Kornenberg C, et al. Identifying diagnostic accuracy studies in EMBASE. J Med Libr Assoc. 2003 Jul;91(3):341-6. PMID: 12883560.</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cognize the importance of a multiple-approach method of searching</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nderstand the current state of indexing and reporting and its effect on the most pragmatic methods of conducting searche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02"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lion C, Santaguida PL, Hill S, et al. Testing for BNP and NT-proBNP in the Diagnosis and Prognosis of Heart Failure. Evidence Report/Technology Assessment No. 142 (Prepared by the McMaster University Evidence-based Practice Center under Contract No. 290-02-0020). Rockville, MD: Agency for Healthcare Research and Quality; September 2006. AHRQ Publication No. 06-E014. Available at www.ncbi.nlm.nih.gov/books/NBK38136.</a:t>
            </a:r>
            <a:endParaRPr b="0" lang="en-US" sz="1800" spc="-1" strike="noStrike">
              <a:solidFill>
                <a:srgbClr val="ffffff"/>
              </a:solidFill>
              <a:latin typeface="Trebuchet MS"/>
            </a:endParaRPr>
          </a:p>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tran AP, Say L, Gulmezoglu AM, et al. Effectiveness of different databases in identifying studies for systematic reviews: experience from the WHO systematic review of maternal morbidity and mortality. BMC Med Res Methodol. 2005 Jan 28;5(1):6. PMID: 15679886.</a:t>
            </a:r>
            <a:endParaRPr b="0" lang="en-US" sz="1800" spc="-1" strike="noStrike">
              <a:solidFill>
                <a:srgbClr val="ffffff"/>
              </a:solidFill>
              <a:latin typeface="Trebuchet MS"/>
            </a:endParaRPr>
          </a:p>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ruening W, Launders J, Pinkney N, et al. Effectiveness of Noninvasive Diagnostic Tests for Breast Abnormalities. Comparative Effectiveness Review No. 2 (Prepared by the ECRI Evidence-based Practice Center under Contract No. 290-02-0019). Rockville, MD: Agency for Healthcare Research and Quality; February 2006. AHRQ Publication No. 06-EHC005-EF. www.effectivehealthcare.ahrq.gov/repFiles/BrCADx%20Final%20Report.pdf.</a:t>
            </a:r>
            <a:endParaRPr b="0" lang="en-US" sz="1800" spc="-1" strike="noStrike">
              <a:solidFill>
                <a:srgbClr val="ffffff"/>
              </a:solidFill>
              <a:latin typeface="Trebuchet MS"/>
            </a:endParaRPr>
          </a:p>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n VS, Isaramalai SA, Rath S, et al. Beyond MEDLINE for literature searches. J Nurs Scholarsh. 2003;35(2):177-82. PMID: 1285430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ville WL, Bezemer PD, Bouter LM. Publications on diagnostic test evaluation in family medicine journals: an optimal search strategy. J Clin Epidemiol. 2000 Jan;53(1):65-9. PMID: 1069390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ust JA, Pietrzak E, Sanders S, et al. Identifying studies for systematic reviews of diagnostic tests was difficult due to the poor sensitivity and precision of methodologic filters and the lack of information in the abstract. J Clin Epidemiol. 2005 May;58(5):444-9. PMID: 1584533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ynes RB, Wilczynski NL. Optimal search strategies for retrieving scientifically strong studies of diagnosis from Medline: analytical survey. MBJ. 2004 May 1;328(7447):1040. PMID: 1507302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ynes RB, Wilczynski N, McKibbon KA, et al. Developing optimal search strategies for detecting clinically sound studies in MEDLINE. J Am Med Inform Assoc. 1994 Nov-Dec;1(6):447-58. PMID: 785057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7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nest H, Bachmann LM, Khan K. Electronic searching of the literature for systematic reviews of screening and diagnostic tests for preterm birth. Eur J Obstet Gynecol Reprod Biol. 2003 Mar 26;107(1):19-23. PMID: 12593888.</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eeflang MM, Scholten RJ, Rutjes AW, et al. Use of methodological search filters to identify diagnostic accuracy studies can lead to the omission of relevant studies. J Clin Epidemiol. 2006 Mar;59(3):234-40. PMID: 1648835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levo R. Effective search strategies for systematic reviews of medical tests. In: Chang SM and Matchar DB, eds. Methods guide for medical test reviews. Rockville, MD: Agency for Healthcare Research and Quality; June 2012. p. 4.1-4.9. AHRQ Publication No. 12-EHC017. www.effectivehealthcare.ahrq.gov/medtestsguide.cfm.</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itchie G, Glanville J, Lefebvre C. Do published search filters to identify diagnostic test accuracy studies perform adequately? Health Info Libr J. 2007 Sep;24(3):188-92. PMID: 1771417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0880" y="1298520"/>
            <a:ext cx="838224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ampson M, Barrowman NJ, Moher D, et al. Should meta-analysts search EMBASE in addition to MEDLINE? J Clin Epidemiol. 2003 Oct; 56(10):943-55. PMID: 1456862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evinson C, Lawlor DA. Searching multiple databases for systematic reviews: added value or diminishing returns? Complement Ther Med. 2004 Dec;12(4):228-32. PMID: 15649836.</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uarez-Almazor ME, Belseck E, Homik J, et al. Identifying clinical trials in the medical literature with electronic databases: MEDLINE alone is not enough. Control Clin Trials. 2000 Oct;21(5):476-87. PMID: 11018564.</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an der Weijden T, Ijzermans CJ, Dinant GJ, et al. Identifying relevant diagnostic studies in MEDLINE. The diagnostic value of the erythrocyte sedimentation rate (ESR) and dipstick as an example. Fam Pract. 1997 Jun;14(3):204-8. PMID: 920149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2" name="PlaceHolder 1"/>
          <p:cNvSpPr>
            <a:spLocks noGrp="1"/>
          </p:cNvSpPr>
          <p:nvPr>
            <p:ph type="title"/>
          </p:nvPr>
        </p:nvSpPr>
        <p:spPr>
          <a:xfrm>
            <a:off x="38088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incent S, Greenley S, Beaven O. Clinical evidence diagnosis: developing a sensitive search strategy to retrieve diagnostic studies on deep vein thrombosis: a pragmatic approach. Health Info Libr J. 2003 Sep;20(3):150-9. PMID: 12919278.</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Westwood M, Beynon R, et al. Inclusion of methodological filters in searches for diagnostic test accuracy studies misses relevant studies. J Clin Epidemiol. 2011 Jun;64(6):602-7. PMID: 21075596. </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Westwood M, Burke M, et al. Systematic reviews of test accuracy should search a range of databases to identify primary studies. J Clin Epidemiol. 2008 Apr;61(4):357-64. PMID: 1831356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ilczynski NL, Haynes RB. EMBASE search strategies for identifying methodologically sound diagnostic studies for use by clinicians and researchers. BMC. Med 2005 Mar;3:7. PMID: 15796772.</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Zheng MH, Zhang X, Ye Q, et al. Searching additional databases except PubMed are necessary for a systematic review. Stroke. 2008 Aug;39(8):e139. PMID: 1858355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overall goal is to locate all published studies relevant to key question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ral guidance on searching for systematic reviews also applies to reviews of medical test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balance must be achieved between recall and precision:</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call = how much of the relevant literature is retrieve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cision = how much of the retrieved literature is relevant.</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 optimal balance depends on the context. </a:t>
            </a:r>
            <a:r>
              <a:rPr b="0" lang="en-US" sz="2000" spc="-1" strike="noStrike">
                <a:solidFill>
                  <a:srgbClr val="ffffff"/>
                </a:solidFill>
                <a:latin typeface="Trebuchet MS"/>
              </a:rPr>
              <a:t>For comparative effectiveness reviews, the goal is to conduct a comprehensive and exhaustive search while minimizing the resources needed to review retrieved citations.</a:t>
            </a: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eneral Search Guidance (1 of 3)</a:t>
            </a:r>
            <a:endParaRPr b="1" lang="en-US" sz="3200" spc="-1" strike="noStrike">
              <a:solidFill>
                <a:srgbClr val="ffffff"/>
              </a:solidFill>
              <a:latin typeface="Trebuchet MS"/>
            </a:endParaRPr>
          </a:p>
        </p:txBody>
      </p:sp>
      <p:sp>
        <p:nvSpPr>
          <p:cNvPr id="105" name="TextBox 3"/>
          <p:cNvSpPr/>
          <p:nvPr/>
        </p:nvSpPr>
        <p:spPr>
          <a:xfrm>
            <a:off x="438120" y="5562720"/>
            <a:ext cx="832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344240"/>
            <a:ext cx="8229600" cy="4141800"/>
          </a:xfrm>
          <a:prstGeom prst="rect">
            <a:avLst/>
          </a:prstGeom>
          <a:noFill/>
          <a:ln w="0">
            <a:noFill/>
          </a:ln>
        </p:spPr>
        <p:txBody>
          <a:bodyPr lIns="0" rIns="0" tIns="0" bIns="0" anchor="t">
            <a:normAutofit fontScale="96000"/>
          </a:bodyPr>
          <a:p>
            <a:pPr marL="280080" indent="-28008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evelop the search strategy for the study with the research team according to the analytic framework and the inclusion and exclusion criteria.</a:t>
            </a:r>
            <a:endParaRPr b="0" lang="en-US" sz="2100" spc="-1" strike="noStrike">
              <a:solidFill>
                <a:srgbClr val="ffffff"/>
              </a:solidFill>
              <a:latin typeface="Trebuchet MS"/>
            </a:endParaRPr>
          </a:p>
          <a:p>
            <a:pPr marL="280080" indent="-28008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earch electronic databases for applicable studies:</a:t>
            </a:r>
            <a:endParaRPr b="0" lang="en-US" sz="21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EDLINE</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 and the Cochrane Central Register of Controlled Trials should always be included in the search strategy.</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Other useful databases include EMBASE</a:t>
            </a:r>
            <a:r>
              <a:rPr b="0" lang="en-US" sz="1900" spc="-1" strike="noStrike" baseline="30000">
                <a:solidFill>
                  <a:srgbClr val="ffffff"/>
                </a:solidFill>
                <a:latin typeface="Trebuchet MS"/>
              </a:rPr>
              <a:t> </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 CINAHL</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 and PsycINFO</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ailor the search to each database.</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e both controlled (i.e., MeSH</a:t>
            </a:r>
            <a:r>
              <a:rPr b="0" lang="en-US" sz="1900" spc="-1" strike="noStrike" baseline="30000">
                <a:solidFill>
                  <a:srgbClr val="ffffff"/>
                </a:solidFill>
                <a:latin typeface="Trebuchet MS"/>
              </a:rPr>
              <a:t> </a:t>
            </a:r>
            <a:r>
              <a:rPr b="0" lang="en-US" sz="1900" spc="-1" strike="noStrike" baseline="30000">
                <a:solidFill>
                  <a:srgbClr val="ffffff"/>
                </a:solidFill>
                <a:latin typeface="Symbol"/>
                <a:ea typeface="Symbol"/>
              </a:rPr>
              <a:t></a:t>
            </a:r>
            <a:r>
              <a:rPr b="0" lang="en-US" sz="1900" spc="-1" strike="noStrike" baseline="30000">
                <a:solidFill>
                  <a:srgbClr val="ffffff"/>
                </a:solidFill>
                <a:latin typeface="Trebuchet MS"/>
              </a:rPr>
              <a:t> </a:t>
            </a:r>
            <a:r>
              <a:rPr b="0" lang="en-US" sz="1900" spc="-1" strike="noStrike">
                <a:solidFill>
                  <a:srgbClr val="ffffff"/>
                </a:solidFill>
                <a:latin typeface="Trebuchet MS"/>
              </a:rPr>
              <a:t>subject headings) and uncontrolled vocabulary.</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e delimiters such as language only if a specific case can be made.</a:t>
            </a:r>
            <a:endParaRPr b="0" lang="en-US" sz="1900" spc="-1" strike="noStrike">
              <a:solidFill>
                <a:srgbClr val="ffffff"/>
              </a:solidFill>
              <a:latin typeface="Trebuchet MS"/>
            </a:endParaRPr>
          </a:p>
          <a:p>
            <a:pPr marL="28008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107"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eneral Search Guidance (2 of 3)</a:t>
            </a:r>
            <a:endParaRPr b="1" lang="en-US" sz="3200" spc="-1" strike="noStrike">
              <a:solidFill>
                <a:srgbClr val="ffffff"/>
              </a:solidFill>
              <a:latin typeface="Trebuchet MS"/>
            </a:endParaRPr>
          </a:p>
        </p:txBody>
      </p:sp>
      <p:sp>
        <p:nvSpPr>
          <p:cNvPr id="108" name="TextBox 3"/>
          <p:cNvSpPr/>
          <p:nvPr/>
        </p:nvSpPr>
        <p:spPr>
          <a:xfrm>
            <a:off x="438120" y="5562720"/>
            <a:ext cx="832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ing additional stud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ferences from studies included for review</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itation databases (e.g., SciVerse</a:t>
            </a:r>
            <a:r>
              <a:rPr b="0" lang="en-US" sz="2200" spc="-1" strike="noStrike" baseline="30000">
                <a:solidFill>
                  <a:srgbClr val="ffffff"/>
                </a:solidFill>
                <a:latin typeface="Symbol"/>
                <a:ea typeface="Symbol"/>
              </a:rPr>
              <a:t></a:t>
            </a:r>
            <a:r>
              <a:rPr b="0" lang="en-US" sz="2200" spc="-1" strike="noStrike">
                <a:solidFill>
                  <a:srgbClr val="ffffff"/>
                </a:solidFill>
                <a:latin typeface="Trebuchet MS"/>
              </a:rPr>
              <a:t> Scopus or Web of Science</a:t>
            </a:r>
            <a:r>
              <a:rPr b="0" lang="en-US" sz="2400" spc="-1" strike="noStrike" baseline="30000">
                <a:solidFill>
                  <a:srgbClr val="ffffff"/>
                </a:solidFill>
                <a:latin typeface="Trebuchet MS"/>
              </a:rPr>
              <a:t> </a:t>
            </a:r>
            <a:r>
              <a:rPr b="0" lang="en-US" sz="2400" spc="-1" strike="noStrike" baseline="30000">
                <a:solidFill>
                  <a:srgbClr val="ffffff"/>
                </a:solidFill>
                <a:latin typeface="Symbol"/>
                <a:ea typeface="Symbol"/>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npublished or </a:t>
            </a:r>
            <a:r>
              <a:rPr b="0" lang="ja-JP" sz="2200" spc="-1" strike="noStrike">
                <a:solidFill>
                  <a:srgbClr val="ffffff"/>
                </a:solidFill>
                <a:latin typeface="Trebuchet MS"/>
              </a:rPr>
              <a:t>“</a:t>
            </a:r>
            <a:r>
              <a:rPr b="0" lang="en-US" sz="2200" spc="-1" strike="noStrike">
                <a:solidFill>
                  <a:srgbClr val="ffffff"/>
                </a:solidFill>
                <a:latin typeface="Trebuchet MS"/>
              </a:rPr>
              <a:t>grey</a:t>
            </a:r>
            <a:r>
              <a:rPr b="0" lang="ja-JP" sz="2200" spc="-1" strike="noStrike">
                <a:solidFill>
                  <a:srgbClr val="ffffff"/>
                </a:solidFill>
                <a:latin typeface="Trebuchet MS"/>
              </a:rPr>
              <a:t>”</a:t>
            </a:r>
            <a:r>
              <a:rPr b="0" lang="en-US" sz="2200" spc="-1" strike="noStrike">
                <a:solidFill>
                  <a:srgbClr val="ffffff"/>
                </a:solidFill>
                <a:latin typeface="Trebuchet MS"/>
              </a:rPr>
              <a:t> literature, such a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trial registries (e.g., ClinicalTrials.gov and the World Health Organization International Clinical Trials Registry Platform)</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ference proceedings/abstracts (e.g., ProQuest COS Conference Papers Index)</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eneral Search Guidance (3 of 3)</a:t>
            </a:r>
            <a:endParaRPr b="1" lang="en-US" sz="3200" spc="-1" strike="noStrike">
              <a:solidFill>
                <a:srgbClr val="ffffff"/>
              </a:solidFill>
              <a:latin typeface="Trebuchet MS"/>
            </a:endParaRPr>
          </a:p>
        </p:txBody>
      </p:sp>
      <p:sp>
        <p:nvSpPr>
          <p:cNvPr id="111" name="TextBox 3"/>
          <p:cNvSpPr/>
          <p:nvPr/>
        </p:nvSpPr>
        <p:spPr>
          <a:xfrm>
            <a:off x="438120" y="5562720"/>
            <a:ext cx="832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160"/>
            <a:ext cx="8229600" cy="41115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es are required on each relevant test strategy being considered.</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e of two approaches is used to conduct the search:</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all possible tests used to evaluate the disease. This requires knowledge of all possible test strategies availabl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on the disease or condition, and then filter for the medical test.</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ing is often an iterative process, requiring refinements to search criteria.</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Specific to Searches for</a:t>
            </a:r>
            <a:br>
              <a:rPr sz="3200"/>
            </a:br>
            <a:r>
              <a:rPr b="1" lang="en-US" sz="3200" spc="-1" strike="noStrike">
                <a:solidFill>
                  <a:srgbClr val="ffffff"/>
                </a:solidFill>
                <a:latin typeface="Trebuchet MS"/>
              </a:rPr>
              <a:t>Studies of Medical Tests (1 of 3)</a:t>
            </a:r>
            <a:endParaRPr b="1" lang="en-US" sz="3200" spc="-1" strike="noStrike">
              <a:solidFill>
                <a:srgbClr val="ffffff"/>
              </a:solidFill>
              <a:latin typeface="Trebuchet MS"/>
            </a:endParaRPr>
          </a:p>
        </p:txBody>
      </p:sp>
      <p:sp>
        <p:nvSpPr>
          <p:cNvPr id="114"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160"/>
            <a:ext cx="8229600" cy="4264200"/>
          </a:xfrm>
          <a:prstGeom prst="rect">
            <a:avLst/>
          </a:prstGeom>
          <a:noFill/>
          <a:ln w="0">
            <a:noFill/>
          </a:ln>
        </p:spPr>
        <p:txBody>
          <a:bodyPr lIns="0" rIns="0" tIns="0" bIns="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irst approach for identifying studies of medical tests is to search for specific named tests.</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nefit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t is straightforward; test names are used to locate studie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pecific search for the concept of diagnosis/screening/ prognosis may not be necessary.</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rawback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w approaches may be missed because of evolving test strategie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ing the test name alone may be insufficient, especially for gene product tests that are associated with multiple diseases.</a:t>
            </a:r>
            <a:endParaRPr b="0" lang="en-US" sz="20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Specific to Searching for Studies of Medical Tests (2 of 3)</a:t>
            </a:r>
            <a:endParaRPr b="1" lang="en-US" sz="3200" spc="-1" strike="noStrike">
              <a:solidFill>
                <a:srgbClr val="ffffff"/>
              </a:solidFill>
              <a:latin typeface="Trebuchet MS"/>
            </a:endParaRPr>
          </a:p>
        </p:txBody>
      </p:sp>
      <p:sp>
        <p:nvSpPr>
          <p:cNvPr id="117"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94920"/>
            <a:ext cx="8229600" cy="4343400"/>
          </a:xfrm>
          <a:prstGeom prst="rect">
            <a:avLst/>
          </a:prstGeom>
          <a:noFill/>
          <a:ln w="0">
            <a:noFill/>
          </a:ln>
        </p:spPr>
        <p:txBody>
          <a:bodyPr lIns="0" rIns="0" tIns="0" bIns="0" anchor="t">
            <a:normAutofit fontScale="99000"/>
          </a:bodyPr>
          <a:p>
            <a:pPr marL="288720" indent="-28872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The second approach for identifying studies of medical tests is to search for a specific disease or condition.</a:t>
            </a:r>
            <a:endParaRPr b="0" lang="en-US" sz="2500" spc="-1" strike="noStrike">
              <a:solidFill>
                <a:srgbClr val="ffffff"/>
              </a:solidFill>
              <a:latin typeface="Trebuchet MS"/>
            </a:endParaRPr>
          </a:p>
          <a:p>
            <a:pPr lvl="1" marL="686520" indent="-28872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Benefits:</a:t>
            </a:r>
            <a:endParaRPr b="0" lang="en-US" sz="2300" spc="-1" strike="noStrike">
              <a:solidFill>
                <a:srgbClr val="ffffff"/>
              </a:solidFill>
              <a:latin typeface="Trebuchet MS"/>
            </a:endParaRPr>
          </a:p>
          <a:p>
            <a:pPr lvl="2" marL="1084320" indent="-28908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approach is preferred if specific medical tests are unknown.</a:t>
            </a:r>
            <a:endParaRPr b="0" lang="en-US" sz="2100" spc="-1" strike="noStrike">
              <a:solidFill>
                <a:srgbClr val="ffffff"/>
              </a:solidFill>
              <a:latin typeface="Trebuchet MS"/>
            </a:endParaRPr>
          </a:p>
          <a:p>
            <a:pPr lvl="2" marL="1084320" indent="-28908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can be used in combination with searches for known test names.</a:t>
            </a:r>
            <a:endParaRPr b="0" lang="en-US" sz="2100" spc="-1" strike="noStrike">
              <a:solidFill>
                <a:srgbClr val="ffffff"/>
              </a:solidFill>
              <a:latin typeface="Trebuchet MS"/>
            </a:endParaRPr>
          </a:p>
          <a:p>
            <a:pPr lvl="1" marL="6865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Drawback: </a:t>
            </a:r>
            <a:r>
              <a:rPr b="0" lang="en-US" sz="2100" spc="-1" strike="noStrike">
                <a:solidFill>
                  <a:srgbClr val="ffffff"/>
                </a:solidFill>
                <a:latin typeface="Trebuchet MS"/>
              </a:rPr>
              <a:t>Searches are broad and increase the amount of work needed to filter down to the relevant studies.</a:t>
            </a:r>
            <a:endParaRPr b="0" lang="en-US" sz="2100" spc="-1" strike="noStrike">
              <a:solidFill>
                <a:srgbClr val="ffffff"/>
              </a:solidFill>
              <a:latin typeface="Trebuchet MS"/>
            </a:endParaRPr>
          </a:p>
          <a:p>
            <a:pPr marL="288720" indent="-28872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This approach is used more often by reviewers.</a:t>
            </a:r>
            <a:endParaRPr b="0" lang="en-US" sz="2500" spc="-1" strike="noStrike">
              <a:solidFill>
                <a:srgbClr val="ffffff"/>
              </a:solidFill>
              <a:latin typeface="Trebuchet MS"/>
            </a:endParaRPr>
          </a:p>
          <a:p>
            <a:pPr lvl="2" marL="1084320" indent="-289080">
              <a:lnSpc>
                <a:spcPct val="100000"/>
              </a:lnSpc>
              <a:spcBef>
                <a:spcPts val="9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rebuchet MS"/>
            </a:endParaRPr>
          </a:p>
        </p:txBody>
      </p:sp>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Specific to Searching for Studies of Medical Tests (3 of 3)</a:t>
            </a:r>
            <a:endParaRPr b="1" lang="en-US" sz="3200" spc="-1" strike="noStrike">
              <a:solidFill>
                <a:srgbClr val="ffffff"/>
              </a:solidFill>
              <a:latin typeface="Trebuchet MS"/>
            </a:endParaRPr>
          </a:p>
        </p:txBody>
      </p:sp>
      <p:sp>
        <p:nvSpPr>
          <p:cNvPr id="120"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0:13:30Z</dcterms:created>
  <dc:creator>Alex P Vaz</dc:creator>
  <dc:description/>
  <dc:language>en-US</dc:language>
  <cp:lastModifiedBy>Tony Adams</cp:lastModifiedBy>
  <cp:lastPrinted>2012-01-09T14:55:34Z</cp:lastPrinted>
  <dcterms:modified xsi:type="dcterms:W3CDTF">2013-05-30T12:16:59Z</dcterms:modified>
  <cp:revision>242</cp:revision>
  <dc:subject/>
  <dc:title>Searching for Studies</dc:title>
</cp:coreProperties>
</file>