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2E6F7-27E9-44B8-9978-204C8C98EDA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8400"/>
            <a:ext cx="4648320" cy="3486240"/>
          </a:xfrm>
          <a:prstGeom prst="rect">
            <a:avLst/>
          </a:prstGeom>
          <a:ln w="0">
            <a:noFill/>
          </a:ln>
        </p:spPr>
      </p:sp>
      <p:sp>
        <p:nvSpPr>
          <p:cNvPr id="10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To Select Observational Studies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8400"/>
            <a:ext cx="4648320" cy="3486240"/>
          </a:xfrm>
          <a:prstGeom prst="rect">
            <a:avLst/>
          </a:prstGeom>
          <a:ln w="0">
            <a:noFill/>
          </a:ln>
        </p:spPr>
      </p:sp>
      <p:sp>
        <p:nvSpPr>
          <p:cNvPr id="1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hould observational studies be considered for inclusion in a comparative effectiveness review?</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8400"/>
            <a:ext cx="4648320" cy="3486240"/>
          </a:xfrm>
          <a:prstGeom prst="rect">
            <a:avLst/>
          </a:prstGeom>
          <a:ln w="0">
            <a:noFill/>
          </a:ln>
        </p:spPr>
      </p:sp>
      <p:sp>
        <p:nvSpPr>
          <p:cNvPr id="1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is the first question to consider when deciding whether or not to include observational studies in assessments of benefi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rials generally provide valid and useful information and are the first source of evidence when selecting data for inclusion in a comparative effectiveness review (CER). The second question to consider when deciding to include observational studies in CERs is whether or not observational studies provide valid and useful information to address key questions.</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Whether there are gaps in the observational evidence is not the first consideration when selecting evidence.</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he first of two steps when considering whether or not to include observational studies is to determine whether there are gaps in the trial evidence under review.</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8400"/>
            <a:ext cx="4648320" cy="3486240"/>
          </a:xfrm>
          <a:prstGeom prst="rect">
            <a:avLst/>
          </a:prstGeom>
          <a:ln w="0">
            <a:noFill/>
          </a:ln>
        </p:spPr>
      </p:sp>
      <p:sp>
        <p:nvSpPr>
          <p:cNvPr id="1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Studies and the Applicability of the Comparative Effectiveness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ative effectiveness review (CER)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lack of trial data is not a reason to change prespecified key questions that were developed to answer an important clinical question.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consider the advice from your TEP suggesting that the evidence to date poorly represents clinical practice and will result in poor applicability of the results of your CER.</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Expanding your review to include suitable observational studies will improve the applicability of your 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8400"/>
            <a:ext cx="4648320" cy="3486240"/>
          </a:xfrm>
          <a:prstGeom prst="rect">
            <a:avLst/>
          </a:prstGeom>
          <a:ln w="0">
            <a:noFill/>
          </a:ln>
        </p:spPr>
      </p:sp>
      <p:sp>
        <p:nvSpPr>
          <p:cNvPr id="1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Observational Studies Are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gaps in the trial evidence to assess benefits have been established and you have decided to include observational studies, which of the following should you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include observational studies that address the gaps in trial evide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not exclude suitable trial data.</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You should refocus the study questions on gaps in trial evidence and search for observational studies that address those gap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8400"/>
            <a:ext cx="4648320" cy="3486240"/>
          </a:xfrm>
          <a:prstGeom prst="rect">
            <a:avLst/>
          </a:prstGeom>
          <a:ln w="0">
            <a:noFill/>
          </a:ln>
        </p:spPr>
      </p:sp>
      <p:sp>
        <p:nvSpPr>
          <p:cNvPr id="1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Types of Observational Studies Are Best for Assessing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bsence of sufficient trial data, which types of observational studies should routinely be searched for and included in comparative effectiveness reviews (CERs) as evidence of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ase reports are hypothesis generating rather than hypothesis testing. Although they may be a good source of information for planning future research and may provide some preliminary data on new drugs for which nothing else is available, they may often </a:t>
            </a:r>
            <a:r>
              <a:rPr b="0" i="1" lang="en-US" sz="1200" spc="-1" strike="noStrike">
                <a:solidFill>
                  <a:srgbClr val="000000"/>
                </a:solidFill>
                <a:latin typeface="Calibri"/>
              </a:rPr>
              <a:t>not </a:t>
            </a:r>
            <a:r>
              <a:rPr b="0" lang="en-US" sz="1200" spc="-1" strike="noStrike">
                <a:solidFill>
                  <a:srgbClr val="000000"/>
                </a:solidFill>
                <a:latin typeface="Calibri"/>
              </a:rPr>
              <a:t>provide an adequate level of evidence to warrant inclusion in a CER.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ross-sectional studies are typically hypothesis generating. Cohort and case-control studies are well suited for testing hypotheses of whether one intervention is associated with a greater risk for an adverse event than another and for quantifying that risk. These studies should routinely be included in CERs for evidence of harms. Adjudicating with a third reviewer is the best way to ensure the most accurate result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hort and case-control studies are well suited for testing hypotheses that one intervention is associated with a greater risk for an adverse event than another and for quantifying that risk. These studies should routinely be included in CERs for evidence of harm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8400"/>
            <a:ext cx="4648320" cy="3486240"/>
          </a:xfrm>
          <a:prstGeom prst="rect">
            <a:avLst/>
          </a:prstGeom>
          <a:ln w="0">
            <a:noFill/>
          </a:ln>
        </p:spPr>
      </p:sp>
      <p:sp>
        <p:nvSpPr>
          <p:cNvPr id="1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Bias in Observation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founding by ind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Detection bias refers to systematic differences in outcome assessments among comparison groups. This type of bias can often be minimized through study design and appropriate implementation.</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trition bias refers to systematic differences among comparison groups in the loss of participants from the study and their loss of being accounted for in results. For both trials and observational studies, large attrition rates introduce a serious risk of bias, which may render the results invali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nfounding by indication is a type of selection bias that occurs when study groups differ because they have different diagnoses, severity of illness, or comorbid conditions and are assigned different treatments, which thereby introduces systematic differences into the comparison groups. It is often difficult to adjust for confounding by indication in analyses; therefore, studies with a high degree of this type of potential bias are usually not suitable for inclusion in a comparative effectiveness review.</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8400"/>
            <a:ext cx="4648320" cy="3486240"/>
          </a:xfrm>
          <a:prstGeom prst="rect">
            <a:avLst/>
          </a:prstGeom>
          <a:ln w="0">
            <a:noFill/>
          </a:ln>
        </p:spPr>
      </p:sp>
      <p:sp>
        <p:nvSpPr>
          <p:cNvPr id="1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8400"/>
            <a:ext cx="4648320" cy="3486240"/>
          </a:xfrm>
          <a:prstGeom prst="rect">
            <a:avLst/>
          </a:prstGeom>
          <a:ln w="0">
            <a:noFill/>
          </a:ln>
        </p:spPr>
      </p:sp>
      <p:sp>
        <p:nvSpPr>
          <p:cNvPr id="1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s</a:t>
            </a:r>
            <a:br>
              <a:rPr sz="1200"/>
            </a:br>
            <a:br>
              <a:rPr sz="1200"/>
            </a:br>
            <a:r>
              <a:rPr b="0" lang="en-US" sz="1200" spc="-1" strike="noStrike">
                <a:solidFill>
                  <a:srgbClr val="000000"/>
                </a:solidFill>
                <a:latin typeface="Calibri"/>
              </a:rPr>
              <a:t>This interactive quiz augments the module on selecting observational studies. This quiz was prepared by Dan Jonas, M.D., M.P.H., and Karen Crotty, Ph.D., M.P.H., members of the Research Triangle Institute</a:t>
            </a:r>
            <a:r>
              <a:rPr b="0" lang="en-US" sz="1200" spc="-1" strike="noStrike">
                <a:solidFill>
                  <a:srgbClr val="000000"/>
                </a:solidFill>
                <a:latin typeface="Calibri"/>
                <a:ea typeface="Arial"/>
              </a:rPr>
              <a:t>–</a:t>
            </a:r>
            <a:r>
              <a:rPr b="0" lang="en-US" sz="1200" spc="-1" strike="noStrike">
                <a:solidFill>
                  <a:srgbClr val="000000"/>
                </a:solidFill>
                <a:latin typeface="Calibri"/>
              </a:rPr>
              <a:t>University of North Carolina Evidence-based Practice Center. </a:t>
            </a:r>
            <a:br>
              <a:rPr sz="1200"/>
            </a:br>
            <a:br>
              <a:rPr sz="1200"/>
            </a:br>
            <a:r>
              <a:rPr b="0" lang="en-US" sz="1200" spc="-1" strike="noStrike">
                <a:solidFill>
                  <a:srgbClr val="000000"/>
                </a:solidFill>
                <a:latin typeface="Calibri"/>
              </a:rPr>
              <a:t>The module is based on chapters 4 and 8 in version 1.0 of the </a:t>
            </a:r>
            <a:r>
              <a:rPr b="0" i="1" lang="en-US" sz="1200" spc="-1" strike="noStrike">
                <a:solidFill>
                  <a:srgbClr val="000000"/>
                </a:solidFill>
                <a:latin typeface="Calibri"/>
              </a:rPr>
              <a:t>Methods Guide for Comparative Effectiveness Reviews </a:t>
            </a:r>
            <a:r>
              <a:rPr b="0" lang="en-US" sz="1200" spc="-1" strike="noStrike">
                <a:solidFill>
                  <a:srgbClr val="000000"/>
                </a:solidFill>
                <a:latin typeface="Calibri"/>
              </a:rPr>
              <a:t>(available at: http://www.effectivehealthcare.ahrq.gov/ehc/products/ 60/294/2009_0805_principles1.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When should observational studies be considered for inclusion in a comparative effectiveness review?</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never be considered for inclusion.</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always be considered for inclusion as the default strategy.</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be included only when there is sufficient evidence from randomized controlled trials (RCTs) to confirm the validity of RCT findings.</a:t>
            </a:r>
            <a:endParaRPr b="0" lang="en-US" sz="26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is the first question to consider when deciding whether or not to include observational studies in assessments of benefit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ill trials provide valid and useful information to address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he available observational evidenc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rial evidence for the review questions under consideration?</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A comparative effectiveness review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22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ge your key questions to focus on the types of patients for whom research is available.</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your review, including only the 23 trials that were identified.</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and your review to include observational studies.  </a:t>
            </a:r>
            <a:endParaRPr b="0" lang="en-US" sz="20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Observational Studies and Applicability</a:t>
            </a:r>
            <a:br>
              <a:rPr sz="2900"/>
            </a:br>
            <a:r>
              <a:rPr b="1" lang="en-US" sz="2900" spc="-1" strike="noStrike">
                <a:solidFill>
                  <a:srgbClr val="ffffff"/>
                </a:solidFill>
                <a:latin typeface="Trebuchet MS"/>
              </a:rPr>
              <a:t>of the Comparative Effectiveness Review</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Once gaps in the trial evidence to assess benefits have been established and you have decided to include observational studies, which of the following should you do?</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 all suitable observational studies found to answer the initial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clude trial data that can be answered by the selected observational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the gaps in trial evidence.</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Observational Studies Are Needed</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90000" rIns="90000" tIns="46800" bIns="46800" anchor="t">
            <a:normAutofit/>
          </a:bodyPr>
          <a:p>
            <a:pPr lvl="1">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the absence of sufficient trial data, which types of observational studies should routinely be searched for and included in comparative effectiveness reviews as evidence of harm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se report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oss-sectional studie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hat Types of Observational Studies Are Best for Assessing Harm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a:bodyPr>
          <a:p>
            <a:pPr lvl="1" marL="514440" indent="-514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rebuchet MS"/>
              </a:rPr>
              <a:t>What is confounding by indication?</a:t>
            </a:r>
            <a:endParaRPr b="0" lang="en-US" sz="32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detec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attri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selection bias</a:t>
            </a:r>
            <a:endParaRPr b="0" lang="en-US" sz="2800" spc="-1" strike="noStrike">
              <a:solidFill>
                <a:srgbClr val="ffffff"/>
              </a:solidFill>
              <a:latin typeface="Trebuchet MS"/>
            </a:endParaRPr>
          </a:p>
          <a:p>
            <a:pPr marL="231840" indent="-231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Bias in Observational Studie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should always be considered for inclusion in comparative effectiveness reviews (CER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onsidering whether to include observational studies in assessments of benefits, determine first if there are gaps in the trial evidence under review.</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ssessing harms in comparative effectiveness reviews, investigators should routinely include cohort and case-control studie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ce gaps in trial evidence to assess benefits have been established and the decision has been made to include observational studies, reviewers should refocus study questions on the gaps in trial evidence and look for observational studies that address the gap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with a high risk of bias due to confounding by indication are usually not suitable for inclusion in CERs.</a:t>
            </a:r>
            <a:endParaRPr b="0" lang="en-US" sz="20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Lst>
            </a:pPr>
            <a:endParaRPr b="0" lang="en-US" sz="2400" spc="-1" strike="noStrike">
              <a:solidFill>
                <a:srgbClr val="000000"/>
              </a:solidFill>
              <a:latin typeface="Arial"/>
            </a:endParaRPr>
          </a:p>
        </p:txBody>
      </p:sp>
      <p:sp>
        <p:nvSpPr>
          <p:cNvPr id="103"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quiz was prepared by Dan Jonas, M.D., M.P.H., and Karen Crotty, Ph.D., M.P.H., members of the Research Triangle Institute</a:t>
            </a:r>
            <a:r>
              <a:rPr b="0" lang="en-US" sz="2800" spc="-1" strike="noStrike">
                <a:solidFill>
                  <a:srgbClr val="ffffff"/>
                </a:solidFill>
                <a:latin typeface="Trebuchet MS"/>
                <a:ea typeface="Arial"/>
              </a:rPr>
              <a:t>–</a:t>
            </a:r>
            <a:r>
              <a:rPr b="0" lang="en-US" sz="2800" spc="-1" strike="noStrike">
                <a:solidFill>
                  <a:srgbClr val="ffffff"/>
                </a:solidFill>
                <a:latin typeface="Trebuchet MS"/>
              </a:rPr>
              <a:t>University of North Carolina Evidence-based Practice Center. </a:t>
            </a:r>
            <a:endParaRPr b="0" lang="en-US" sz="2800" spc="-1" strike="noStrike">
              <a:solidFill>
                <a:srgbClr val="ffffff"/>
              </a:solidFill>
              <a:latin typeface="Trebuchet MS"/>
            </a:endParaRPr>
          </a:p>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chapters 4 and 8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available at: http://www.effectivehealthcare.ahrq.gov/ehc/products/60/294/2009_0805_principles1.pdf).</a:t>
            </a: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3:55:58Z</dcterms:created>
  <dc:creator>khs</dc:creator>
  <dc:description/>
  <dc:language>en-US</dc:language>
  <cp:lastModifiedBy>Katharine Schneider</cp:lastModifiedBy>
  <dcterms:modified xsi:type="dcterms:W3CDTF">2013-09-02T17:40:29Z</dcterms:modified>
  <cp:revision>93</cp:revision>
  <dc:subject/>
  <dc:title>Quantitative Synthesis II: Interactive Quiz</dc:title>
</cp:coreProperties>
</file>